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F0608-F431-44EC-90BA-F01FBF750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DCD21-FC73-410A-9916-AF2273800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63E5B-D046-49FB-B383-5EF4E4ED5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B340F-9762-4A4D-A60A-7165A6DF7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06146-DC4C-4D1C-A43C-4FF0B3DA49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23411-593D-4472-88F5-7DEC4CF68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E7820-6C22-418C-AEA4-E936B68E2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1EC54-D6F6-405F-8D5A-58247EADD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47BC0-1BEE-44C0-8075-D8C6EC6D7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AA2D7-5C51-40C3-921D-CBCBE48F5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172D0-38AB-4D63-8DC9-4642664C8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1CBA3-C0D8-4781-B06F-AC5F0B6B5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A6043-D7EF-402A-B2C0-7F5193FCF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1AFB9-7F05-42F7-A372-DED852307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18760-9B6E-4494-985A-33634C5CE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D0F414-01AB-4BD2-BFBD-6AFE9DEE04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64ECDF-48C7-40DC-BF5E-1AB272AA9C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1F9B62-7928-4E92-A77F-570701B846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7B1418-0077-411A-A410-09CEDFEC76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7437D8-09AC-400B-8A44-A0A26600CC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ACE703-27B7-40C6-BBAE-7FC71AF75A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97E354-C355-4A7F-8E95-A96D35746E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F069C-7980-4AC0-8141-09401F8CF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638CBB-2C34-4E20-A362-7BFA7CF6A5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EF555F-4C15-4BD2-AD39-21327CE848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42EF64-5A65-40F3-94BE-66E5A0A0A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4C5551-9FF0-49D8-8394-B57C352A2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18AB0D-C960-4955-970B-D4223B91F7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2C839A-C605-4C01-84B2-FAB05D5D74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A560E6-6C07-442A-B594-71EB24AB83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83B3F4-02C0-4B8C-9E19-2396995F49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232349-6D35-4407-BA05-5D09620227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22B27F-536A-4AFC-8340-5D293B093B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3B68C-A9C4-4D6B-8698-2EFD8FA09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E0CE8A-34F4-4DFE-90D9-399425E94F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E5DDF0-F347-43B2-9FCF-40BC91EE65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EA3CBC-6C5F-47C5-B4B9-DEC144E36A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EB3DDC-B681-40B6-BF99-D2141945C3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E4801-22ED-4CC1-BE02-DB161AB68F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FDF9FD-202E-4DDC-9BD3-8B7C6D3412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C5A0BC-1DF6-4923-9581-620852DDDF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41DD1E-3E81-4257-9523-BE6C7EDD52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54D499-490E-4AE3-B9D2-22D06CEE4F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6FDEC-A80F-4000-8B23-8EB82FE49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03D46-47A0-4A13-89D4-466A6DB53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B2C80-A65E-44B7-BAF0-86AD16D25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17766-AFC7-44E0-939E-D6CF4782B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45F63-6B89-406C-AF43-2F1F6D576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D4AD-4B6E-47AC-B87B-F143D73D6B0D}" type="slidenum">
              <a:rPr b="0" lang="en-C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258D-B244-4904-A4B7-592A2F5569C7}" type="slidenum">
              <a:rPr b="0" lang="en-C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7A7A-F878-445B-BEFE-086FBCEC23CD}" type="slidenum">
              <a:rPr b="0" lang="en-C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75E1-EA48-4ADE-B083-4EA3FEDC2B4A}" type="slidenum">
              <a:rPr b="0" lang="en-C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46144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April 13</a:t>
            </a:r>
            <a:r>
              <a:rPr b="0" lang="en-CA" sz="2600" spc="-1" strike="noStrike" baseline="30000">
                <a:solidFill>
                  <a:srgbClr val="ffffff"/>
                </a:solidFill>
                <a:latin typeface="Constantia"/>
              </a:rPr>
              <a:t>th</a:t>
            </a:r>
            <a:r>
              <a:rPr b="0" lang="en-CA" sz="2600" spc="-1" strike="noStrike">
                <a:solidFill>
                  <a:srgbClr val="ffffff"/>
                </a:solidFill>
                <a:latin typeface="Constantia"/>
              </a:rPr>
              <a:t> 2011</a:t>
            </a:r>
            <a:endParaRPr b="0" lang="en-US" sz="2600" spc="-1" strike="noStrike">
              <a:solidFill>
                <a:srgbClr val="ffffff"/>
              </a:solidFill>
              <a:latin typeface="Constanti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Example.</a:t>
            </a:r>
            <a:endParaRPr b="0" lang="en-US" sz="5000" spc="-1" strike="noStrike">
              <a:solidFill>
                <a:srgbClr val="04617b"/>
              </a:solidFill>
              <a:latin typeface="Calibri"/>
            </a:endParaRPr>
          </a:p>
        </p:txBody>
      </p:sp>
      <p:sp>
        <p:nvSpPr>
          <p:cNvPr id="4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100 W light bulb produces 90000J of light energy in 30 minutes. What is the efficiency of the light bul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Homework.</a:t>
            </a:r>
            <a:endParaRPr b="0" lang="en-US" sz="5000" spc="-1" strike="noStrike">
              <a:solidFill>
                <a:srgbClr val="04617b"/>
              </a:solidFill>
              <a:latin typeface="Calibri"/>
            </a:endParaRPr>
          </a:p>
        </p:txBody>
      </p:sp>
      <p:sp>
        <p:nvSpPr>
          <p:cNvPr id="4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g. 266 #’s 41, 42, 4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g. 270 #’s 44, 46, 47, 48</a:t>
            </a:r>
            <a:endParaRPr b="0" lang="en-US" sz="2600" spc="-1" strike="noStrike">
              <a:solidFill>
                <a:srgbClr val="000000"/>
              </a:solidFill>
              <a:latin typeface="Constantia"/>
            </a:endParaRPr>
          </a:p>
        </p:txBody>
      </p:sp>
    </p:spTree>
  </p:cSld>
  <p:transition spd="med">
    <p:checker dir="vert"/>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8">
                                  <p:stCondLst>
                                    <p:cond delay="0"/>
                                  </p:stCondLst>
                                  <p:iterate type="lt">
                                    <p:tmAbs val="500"/>
                                  </p:iterate>
                                  <p:childTnLst>
                                    <p:set>
                                      <p:cBhvr>
                                        <p:cTn id="215" dur="1" fill="hold">
                                          <p:stCondLst>
                                            <p:cond delay="0"/>
                                          </p:stCondLst>
                                        </p:cTn>
                                        <p:tgtEl>
                                          <p:spTgt spid="406">
                                            <p:txEl>
                                              <p:pRg st="0" end="0"/>
                                            </p:txEl>
                                          </p:spTgt>
                                        </p:tgtEl>
                                        <p:attrNameLst>
                                          <p:attrName>style.visibility</p:attrName>
                                        </p:attrNameLst>
                                      </p:cBhvr>
                                      <p:to>
                                        <p:strVal val="visible"/>
                                      </p:to>
                                    </p:set>
                                    <p:set>
                                      <p:cBhvr>
                                        <p:cTn id="216" dur="455" fill="hold">
                                          <p:stCondLst>
                                            <p:cond delay="0"/>
                                          </p:stCondLst>
                                        </p:cTn>
                                        <p:tgtEl>
                                          <p:spTgt spid="406">
                                            <p:txEl>
                                              <p:pRg st="0" end="0"/>
                                            </p:txEl>
                                          </p:spTgt>
                                        </p:tgtEl>
                                        <p:attrNameLst>
                                          <p:attrName>r</p:attrName>
                                        </p:attrNameLst>
                                      </p:cBhvr>
                                      <p:to>
                                        <p:strVal val="-45"/>
                                      </p:to>
                                    </p:set>
                                    <p:anim calcmode="lin" valueType="num">
                                      <p:cBhvr additive="repl">
                                        <p:cTn id="217" dur="455" fill="hold">
                                          <p:stCondLst>
                                            <p:cond delay="455"/>
                                          </p:stCondLst>
                                        </p:cTn>
                                        <p:tgtEl>
                                          <p:spTgt spid="40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18" dur="455" fill="hold">
                                          <p:stCondLst>
                                            <p:cond delay="0"/>
                                          </p:stCondLst>
                                        </p:cTn>
                                        <p:tgtEl>
                                          <p:spTgt spid="40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19" dur="156" autoRev="1" fill="hold">
                                          <p:stCondLst>
                                            <p:cond delay="455"/>
                                          </p:stCondLst>
                                        </p:cTn>
                                        <p:tgtEl>
                                          <p:spTgt spid="40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20" dur="136" fill="hold">
                                          <p:stCondLst>
                                            <p:cond delay="864"/>
                                          </p:stCondLst>
                                        </p:cTn>
                                        <p:tgtEl>
                                          <p:spTgt spid="40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 presetSubtype="10">
                                  <p:stCondLst>
                                    <p:cond delay="0"/>
                                  </p:stCondLst>
                                  <p:iterate type="lt">
                                    <p:tmAbs val="0"/>
                                  </p:iterate>
                                  <p:childTnLst>
                                    <p:set>
                                      <p:cBhvr>
                                        <p:cTn id="224" dur="1" fill="hold">
                                          <p:stCondLst>
                                            <p:cond delay="0"/>
                                          </p:stCondLst>
                                        </p:cTn>
                                        <p:tgtEl>
                                          <p:spTgt spid="406">
                                            <p:txEl>
                                              <p:pRg st="1" end="1"/>
                                            </p:txEl>
                                          </p:spTgt>
                                        </p:tgtEl>
                                        <p:attrNameLst>
                                          <p:attrName>style.visibility</p:attrName>
                                        </p:attrNameLst>
                                      </p:cBhvr>
                                      <p:to>
                                        <p:strVal val="visible"/>
                                      </p:to>
                                    </p:set>
                                    <p:animEffect filter="checkerboard(across)" transition="in">
                                      <p:cBhvr additive="repl">
                                        <p:cTn id="225" dur="500"/>
                                        <p:tgtEl>
                                          <p:spTgt spid="406">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mph" presetID="8">
                                  <p:stCondLst>
                                    <p:cond delay="0"/>
                                  </p:stCondLst>
                                  <p:iterate type="lt">
                                    <p:tmAbs val="0"/>
                                  </p:iterate>
                                  <p:childTnLst>
                                    <p:animRot by="21600000">
                                      <p:cBhvr>
                                        <p:cTn id="229" dur="2000" fill="hold"/>
                                        <p:tgtEl>
                                          <p:spTgt spid="40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Power</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Power: </a:t>
            </a:r>
            <a:r>
              <a:rPr b="0" lang="en-CA" sz="2600" spc="-1" strike="noStrike">
                <a:solidFill>
                  <a:srgbClr val="000000"/>
                </a:solidFill>
                <a:latin typeface="Constantia"/>
              </a:rPr>
              <a:t>is the rate of doing work. It is the rate at which energy is transferred. Power is the work done divided by the time it takes.</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 </a:t>
            </a:r>
            <a:r>
              <a:rPr b="1" lang="en-CA" sz="2600" spc="-1" strike="noStrike">
                <a:solidFill>
                  <a:srgbClr val="000000"/>
                </a:solidFill>
                <a:latin typeface="Constantia"/>
              </a:rPr>
              <a:t>Formula: </a:t>
            </a:r>
            <a:r>
              <a:rPr b="0" lang="en-CA" sz="2600" spc="-1" strike="noStrike">
                <a:solidFill>
                  <a:srgbClr val="000000"/>
                </a:solidFill>
                <a:latin typeface="Constantia"/>
              </a:rPr>
              <a:t>P = W/∆t</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	</a:t>
            </a:r>
            <a:r>
              <a:rPr b="0" lang="en-CA" sz="2600" spc="-1" strike="noStrike">
                <a:solidFill>
                  <a:srgbClr val="000000"/>
                </a:solidFill>
                <a:latin typeface="Constantia"/>
              </a:rPr>
              <a:t>∆</a:t>
            </a:r>
            <a:r>
              <a:rPr b="0" lang="en-CA" sz="2600" spc="-1" strike="noStrike">
                <a:solidFill>
                  <a:srgbClr val="000000"/>
                </a:solidFill>
                <a:latin typeface="Constantia"/>
              </a:rPr>
              <a:t>t = the time interval in which the work </a:t>
            </a:r>
            <a:r>
              <a:rPr b="0" lang="en-CA" sz="2600" spc="-1" strike="noStrike">
                <a:solidFill>
                  <a:srgbClr val="000000"/>
                </a:solidFill>
                <a:latin typeface="Constantia"/>
              </a:rPr>
              <a:t>	</a:t>
            </a:r>
            <a:r>
              <a:rPr b="0" lang="en-CA" sz="2600" spc="-1" strike="noStrike">
                <a:solidFill>
                  <a:srgbClr val="000000"/>
                </a:solidFill>
                <a:latin typeface="Constantia"/>
              </a:rPr>
              <a:t>has occurred. (s)</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 </a:t>
            </a:r>
            <a:r>
              <a:rPr b="0" lang="en-CA" sz="2600" spc="-1" strike="noStrike">
                <a:solidFill>
                  <a:srgbClr val="000000"/>
                </a:solidFill>
                <a:latin typeface="Constantia"/>
              </a:rPr>
              <a:t>Power is measured in watts (W) with </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 </a:t>
            </a:r>
            <a:r>
              <a:rPr b="0" lang="en-CA" sz="2600" spc="-1" strike="noStrike">
                <a:solidFill>
                  <a:srgbClr val="000000"/>
                </a:solidFill>
                <a:latin typeface="Constantia"/>
              </a:rPr>
              <a:t>	</a:t>
            </a:r>
            <a:r>
              <a:rPr b="0" lang="en-CA" sz="2600" spc="-1" strike="noStrike">
                <a:solidFill>
                  <a:srgbClr val="000000"/>
                </a:solidFill>
                <a:latin typeface="Constantia"/>
              </a:rPr>
              <a:t>	</a:t>
            </a:r>
            <a:r>
              <a:rPr b="0" lang="en-CA" sz="2600" spc="-1" strike="noStrike">
                <a:solidFill>
                  <a:srgbClr val="000000"/>
                </a:solidFill>
                <a:latin typeface="Constantia"/>
              </a:rPr>
              <a:t>	</a:t>
            </a:r>
            <a:r>
              <a:rPr b="0" lang="en-CA" sz="2600" spc="-1" strike="noStrike">
                <a:solidFill>
                  <a:srgbClr val="000000"/>
                </a:solidFill>
                <a:latin typeface="Constantia"/>
              </a:rPr>
              <a:t>	</a:t>
            </a:r>
            <a:r>
              <a:rPr b="0" lang="en-CA" sz="2600" spc="-1" strike="noStrike">
                <a:solidFill>
                  <a:srgbClr val="000000"/>
                </a:solidFill>
                <a:latin typeface="Constantia"/>
              </a:rPr>
              <a:t>	</a:t>
            </a:r>
            <a:r>
              <a:rPr b="0" lang="en-CA" sz="2600" spc="-1" strike="noStrike">
                <a:solidFill>
                  <a:srgbClr val="000000"/>
                </a:solidFill>
                <a:latin typeface="Constantia"/>
              </a:rPr>
              <a:t>1W = 1 J/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ower is very often measured in kilowatts (kW), </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	</a:t>
            </a:r>
            <a:r>
              <a:rPr b="0" lang="en-CA" sz="2600" spc="-1" strike="noStrike">
                <a:solidFill>
                  <a:srgbClr val="000000"/>
                </a:solidFill>
                <a:latin typeface="Constantia"/>
              </a:rPr>
              <a:t>1kW = 1000W</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98">
                                            <p:txEl>
                                              <p:pRg st="0" end="0"/>
                                            </p:txEl>
                                          </p:spTgt>
                                        </p:tgtEl>
                                        <p:attrNameLst>
                                          <p:attrName>style.visibility</p:attrName>
                                        </p:attrNameLst>
                                      </p:cBhvr>
                                      <p:to>
                                        <p:strVal val="visible"/>
                                      </p:to>
                                    </p:set>
                                    <p:animEffect filter="wipe(down)" transition="in">
                                      <p:cBhvr additive="repl">
                                        <p:cTn id="7" dur="580">
                                          <p:stCondLst>
                                            <p:cond delay="0"/>
                                          </p:stCondLst>
                                        </p:cTn>
                                        <p:tgtEl>
                                          <p:spTgt spid="198">
                                            <p:txEl>
                                              <p:pRg st="0" end="0"/>
                                            </p:txEl>
                                          </p:spTgt>
                                        </p:tgtEl>
                                      </p:cBhvr>
                                    </p:animEffect>
                                    <p:anim calcmode="lin" valueType="num">
                                      <p:cBhvr additive="repl">
                                        <p:cTn id="8" dur="1822">
                                          <p:stCondLst>
                                            <p:cond delay="0"/>
                                          </p:stCondLst>
                                        </p:cTn>
                                        <p:tgtEl>
                                          <p:spTgt spid="198">
                                            <p:txEl>
                                              <p:pRg st="0" end="0"/>
                                            </p:txEl>
                                          </p:spTgt>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9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9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9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98">
                                            <p:txEl>
                                              <p:pRg st="0" end="0"/>
                                            </p:txEl>
                                          </p:spTgt>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98">
                                            <p:txEl>
                                              <p:pRg st="0" end="0"/>
                                            </p:txEl>
                                          </p:spTgt>
                                        </p:tgtEl>
                                      </p:cBhvr>
                                      <p:to x="100000" y="60000"/>
                                    </p:animScale>
                                    <p:animScale>
                                      <p:cBhvr>
                                        <p:cTn id="14" dur="166" fill="hold">
                                          <p:stCondLst>
                                            <p:cond delay="676"/>
                                          </p:stCondLst>
                                        </p:cTn>
                                        <p:tgtEl>
                                          <p:spTgt spid="198">
                                            <p:txEl>
                                              <p:pRg st="0" end="0"/>
                                            </p:txEl>
                                          </p:spTgt>
                                        </p:tgtEl>
                                      </p:cBhvr>
                                      <p:to x="100000" y="100000"/>
                                    </p:animScale>
                                    <p:animScale>
                                      <p:cBhvr>
                                        <p:cTn id="15" dur="26" fill="hold">
                                          <p:stCondLst>
                                            <p:cond delay="1312"/>
                                          </p:stCondLst>
                                        </p:cTn>
                                        <p:tgtEl>
                                          <p:spTgt spid="198">
                                            <p:txEl>
                                              <p:pRg st="0" end="0"/>
                                            </p:txEl>
                                          </p:spTgt>
                                        </p:tgtEl>
                                      </p:cBhvr>
                                      <p:to x="100000" y="80000"/>
                                    </p:animScale>
                                    <p:animScale>
                                      <p:cBhvr>
                                        <p:cTn id="16" dur="166" fill="hold">
                                          <p:stCondLst>
                                            <p:cond delay="1338"/>
                                          </p:stCondLst>
                                        </p:cTn>
                                        <p:tgtEl>
                                          <p:spTgt spid="198">
                                            <p:txEl>
                                              <p:pRg st="0" end="0"/>
                                            </p:txEl>
                                          </p:spTgt>
                                        </p:tgtEl>
                                      </p:cBhvr>
                                      <p:to x="100000" y="100000"/>
                                    </p:animScale>
                                    <p:animScale>
                                      <p:cBhvr>
                                        <p:cTn id="17" dur="26" fill="hold">
                                          <p:stCondLst>
                                            <p:cond delay="1642"/>
                                          </p:stCondLst>
                                        </p:cTn>
                                        <p:tgtEl>
                                          <p:spTgt spid="198">
                                            <p:txEl>
                                              <p:pRg st="0" end="0"/>
                                            </p:txEl>
                                          </p:spTgt>
                                        </p:tgtEl>
                                      </p:cBhvr>
                                      <p:to x="100000" y="90000"/>
                                    </p:animScale>
                                    <p:animScale>
                                      <p:cBhvr>
                                        <p:cTn id="18" dur="166" fill="hold">
                                          <p:stCondLst>
                                            <p:cond delay="1668"/>
                                          </p:stCondLst>
                                        </p:cTn>
                                        <p:tgtEl>
                                          <p:spTgt spid="198">
                                            <p:txEl>
                                              <p:pRg st="0" end="0"/>
                                            </p:txEl>
                                          </p:spTgt>
                                        </p:tgtEl>
                                      </p:cBhvr>
                                      <p:to x="100000" y="100000"/>
                                    </p:animScale>
                                    <p:animScale>
                                      <p:cBhvr>
                                        <p:cTn id="19" dur="26" fill="hold">
                                          <p:stCondLst>
                                            <p:cond delay="1808"/>
                                          </p:stCondLst>
                                        </p:cTn>
                                        <p:tgtEl>
                                          <p:spTgt spid="198">
                                            <p:txEl>
                                              <p:pRg st="0" end="0"/>
                                            </p:txEl>
                                          </p:spTgt>
                                        </p:tgtEl>
                                      </p:cBhvr>
                                      <p:to x="100000" y="95000"/>
                                    </p:animScale>
                                    <p:animScale>
                                      <p:cBhvr>
                                        <p:cTn id="20" dur="166" fill="hold">
                                          <p:stCondLst>
                                            <p:cond delay="1834"/>
                                          </p:stCondLst>
                                        </p:cTn>
                                        <p:tgtEl>
                                          <p:spTgt spid="198">
                                            <p:txEl>
                                              <p:pRg st="0" end="0"/>
                                            </p:txEl>
                                          </p:spTgt>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98">
                                            <p:txEl>
                                              <p:pRg st="1" end="1"/>
                                            </p:txEl>
                                          </p:spTgt>
                                        </p:tgtEl>
                                        <p:attrNameLst>
                                          <p:attrName>style.visibility</p:attrName>
                                        </p:attrNameLst>
                                      </p:cBhvr>
                                      <p:to>
                                        <p:strVal val="visible"/>
                                      </p:to>
                                    </p:set>
                                    <p:animEffect filter="box(in)" transition="in">
                                      <p:cBhvr additive="repl">
                                        <p:cTn id="25" dur="500"/>
                                        <p:tgtEl>
                                          <p:spTgt spid="198">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198">
                                            <p:txEl>
                                              <p:pRg st="2" end="2"/>
                                            </p:txEl>
                                          </p:spTgt>
                                        </p:tgtEl>
                                        <p:attrNameLst>
                                          <p:attrName>style.visibility</p:attrName>
                                        </p:attrNameLst>
                                      </p:cBhvr>
                                      <p:to>
                                        <p:strVal val="visible"/>
                                      </p:to>
                                    </p:set>
                                    <p:animEffect filter="checkerboard(across)" transition="in">
                                      <p:cBhvr additive="repl">
                                        <p:cTn id="30" dur="500"/>
                                        <p:tgtEl>
                                          <p:spTgt spid="198">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198">
                                            <p:txEl>
                                              <p:pRg st="3" end="3"/>
                                            </p:txEl>
                                          </p:spTgt>
                                        </p:tgtEl>
                                        <p:attrNameLst>
                                          <p:attrName>style.visibility</p:attrName>
                                        </p:attrNameLst>
                                      </p:cBhvr>
                                      <p:to>
                                        <p:strVal val="visible"/>
                                      </p:to>
                                    </p:set>
                                    <p:animEffect filter="diamond(in)" transition="in">
                                      <p:cBhvr additive="repl">
                                        <p:cTn id="35" dur="2000"/>
                                        <p:tgtEl>
                                          <p:spTgt spid="198">
                                            <p:txEl>
                                              <p:pRg st="3" end="3"/>
                                            </p:txEl>
                                          </p:spTgt>
                                        </p:tgtEl>
                                      </p:cBhvr>
                                    </p:animEffect>
                                  </p:childTnLst>
                                </p:cTn>
                              </p:par>
                              <p:par>
                                <p:cTn id="36" nodeType="withEffect" fill="hold" presetClass="entr" presetID="8" presetSubtype="16">
                                  <p:stCondLst>
                                    <p:cond delay="0"/>
                                  </p:stCondLst>
                                  <p:childTnLst>
                                    <p:set>
                                      <p:cBhvr>
                                        <p:cTn id="37"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38" dur="2000"/>
                                        <p:tgtEl>
                                          <p:spTgt spid="198">
                                            <p:txEl>
                                              <p:pRg st="4" end="4"/>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98">
                                            <p:txEl>
                                              <p:pRg st="5" end="5"/>
                                            </p:txEl>
                                          </p:spTgt>
                                        </p:tgtEl>
                                        <p:attrNameLst>
                                          <p:attrName>style.visibility</p:attrName>
                                        </p:attrNameLst>
                                      </p:cBhvr>
                                      <p:to>
                                        <p:strVal val="visible"/>
                                      </p:to>
                                    </p:set>
                                    <p:anim calcmode="lin" valueType="num">
                                      <p:cBhvr additive="base">
                                        <p:cTn id="43"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98">
                                            <p:txEl>
                                              <p:pRg st="5" end="5"/>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198">
                                            <p:txEl>
                                              <p:pRg st="6" end="6"/>
                                            </p:txEl>
                                          </p:spTgt>
                                        </p:tgtEl>
                                        <p:attrNameLst>
                                          <p:attrName>style.visibility</p:attrName>
                                        </p:attrNameLst>
                                      </p:cBhvr>
                                      <p:to>
                                        <p:strVal val="visible"/>
                                      </p:to>
                                    </p:set>
                                    <p:anim calcmode="lin" valueType="num">
                                      <p:cBhvr additive="base">
                                        <p:cTn id="47" dur="500" fill="hold"/>
                                        <p:tgtEl>
                                          <p:spTgt spid="198">
                                            <p:txEl>
                                              <p:pRg st="6" end="6"/>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9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Power cont.</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historical reasons, the horsepower is occasionally used to describe the power delivered by a machine.  One horsepower is equivalent to approximately 750 Watt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thing to think about…. Average lawn mower has 6 hp.</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o, if  1 hp = 750 Watt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6 hp = 4,500 Watt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Average racing lawn mower  ~ 14 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    </a:t>
            </a:r>
            <a:r>
              <a:rPr b="0" lang="en-CA" sz="2600" spc="-1" strike="noStrike">
                <a:solidFill>
                  <a:srgbClr val="000000"/>
                </a:solidFill>
                <a:latin typeface="Constantia"/>
              </a:rPr>
              <a:t>14 hp = 10,500 Watts</a:t>
            </a:r>
            <a:endParaRPr b="0" lang="en-US" sz="2600" spc="-1" strike="noStrike">
              <a:solidFill>
                <a:srgbClr val="000000"/>
              </a:solidFill>
              <a:latin typeface="Constantia"/>
            </a:endParaRPr>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6">
                                  <p:stCondLst>
                                    <p:cond delay="0"/>
                                  </p:stCondLst>
                                  <p:childTnLst>
                                    <p:set>
                                      <p:cBhvr>
                                        <p:cTn id="54" dur="1" fill="hold">
                                          <p:stCondLst>
                                            <p:cond delay="0"/>
                                          </p:stCondLst>
                                        </p:cTn>
                                        <p:tgtEl>
                                          <p:spTgt spid="200">
                                            <p:txEl>
                                              <p:pRg st="1" end="1"/>
                                            </p:txEl>
                                          </p:spTgt>
                                        </p:tgtEl>
                                        <p:attrNameLst>
                                          <p:attrName>style.visibility</p:attrName>
                                        </p:attrNameLst>
                                      </p:cBhvr>
                                      <p:to>
                                        <p:strVal val="visible"/>
                                      </p:to>
                                    </p:set>
                                    <p:animEffect filter="wipe(down)" transition="in">
                                      <p:cBhvr additive="repl">
                                        <p:cTn id="55" dur="580">
                                          <p:stCondLst>
                                            <p:cond delay="0"/>
                                          </p:stCondLst>
                                        </p:cTn>
                                        <p:tgtEl>
                                          <p:spTgt spid="200">
                                            <p:txEl>
                                              <p:pRg st="1" end="1"/>
                                            </p:txEl>
                                          </p:spTgt>
                                        </p:tgtEl>
                                      </p:cBhvr>
                                    </p:animEffect>
                                    <p:anim calcmode="lin" valueType="num">
                                      <p:cBhvr additive="repl">
                                        <p:cTn id="56" dur="1822">
                                          <p:stCondLst>
                                            <p:cond delay="0"/>
                                          </p:stCondLst>
                                        </p:cTn>
                                        <p:tgtEl>
                                          <p:spTgt spid="200">
                                            <p:txEl>
                                              <p:pRg st="1" end="1"/>
                                            </p:txEl>
                                          </p:spTgt>
                                        </p:tgtEl>
                                        <p:attrNameLst>
                                          <p:attrName>ppt_x</p:attrName>
                                        </p:attrNameLst>
                                      </p:cBhvr>
                                      <p:tavLst>
                                        <p:tav tm="0">
                                          <p:val>
                                            <p:strVal val="#ppt_x-0.25"/>
                                          </p:val>
                                        </p:tav>
                                        <p:tav tm="100000">
                                          <p:val>
                                            <p:strVal val="#ppt_x"/>
                                          </p:val>
                                        </p:tav>
                                      </p:tavLst>
                                    </p:anim>
                                    <p:anim calcmode="lin" valueType="num">
                                      <p:cBhvr additive="repl">
                                        <p:cTn id="57" dur="664">
                                          <p:stCondLst>
                                            <p:cond delay="0"/>
                                          </p:stCondLst>
                                        </p:cTn>
                                        <p:tgtEl>
                                          <p:spTgt spid="20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8" dur="664">
                                          <p:stCondLst>
                                            <p:cond delay="664"/>
                                          </p:stCondLst>
                                        </p:cTn>
                                        <p:tgtEl>
                                          <p:spTgt spid="20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9" dur="332">
                                          <p:stCondLst>
                                            <p:cond delay="1324"/>
                                          </p:stCondLst>
                                        </p:cTn>
                                        <p:tgtEl>
                                          <p:spTgt spid="20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60" dur="164">
                                          <p:stCondLst>
                                            <p:cond delay="1656"/>
                                          </p:stCondLst>
                                        </p:cTn>
                                        <p:tgtEl>
                                          <p:spTgt spid="200">
                                            <p:txEl>
                                              <p:pRg st="1" end="1"/>
                                            </p:txEl>
                                          </p:spTgt>
                                        </p:tgtEl>
                                        <p:attrNameLst>
                                          <p:attrName>ppt_y</p:attrName>
                                        </p:attrNameLst>
                                      </p:cBhvr>
                                      <p:tavLst>
                                        <p:tav fmla="y-sin(pi*$)/81" tm="0">
                                          <p:val>
                                            <p:fltVal val="0"/>
                                          </p:val>
                                        </p:tav>
                                        <p:tav fmla="y-sin(pi*$)/81" tm="100000">
                                          <p:val>
                                            <p:fltVal val="1"/>
                                          </p:val>
                                        </p:tav>
                                      </p:tavLst>
                                    </p:anim>
                                    <p:animScale>
                                      <p:cBhvr>
                                        <p:cTn id="61" dur="26" fill="hold">
                                          <p:stCondLst>
                                            <p:cond delay="650"/>
                                          </p:stCondLst>
                                        </p:cTn>
                                        <p:tgtEl>
                                          <p:spTgt spid="200">
                                            <p:txEl>
                                              <p:pRg st="1" end="1"/>
                                            </p:txEl>
                                          </p:spTgt>
                                        </p:tgtEl>
                                      </p:cBhvr>
                                      <p:to x="100000" y="60000"/>
                                    </p:animScale>
                                    <p:animScale>
                                      <p:cBhvr>
                                        <p:cTn id="62" dur="166" fill="hold">
                                          <p:stCondLst>
                                            <p:cond delay="676"/>
                                          </p:stCondLst>
                                        </p:cTn>
                                        <p:tgtEl>
                                          <p:spTgt spid="200">
                                            <p:txEl>
                                              <p:pRg st="1" end="1"/>
                                            </p:txEl>
                                          </p:spTgt>
                                        </p:tgtEl>
                                      </p:cBhvr>
                                      <p:to x="100000" y="100000"/>
                                    </p:animScale>
                                    <p:animScale>
                                      <p:cBhvr>
                                        <p:cTn id="63" dur="26" fill="hold">
                                          <p:stCondLst>
                                            <p:cond delay="1312"/>
                                          </p:stCondLst>
                                        </p:cTn>
                                        <p:tgtEl>
                                          <p:spTgt spid="200">
                                            <p:txEl>
                                              <p:pRg st="1" end="1"/>
                                            </p:txEl>
                                          </p:spTgt>
                                        </p:tgtEl>
                                      </p:cBhvr>
                                      <p:to x="100000" y="80000"/>
                                    </p:animScale>
                                    <p:animScale>
                                      <p:cBhvr>
                                        <p:cTn id="64" dur="166" fill="hold">
                                          <p:stCondLst>
                                            <p:cond delay="1338"/>
                                          </p:stCondLst>
                                        </p:cTn>
                                        <p:tgtEl>
                                          <p:spTgt spid="200">
                                            <p:txEl>
                                              <p:pRg st="1" end="1"/>
                                            </p:txEl>
                                          </p:spTgt>
                                        </p:tgtEl>
                                      </p:cBhvr>
                                      <p:to x="100000" y="100000"/>
                                    </p:animScale>
                                    <p:animScale>
                                      <p:cBhvr>
                                        <p:cTn id="65" dur="26" fill="hold">
                                          <p:stCondLst>
                                            <p:cond delay="1642"/>
                                          </p:stCondLst>
                                        </p:cTn>
                                        <p:tgtEl>
                                          <p:spTgt spid="200">
                                            <p:txEl>
                                              <p:pRg st="1" end="1"/>
                                            </p:txEl>
                                          </p:spTgt>
                                        </p:tgtEl>
                                      </p:cBhvr>
                                      <p:to x="100000" y="90000"/>
                                    </p:animScale>
                                    <p:animScale>
                                      <p:cBhvr>
                                        <p:cTn id="66" dur="166" fill="hold">
                                          <p:stCondLst>
                                            <p:cond delay="1668"/>
                                          </p:stCondLst>
                                        </p:cTn>
                                        <p:tgtEl>
                                          <p:spTgt spid="200">
                                            <p:txEl>
                                              <p:pRg st="1" end="1"/>
                                            </p:txEl>
                                          </p:spTgt>
                                        </p:tgtEl>
                                      </p:cBhvr>
                                      <p:to x="100000" y="100000"/>
                                    </p:animScale>
                                    <p:animScale>
                                      <p:cBhvr>
                                        <p:cTn id="67" dur="26" fill="hold">
                                          <p:stCondLst>
                                            <p:cond delay="1808"/>
                                          </p:stCondLst>
                                        </p:cTn>
                                        <p:tgtEl>
                                          <p:spTgt spid="200">
                                            <p:txEl>
                                              <p:pRg st="1" end="1"/>
                                            </p:txEl>
                                          </p:spTgt>
                                        </p:tgtEl>
                                      </p:cBhvr>
                                      <p:to x="100000" y="95000"/>
                                    </p:animScale>
                                    <p:animScale>
                                      <p:cBhvr>
                                        <p:cTn id="68" dur="166" fill="hold">
                                          <p:stCondLst>
                                            <p:cond delay="1834"/>
                                          </p:stCondLst>
                                        </p:cTn>
                                        <p:tgtEl>
                                          <p:spTgt spid="200">
                                            <p:txEl>
                                              <p:pRg st="1" end="1"/>
                                            </p:txEl>
                                          </p:spTgt>
                                        </p:tgtEl>
                                      </p:cBhvr>
                                      <p:to x="100000" y="100000"/>
                                    </p:animScale>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200">
                                            <p:txEl>
                                              <p:pRg st="2" end="2"/>
                                            </p:txEl>
                                          </p:spTgt>
                                        </p:tgtEl>
                                        <p:attrNameLst>
                                          <p:attrName>style.visibility</p:attrName>
                                        </p:attrNameLst>
                                      </p:cBhvr>
                                      <p:to>
                                        <p:strVal val="visible"/>
                                      </p:to>
                                    </p:set>
                                    <p:anim calcmode="lin" valueType="num">
                                      <p:cBhvr additive="repl">
                                        <p:cTn id="73" dur="500" fill="hold"/>
                                        <p:tgtEl>
                                          <p:spTgt spid="200">
                                            <p:txEl>
                                              <p:pRg st="2" end="2"/>
                                            </p:txEl>
                                          </p:spTgt>
                                        </p:tgtEl>
                                        <p:attrNameLst>
                                          <p:attrName>ppt_w</p:attrName>
                                        </p:attrNameLst>
                                      </p:cBhvr>
                                      <p:tavLst>
                                        <p:tav tm="0">
                                          <p:val>
                                            <p:fltVal val="0"/>
                                          </p:val>
                                        </p:tav>
                                        <p:tav tm="100000">
                                          <p:val>
                                            <p:strVal val="#ppt_w"/>
                                          </p:val>
                                        </p:tav>
                                      </p:tavLst>
                                    </p:anim>
                                    <p:anim calcmode="lin" valueType="num">
                                      <p:cBhvr additive="repl">
                                        <p:cTn id="74" dur="500" fill="hold"/>
                                        <p:tgtEl>
                                          <p:spTgt spid="200">
                                            <p:txEl>
                                              <p:pRg st="2" end="2"/>
                                            </p:txEl>
                                          </p:spTgt>
                                        </p:tgtEl>
                                        <p:attrNameLst>
                                          <p:attrName>ppt_h</p:attrName>
                                        </p:attrNameLst>
                                      </p:cBhvr>
                                      <p:tavLst>
                                        <p:tav tm="0">
                                          <p:val>
                                            <p:fltVal val="0"/>
                                          </p:val>
                                        </p:tav>
                                        <p:tav tm="100000">
                                          <p:val>
                                            <p:strVal val="#ppt_h"/>
                                          </p:val>
                                        </p:tav>
                                      </p:tavLst>
                                    </p:anim>
                                    <p:animEffect filter="fade" transition="in">
                                      <p:cBhvr additive="repl">
                                        <p:cTn id="75" dur="500"/>
                                        <p:tgtEl>
                                          <p:spTgt spid="200">
                                            <p:txEl>
                                              <p:pRg st="2" end="2"/>
                                            </p:txEl>
                                          </p:spTgt>
                                        </p:tgtEl>
                                      </p:cBhvr>
                                    </p:animEffect>
                                  </p:childTnLst>
                                </p:cTn>
                              </p:par>
                              <p:par>
                                <p:cTn id="76" nodeType="withEffect" fill="hold" presetClass="entr" presetID="53">
                                  <p:stCondLst>
                                    <p:cond delay="0"/>
                                  </p:stCondLst>
                                  <p:childTnLst>
                                    <p:set>
                                      <p:cBhvr>
                                        <p:cTn id="77" dur="1" fill="hold">
                                          <p:stCondLst>
                                            <p:cond delay="0"/>
                                          </p:stCondLst>
                                        </p:cTn>
                                        <p:tgtEl>
                                          <p:spTgt spid="200">
                                            <p:txEl>
                                              <p:pRg st="3" end="3"/>
                                            </p:txEl>
                                          </p:spTgt>
                                        </p:tgtEl>
                                        <p:attrNameLst>
                                          <p:attrName>style.visibility</p:attrName>
                                        </p:attrNameLst>
                                      </p:cBhvr>
                                      <p:to>
                                        <p:strVal val="visible"/>
                                      </p:to>
                                    </p:set>
                                    <p:anim calcmode="lin" valueType="num">
                                      <p:cBhvr additive="repl">
                                        <p:cTn id="78" dur="500" fill="hold"/>
                                        <p:tgtEl>
                                          <p:spTgt spid="200">
                                            <p:txEl>
                                              <p:pRg st="3" end="3"/>
                                            </p:txEl>
                                          </p:spTgt>
                                        </p:tgtEl>
                                        <p:attrNameLst>
                                          <p:attrName>ppt_w</p:attrName>
                                        </p:attrNameLst>
                                      </p:cBhvr>
                                      <p:tavLst>
                                        <p:tav tm="0">
                                          <p:val>
                                            <p:fltVal val="0"/>
                                          </p:val>
                                        </p:tav>
                                        <p:tav tm="100000">
                                          <p:val>
                                            <p:strVal val="#ppt_w"/>
                                          </p:val>
                                        </p:tav>
                                      </p:tavLst>
                                    </p:anim>
                                    <p:anim calcmode="lin" valueType="num">
                                      <p:cBhvr additive="repl">
                                        <p:cTn id="79" dur="500" fill="hold"/>
                                        <p:tgtEl>
                                          <p:spTgt spid="200">
                                            <p:txEl>
                                              <p:pRg st="3" end="3"/>
                                            </p:txEl>
                                          </p:spTgt>
                                        </p:tgtEl>
                                        <p:attrNameLst>
                                          <p:attrName>ppt_h</p:attrName>
                                        </p:attrNameLst>
                                      </p:cBhvr>
                                      <p:tavLst>
                                        <p:tav tm="0">
                                          <p:val>
                                            <p:fltVal val="0"/>
                                          </p:val>
                                        </p:tav>
                                        <p:tav tm="100000">
                                          <p:val>
                                            <p:strVal val="#ppt_h"/>
                                          </p:val>
                                        </p:tav>
                                      </p:tavLst>
                                    </p:anim>
                                    <p:animEffect filter="fade" transition="in">
                                      <p:cBhvr additive="repl">
                                        <p:cTn id="80" dur="500"/>
                                        <p:tgtEl>
                                          <p:spTgt spid="200">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200">
                                            <p:txEl>
                                              <p:pRg st="4" end="4"/>
                                            </p:txEl>
                                          </p:spTgt>
                                        </p:tgtEl>
                                        <p:attrNameLst>
                                          <p:attrName>style.visibility</p:attrName>
                                        </p:attrNameLst>
                                      </p:cBhvr>
                                      <p:to>
                                        <p:strVal val="visible"/>
                                      </p:to>
                                    </p:set>
                                    <p:anim calcmode="lin" valueType="num">
                                      <p:cBhvr additive="repl">
                                        <p:cTn id="85" dur="1000" fill="hold"/>
                                        <p:tgtEl>
                                          <p:spTgt spid="200">
                                            <p:txEl>
                                              <p:pRg st="4" end="4"/>
                                            </p:txEl>
                                          </p:spTgt>
                                        </p:tgtEl>
                                        <p:attrNameLst>
                                          <p:attrName>ppt_w</p:attrName>
                                        </p:attrNameLst>
                                      </p:cBhvr>
                                      <p:tavLst>
                                        <p:tav tm="0">
                                          <p:val>
                                            <p:fltVal val="0"/>
                                          </p:val>
                                        </p:tav>
                                        <p:tav tm="100000">
                                          <p:val>
                                            <p:strVal val="#ppt_w"/>
                                          </p:val>
                                        </p:tav>
                                      </p:tavLst>
                                    </p:anim>
                                    <p:anim calcmode="lin" valueType="num">
                                      <p:cBhvr additive="repl">
                                        <p:cTn id="86" dur="1000" fill="hold"/>
                                        <p:tgtEl>
                                          <p:spTgt spid="200">
                                            <p:txEl>
                                              <p:pRg st="4" end="4"/>
                                            </p:txEl>
                                          </p:spTgt>
                                        </p:tgtEl>
                                        <p:attrNameLst>
                                          <p:attrName>ppt_h</p:attrName>
                                        </p:attrNameLst>
                                      </p:cBhvr>
                                      <p:tavLst>
                                        <p:tav tm="0">
                                          <p:val>
                                            <p:fltVal val="0"/>
                                          </p:val>
                                        </p:tav>
                                        <p:tav tm="100000">
                                          <p:val>
                                            <p:strVal val="#ppt_h"/>
                                          </p:val>
                                        </p:tav>
                                      </p:tavLst>
                                    </p:anim>
                                    <p:anim calcmode="lin" valueType="num">
                                      <p:cBhvr additive="repl">
                                        <p:cTn id="87" dur="1000" fill="hold"/>
                                        <p:tgtEl>
                                          <p:spTgt spid="20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200">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89" nodeType="withEffect" fill="hold" presetClass="entr" presetID="15">
                                  <p:stCondLst>
                                    <p:cond delay="0"/>
                                  </p:stCondLst>
                                  <p:childTnLst>
                                    <p:set>
                                      <p:cBhvr>
                                        <p:cTn id="90" dur="1" fill="hold">
                                          <p:stCondLst>
                                            <p:cond delay="0"/>
                                          </p:stCondLst>
                                        </p:cTn>
                                        <p:tgtEl>
                                          <p:spTgt spid="200">
                                            <p:txEl>
                                              <p:pRg st="5" end="5"/>
                                            </p:txEl>
                                          </p:spTgt>
                                        </p:tgtEl>
                                        <p:attrNameLst>
                                          <p:attrName>style.visibility</p:attrName>
                                        </p:attrNameLst>
                                      </p:cBhvr>
                                      <p:to>
                                        <p:strVal val="visible"/>
                                      </p:to>
                                    </p:set>
                                    <p:anim calcmode="lin" valueType="num">
                                      <p:cBhvr additive="repl">
                                        <p:cTn id="91" dur="1000" fill="hold"/>
                                        <p:tgtEl>
                                          <p:spTgt spid="200">
                                            <p:txEl>
                                              <p:pRg st="5" end="5"/>
                                            </p:txEl>
                                          </p:spTgt>
                                        </p:tgtEl>
                                        <p:attrNameLst>
                                          <p:attrName>ppt_w</p:attrName>
                                        </p:attrNameLst>
                                      </p:cBhvr>
                                      <p:tavLst>
                                        <p:tav tm="0">
                                          <p:val>
                                            <p:fltVal val="0"/>
                                          </p:val>
                                        </p:tav>
                                        <p:tav tm="100000">
                                          <p:val>
                                            <p:strVal val="#ppt_w"/>
                                          </p:val>
                                        </p:tav>
                                      </p:tavLst>
                                    </p:anim>
                                    <p:anim calcmode="lin" valueType="num">
                                      <p:cBhvr additive="repl">
                                        <p:cTn id="92" dur="1000" fill="hold"/>
                                        <p:tgtEl>
                                          <p:spTgt spid="200">
                                            <p:txEl>
                                              <p:pRg st="5" end="5"/>
                                            </p:txEl>
                                          </p:spTgt>
                                        </p:tgtEl>
                                        <p:attrNameLst>
                                          <p:attrName>ppt_h</p:attrName>
                                        </p:attrNameLst>
                                      </p:cBhvr>
                                      <p:tavLst>
                                        <p:tav tm="0">
                                          <p:val>
                                            <p:fltVal val="0"/>
                                          </p:val>
                                        </p:tav>
                                        <p:tav tm="100000">
                                          <p:val>
                                            <p:strVal val="#ppt_h"/>
                                          </p:val>
                                        </p:tav>
                                      </p:tavLst>
                                    </p:anim>
                                    <p:anim calcmode="lin" valueType="num">
                                      <p:cBhvr additive="repl">
                                        <p:cTn id="93" dur="1000" fill="hold"/>
                                        <p:tgtEl>
                                          <p:spTgt spid="20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4" dur="1000" fill="hold"/>
                                        <p:tgtEl>
                                          <p:spTgt spid="20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Example.</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An electric motor lifts an elevator that weighs 1.20x10</a:t>
            </a:r>
            <a:r>
              <a:rPr b="0" lang="en-CA" sz="2600" spc="-1" strike="noStrike" baseline="30000">
                <a:solidFill>
                  <a:srgbClr val="000000"/>
                </a:solidFill>
                <a:latin typeface="Constantia"/>
              </a:rPr>
              <a:t>4</a:t>
            </a:r>
            <a:r>
              <a:rPr b="0" lang="en-CA" sz="2600" spc="-1" strike="noStrike">
                <a:solidFill>
                  <a:srgbClr val="000000"/>
                </a:solidFill>
                <a:latin typeface="Constantia"/>
              </a:rPr>
              <a:t>N a distance of 9.00m in 15.0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a) What is the power of the motor in wat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b) What is the power in kilowatt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	</a:t>
            </a:r>
            <a:r>
              <a:rPr b="0" lang="en-CA" sz="2600" spc="-1" strike="noStrike">
                <a:solidFill>
                  <a:srgbClr val="000000"/>
                </a:solidFill>
                <a:latin typeface="Constantia"/>
              </a:rPr>
              <a:t>Given: F = 1.20x10</a:t>
            </a:r>
            <a:r>
              <a:rPr b="0" lang="en-CA" sz="2600" spc="-1" strike="noStrike" baseline="30000">
                <a:solidFill>
                  <a:srgbClr val="000000"/>
                </a:solidFill>
                <a:latin typeface="Constantia"/>
              </a:rPr>
              <a:t>4</a:t>
            </a:r>
            <a:r>
              <a:rPr b="0" lang="en-CA" sz="2600" spc="-1" strike="noStrike">
                <a:solidFill>
                  <a:srgbClr val="000000"/>
                </a:solidFill>
                <a:latin typeface="Constantia"/>
              </a:rPr>
              <a:t>N </a:t>
            </a:r>
            <a:r>
              <a:rPr b="0" lang="en-CA" sz="2600" spc="-1" strike="noStrike">
                <a:solidFill>
                  <a:srgbClr val="000000"/>
                </a:solidFill>
                <a:latin typeface="Constantia"/>
              </a:rPr>
              <a:t>	</a:t>
            </a:r>
            <a:r>
              <a:rPr b="0" lang="en-CA" sz="2600" spc="-1" strike="noStrike">
                <a:solidFill>
                  <a:srgbClr val="000000"/>
                </a:solidFill>
                <a:latin typeface="Constantia"/>
              </a:rPr>
              <a:t>Unknown: power, 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	</a:t>
            </a:r>
            <a:r>
              <a:rPr b="0" lang="en-CA" sz="2600" spc="-1" strike="noStrike">
                <a:solidFill>
                  <a:srgbClr val="000000"/>
                </a:solidFill>
                <a:latin typeface="Constantia"/>
              </a:rPr>
              <a:t>	</a:t>
            </a:r>
            <a:r>
              <a:rPr b="0" lang="en-CA" sz="2600" spc="-1" strike="noStrike">
                <a:solidFill>
                  <a:srgbClr val="000000"/>
                </a:solidFill>
                <a:latin typeface="Constantia"/>
              </a:rPr>
              <a:t>      </a:t>
            </a:r>
            <a:r>
              <a:rPr b="0" lang="en-CA" sz="2600" spc="-1" strike="noStrike">
                <a:solidFill>
                  <a:srgbClr val="000000"/>
                </a:solidFill>
                <a:latin typeface="Constantia"/>
              </a:rPr>
              <a:t>d = 9.00m</a:t>
            </a:r>
            <a:r>
              <a:rPr b="0" lang="en-CA" sz="2600" spc="-1" strike="noStrike">
                <a:solidFill>
                  <a:srgbClr val="000000"/>
                </a:solidFill>
                <a:latin typeface="Constantia"/>
              </a:rPr>
              <a:t>	</a:t>
            </a:r>
            <a:r>
              <a:rPr b="0" lang="en-CA" sz="2600" spc="-1" strike="noStrike">
                <a:solidFill>
                  <a:srgbClr val="000000"/>
                </a:solidFill>
                <a:latin typeface="Constantia"/>
              </a:rPr>
              <a:t>	</a:t>
            </a:r>
            <a:r>
              <a:rPr b="0" lang="en-CA" sz="2600" spc="-1" strike="noStrike">
                <a:solidFill>
                  <a:srgbClr val="000000"/>
                </a:solidFill>
                <a:latin typeface="Constantia"/>
              </a:rPr>
              <a:t>Equation: P = W/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	</a:t>
            </a:r>
            <a:r>
              <a:rPr b="0" lang="en-CA" sz="2600" spc="-1" strike="noStrike">
                <a:solidFill>
                  <a:srgbClr val="000000"/>
                </a:solidFill>
                <a:latin typeface="Constantia"/>
              </a:rPr>
              <a:t>	</a:t>
            </a:r>
            <a:r>
              <a:rPr b="0" lang="en-CA" sz="2600" spc="-1" strike="noStrike">
                <a:solidFill>
                  <a:srgbClr val="000000"/>
                </a:solidFill>
                <a:latin typeface="Constantia"/>
              </a:rPr>
              <a:t>      </a:t>
            </a:r>
            <a:r>
              <a:rPr b="0" lang="en-CA" sz="2600" spc="-1" strike="noStrike">
                <a:solidFill>
                  <a:srgbClr val="000000"/>
                </a:solidFill>
                <a:latin typeface="Constantia"/>
              </a:rPr>
              <a:t>t = 15.0s</a:t>
            </a:r>
            <a:endParaRPr b="0" lang="en-US" sz="2600" spc="-1" strike="noStrike">
              <a:solidFill>
                <a:srgbClr val="000000"/>
              </a:solidFill>
              <a:latin typeface="Constantia"/>
            </a:endParaRPr>
          </a:p>
        </p:txBody>
      </p:sp>
    </p:spTree>
  </p:cSld>
  <p:transition>
    <p:wipe dir="u"/>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6">
                                  <p:stCondLst>
                                    <p:cond delay="0"/>
                                  </p:stCondLst>
                                  <p:childTnLst>
                                    <p:set>
                                      <p:cBhvr>
                                        <p:cTn id="100" dur="1" fill="hold">
                                          <p:stCondLst>
                                            <p:cond delay="0"/>
                                          </p:stCondLst>
                                        </p:cTn>
                                        <p:tgtEl>
                                          <p:spTgt spid="202">
                                            <p:txEl>
                                              <p:pRg st="3" end="3"/>
                                            </p:txEl>
                                          </p:spTgt>
                                        </p:tgtEl>
                                        <p:attrNameLst>
                                          <p:attrName>style.visibility</p:attrName>
                                        </p:attrNameLst>
                                      </p:cBhvr>
                                      <p:to>
                                        <p:strVal val="visible"/>
                                      </p:to>
                                    </p:set>
                                    <p:animEffect filter="wipe(down)" transition="in">
                                      <p:cBhvr additive="repl">
                                        <p:cTn id="101" dur="580">
                                          <p:stCondLst>
                                            <p:cond delay="0"/>
                                          </p:stCondLst>
                                        </p:cTn>
                                        <p:tgtEl>
                                          <p:spTgt spid="202">
                                            <p:txEl>
                                              <p:pRg st="3" end="3"/>
                                            </p:txEl>
                                          </p:spTgt>
                                        </p:tgtEl>
                                      </p:cBhvr>
                                    </p:animEffect>
                                    <p:anim calcmode="lin" valueType="num">
                                      <p:cBhvr additive="repl">
                                        <p:cTn id="102" dur="1822">
                                          <p:stCondLst>
                                            <p:cond delay="0"/>
                                          </p:stCondLst>
                                        </p:cTn>
                                        <p:tgtEl>
                                          <p:spTgt spid="202">
                                            <p:txEl>
                                              <p:pRg st="3" end="3"/>
                                            </p:txEl>
                                          </p:spTgt>
                                        </p:tgtEl>
                                        <p:attrNameLst>
                                          <p:attrName>ppt_x</p:attrName>
                                        </p:attrNameLst>
                                      </p:cBhvr>
                                      <p:tavLst>
                                        <p:tav tm="0">
                                          <p:val>
                                            <p:strVal val="#ppt_x-0.25"/>
                                          </p:val>
                                        </p:tav>
                                        <p:tav tm="100000">
                                          <p:val>
                                            <p:strVal val="#ppt_x"/>
                                          </p:val>
                                        </p:tav>
                                      </p:tavLst>
                                    </p:anim>
                                    <p:anim calcmode="lin" valueType="num">
                                      <p:cBhvr additive="repl">
                                        <p:cTn id="103" dur="664">
                                          <p:stCondLst>
                                            <p:cond delay="0"/>
                                          </p:stCondLst>
                                        </p:cTn>
                                        <p:tgtEl>
                                          <p:spTgt spid="202">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04" dur="664">
                                          <p:stCondLst>
                                            <p:cond delay="664"/>
                                          </p:stCondLst>
                                        </p:cTn>
                                        <p:tgtEl>
                                          <p:spTgt spid="202">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05" dur="332">
                                          <p:stCondLst>
                                            <p:cond delay="1324"/>
                                          </p:stCondLst>
                                        </p:cTn>
                                        <p:tgtEl>
                                          <p:spTgt spid="202">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06" dur="164">
                                          <p:stCondLst>
                                            <p:cond delay="1656"/>
                                          </p:stCondLst>
                                        </p:cTn>
                                        <p:tgtEl>
                                          <p:spTgt spid="202">
                                            <p:txEl>
                                              <p:pRg st="3" end="3"/>
                                            </p:txEl>
                                          </p:spTgt>
                                        </p:tgtEl>
                                        <p:attrNameLst>
                                          <p:attrName>ppt_y</p:attrName>
                                        </p:attrNameLst>
                                      </p:cBhvr>
                                      <p:tavLst>
                                        <p:tav fmla="y-sin(pi*$)/81" tm="0">
                                          <p:val>
                                            <p:fltVal val="0"/>
                                          </p:val>
                                        </p:tav>
                                        <p:tav fmla="y-sin(pi*$)/81" tm="100000">
                                          <p:val>
                                            <p:fltVal val="1"/>
                                          </p:val>
                                        </p:tav>
                                      </p:tavLst>
                                    </p:anim>
                                    <p:animScale>
                                      <p:cBhvr>
                                        <p:cTn id="107" dur="26" fill="hold">
                                          <p:stCondLst>
                                            <p:cond delay="650"/>
                                          </p:stCondLst>
                                        </p:cTn>
                                        <p:tgtEl>
                                          <p:spTgt spid="202">
                                            <p:txEl>
                                              <p:pRg st="3" end="3"/>
                                            </p:txEl>
                                          </p:spTgt>
                                        </p:tgtEl>
                                      </p:cBhvr>
                                      <p:to x="100000" y="60000"/>
                                    </p:animScale>
                                    <p:animScale>
                                      <p:cBhvr>
                                        <p:cTn id="108" dur="166" fill="hold">
                                          <p:stCondLst>
                                            <p:cond delay="676"/>
                                          </p:stCondLst>
                                        </p:cTn>
                                        <p:tgtEl>
                                          <p:spTgt spid="202">
                                            <p:txEl>
                                              <p:pRg st="3" end="3"/>
                                            </p:txEl>
                                          </p:spTgt>
                                        </p:tgtEl>
                                      </p:cBhvr>
                                      <p:to x="100000" y="100000"/>
                                    </p:animScale>
                                    <p:animScale>
                                      <p:cBhvr>
                                        <p:cTn id="109" dur="26" fill="hold">
                                          <p:stCondLst>
                                            <p:cond delay="1312"/>
                                          </p:stCondLst>
                                        </p:cTn>
                                        <p:tgtEl>
                                          <p:spTgt spid="202">
                                            <p:txEl>
                                              <p:pRg st="3" end="3"/>
                                            </p:txEl>
                                          </p:spTgt>
                                        </p:tgtEl>
                                      </p:cBhvr>
                                      <p:to x="100000" y="80000"/>
                                    </p:animScale>
                                    <p:animScale>
                                      <p:cBhvr>
                                        <p:cTn id="110" dur="166" fill="hold">
                                          <p:stCondLst>
                                            <p:cond delay="1338"/>
                                          </p:stCondLst>
                                        </p:cTn>
                                        <p:tgtEl>
                                          <p:spTgt spid="202">
                                            <p:txEl>
                                              <p:pRg st="3" end="3"/>
                                            </p:txEl>
                                          </p:spTgt>
                                        </p:tgtEl>
                                      </p:cBhvr>
                                      <p:to x="100000" y="100000"/>
                                    </p:animScale>
                                    <p:animScale>
                                      <p:cBhvr>
                                        <p:cTn id="111" dur="26" fill="hold">
                                          <p:stCondLst>
                                            <p:cond delay="1642"/>
                                          </p:stCondLst>
                                        </p:cTn>
                                        <p:tgtEl>
                                          <p:spTgt spid="202">
                                            <p:txEl>
                                              <p:pRg st="3" end="3"/>
                                            </p:txEl>
                                          </p:spTgt>
                                        </p:tgtEl>
                                      </p:cBhvr>
                                      <p:to x="100000" y="90000"/>
                                    </p:animScale>
                                    <p:animScale>
                                      <p:cBhvr>
                                        <p:cTn id="112" dur="166" fill="hold">
                                          <p:stCondLst>
                                            <p:cond delay="1668"/>
                                          </p:stCondLst>
                                        </p:cTn>
                                        <p:tgtEl>
                                          <p:spTgt spid="202">
                                            <p:txEl>
                                              <p:pRg st="3" end="3"/>
                                            </p:txEl>
                                          </p:spTgt>
                                        </p:tgtEl>
                                      </p:cBhvr>
                                      <p:to x="100000" y="100000"/>
                                    </p:animScale>
                                    <p:animScale>
                                      <p:cBhvr>
                                        <p:cTn id="113" dur="26" fill="hold">
                                          <p:stCondLst>
                                            <p:cond delay="1808"/>
                                          </p:stCondLst>
                                        </p:cTn>
                                        <p:tgtEl>
                                          <p:spTgt spid="202">
                                            <p:txEl>
                                              <p:pRg st="3" end="3"/>
                                            </p:txEl>
                                          </p:spTgt>
                                        </p:tgtEl>
                                      </p:cBhvr>
                                      <p:to x="100000" y="95000"/>
                                    </p:animScale>
                                    <p:animScale>
                                      <p:cBhvr>
                                        <p:cTn id="114" dur="166" fill="hold">
                                          <p:stCondLst>
                                            <p:cond delay="1834"/>
                                          </p:stCondLst>
                                        </p:cTn>
                                        <p:tgtEl>
                                          <p:spTgt spid="202">
                                            <p:txEl>
                                              <p:pRg st="3" end="3"/>
                                            </p:txEl>
                                          </p:spTgt>
                                        </p:tgtEl>
                                      </p:cBhvr>
                                      <p:to x="100000" y="100000"/>
                                    </p:animScale>
                                  </p:childTnLst>
                                </p:cTn>
                              </p:par>
                              <p:par>
                                <p:cTn id="115" nodeType="withEffect" fill="hold" presetClass="entr" presetID="26">
                                  <p:stCondLst>
                                    <p:cond delay="0"/>
                                  </p:stCondLst>
                                  <p:childTnLst>
                                    <p:set>
                                      <p:cBhvr>
                                        <p:cTn id="116" dur="1" fill="hold">
                                          <p:stCondLst>
                                            <p:cond delay="0"/>
                                          </p:stCondLst>
                                        </p:cTn>
                                        <p:tgtEl>
                                          <p:spTgt spid="202">
                                            <p:txEl>
                                              <p:pRg st="4" end="4"/>
                                            </p:txEl>
                                          </p:spTgt>
                                        </p:tgtEl>
                                        <p:attrNameLst>
                                          <p:attrName>style.visibility</p:attrName>
                                        </p:attrNameLst>
                                      </p:cBhvr>
                                      <p:to>
                                        <p:strVal val="visible"/>
                                      </p:to>
                                    </p:set>
                                    <p:animEffect filter="wipe(down)" transition="in">
                                      <p:cBhvr additive="repl">
                                        <p:cTn id="117" dur="580">
                                          <p:stCondLst>
                                            <p:cond delay="0"/>
                                          </p:stCondLst>
                                        </p:cTn>
                                        <p:tgtEl>
                                          <p:spTgt spid="202">
                                            <p:txEl>
                                              <p:pRg st="4" end="4"/>
                                            </p:txEl>
                                          </p:spTgt>
                                        </p:tgtEl>
                                      </p:cBhvr>
                                    </p:animEffect>
                                    <p:anim calcmode="lin" valueType="num">
                                      <p:cBhvr additive="repl">
                                        <p:cTn id="118" dur="1822">
                                          <p:stCondLst>
                                            <p:cond delay="0"/>
                                          </p:stCondLst>
                                        </p:cTn>
                                        <p:tgtEl>
                                          <p:spTgt spid="202">
                                            <p:txEl>
                                              <p:pRg st="4" end="4"/>
                                            </p:txEl>
                                          </p:spTgt>
                                        </p:tgtEl>
                                        <p:attrNameLst>
                                          <p:attrName>ppt_x</p:attrName>
                                        </p:attrNameLst>
                                      </p:cBhvr>
                                      <p:tavLst>
                                        <p:tav tm="0">
                                          <p:val>
                                            <p:strVal val="#ppt_x-0.25"/>
                                          </p:val>
                                        </p:tav>
                                        <p:tav tm="100000">
                                          <p:val>
                                            <p:strVal val="#ppt_x"/>
                                          </p:val>
                                        </p:tav>
                                      </p:tavLst>
                                    </p:anim>
                                    <p:anim calcmode="lin" valueType="num">
                                      <p:cBhvr additive="repl">
                                        <p:cTn id="119" dur="664">
                                          <p:stCondLst>
                                            <p:cond delay="0"/>
                                          </p:stCondLst>
                                        </p:cTn>
                                        <p:tgtEl>
                                          <p:spTgt spid="202">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20" dur="664">
                                          <p:stCondLst>
                                            <p:cond delay="664"/>
                                          </p:stCondLst>
                                        </p:cTn>
                                        <p:tgtEl>
                                          <p:spTgt spid="202">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21" dur="332">
                                          <p:stCondLst>
                                            <p:cond delay="1324"/>
                                          </p:stCondLst>
                                        </p:cTn>
                                        <p:tgtEl>
                                          <p:spTgt spid="202">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22" dur="164">
                                          <p:stCondLst>
                                            <p:cond delay="1656"/>
                                          </p:stCondLst>
                                        </p:cTn>
                                        <p:tgtEl>
                                          <p:spTgt spid="202">
                                            <p:txEl>
                                              <p:pRg st="4" end="4"/>
                                            </p:txEl>
                                          </p:spTgt>
                                        </p:tgtEl>
                                        <p:attrNameLst>
                                          <p:attrName>ppt_y</p:attrName>
                                        </p:attrNameLst>
                                      </p:cBhvr>
                                      <p:tavLst>
                                        <p:tav fmla="y-sin(pi*$)/81" tm="0">
                                          <p:val>
                                            <p:fltVal val="0"/>
                                          </p:val>
                                        </p:tav>
                                        <p:tav fmla="y-sin(pi*$)/81" tm="100000">
                                          <p:val>
                                            <p:fltVal val="1"/>
                                          </p:val>
                                        </p:tav>
                                      </p:tavLst>
                                    </p:anim>
                                    <p:animScale>
                                      <p:cBhvr>
                                        <p:cTn id="123" dur="26" fill="hold">
                                          <p:stCondLst>
                                            <p:cond delay="650"/>
                                          </p:stCondLst>
                                        </p:cTn>
                                        <p:tgtEl>
                                          <p:spTgt spid="202">
                                            <p:txEl>
                                              <p:pRg st="4" end="4"/>
                                            </p:txEl>
                                          </p:spTgt>
                                        </p:tgtEl>
                                      </p:cBhvr>
                                      <p:to x="100000" y="60000"/>
                                    </p:animScale>
                                    <p:animScale>
                                      <p:cBhvr>
                                        <p:cTn id="124" dur="166" fill="hold">
                                          <p:stCondLst>
                                            <p:cond delay="676"/>
                                          </p:stCondLst>
                                        </p:cTn>
                                        <p:tgtEl>
                                          <p:spTgt spid="202">
                                            <p:txEl>
                                              <p:pRg st="4" end="4"/>
                                            </p:txEl>
                                          </p:spTgt>
                                        </p:tgtEl>
                                      </p:cBhvr>
                                      <p:to x="100000" y="100000"/>
                                    </p:animScale>
                                    <p:animScale>
                                      <p:cBhvr>
                                        <p:cTn id="125" dur="26" fill="hold">
                                          <p:stCondLst>
                                            <p:cond delay="1312"/>
                                          </p:stCondLst>
                                        </p:cTn>
                                        <p:tgtEl>
                                          <p:spTgt spid="202">
                                            <p:txEl>
                                              <p:pRg st="4" end="4"/>
                                            </p:txEl>
                                          </p:spTgt>
                                        </p:tgtEl>
                                      </p:cBhvr>
                                      <p:to x="100000" y="80000"/>
                                    </p:animScale>
                                    <p:animScale>
                                      <p:cBhvr>
                                        <p:cTn id="126" dur="166" fill="hold">
                                          <p:stCondLst>
                                            <p:cond delay="1338"/>
                                          </p:stCondLst>
                                        </p:cTn>
                                        <p:tgtEl>
                                          <p:spTgt spid="202">
                                            <p:txEl>
                                              <p:pRg st="4" end="4"/>
                                            </p:txEl>
                                          </p:spTgt>
                                        </p:tgtEl>
                                      </p:cBhvr>
                                      <p:to x="100000" y="100000"/>
                                    </p:animScale>
                                    <p:animScale>
                                      <p:cBhvr>
                                        <p:cTn id="127" dur="26" fill="hold">
                                          <p:stCondLst>
                                            <p:cond delay="1642"/>
                                          </p:stCondLst>
                                        </p:cTn>
                                        <p:tgtEl>
                                          <p:spTgt spid="202">
                                            <p:txEl>
                                              <p:pRg st="4" end="4"/>
                                            </p:txEl>
                                          </p:spTgt>
                                        </p:tgtEl>
                                      </p:cBhvr>
                                      <p:to x="100000" y="90000"/>
                                    </p:animScale>
                                    <p:animScale>
                                      <p:cBhvr>
                                        <p:cTn id="128" dur="166" fill="hold">
                                          <p:stCondLst>
                                            <p:cond delay="1668"/>
                                          </p:stCondLst>
                                        </p:cTn>
                                        <p:tgtEl>
                                          <p:spTgt spid="202">
                                            <p:txEl>
                                              <p:pRg st="4" end="4"/>
                                            </p:txEl>
                                          </p:spTgt>
                                        </p:tgtEl>
                                      </p:cBhvr>
                                      <p:to x="100000" y="100000"/>
                                    </p:animScale>
                                    <p:animScale>
                                      <p:cBhvr>
                                        <p:cTn id="129" dur="26" fill="hold">
                                          <p:stCondLst>
                                            <p:cond delay="1808"/>
                                          </p:stCondLst>
                                        </p:cTn>
                                        <p:tgtEl>
                                          <p:spTgt spid="202">
                                            <p:txEl>
                                              <p:pRg st="4" end="4"/>
                                            </p:txEl>
                                          </p:spTgt>
                                        </p:tgtEl>
                                      </p:cBhvr>
                                      <p:to x="100000" y="95000"/>
                                    </p:animScale>
                                    <p:animScale>
                                      <p:cBhvr>
                                        <p:cTn id="130" dur="166" fill="hold">
                                          <p:stCondLst>
                                            <p:cond delay="1834"/>
                                          </p:stCondLst>
                                        </p:cTn>
                                        <p:tgtEl>
                                          <p:spTgt spid="202">
                                            <p:txEl>
                                              <p:pRg st="4" end="4"/>
                                            </p:txEl>
                                          </p:spTgt>
                                        </p:tgtEl>
                                      </p:cBhvr>
                                      <p:to x="100000" y="100000"/>
                                    </p:animScale>
                                  </p:childTnLst>
                                </p:cTn>
                              </p:par>
                              <p:par>
                                <p:cTn id="131" nodeType="withEffect" fill="hold" presetClass="entr" presetID="26">
                                  <p:stCondLst>
                                    <p:cond delay="0"/>
                                  </p:stCondLst>
                                  <p:childTnLst>
                                    <p:set>
                                      <p:cBhvr>
                                        <p:cTn id="132" dur="1" fill="hold">
                                          <p:stCondLst>
                                            <p:cond delay="0"/>
                                          </p:stCondLst>
                                        </p:cTn>
                                        <p:tgtEl>
                                          <p:spTgt spid="202">
                                            <p:txEl>
                                              <p:pRg st="5" end="5"/>
                                            </p:txEl>
                                          </p:spTgt>
                                        </p:tgtEl>
                                        <p:attrNameLst>
                                          <p:attrName>style.visibility</p:attrName>
                                        </p:attrNameLst>
                                      </p:cBhvr>
                                      <p:to>
                                        <p:strVal val="visible"/>
                                      </p:to>
                                    </p:set>
                                    <p:animEffect filter="wipe(down)" transition="in">
                                      <p:cBhvr additive="repl">
                                        <p:cTn id="133" dur="580">
                                          <p:stCondLst>
                                            <p:cond delay="0"/>
                                          </p:stCondLst>
                                        </p:cTn>
                                        <p:tgtEl>
                                          <p:spTgt spid="202">
                                            <p:txEl>
                                              <p:pRg st="5" end="5"/>
                                            </p:txEl>
                                          </p:spTgt>
                                        </p:tgtEl>
                                      </p:cBhvr>
                                    </p:animEffect>
                                    <p:anim calcmode="lin" valueType="num">
                                      <p:cBhvr additive="repl">
                                        <p:cTn id="134" dur="1822">
                                          <p:stCondLst>
                                            <p:cond delay="0"/>
                                          </p:stCondLst>
                                        </p:cTn>
                                        <p:tgtEl>
                                          <p:spTgt spid="202">
                                            <p:txEl>
                                              <p:pRg st="5" end="5"/>
                                            </p:txEl>
                                          </p:spTgt>
                                        </p:tgtEl>
                                        <p:attrNameLst>
                                          <p:attrName>ppt_x</p:attrName>
                                        </p:attrNameLst>
                                      </p:cBhvr>
                                      <p:tavLst>
                                        <p:tav tm="0">
                                          <p:val>
                                            <p:strVal val="#ppt_x-0.25"/>
                                          </p:val>
                                        </p:tav>
                                        <p:tav tm="100000">
                                          <p:val>
                                            <p:strVal val="#ppt_x"/>
                                          </p:val>
                                        </p:tav>
                                      </p:tavLst>
                                    </p:anim>
                                    <p:anim calcmode="lin" valueType="num">
                                      <p:cBhvr additive="repl">
                                        <p:cTn id="135" dur="664">
                                          <p:stCondLst>
                                            <p:cond delay="0"/>
                                          </p:stCondLst>
                                        </p:cTn>
                                        <p:tgtEl>
                                          <p:spTgt spid="202">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36" dur="664">
                                          <p:stCondLst>
                                            <p:cond delay="664"/>
                                          </p:stCondLst>
                                        </p:cTn>
                                        <p:tgtEl>
                                          <p:spTgt spid="202">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37" dur="332">
                                          <p:stCondLst>
                                            <p:cond delay="1324"/>
                                          </p:stCondLst>
                                        </p:cTn>
                                        <p:tgtEl>
                                          <p:spTgt spid="202">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38" dur="164">
                                          <p:stCondLst>
                                            <p:cond delay="1656"/>
                                          </p:stCondLst>
                                        </p:cTn>
                                        <p:tgtEl>
                                          <p:spTgt spid="202">
                                            <p:txEl>
                                              <p:pRg st="5" end="5"/>
                                            </p:txEl>
                                          </p:spTgt>
                                        </p:tgtEl>
                                        <p:attrNameLst>
                                          <p:attrName>ppt_y</p:attrName>
                                        </p:attrNameLst>
                                      </p:cBhvr>
                                      <p:tavLst>
                                        <p:tav fmla="y-sin(pi*$)/81" tm="0">
                                          <p:val>
                                            <p:fltVal val="0"/>
                                          </p:val>
                                        </p:tav>
                                        <p:tav fmla="y-sin(pi*$)/81" tm="100000">
                                          <p:val>
                                            <p:fltVal val="1"/>
                                          </p:val>
                                        </p:tav>
                                      </p:tavLst>
                                    </p:anim>
                                    <p:animScale>
                                      <p:cBhvr>
                                        <p:cTn id="139" dur="26" fill="hold">
                                          <p:stCondLst>
                                            <p:cond delay="650"/>
                                          </p:stCondLst>
                                        </p:cTn>
                                        <p:tgtEl>
                                          <p:spTgt spid="202">
                                            <p:txEl>
                                              <p:pRg st="5" end="5"/>
                                            </p:txEl>
                                          </p:spTgt>
                                        </p:tgtEl>
                                      </p:cBhvr>
                                      <p:to x="100000" y="60000"/>
                                    </p:animScale>
                                    <p:animScale>
                                      <p:cBhvr>
                                        <p:cTn id="140" dur="166" fill="hold">
                                          <p:stCondLst>
                                            <p:cond delay="676"/>
                                          </p:stCondLst>
                                        </p:cTn>
                                        <p:tgtEl>
                                          <p:spTgt spid="202">
                                            <p:txEl>
                                              <p:pRg st="5" end="5"/>
                                            </p:txEl>
                                          </p:spTgt>
                                        </p:tgtEl>
                                      </p:cBhvr>
                                      <p:to x="100000" y="100000"/>
                                    </p:animScale>
                                    <p:animScale>
                                      <p:cBhvr>
                                        <p:cTn id="141" dur="26" fill="hold">
                                          <p:stCondLst>
                                            <p:cond delay="1312"/>
                                          </p:stCondLst>
                                        </p:cTn>
                                        <p:tgtEl>
                                          <p:spTgt spid="202">
                                            <p:txEl>
                                              <p:pRg st="5" end="5"/>
                                            </p:txEl>
                                          </p:spTgt>
                                        </p:tgtEl>
                                      </p:cBhvr>
                                      <p:to x="100000" y="80000"/>
                                    </p:animScale>
                                    <p:animScale>
                                      <p:cBhvr>
                                        <p:cTn id="142" dur="166" fill="hold">
                                          <p:stCondLst>
                                            <p:cond delay="1338"/>
                                          </p:stCondLst>
                                        </p:cTn>
                                        <p:tgtEl>
                                          <p:spTgt spid="202">
                                            <p:txEl>
                                              <p:pRg st="5" end="5"/>
                                            </p:txEl>
                                          </p:spTgt>
                                        </p:tgtEl>
                                      </p:cBhvr>
                                      <p:to x="100000" y="100000"/>
                                    </p:animScale>
                                    <p:animScale>
                                      <p:cBhvr>
                                        <p:cTn id="143" dur="26" fill="hold">
                                          <p:stCondLst>
                                            <p:cond delay="1642"/>
                                          </p:stCondLst>
                                        </p:cTn>
                                        <p:tgtEl>
                                          <p:spTgt spid="202">
                                            <p:txEl>
                                              <p:pRg st="5" end="5"/>
                                            </p:txEl>
                                          </p:spTgt>
                                        </p:tgtEl>
                                      </p:cBhvr>
                                      <p:to x="100000" y="90000"/>
                                    </p:animScale>
                                    <p:animScale>
                                      <p:cBhvr>
                                        <p:cTn id="144" dur="166" fill="hold">
                                          <p:stCondLst>
                                            <p:cond delay="1668"/>
                                          </p:stCondLst>
                                        </p:cTn>
                                        <p:tgtEl>
                                          <p:spTgt spid="202">
                                            <p:txEl>
                                              <p:pRg st="5" end="5"/>
                                            </p:txEl>
                                          </p:spTgt>
                                        </p:tgtEl>
                                      </p:cBhvr>
                                      <p:to x="100000" y="100000"/>
                                    </p:animScale>
                                    <p:animScale>
                                      <p:cBhvr>
                                        <p:cTn id="145" dur="26" fill="hold">
                                          <p:stCondLst>
                                            <p:cond delay="1808"/>
                                          </p:stCondLst>
                                        </p:cTn>
                                        <p:tgtEl>
                                          <p:spTgt spid="202">
                                            <p:txEl>
                                              <p:pRg st="5" end="5"/>
                                            </p:txEl>
                                          </p:spTgt>
                                        </p:tgtEl>
                                      </p:cBhvr>
                                      <p:to x="100000" y="95000"/>
                                    </p:animScale>
                                    <p:animScale>
                                      <p:cBhvr>
                                        <p:cTn id="146" dur="166" fill="hold">
                                          <p:stCondLst>
                                            <p:cond delay="1834"/>
                                          </p:stCondLst>
                                        </p:cTn>
                                        <p:tgtEl>
                                          <p:spTgt spid="202">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Solution</a:t>
            </a:r>
            <a:endParaRPr b="0" lang="en-US" sz="5000" spc="-1" strike="noStrike">
              <a:solidFill>
                <a:srgbClr val="04617b"/>
              </a:solidFill>
              <a:latin typeface="Calibri"/>
            </a:endParaRPr>
          </a:p>
        </p:txBody>
      </p:sp>
      <p:sp>
        <p:nvSpPr>
          <p:cNvPr id="204" name="SMARTInkAnnotation0"/>
          <p:cNvSpPr/>
          <p:nvPr/>
        </p:nvSpPr>
        <p:spPr>
          <a:xfrm>
            <a:off x="874800" y="1990800"/>
            <a:ext cx="714240" cy="606240"/>
          </a:xfrm>
          <a:custGeom>
            <a:avLst/>
            <a:gdLst>
              <a:gd name="textAreaLeft" fmla="*/ 0 w 714240"/>
              <a:gd name="textAreaRight" fmla="*/ 714600 w 714240"/>
              <a:gd name="textAreaTop" fmla="*/ 0 h 606240"/>
              <a:gd name="textAreaBottom" fmla="*/ 606240 h 606240"/>
            </a:gdLst>
            <a:ahLst/>
            <a:rect l="textAreaLeft" t="textAreaTop" r="textAreaRight" b="textAreaBottom"/>
            <a:pathLst>
              <a:path w="714376" h="605810">
                <a:moveTo>
                  <a:pt x="0" y="0"/>
                </a:moveTo>
                <a:lnTo>
                  <a:pt x="0" y="4740"/>
                </a:lnTo>
                <a:lnTo>
                  <a:pt x="992" y="7129"/>
                </a:lnTo>
                <a:lnTo>
                  <a:pt x="6137" y="15231"/>
                </a:lnTo>
                <a:lnTo>
                  <a:pt x="7688" y="20991"/>
                </a:lnTo>
                <a:lnTo>
                  <a:pt x="9677" y="33765"/>
                </a:lnTo>
                <a:lnTo>
                  <a:pt x="14994" y="48810"/>
                </a:lnTo>
                <a:lnTo>
                  <a:pt x="17010" y="65835"/>
                </a:lnTo>
                <a:lnTo>
                  <a:pt x="18600" y="84440"/>
                </a:lnTo>
                <a:lnTo>
                  <a:pt x="22488" y="100037"/>
                </a:lnTo>
                <a:lnTo>
                  <a:pt x="24877" y="114245"/>
                </a:lnTo>
                <a:lnTo>
                  <a:pt x="25939" y="128166"/>
                </a:lnTo>
                <a:lnTo>
                  <a:pt x="26411" y="144275"/>
                </a:lnTo>
                <a:lnTo>
                  <a:pt x="27529" y="153730"/>
                </a:lnTo>
                <a:lnTo>
                  <a:pt x="29267" y="164003"/>
                </a:lnTo>
                <a:lnTo>
                  <a:pt x="31417" y="174819"/>
                </a:lnTo>
                <a:lnTo>
                  <a:pt x="32851" y="185007"/>
                </a:lnTo>
                <a:lnTo>
                  <a:pt x="33807" y="194776"/>
                </a:lnTo>
                <a:lnTo>
                  <a:pt x="35861" y="213567"/>
                </a:lnTo>
                <a:lnTo>
                  <a:pt x="40082" y="231840"/>
                </a:lnTo>
                <a:lnTo>
                  <a:pt x="45264" y="249884"/>
                </a:lnTo>
                <a:lnTo>
                  <a:pt x="48036" y="258863"/>
                </a:lnTo>
                <a:lnTo>
                  <a:pt x="49883" y="268817"/>
                </a:lnTo>
                <a:lnTo>
                  <a:pt x="51115" y="279422"/>
                </a:lnTo>
                <a:lnTo>
                  <a:pt x="51936" y="290461"/>
                </a:lnTo>
                <a:lnTo>
                  <a:pt x="53475" y="300797"/>
                </a:lnTo>
                <a:lnTo>
                  <a:pt x="55494" y="310664"/>
                </a:lnTo>
                <a:lnTo>
                  <a:pt x="60383" y="329565"/>
                </a:lnTo>
                <a:lnTo>
                  <a:pt x="65863" y="347887"/>
                </a:lnTo>
                <a:lnTo>
                  <a:pt x="74526" y="374937"/>
                </a:lnTo>
                <a:lnTo>
                  <a:pt x="77465" y="384896"/>
                </a:lnTo>
                <a:lnTo>
                  <a:pt x="86342" y="416881"/>
                </a:lnTo>
                <a:lnTo>
                  <a:pt x="92283" y="436304"/>
                </a:lnTo>
                <a:lnTo>
                  <a:pt x="101206" y="463973"/>
                </a:lnTo>
                <a:lnTo>
                  <a:pt x="107157" y="479392"/>
                </a:lnTo>
                <a:lnTo>
                  <a:pt x="110133" y="486282"/>
                </a:lnTo>
                <a:lnTo>
                  <a:pt x="113441" y="501875"/>
                </a:lnTo>
                <a:lnTo>
                  <a:pt x="115902" y="517735"/>
                </a:lnTo>
                <a:lnTo>
                  <a:pt x="120304" y="531399"/>
                </a:lnTo>
                <a:lnTo>
                  <a:pt x="128360" y="550247"/>
                </a:lnTo>
                <a:lnTo>
                  <a:pt x="137031" y="568400"/>
                </a:lnTo>
                <a:lnTo>
                  <a:pt x="140278" y="577729"/>
                </a:lnTo>
                <a:lnTo>
                  <a:pt x="141143" y="581606"/>
                </a:lnTo>
                <a:lnTo>
                  <a:pt x="144751" y="588559"/>
                </a:lnTo>
                <a:lnTo>
                  <a:pt x="147102" y="591802"/>
                </a:lnTo>
                <a:lnTo>
                  <a:pt x="149662" y="593965"/>
                </a:lnTo>
                <a:lnTo>
                  <a:pt x="152361" y="595406"/>
                </a:lnTo>
                <a:lnTo>
                  <a:pt x="155152" y="596367"/>
                </a:lnTo>
                <a:lnTo>
                  <a:pt x="160899" y="600080"/>
                </a:lnTo>
                <a:lnTo>
                  <a:pt x="163821" y="602460"/>
                </a:lnTo>
                <a:lnTo>
                  <a:pt x="166761" y="604046"/>
                </a:lnTo>
                <a:lnTo>
                  <a:pt x="172673" y="605809"/>
                </a:lnTo>
                <a:lnTo>
                  <a:pt x="174646" y="605286"/>
                </a:lnTo>
                <a:lnTo>
                  <a:pt x="175962" y="603946"/>
                </a:lnTo>
                <a:lnTo>
                  <a:pt x="176839" y="602060"/>
                </a:lnTo>
                <a:lnTo>
                  <a:pt x="178416" y="600803"/>
                </a:lnTo>
                <a:lnTo>
                  <a:pt x="180460" y="599965"/>
                </a:lnTo>
                <a:lnTo>
                  <a:pt x="182814" y="599406"/>
                </a:lnTo>
                <a:lnTo>
                  <a:pt x="184384" y="598042"/>
                </a:lnTo>
                <a:lnTo>
                  <a:pt x="185430" y="596140"/>
                </a:lnTo>
                <a:lnTo>
                  <a:pt x="186128" y="593879"/>
                </a:lnTo>
                <a:lnTo>
                  <a:pt x="187585" y="592373"/>
                </a:lnTo>
                <a:lnTo>
                  <a:pt x="189549" y="591368"/>
                </a:lnTo>
                <a:lnTo>
                  <a:pt x="191850" y="590699"/>
                </a:lnTo>
                <a:lnTo>
                  <a:pt x="197053" y="587309"/>
                </a:lnTo>
                <a:lnTo>
                  <a:pt x="199830" y="585016"/>
                </a:lnTo>
                <a:lnTo>
                  <a:pt x="208478" y="572308"/>
                </a:lnTo>
                <a:lnTo>
                  <a:pt x="211719" y="564252"/>
                </a:lnTo>
                <a:lnTo>
                  <a:pt x="214152" y="556372"/>
                </a:lnTo>
                <a:lnTo>
                  <a:pt x="221100" y="540780"/>
                </a:lnTo>
                <a:lnTo>
                  <a:pt x="235258" y="511843"/>
                </a:lnTo>
                <a:lnTo>
                  <a:pt x="238504" y="497361"/>
                </a:lnTo>
                <a:lnTo>
                  <a:pt x="240940" y="481994"/>
                </a:lnTo>
                <a:lnTo>
                  <a:pt x="245329" y="468550"/>
                </a:lnTo>
                <a:lnTo>
                  <a:pt x="253378" y="445085"/>
                </a:lnTo>
                <a:lnTo>
                  <a:pt x="256480" y="430649"/>
                </a:lnTo>
                <a:lnTo>
                  <a:pt x="258850" y="416626"/>
                </a:lnTo>
                <a:lnTo>
                  <a:pt x="263211" y="400472"/>
                </a:lnTo>
                <a:lnTo>
                  <a:pt x="268457" y="386016"/>
                </a:lnTo>
                <a:lnTo>
                  <a:pt x="274095" y="371984"/>
                </a:lnTo>
                <a:lnTo>
                  <a:pt x="279909" y="355826"/>
                </a:lnTo>
                <a:lnTo>
                  <a:pt x="288759" y="329995"/>
                </a:lnTo>
                <a:lnTo>
                  <a:pt x="294694" y="315006"/>
                </a:lnTo>
                <a:lnTo>
                  <a:pt x="300639" y="300737"/>
                </a:lnTo>
                <a:lnTo>
                  <a:pt x="306589" y="284473"/>
                </a:lnTo>
                <a:lnTo>
                  <a:pt x="312540" y="269969"/>
                </a:lnTo>
                <a:lnTo>
                  <a:pt x="318823" y="253293"/>
                </a:lnTo>
                <a:lnTo>
                  <a:pt x="321285" y="244535"/>
                </a:lnTo>
                <a:lnTo>
                  <a:pt x="327257" y="229441"/>
                </a:lnTo>
                <a:lnTo>
                  <a:pt x="329468" y="218243"/>
                </a:lnTo>
                <a:lnTo>
                  <a:pt x="329985" y="211760"/>
                </a:lnTo>
                <a:lnTo>
                  <a:pt x="331115" y="208642"/>
                </a:lnTo>
                <a:lnTo>
                  <a:pt x="339295" y="196500"/>
                </a:lnTo>
                <a:lnTo>
                  <a:pt x="339325" y="208886"/>
                </a:lnTo>
                <a:lnTo>
                  <a:pt x="345464" y="226506"/>
                </a:lnTo>
                <a:lnTo>
                  <a:pt x="347430" y="238320"/>
                </a:lnTo>
                <a:lnTo>
                  <a:pt x="349005" y="254940"/>
                </a:lnTo>
                <a:lnTo>
                  <a:pt x="352889" y="270072"/>
                </a:lnTo>
                <a:lnTo>
                  <a:pt x="355277" y="286720"/>
                </a:lnTo>
                <a:lnTo>
                  <a:pt x="357330" y="303048"/>
                </a:lnTo>
                <a:lnTo>
                  <a:pt x="361551" y="316920"/>
                </a:lnTo>
                <a:lnTo>
                  <a:pt x="386989" y="393020"/>
                </a:lnTo>
                <a:lnTo>
                  <a:pt x="389954" y="402904"/>
                </a:lnTo>
                <a:lnTo>
                  <a:pt x="398867" y="434784"/>
                </a:lnTo>
                <a:lnTo>
                  <a:pt x="404816" y="454183"/>
                </a:lnTo>
                <a:lnTo>
                  <a:pt x="413743" y="481838"/>
                </a:lnTo>
                <a:lnTo>
                  <a:pt x="422342" y="497254"/>
                </a:lnTo>
                <a:lnTo>
                  <a:pt x="431785" y="510720"/>
                </a:lnTo>
                <a:lnTo>
                  <a:pt x="442680" y="529458"/>
                </a:lnTo>
                <a:lnTo>
                  <a:pt x="453184" y="547578"/>
                </a:lnTo>
                <a:lnTo>
                  <a:pt x="467431" y="564522"/>
                </a:lnTo>
                <a:lnTo>
                  <a:pt x="484802" y="582879"/>
                </a:lnTo>
                <a:lnTo>
                  <a:pt x="487905" y="585039"/>
                </a:lnTo>
                <a:lnTo>
                  <a:pt x="493998" y="587439"/>
                </a:lnTo>
                <a:lnTo>
                  <a:pt x="507746" y="588790"/>
                </a:lnTo>
                <a:lnTo>
                  <a:pt x="512130" y="587988"/>
                </a:lnTo>
                <a:lnTo>
                  <a:pt x="519647" y="584450"/>
                </a:lnTo>
                <a:lnTo>
                  <a:pt x="538262" y="571245"/>
                </a:lnTo>
                <a:lnTo>
                  <a:pt x="543388" y="568353"/>
                </a:lnTo>
                <a:lnTo>
                  <a:pt x="551730" y="559849"/>
                </a:lnTo>
                <a:lnTo>
                  <a:pt x="564650" y="541259"/>
                </a:lnTo>
                <a:lnTo>
                  <a:pt x="574409" y="525317"/>
                </a:lnTo>
                <a:lnTo>
                  <a:pt x="582053" y="508310"/>
                </a:lnTo>
                <a:lnTo>
                  <a:pt x="588758" y="490830"/>
                </a:lnTo>
                <a:lnTo>
                  <a:pt x="596037" y="472146"/>
                </a:lnTo>
                <a:lnTo>
                  <a:pt x="600757" y="461608"/>
                </a:lnTo>
                <a:lnTo>
                  <a:pt x="605887" y="450614"/>
                </a:lnTo>
                <a:lnTo>
                  <a:pt x="610300" y="440308"/>
                </a:lnTo>
                <a:lnTo>
                  <a:pt x="614234" y="430460"/>
                </a:lnTo>
                <a:lnTo>
                  <a:pt x="617848" y="420919"/>
                </a:lnTo>
                <a:lnTo>
                  <a:pt x="621251" y="410589"/>
                </a:lnTo>
                <a:lnTo>
                  <a:pt x="624511" y="399734"/>
                </a:lnTo>
                <a:lnTo>
                  <a:pt x="630779" y="377089"/>
                </a:lnTo>
                <a:lnTo>
                  <a:pt x="636872" y="353796"/>
                </a:lnTo>
                <a:lnTo>
                  <a:pt x="639886" y="343020"/>
                </a:lnTo>
                <a:lnTo>
                  <a:pt x="648869" y="312640"/>
                </a:lnTo>
                <a:lnTo>
                  <a:pt x="657814" y="279937"/>
                </a:lnTo>
                <a:lnTo>
                  <a:pt x="666748" y="249962"/>
                </a:lnTo>
                <a:lnTo>
                  <a:pt x="672702" y="227842"/>
                </a:lnTo>
                <a:lnTo>
                  <a:pt x="674687" y="217379"/>
                </a:lnTo>
                <a:lnTo>
                  <a:pt x="676010" y="207427"/>
                </a:lnTo>
                <a:lnTo>
                  <a:pt x="676892" y="197816"/>
                </a:lnTo>
                <a:lnTo>
                  <a:pt x="680518" y="179199"/>
                </a:lnTo>
                <a:lnTo>
                  <a:pt x="685437" y="161996"/>
                </a:lnTo>
                <a:lnTo>
                  <a:pt x="699601" y="123810"/>
                </a:lnTo>
                <a:lnTo>
                  <a:pt x="702848" y="109266"/>
                </a:lnTo>
                <a:lnTo>
                  <a:pt x="703714" y="102610"/>
                </a:lnTo>
                <a:lnTo>
                  <a:pt x="707322" y="92567"/>
                </a:lnTo>
                <a:lnTo>
                  <a:pt x="711240" y="84797"/>
                </a:lnTo>
                <a:lnTo>
                  <a:pt x="712982" y="78037"/>
                </a:lnTo>
                <a:lnTo>
                  <a:pt x="714375" y="62508"/>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05" name="SMARTInkAnnotation1"/>
          <p:cNvSpPr/>
          <p:nvPr/>
        </p:nvSpPr>
        <p:spPr>
          <a:xfrm>
            <a:off x="1731960" y="2254320"/>
            <a:ext cx="339840" cy="14040"/>
          </a:xfrm>
          <a:custGeom>
            <a:avLst/>
            <a:gdLst>
              <a:gd name="textAreaLeft" fmla="*/ 0 w 339840"/>
              <a:gd name="textAreaRight" fmla="*/ 340200 w 339840"/>
              <a:gd name="textAreaTop" fmla="*/ 0 h 14040"/>
              <a:gd name="textAreaBottom" fmla="*/ 14400 h 14040"/>
            </a:gdLst>
            <a:ahLst/>
            <a:rect l="textAreaLeft" t="textAreaTop" r="textAreaRight" b="textAreaBottom"/>
            <a:pathLst>
              <a:path w="339329" h="13830">
                <a:moveTo>
                  <a:pt x="0" y="13829"/>
                </a:moveTo>
                <a:lnTo>
                  <a:pt x="9481" y="13829"/>
                </a:lnTo>
                <a:lnTo>
                  <a:pt x="13266" y="12837"/>
                </a:lnTo>
                <a:lnTo>
                  <a:pt x="16781" y="11183"/>
                </a:lnTo>
                <a:lnTo>
                  <a:pt x="20117" y="9089"/>
                </a:lnTo>
                <a:lnTo>
                  <a:pt x="24326" y="7692"/>
                </a:lnTo>
                <a:lnTo>
                  <a:pt x="29116" y="6761"/>
                </a:lnTo>
                <a:lnTo>
                  <a:pt x="34293" y="6141"/>
                </a:lnTo>
                <a:lnTo>
                  <a:pt x="174313" y="527"/>
                </a:lnTo>
                <a:lnTo>
                  <a:pt x="216420" y="0"/>
                </a:lnTo>
                <a:lnTo>
                  <a:pt x="246475" y="641"/>
                </a:lnTo>
                <a:lnTo>
                  <a:pt x="285162" y="3007"/>
                </a:lnTo>
                <a:lnTo>
                  <a:pt x="317105" y="4339"/>
                </a:lnTo>
                <a:lnTo>
                  <a:pt x="339328" y="4899"/>
                </a:lnTo>
              </a:path>
            </a:pathLst>
          </a:custGeom>
          <a:noFill/>
          <a:ln w="38160">
            <a:solidFill>
              <a:srgbClr val="000000"/>
            </a:solidFill>
            <a:round/>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Constantia"/>
            </a:endParaRPr>
          </a:p>
        </p:txBody>
      </p:sp>
      <p:sp>
        <p:nvSpPr>
          <p:cNvPr id="206" name="SMARTInkAnnotation2"/>
          <p:cNvSpPr/>
          <p:nvPr/>
        </p:nvSpPr>
        <p:spPr>
          <a:xfrm>
            <a:off x="1749600" y="2357280"/>
            <a:ext cx="349200" cy="17640"/>
          </a:xfrm>
          <a:custGeom>
            <a:avLst/>
            <a:gdLst>
              <a:gd name="textAreaLeft" fmla="*/ 0 w 349200"/>
              <a:gd name="textAreaRight" fmla="*/ 349200 w 349200"/>
              <a:gd name="textAreaTop" fmla="*/ 0 h 17640"/>
              <a:gd name="textAreaBottom" fmla="*/ 18000 h 17640"/>
            </a:gdLst>
            <a:ahLst/>
            <a:rect l="textAreaLeft" t="textAreaTop" r="textAreaRight" b="textAreaBottom"/>
            <a:pathLst>
              <a:path w="348259" h="17860">
                <a:moveTo>
                  <a:pt x="0" y="17859"/>
                </a:moveTo>
                <a:lnTo>
                  <a:pt x="33420" y="17859"/>
                </a:lnTo>
                <a:lnTo>
                  <a:pt x="39147" y="16867"/>
                </a:lnTo>
                <a:lnTo>
                  <a:pt x="44950" y="15214"/>
                </a:lnTo>
                <a:lnTo>
                  <a:pt x="50803" y="13119"/>
                </a:lnTo>
                <a:lnTo>
                  <a:pt x="57681" y="11722"/>
                </a:lnTo>
                <a:lnTo>
                  <a:pt x="65243" y="10791"/>
                </a:lnTo>
                <a:lnTo>
                  <a:pt x="73261" y="10171"/>
                </a:lnTo>
                <a:lnTo>
                  <a:pt x="81583" y="9757"/>
                </a:lnTo>
                <a:lnTo>
                  <a:pt x="98767" y="9297"/>
                </a:lnTo>
                <a:lnTo>
                  <a:pt x="107517" y="8183"/>
                </a:lnTo>
                <a:lnTo>
                  <a:pt x="116326" y="6447"/>
                </a:lnTo>
                <a:lnTo>
                  <a:pt x="125176" y="4298"/>
                </a:lnTo>
                <a:lnTo>
                  <a:pt x="134052" y="2866"/>
                </a:lnTo>
                <a:lnTo>
                  <a:pt x="142947" y="1910"/>
                </a:lnTo>
                <a:lnTo>
                  <a:pt x="151852" y="1273"/>
                </a:lnTo>
                <a:lnTo>
                  <a:pt x="161758" y="849"/>
                </a:lnTo>
                <a:lnTo>
                  <a:pt x="183349" y="377"/>
                </a:lnTo>
                <a:lnTo>
                  <a:pt x="348258" y="0"/>
                </a:lnTo>
              </a:path>
            </a:pathLst>
          </a:custGeom>
          <a:noFill/>
          <a:ln w="38160">
            <a:solidFill>
              <a:srgbClr val="000000"/>
            </a:solidFill>
            <a:round/>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Constantia"/>
            </a:endParaRPr>
          </a:p>
        </p:txBody>
      </p:sp>
      <p:sp>
        <p:nvSpPr>
          <p:cNvPr id="207" name="SMARTInkAnnotation3"/>
          <p:cNvSpPr/>
          <p:nvPr/>
        </p:nvSpPr>
        <p:spPr>
          <a:xfrm>
            <a:off x="2374920" y="2098800"/>
            <a:ext cx="14400" cy="606240"/>
          </a:xfrm>
          <a:custGeom>
            <a:avLst/>
            <a:gdLst>
              <a:gd name="textAreaLeft" fmla="*/ 0 w 14400"/>
              <a:gd name="textAreaRight" fmla="*/ 14760 w 14400"/>
              <a:gd name="textAreaTop" fmla="*/ 0 h 606240"/>
              <a:gd name="textAreaBottom" fmla="*/ 606600 h 606240"/>
            </a:gdLst>
            <a:ahLst/>
            <a:rect l="textAreaLeft" t="textAreaTop" r="textAreaRight" b="textAreaBottom"/>
            <a:pathLst>
              <a:path w="14076" h="607220">
                <a:moveTo>
                  <a:pt x="8930" y="0"/>
                </a:moveTo>
                <a:lnTo>
                  <a:pt x="8930" y="107360"/>
                </a:lnTo>
                <a:lnTo>
                  <a:pt x="9922" y="116222"/>
                </a:lnTo>
                <a:lnTo>
                  <a:pt x="11576" y="125106"/>
                </a:lnTo>
                <a:lnTo>
                  <a:pt x="13671" y="134006"/>
                </a:lnTo>
                <a:lnTo>
                  <a:pt x="14075" y="143908"/>
                </a:lnTo>
                <a:lnTo>
                  <a:pt x="13352" y="154477"/>
                </a:lnTo>
                <a:lnTo>
                  <a:pt x="11878" y="165493"/>
                </a:lnTo>
                <a:lnTo>
                  <a:pt x="10895" y="175813"/>
                </a:lnTo>
                <a:lnTo>
                  <a:pt x="10240" y="185670"/>
                </a:lnTo>
                <a:lnTo>
                  <a:pt x="9804" y="195217"/>
                </a:lnTo>
                <a:lnTo>
                  <a:pt x="9318" y="216409"/>
                </a:lnTo>
                <a:lnTo>
                  <a:pt x="9007" y="262352"/>
                </a:lnTo>
                <a:lnTo>
                  <a:pt x="7989" y="275112"/>
                </a:lnTo>
                <a:lnTo>
                  <a:pt x="6318" y="288580"/>
                </a:lnTo>
                <a:lnTo>
                  <a:pt x="4212" y="302519"/>
                </a:lnTo>
                <a:lnTo>
                  <a:pt x="2809" y="315781"/>
                </a:lnTo>
                <a:lnTo>
                  <a:pt x="1873" y="328591"/>
                </a:lnTo>
                <a:lnTo>
                  <a:pt x="1249" y="341100"/>
                </a:lnTo>
                <a:lnTo>
                  <a:pt x="555" y="365582"/>
                </a:lnTo>
                <a:lnTo>
                  <a:pt x="33" y="449430"/>
                </a:lnTo>
                <a:lnTo>
                  <a:pt x="0" y="580124"/>
                </a:lnTo>
                <a:lnTo>
                  <a:pt x="993" y="585187"/>
                </a:lnTo>
                <a:lnTo>
                  <a:pt x="2646" y="590547"/>
                </a:lnTo>
                <a:lnTo>
                  <a:pt x="8930" y="607219"/>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08" name="SMARTInkAnnotation4"/>
          <p:cNvSpPr/>
          <p:nvPr/>
        </p:nvSpPr>
        <p:spPr>
          <a:xfrm>
            <a:off x="2419200" y="2017800"/>
            <a:ext cx="403200" cy="44280"/>
          </a:xfrm>
          <a:custGeom>
            <a:avLst/>
            <a:gdLst>
              <a:gd name="textAreaLeft" fmla="*/ 0 w 403200"/>
              <a:gd name="textAreaRight" fmla="*/ 403560 w 403200"/>
              <a:gd name="textAreaTop" fmla="*/ 0 h 44280"/>
              <a:gd name="textAreaBottom" fmla="*/ 44640 h 44280"/>
            </a:gdLst>
            <a:ahLst/>
            <a:rect l="textAreaLeft" t="textAreaTop" r="textAreaRight" b="textAreaBottom"/>
            <a:pathLst>
              <a:path w="401837" h="44649">
                <a:moveTo>
                  <a:pt x="0" y="44648"/>
                </a:moveTo>
                <a:lnTo>
                  <a:pt x="25731" y="44648"/>
                </a:lnTo>
                <a:lnTo>
                  <a:pt x="32037" y="43656"/>
                </a:lnTo>
                <a:lnTo>
                  <a:pt x="39217" y="42002"/>
                </a:lnTo>
                <a:lnTo>
                  <a:pt x="46980" y="39908"/>
                </a:lnTo>
                <a:lnTo>
                  <a:pt x="55133" y="38512"/>
                </a:lnTo>
                <a:lnTo>
                  <a:pt x="63544" y="37580"/>
                </a:lnTo>
                <a:lnTo>
                  <a:pt x="72128" y="36960"/>
                </a:lnTo>
                <a:lnTo>
                  <a:pt x="80828" y="36546"/>
                </a:lnTo>
                <a:lnTo>
                  <a:pt x="98431" y="36087"/>
                </a:lnTo>
                <a:lnTo>
                  <a:pt x="107293" y="34972"/>
                </a:lnTo>
                <a:lnTo>
                  <a:pt x="116177" y="33236"/>
                </a:lnTo>
                <a:lnTo>
                  <a:pt x="156563" y="23322"/>
                </a:lnTo>
                <a:lnTo>
                  <a:pt x="167875" y="21501"/>
                </a:lnTo>
                <a:lnTo>
                  <a:pt x="179385" y="20287"/>
                </a:lnTo>
                <a:lnTo>
                  <a:pt x="191028" y="19478"/>
                </a:lnTo>
                <a:lnTo>
                  <a:pt x="202758" y="18938"/>
                </a:lnTo>
                <a:lnTo>
                  <a:pt x="226375" y="18339"/>
                </a:lnTo>
                <a:lnTo>
                  <a:pt x="238229" y="17187"/>
                </a:lnTo>
                <a:lnTo>
                  <a:pt x="250101" y="15427"/>
                </a:lnTo>
                <a:lnTo>
                  <a:pt x="261984" y="13261"/>
                </a:lnTo>
                <a:lnTo>
                  <a:pt x="272882" y="11817"/>
                </a:lnTo>
                <a:lnTo>
                  <a:pt x="283124" y="10855"/>
                </a:lnTo>
                <a:lnTo>
                  <a:pt x="292929" y="10213"/>
                </a:lnTo>
                <a:lnTo>
                  <a:pt x="303435" y="8793"/>
                </a:lnTo>
                <a:lnTo>
                  <a:pt x="314407" y="6854"/>
                </a:lnTo>
                <a:lnTo>
                  <a:pt x="325690" y="4569"/>
                </a:lnTo>
                <a:lnTo>
                  <a:pt x="336189" y="3046"/>
                </a:lnTo>
                <a:lnTo>
                  <a:pt x="346165" y="2031"/>
                </a:lnTo>
                <a:lnTo>
                  <a:pt x="355793" y="1354"/>
                </a:lnTo>
                <a:lnTo>
                  <a:pt x="371781" y="602"/>
                </a:lnTo>
                <a:lnTo>
                  <a:pt x="389293" y="178"/>
                </a:lnTo>
                <a:lnTo>
                  <a:pt x="401836" y="0"/>
                </a:lnTo>
              </a:path>
            </a:pathLst>
          </a:custGeom>
          <a:noFill/>
          <a:ln w="38160">
            <a:solidFill>
              <a:srgbClr val="000000"/>
            </a:solidFill>
            <a:round/>
          </a:ln>
        </p:spPr>
        <p:style>
          <a:lnRef idx="0"/>
          <a:fillRef idx="0"/>
          <a:effectRef idx="0"/>
          <a:fontRef idx="minor"/>
        </p:style>
        <p:txBody>
          <a:bodyPr lIns="90000" rIns="90000" tIns="-2160" bIns="-2160" anchor="ctr">
            <a:noAutofit/>
          </a:bodyPr>
          <a:p>
            <a:endParaRPr b="0" lang="en-US" sz="1800" spc="-1" strike="noStrike">
              <a:solidFill>
                <a:srgbClr val="000000"/>
              </a:solidFill>
              <a:latin typeface="Constantia"/>
            </a:endParaRPr>
          </a:p>
        </p:txBody>
      </p:sp>
      <p:sp>
        <p:nvSpPr>
          <p:cNvPr id="209" name="SMARTInkAnnotation5"/>
          <p:cNvSpPr/>
          <p:nvPr/>
        </p:nvSpPr>
        <p:spPr>
          <a:xfrm>
            <a:off x="2411280" y="2276640"/>
            <a:ext cx="285840" cy="27000"/>
          </a:xfrm>
          <a:custGeom>
            <a:avLst/>
            <a:gdLst>
              <a:gd name="textAreaLeft" fmla="*/ 0 w 285840"/>
              <a:gd name="textAreaRight" fmla="*/ 286200 w 285840"/>
              <a:gd name="textAreaTop" fmla="*/ 0 h 27000"/>
              <a:gd name="textAreaBottom" fmla="*/ 27360 h 27000"/>
            </a:gdLst>
            <a:ahLst/>
            <a:rect l="textAreaLeft" t="textAreaTop" r="textAreaRight" b="textAreaBottom"/>
            <a:pathLst>
              <a:path w="285751" h="26790">
                <a:moveTo>
                  <a:pt x="0" y="26789"/>
                </a:moveTo>
                <a:lnTo>
                  <a:pt x="4741" y="22048"/>
                </a:lnTo>
                <a:lnTo>
                  <a:pt x="7129" y="20652"/>
                </a:lnTo>
                <a:lnTo>
                  <a:pt x="9714" y="19721"/>
                </a:lnTo>
                <a:lnTo>
                  <a:pt x="12429" y="19100"/>
                </a:lnTo>
                <a:lnTo>
                  <a:pt x="18092" y="18411"/>
                </a:lnTo>
                <a:lnTo>
                  <a:pt x="24908" y="18105"/>
                </a:lnTo>
                <a:lnTo>
                  <a:pt x="41887" y="17932"/>
                </a:lnTo>
                <a:lnTo>
                  <a:pt x="83997" y="17869"/>
                </a:lnTo>
                <a:lnTo>
                  <a:pt x="91717" y="16873"/>
                </a:lnTo>
                <a:lnTo>
                  <a:pt x="99840" y="15218"/>
                </a:lnTo>
                <a:lnTo>
                  <a:pt x="108232" y="13121"/>
                </a:lnTo>
                <a:lnTo>
                  <a:pt x="115811" y="11724"/>
                </a:lnTo>
                <a:lnTo>
                  <a:pt x="122848" y="10793"/>
                </a:lnTo>
                <a:lnTo>
                  <a:pt x="129524" y="10172"/>
                </a:lnTo>
                <a:lnTo>
                  <a:pt x="136951" y="9758"/>
                </a:lnTo>
                <a:lnTo>
                  <a:pt x="153141" y="9298"/>
                </a:lnTo>
                <a:lnTo>
                  <a:pt x="178990" y="9038"/>
                </a:lnTo>
                <a:lnTo>
                  <a:pt x="186795" y="8010"/>
                </a:lnTo>
                <a:lnTo>
                  <a:pt x="193983" y="6332"/>
                </a:lnTo>
                <a:lnTo>
                  <a:pt x="200760" y="4221"/>
                </a:lnTo>
                <a:lnTo>
                  <a:pt x="208254" y="2814"/>
                </a:lnTo>
                <a:lnTo>
                  <a:pt x="216227" y="1876"/>
                </a:lnTo>
                <a:lnTo>
                  <a:pt x="224518" y="1251"/>
                </a:lnTo>
                <a:lnTo>
                  <a:pt x="232031" y="834"/>
                </a:lnTo>
                <a:lnTo>
                  <a:pt x="245669" y="370"/>
                </a:lnTo>
                <a:lnTo>
                  <a:pt x="273992" y="48"/>
                </a:lnTo>
                <a:lnTo>
                  <a:pt x="285750" y="0"/>
                </a:lnTo>
              </a:path>
            </a:pathLst>
          </a:custGeom>
          <a:noFill/>
          <a:ln w="38160">
            <a:solidFill>
              <a:srgbClr val="000000"/>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Constantia"/>
            </a:endParaRPr>
          </a:p>
        </p:txBody>
      </p:sp>
      <p:sp>
        <p:nvSpPr>
          <p:cNvPr id="210" name="SMARTInkAnnotation6"/>
          <p:cNvSpPr/>
          <p:nvPr/>
        </p:nvSpPr>
        <p:spPr>
          <a:xfrm>
            <a:off x="2876400" y="2054160"/>
            <a:ext cx="328680" cy="696960"/>
          </a:xfrm>
          <a:custGeom>
            <a:avLst/>
            <a:gdLst>
              <a:gd name="textAreaLeft" fmla="*/ 0 w 328680"/>
              <a:gd name="textAreaRight" fmla="*/ 329040 w 328680"/>
              <a:gd name="textAreaTop" fmla="*/ 0 h 696960"/>
              <a:gd name="textAreaBottom" fmla="*/ 697320 h 696960"/>
            </a:gdLst>
            <a:ahLst/>
            <a:rect l="textAreaLeft" t="textAreaTop" r="textAreaRight" b="textAreaBottom"/>
            <a:pathLst>
              <a:path w="328989" h="696347">
                <a:moveTo>
                  <a:pt x="168257" y="437385"/>
                </a:moveTo>
                <a:lnTo>
                  <a:pt x="155828" y="424957"/>
                </a:lnTo>
                <a:lnTo>
                  <a:pt x="153026" y="423146"/>
                </a:lnTo>
                <a:lnTo>
                  <a:pt x="144341" y="419607"/>
                </a:lnTo>
                <a:lnTo>
                  <a:pt x="135484" y="413707"/>
                </a:lnTo>
                <a:lnTo>
                  <a:pt x="129548" y="411979"/>
                </a:lnTo>
                <a:lnTo>
                  <a:pt x="120957" y="411211"/>
                </a:lnTo>
                <a:lnTo>
                  <a:pt x="115888" y="411006"/>
                </a:lnTo>
                <a:lnTo>
                  <a:pt x="111516" y="411862"/>
                </a:lnTo>
                <a:lnTo>
                  <a:pt x="104013" y="415458"/>
                </a:lnTo>
                <a:lnTo>
                  <a:pt x="94725" y="417718"/>
                </a:lnTo>
                <a:lnTo>
                  <a:pt x="89470" y="418321"/>
                </a:lnTo>
                <a:lnTo>
                  <a:pt x="84974" y="419714"/>
                </a:lnTo>
                <a:lnTo>
                  <a:pt x="77334" y="423910"/>
                </a:lnTo>
                <a:lnTo>
                  <a:pt x="67985" y="429081"/>
                </a:lnTo>
                <a:lnTo>
                  <a:pt x="62714" y="431849"/>
                </a:lnTo>
                <a:lnTo>
                  <a:pt x="54211" y="440216"/>
                </a:lnTo>
                <a:lnTo>
                  <a:pt x="50554" y="445226"/>
                </a:lnTo>
                <a:lnTo>
                  <a:pt x="41200" y="453438"/>
                </a:lnTo>
                <a:lnTo>
                  <a:pt x="35927" y="457017"/>
                </a:lnTo>
                <a:lnTo>
                  <a:pt x="27423" y="466285"/>
                </a:lnTo>
                <a:lnTo>
                  <a:pt x="20336" y="477019"/>
                </a:lnTo>
                <a:lnTo>
                  <a:pt x="13879" y="488404"/>
                </a:lnTo>
                <a:lnTo>
                  <a:pt x="10348" y="500079"/>
                </a:lnTo>
                <a:lnTo>
                  <a:pt x="7786" y="511882"/>
                </a:lnTo>
                <a:lnTo>
                  <a:pt x="1758" y="530676"/>
                </a:lnTo>
                <a:lnTo>
                  <a:pt x="0" y="546316"/>
                </a:lnTo>
                <a:lnTo>
                  <a:pt x="1864" y="560544"/>
                </a:lnTo>
                <a:lnTo>
                  <a:pt x="8492" y="579710"/>
                </a:lnTo>
                <a:lnTo>
                  <a:pt x="16739" y="597957"/>
                </a:lnTo>
                <a:lnTo>
                  <a:pt x="23525" y="610946"/>
                </a:lnTo>
                <a:lnTo>
                  <a:pt x="33156" y="626640"/>
                </a:lnTo>
                <a:lnTo>
                  <a:pt x="38502" y="633008"/>
                </a:lnTo>
                <a:lnTo>
                  <a:pt x="44051" y="638246"/>
                </a:lnTo>
                <a:lnTo>
                  <a:pt x="49734" y="642730"/>
                </a:lnTo>
                <a:lnTo>
                  <a:pt x="55507" y="645719"/>
                </a:lnTo>
                <a:lnTo>
                  <a:pt x="61341" y="647712"/>
                </a:lnTo>
                <a:lnTo>
                  <a:pt x="67214" y="649041"/>
                </a:lnTo>
                <a:lnTo>
                  <a:pt x="73114" y="648934"/>
                </a:lnTo>
                <a:lnTo>
                  <a:pt x="79031" y="647871"/>
                </a:lnTo>
                <a:lnTo>
                  <a:pt x="84961" y="646170"/>
                </a:lnTo>
                <a:lnTo>
                  <a:pt x="99487" y="641634"/>
                </a:lnTo>
                <a:lnTo>
                  <a:pt x="107527" y="639036"/>
                </a:lnTo>
                <a:lnTo>
                  <a:pt x="114872" y="635319"/>
                </a:lnTo>
                <a:lnTo>
                  <a:pt x="121753" y="630857"/>
                </a:lnTo>
                <a:lnTo>
                  <a:pt x="128325" y="625897"/>
                </a:lnTo>
                <a:lnTo>
                  <a:pt x="143564" y="615096"/>
                </a:lnTo>
                <a:lnTo>
                  <a:pt x="151795" y="609437"/>
                </a:lnTo>
                <a:lnTo>
                  <a:pt x="160259" y="602688"/>
                </a:lnTo>
                <a:lnTo>
                  <a:pt x="168878" y="595212"/>
                </a:lnTo>
                <a:lnTo>
                  <a:pt x="177601" y="587252"/>
                </a:lnTo>
                <a:lnTo>
                  <a:pt x="185400" y="578968"/>
                </a:lnTo>
                <a:lnTo>
                  <a:pt x="192584" y="570469"/>
                </a:lnTo>
                <a:lnTo>
                  <a:pt x="199358" y="561827"/>
                </a:lnTo>
                <a:lnTo>
                  <a:pt x="205858" y="553088"/>
                </a:lnTo>
                <a:lnTo>
                  <a:pt x="218372" y="535442"/>
                </a:lnTo>
                <a:lnTo>
                  <a:pt x="224488" y="525577"/>
                </a:lnTo>
                <a:lnTo>
                  <a:pt x="230549" y="515031"/>
                </a:lnTo>
                <a:lnTo>
                  <a:pt x="242575" y="492731"/>
                </a:lnTo>
                <a:lnTo>
                  <a:pt x="254535" y="469590"/>
                </a:lnTo>
                <a:lnTo>
                  <a:pt x="259510" y="457863"/>
                </a:lnTo>
                <a:lnTo>
                  <a:pt x="263819" y="446076"/>
                </a:lnTo>
                <a:lnTo>
                  <a:pt x="267684" y="434249"/>
                </a:lnTo>
                <a:lnTo>
                  <a:pt x="271252" y="421404"/>
                </a:lnTo>
                <a:lnTo>
                  <a:pt x="274624" y="407880"/>
                </a:lnTo>
                <a:lnTo>
                  <a:pt x="281015" y="379623"/>
                </a:lnTo>
                <a:lnTo>
                  <a:pt x="290192" y="336816"/>
                </a:lnTo>
                <a:lnTo>
                  <a:pt x="299195" y="297565"/>
                </a:lnTo>
                <a:lnTo>
                  <a:pt x="308146" y="255948"/>
                </a:lnTo>
                <a:lnTo>
                  <a:pt x="314105" y="230408"/>
                </a:lnTo>
                <a:lnTo>
                  <a:pt x="316090" y="218041"/>
                </a:lnTo>
                <a:lnTo>
                  <a:pt x="317414" y="205828"/>
                </a:lnTo>
                <a:lnTo>
                  <a:pt x="318297" y="193717"/>
                </a:lnTo>
                <a:lnTo>
                  <a:pt x="319877" y="181674"/>
                </a:lnTo>
                <a:lnTo>
                  <a:pt x="321923" y="169677"/>
                </a:lnTo>
                <a:lnTo>
                  <a:pt x="324279" y="157710"/>
                </a:lnTo>
                <a:lnTo>
                  <a:pt x="326897" y="136476"/>
                </a:lnTo>
                <a:lnTo>
                  <a:pt x="328061" y="117116"/>
                </a:lnTo>
                <a:lnTo>
                  <a:pt x="328578" y="98590"/>
                </a:lnTo>
                <a:lnTo>
                  <a:pt x="328975" y="36354"/>
                </a:lnTo>
                <a:lnTo>
                  <a:pt x="328988" y="16636"/>
                </a:lnTo>
                <a:lnTo>
                  <a:pt x="327997" y="13019"/>
                </a:lnTo>
                <a:lnTo>
                  <a:pt x="320171" y="0"/>
                </a:lnTo>
                <a:lnTo>
                  <a:pt x="320066" y="20575"/>
                </a:lnTo>
                <a:lnTo>
                  <a:pt x="320063" y="46813"/>
                </a:lnTo>
                <a:lnTo>
                  <a:pt x="317416" y="63376"/>
                </a:lnTo>
                <a:lnTo>
                  <a:pt x="313925" y="80659"/>
                </a:lnTo>
                <a:lnTo>
                  <a:pt x="312373" y="98262"/>
                </a:lnTo>
                <a:lnTo>
                  <a:pt x="311960" y="109108"/>
                </a:lnTo>
                <a:lnTo>
                  <a:pt x="311500" y="134388"/>
                </a:lnTo>
                <a:lnTo>
                  <a:pt x="310385" y="147082"/>
                </a:lnTo>
                <a:lnTo>
                  <a:pt x="308650" y="159514"/>
                </a:lnTo>
                <a:lnTo>
                  <a:pt x="306500" y="171771"/>
                </a:lnTo>
                <a:lnTo>
                  <a:pt x="305068" y="183910"/>
                </a:lnTo>
                <a:lnTo>
                  <a:pt x="304113" y="195972"/>
                </a:lnTo>
                <a:lnTo>
                  <a:pt x="303476" y="207982"/>
                </a:lnTo>
                <a:lnTo>
                  <a:pt x="302059" y="220950"/>
                </a:lnTo>
                <a:lnTo>
                  <a:pt x="300123" y="234556"/>
                </a:lnTo>
                <a:lnTo>
                  <a:pt x="297839" y="248588"/>
                </a:lnTo>
                <a:lnTo>
                  <a:pt x="296317" y="263895"/>
                </a:lnTo>
                <a:lnTo>
                  <a:pt x="295302" y="280053"/>
                </a:lnTo>
                <a:lnTo>
                  <a:pt x="294626" y="296779"/>
                </a:lnTo>
                <a:lnTo>
                  <a:pt x="293182" y="312890"/>
                </a:lnTo>
                <a:lnTo>
                  <a:pt x="291229" y="328591"/>
                </a:lnTo>
                <a:lnTo>
                  <a:pt x="288933" y="344020"/>
                </a:lnTo>
                <a:lnTo>
                  <a:pt x="283737" y="374392"/>
                </a:lnTo>
                <a:lnTo>
                  <a:pt x="280963" y="389437"/>
                </a:lnTo>
                <a:lnTo>
                  <a:pt x="279113" y="404427"/>
                </a:lnTo>
                <a:lnTo>
                  <a:pt x="277880" y="419382"/>
                </a:lnTo>
                <a:lnTo>
                  <a:pt x="277058" y="434313"/>
                </a:lnTo>
                <a:lnTo>
                  <a:pt x="275517" y="448236"/>
                </a:lnTo>
                <a:lnTo>
                  <a:pt x="273498" y="461486"/>
                </a:lnTo>
                <a:lnTo>
                  <a:pt x="263129" y="516009"/>
                </a:lnTo>
                <a:lnTo>
                  <a:pt x="261270" y="528496"/>
                </a:lnTo>
                <a:lnTo>
                  <a:pt x="260032" y="539798"/>
                </a:lnTo>
                <a:lnTo>
                  <a:pt x="257663" y="560293"/>
                </a:lnTo>
                <a:lnTo>
                  <a:pt x="253303" y="579324"/>
                </a:lnTo>
                <a:lnTo>
                  <a:pt x="250703" y="597703"/>
                </a:lnTo>
                <a:lnTo>
                  <a:pt x="248556" y="615794"/>
                </a:lnTo>
                <a:lnTo>
                  <a:pt x="242761" y="640729"/>
                </a:lnTo>
                <a:lnTo>
                  <a:pt x="240300" y="661695"/>
                </a:lnTo>
                <a:lnTo>
                  <a:pt x="239814" y="679911"/>
                </a:lnTo>
                <a:lnTo>
                  <a:pt x="240767" y="683405"/>
                </a:lnTo>
                <a:lnTo>
                  <a:pt x="248624" y="696346"/>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11" name="SMARTInkAnnotation7"/>
          <p:cNvSpPr/>
          <p:nvPr/>
        </p:nvSpPr>
        <p:spPr>
          <a:xfrm>
            <a:off x="1731960" y="3009960"/>
            <a:ext cx="366840" cy="44280"/>
          </a:xfrm>
          <a:custGeom>
            <a:avLst/>
            <a:gdLst>
              <a:gd name="textAreaLeft" fmla="*/ 0 w 366840"/>
              <a:gd name="textAreaRight" fmla="*/ 367200 w 366840"/>
              <a:gd name="textAreaTop" fmla="*/ 0 h 44280"/>
              <a:gd name="textAreaBottom" fmla="*/ 44280 h 44280"/>
            </a:gdLst>
            <a:ahLst/>
            <a:rect l="textAreaLeft" t="textAreaTop" r="textAreaRight" b="textAreaBottom"/>
            <a:pathLst>
              <a:path w="366118" h="44650">
                <a:moveTo>
                  <a:pt x="0" y="44649"/>
                </a:moveTo>
                <a:lnTo>
                  <a:pt x="25731" y="44649"/>
                </a:lnTo>
                <a:lnTo>
                  <a:pt x="31045" y="43656"/>
                </a:lnTo>
                <a:lnTo>
                  <a:pt x="36571" y="42003"/>
                </a:lnTo>
                <a:lnTo>
                  <a:pt x="42240" y="39908"/>
                </a:lnTo>
                <a:lnTo>
                  <a:pt x="48996" y="38512"/>
                </a:lnTo>
                <a:lnTo>
                  <a:pt x="56477" y="37581"/>
                </a:lnTo>
                <a:lnTo>
                  <a:pt x="64440" y="36960"/>
                </a:lnTo>
                <a:lnTo>
                  <a:pt x="72726" y="36546"/>
                </a:lnTo>
                <a:lnTo>
                  <a:pt x="89869" y="36087"/>
                </a:lnTo>
                <a:lnTo>
                  <a:pt x="98608" y="34972"/>
                </a:lnTo>
                <a:lnTo>
                  <a:pt x="107411" y="33237"/>
                </a:lnTo>
                <a:lnTo>
                  <a:pt x="116255" y="31087"/>
                </a:lnTo>
                <a:lnTo>
                  <a:pt x="125129" y="28663"/>
                </a:lnTo>
                <a:lnTo>
                  <a:pt x="142925" y="23322"/>
                </a:lnTo>
                <a:lnTo>
                  <a:pt x="152830" y="21502"/>
                </a:lnTo>
                <a:lnTo>
                  <a:pt x="163402" y="20287"/>
                </a:lnTo>
                <a:lnTo>
                  <a:pt x="174419" y="19478"/>
                </a:lnTo>
                <a:lnTo>
                  <a:pt x="184740" y="18939"/>
                </a:lnTo>
                <a:lnTo>
                  <a:pt x="204146" y="18339"/>
                </a:lnTo>
                <a:lnTo>
                  <a:pt x="213488" y="17187"/>
                </a:lnTo>
                <a:lnTo>
                  <a:pt x="222692" y="15427"/>
                </a:lnTo>
                <a:lnTo>
                  <a:pt x="231805" y="13261"/>
                </a:lnTo>
                <a:lnTo>
                  <a:pt x="240857" y="11817"/>
                </a:lnTo>
                <a:lnTo>
                  <a:pt x="249868" y="10855"/>
                </a:lnTo>
                <a:lnTo>
                  <a:pt x="258852" y="10213"/>
                </a:lnTo>
                <a:lnTo>
                  <a:pt x="267818" y="8793"/>
                </a:lnTo>
                <a:lnTo>
                  <a:pt x="276772" y="6855"/>
                </a:lnTo>
                <a:lnTo>
                  <a:pt x="285718" y="4570"/>
                </a:lnTo>
                <a:lnTo>
                  <a:pt x="293666" y="3047"/>
                </a:lnTo>
                <a:lnTo>
                  <a:pt x="300949" y="2031"/>
                </a:lnTo>
                <a:lnTo>
                  <a:pt x="307789" y="1354"/>
                </a:lnTo>
                <a:lnTo>
                  <a:pt x="314333" y="903"/>
                </a:lnTo>
                <a:lnTo>
                  <a:pt x="320680" y="602"/>
                </a:lnTo>
                <a:lnTo>
                  <a:pt x="336449" y="178"/>
                </a:lnTo>
                <a:lnTo>
                  <a:pt x="366117" y="0"/>
                </a:lnTo>
              </a:path>
            </a:pathLst>
          </a:custGeom>
          <a:noFill/>
          <a:ln w="38160">
            <a:solidFill>
              <a:srgbClr val="000000"/>
            </a:solidFill>
            <a:round/>
          </a:ln>
        </p:spPr>
        <p:style>
          <a:lnRef idx="0"/>
          <a:fillRef idx="0"/>
          <a:effectRef idx="0"/>
          <a:fontRef idx="minor"/>
        </p:style>
        <p:txBody>
          <a:bodyPr lIns="90000" rIns="90000" tIns="-2520" bIns="-2520" anchor="ctr">
            <a:noAutofit/>
          </a:bodyPr>
          <a:p>
            <a:endParaRPr b="0" lang="en-US" sz="1800" spc="-1" strike="noStrike">
              <a:solidFill>
                <a:srgbClr val="000000"/>
              </a:solidFill>
              <a:latin typeface="Constantia"/>
            </a:endParaRPr>
          </a:p>
        </p:txBody>
      </p:sp>
      <p:sp>
        <p:nvSpPr>
          <p:cNvPr id="212" name="SMARTInkAnnotation8"/>
          <p:cNvSpPr/>
          <p:nvPr/>
        </p:nvSpPr>
        <p:spPr>
          <a:xfrm>
            <a:off x="1776240" y="3133800"/>
            <a:ext cx="349560" cy="19080"/>
          </a:xfrm>
          <a:custGeom>
            <a:avLst/>
            <a:gdLst>
              <a:gd name="textAreaLeft" fmla="*/ 0 w 349560"/>
              <a:gd name="textAreaRight" fmla="*/ 349560 w 349560"/>
              <a:gd name="textAreaTop" fmla="*/ 0 h 19080"/>
              <a:gd name="textAreaBottom" fmla="*/ 19440 h 19080"/>
            </a:gdLst>
            <a:ahLst/>
            <a:rect l="textAreaLeft" t="textAreaTop" r="textAreaRight" b="textAreaBottom"/>
            <a:pathLst>
              <a:path w="348259" h="17860">
                <a:moveTo>
                  <a:pt x="0" y="17859"/>
                </a:moveTo>
                <a:lnTo>
                  <a:pt x="12429" y="17859"/>
                </a:lnTo>
                <a:lnTo>
                  <a:pt x="16224" y="16867"/>
                </a:lnTo>
                <a:lnTo>
                  <a:pt x="20738" y="15213"/>
                </a:lnTo>
                <a:lnTo>
                  <a:pt x="25732" y="13119"/>
                </a:lnTo>
                <a:lnTo>
                  <a:pt x="31045" y="11722"/>
                </a:lnTo>
                <a:lnTo>
                  <a:pt x="36572" y="10791"/>
                </a:lnTo>
                <a:lnTo>
                  <a:pt x="42241" y="10171"/>
                </a:lnTo>
                <a:lnTo>
                  <a:pt x="48997" y="9757"/>
                </a:lnTo>
                <a:lnTo>
                  <a:pt x="64441" y="9297"/>
                </a:lnTo>
                <a:lnTo>
                  <a:pt x="72726" y="8183"/>
                </a:lnTo>
                <a:lnTo>
                  <a:pt x="81227" y="6447"/>
                </a:lnTo>
                <a:lnTo>
                  <a:pt x="89870" y="4298"/>
                </a:lnTo>
                <a:lnTo>
                  <a:pt x="98609" y="2865"/>
                </a:lnTo>
                <a:lnTo>
                  <a:pt x="107411" y="1910"/>
                </a:lnTo>
                <a:lnTo>
                  <a:pt x="116256" y="1273"/>
                </a:lnTo>
                <a:lnTo>
                  <a:pt x="125129" y="849"/>
                </a:lnTo>
                <a:lnTo>
                  <a:pt x="142926" y="377"/>
                </a:lnTo>
                <a:lnTo>
                  <a:pt x="348258" y="0"/>
                </a:lnTo>
              </a:path>
            </a:pathLst>
          </a:custGeom>
          <a:noFill/>
          <a:ln w="38160">
            <a:solidFill>
              <a:srgbClr val="000000"/>
            </a:solidFill>
            <a:round/>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Constantia"/>
            </a:endParaRPr>
          </a:p>
        </p:txBody>
      </p:sp>
      <p:sp>
        <p:nvSpPr>
          <p:cNvPr id="213" name="SMARTInkAnnotation9"/>
          <p:cNvSpPr/>
          <p:nvPr/>
        </p:nvSpPr>
        <p:spPr>
          <a:xfrm>
            <a:off x="2179800" y="2874960"/>
            <a:ext cx="204480" cy="839880"/>
          </a:xfrm>
          <a:custGeom>
            <a:avLst/>
            <a:gdLst>
              <a:gd name="textAreaLeft" fmla="*/ 0 w 204480"/>
              <a:gd name="textAreaRight" fmla="*/ 204840 w 204480"/>
              <a:gd name="textAreaTop" fmla="*/ 0 h 839880"/>
              <a:gd name="textAreaBottom" fmla="*/ 840240 h 839880"/>
            </a:gdLst>
            <a:ahLst/>
            <a:rect l="textAreaLeft" t="textAreaTop" r="textAreaRight" b="textAreaBottom"/>
            <a:pathLst>
              <a:path w="204825" h="839392">
                <a:moveTo>
                  <a:pt x="204824" y="0"/>
                </a:moveTo>
                <a:lnTo>
                  <a:pt x="197136" y="0"/>
                </a:lnTo>
                <a:lnTo>
                  <a:pt x="191522" y="4741"/>
                </a:lnTo>
                <a:lnTo>
                  <a:pt x="189010" y="6137"/>
                </a:lnTo>
                <a:lnTo>
                  <a:pt x="183575" y="7688"/>
                </a:lnTo>
                <a:lnTo>
                  <a:pt x="179744" y="10086"/>
                </a:lnTo>
                <a:lnTo>
                  <a:pt x="175206" y="13670"/>
                </a:lnTo>
                <a:lnTo>
                  <a:pt x="170196" y="18043"/>
                </a:lnTo>
                <a:lnTo>
                  <a:pt x="161983" y="25547"/>
                </a:lnTo>
                <a:lnTo>
                  <a:pt x="154034" y="33183"/>
                </a:lnTo>
                <a:lnTo>
                  <a:pt x="143886" y="43190"/>
                </a:lnTo>
                <a:lnTo>
                  <a:pt x="138402" y="49630"/>
                </a:lnTo>
                <a:lnTo>
                  <a:pt x="132761" y="56899"/>
                </a:lnTo>
                <a:lnTo>
                  <a:pt x="127017" y="64722"/>
                </a:lnTo>
                <a:lnTo>
                  <a:pt x="121202" y="71921"/>
                </a:lnTo>
                <a:lnTo>
                  <a:pt x="115342" y="78705"/>
                </a:lnTo>
                <a:lnTo>
                  <a:pt x="109451" y="85213"/>
                </a:lnTo>
                <a:lnTo>
                  <a:pt x="103539" y="92527"/>
                </a:lnTo>
                <a:lnTo>
                  <a:pt x="97613" y="100380"/>
                </a:lnTo>
                <a:lnTo>
                  <a:pt x="85737" y="117043"/>
                </a:lnTo>
                <a:lnTo>
                  <a:pt x="55993" y="160860"/>
                </a:lnTo>
                <a:lnTo>
                  <a:pt x="51033" y="169748"/>
                </a:lnTo>
                <a:lnTo>
                  <a:pt x="46734" y="178650"/>
                </a:lnTo>
                <a:lnTo>
                  <a:pt x="42876" y="187561"/>
                </a:lnTo>
                <a:lnTo>
                  <a:pt x="38320" y="196478"/>
                </a:lnTo>
                <a:lnTo>
                  <a:pt x="33298" y="205399"/>
                </a:lnTo>
                <a:lnTo>
                  <a:pt x="27966" y="214323"/>
                </a:lnTo>
                <a:lnTo>
                  <a:pt x="23419" y="224242"/>
                </a:lnTo>
                <a:lnTo>
                  <a:pt x="19395" y="234823"/>
                </a:lnTo>
                <a:lnTo>
                  <a:pt x="15720" y="245845"/>
                </a:lnTo>
                <a:lnTo>
                  <a:pt x="12278" y="257162"/>
                </a:lnTo>
                <a:lnTo>
                  <a:pt x="5808" y="280320"/>
                </a:lnTo>
                <a:lnTo>
                  <a:pt x="2271" y="303842"/>
                </a:lnTo>
                <a:lnTo>
                  <a:pt x="699" y="327525"/>
                </a:lnTo>
                <a:lnTo>
                  <a:pt x="0" y="351280"/>
                </a:lnTo>
                <a:lnTo>
                  <a:pt x="806" y="364163"/>
                </a:lnTo>
                <a:lnTo>
                  <a:pt x="2336" y="377713"/>
                </a:lnTo>
                <a:lnTo>
                  <a:pt x="4348" y="391707"/>
                </a:lnTo>
                <a:lnTo>
                  <a:pt x="6583" y="417839"/>
                </a:lnTo>
                <a:lnTo>
                  <a:pt x="8568" y="443676"/>
                </a:lnTo>
                <a:lnTo>
                  <a:pt x="10487" y="457510"/>
                </a:lnTo>
                <a:lnTo>
                  <a:pt x="12758" y="471694"/>
                </a:lnTo>
                <a:lnTo>
                  <a:pt x="15265" y="485119"/>
                </a:lnTo>
                <a:lnTo>
                  <a:pt x="20695" y="510619"/>
                </a:lnTo>
                <a:lnTo>
                  <a:pt x="24525" y="522975"/>
                </a:lnTo>
                <a:lnTo>
                  <a:pt x="29062" y="535181"/>
                </a:lnTo>
                <a:lnTo>
                  <a:pt x="34071" y="547288"/>
                </a:lnTo>
                <a:lnTo>
                  <a:pt x="38403" y="559327"/>
                </a:lnTo>
                <a:lnTo>
                  <a:pt x="42283" y="571322"/>
                </a:lnTo>
                <a:lnTo>
                  <a:pt x="45862" y="583288"/>
                </a:lnTo>
                <a:lnTo>
                  <a:pt x="52484" y="607166"/>
                </a:lnTo>
                <a:lnTo>
                  <a:pt x="76811" y="701474"/>
                </a:lnTo>
                <a:lnTo>
                  <a:pt x="82776" y="721540"/>
                </a:lnTo>
                <a:lnTo>
                  <a:pt x="86748" y="730066"/>
                </a:lnTo>
                <a:lnTo>
                  <a:pt x="91380" y="737734"/>
                </a:lnTo>
                <a:lnTo>
                  <a:pt x="96452" y="744830"/>
                </a:lnTo>
                <a:lnTo>
                  <a:pt x="100826" y="752538"/>
                </a:lnTo>
                <a:lnTo>
                  <a:pt x="104735" y="760653"/>
                </a:lnTo>
                <a:lnTo>
                  <a:pt x="108332" y="769039"/>
                </a:lnTo>
                <a:lnTo>
                  <a:pt x="112715" y="776615"/>
                </a:lnTo>
                <a:lnTo>
                  <a:pt x="117621" y="783650"/>
                </a:lnTo>
                <a:lnTo>
                  <a:pt x="122876" y="790324"/>
                </a:lnTo>
                <a:lnTo>
                  <a:pt x="127372" y="796757"/>
                </a:lnTo>
                <a:lnTo>
                  <a:pt x="131361" y="803031"/>
                </a:lnTo>
                <a:lnTo>
                  <a:pt x="135013" y="809198"/>
                </a:lnTo>
                <a:lnTo>
                  <a:pt x="138439" y="814301"/>
                </a:lnTo>
                <a:lnTo>
                  <a:pt x="141716" y="818696"/>
                </a:lnTo>
                <a:lnTo>
                  <a:pt x="148003" y="826224"/>
                </a:lnTo>
                <a:lnTo>
                  <a:pt x="154104" y="832877"/>
                </a:lnTo>
                <a:lnTo>
                  <a:pt x="157120" y="835049"/>
                </a:lnTo>
                <a:lnTo>
                  <a:pt x="163117" y="837461"/>
                </a:lnTo>
                <a:lnTo>
                  <a:pt x="169090" y="838533"/>
                </a:lnTo>
                <a:lnTo>
                  <a:pt x="175052" y="839010"/>
                </a:lnTo>
                <a:lnTo>
                  <a:pt x="178030" y="839137"/>
                </a:lnTo>
                <a:lnTo>
                  <a:pt x="186965" y="839391"/>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14" name="SMARTInkAnnotation10"/>
          <p:cNvSpPr/>
          <p:nvPr/>
        </p:nvSpPr>
        <p:spPr>
          <a:xfrm>
            <a:off x="2401920" y="3009960"/>
            <a:ext cx="17280" cy="490320"/>
          </a:xfrm>
          <a:custGeom>
            <a:avLst/>
            <a:gdLst>
              <a:gd name="textAreaLeft" fmla="*/ 0 w 17280"/>
              <a:gd name="textAreaRight" fmla="*/ 17640 w 17280"/>
              <a:gd name="textAreaTop" fmla="*/ 0 h 490320"/>
              <a:gd name="textAreaBottom" fmla="*/ 490680 h 490320"/>
            </a:gdLst>
            <a:ahLst/>
            <a:rect l="textAreaLeft" t="textAreaTop" r="textAreaRight" b="textAreaBottom"/>
            <a:pathLst>
              <a:path w="17483" h="491134">
                <a:moveTo>
                  <a:pt x="8552" y="0"/>
                </a:moveTo>
                <a:lnTo>
                  <a:pt x="13293" y="4741"/>
                </a:lnTo>
                <a:lnTo>
                  <a:pt x="14689" y="7130"/>
                </a:lnTo>
                <a:lnTo>
                  <a:pt x="15620" y="9714"/>
                </a:lnTo>
                <a:lnTo>
                  <a:pt x="16241" y="12429"/>
                </a:lnTo>
                <a:lnTo>
                  <a:pt x="16655" y="15232"/>
                </a:lnTo>
                <a:lnTo>
                  <a:pt x="17114" y="20991"/>
                </a:lnTo>
                <a:lnTo>
                  <a:pt x="17373" y="34552"/>
                </a:lnTo>
                <a:lnTo>
                  <a:pt x="17482" y="183349"/>
                </a:lnTo>
                <a:lnTo>
                  <a:pt x="16490" y="193671"/>
                </a:lnTo>
                <a:lnTo>
                  <a:pt x="14836" y="203528"/>
                </a:lnTo>
                <a:lnTo>
                  <a:pt x="12741" y="213076"/>
                </a:lnTo>
                <a:lnTo>
                  <a:pt x="11345" y="223410"/>
                </a:lnTo>
                <a:lnTo>
                  <a:pt x="10414" y="234268"/>
                </a:lnTo>
                <a:lnTo>
                  <a:pt x="9793" y="245476"/>
                </a:lnTo>
                <a:lnTo>
                  <a:pt x="9104" y="268512"/>
                </a:lnTo>
                <a:lnTo>
                  <a:pt x="8920" y="280211"/>
                </a:lnTo>
                <a:lnTo>
                  <a:pt x="7805" y="290987"/>
                </a:lnTo>
                <a:lnTo>
                  <a:pt x="6070" y="301148"/>
                </a:lnTo>
                <a:lnTo>
                  <a:pt x="3920" y="310898"/>
                </a:lnTo>
                <a:lnTo>
                  <a:pt x="2488" y="321367"/>
                </a:lnTo>
                <a:lnTo>
                  <a:pt x="1533" y="332315"/>
                </a:lnTo>
                <a:lnTo>
                  <a:pt x="896" y="343583"/>
                </a:lnTo>
                <a:lnTo>
                  <a:pt x="189" y="364039"/>
                </a:lnTo>
                <a:lnTo>
                  <a:pt x="0" y="373662"/>
                </a:lnTo>
                <a:lnTo>
                  <a:pt x="866" y="383053"/>
                </a:lnTo>
                <a:lnTo>
                  <a:pt x="2436" y="392291"/>
                </a:lnTo>
                <a:lnTo>
                  <a:pt x="4475" y="401426"/>
                </a:lnTo>
                <a:lnTo>
                  <a:pt x="5834" y="409500"/>
                </a:lnTo>
                <a:lnTo>
                  <a:pt x="6740" y="416867"/>
                </a:lnTo>
                <a:lnTo>
                  <a:pt x="7344" y="423763"/>
                </a:lnTo>
                <a:lnTo>
                  <a:pt x="7747" y="431337"/>
                </a:lnTo>
                <a:lnTo>
                  <a:pt x="8194" y="447690"/>
                </a:lnTo>
                <a:lnTo>
                  <a:pt x="9306" y="454233"/>
                </a:lnTo>
                <a:lnTo>
                  <a:pt x="11039" y="459588"/>
                </a:lnTo>
                <a:lnTo>
                  <a:pt x="13186" y="464150"/>
                </a:lnTo>
                <a:lnTo>
                  <a:pt x="14619" y="468184"/>
                </a:lnTo>
                <a:lnTo>
                  <a:pt x="15573" y="471864"/>
                </a:lnTo>
                <a:lnTo>
                  <a:pt x="16209" y="475311"/>
                </a:lnTo>
                <a:lnTo>
                  <a:pt x="16633" y="478600"/>
                </a:lnTo>
                <a:lnTo>
                  <a:pt x="16916" y="481786"/>
                </a:lnTo>
                <a:lnTo>
                  <a:pt x="17482" y="491133"/>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15" name="SMARTInkAnnotation11"/>
          <p:cNvSpPr/>
          <p:nvPr/>
        </p:nvSpPr>
        <p:spPr>
          <a:xfrm>
            <a:off x="2509920" y="3483000"/>
            <a:ext cx="7920" cy="360"/>
          </a:xfrm>
          <a:custGeom>
            <a:avLst/>
            <a:gdLst>
              <a:gd name="textAreaLeft" fmla="*/ 0 w 7920"/>
              <a:gd name="textAreaRight" fmla="*/ 8280 w 7920"/>
              <a:gd name="textAreaTop" fmla="*/ 0 h 360"/>
              <a:gd name="textAreaBottom" fmla="*/ 720 h 360"/>
            </a:gdLst>
            <a:ahLst/>
            <a:rect l="textAreaLeft" t="textAreaTop" r="textAreaRight" b="textAreaBottom"/>
            <a:pathLst>
              <a:path w="8930" h="1">
                <a:moveTo>
                  <a:pt x="0" y="0"/>
                </a:moveTo>
                <a:lnTo>
                  <a:pt x="8929" y="0"/>
                </a:lnTo>
              </a:path>
            </a:pathLst>
          </a:custGeom>
          <a:noFill/>
          <a:ln w="38160">
            <a:solidFill>
              <a:srgbClr val="000000"/>
            </a:solidFill>
            <a:round/>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Constantia"/>
            </a:endParaRPr>
          </a:p>
        </p:txBody>
      </p:sp>
      <p:sp>
        <p:nvSpPr>
          <p:cNvPr id="216" name="SMARTInkAnnotation12"/>
          <p:cNvSpPr/>
          <p:nvPr/>
        </p:nvSpPr>
        <p:spPr>
          <a:xfrm>
            <a:off x="2616120" y="3071880"/>
            <a:ext cx="231840" cy="446040"/>
          </a:xfrm>
          <a:custGeom>
            <a:avLst/>
            <a:gdLst>
              <a:gd name="textAreaLeft" fmla="*/ 0 w 231840"/>
              <a:gd name="textAreaRight" fmla="*/ 232200 w 231840"/>
              <a:gd name="textAreaTop" fmla="*/ 0 h 446040"/>
              <a:gd name="textAreaBottom" fmla="*/ 446400 h 446040"/>
            </a:gdLst>
            <a:ahLst/>
            <a:rect l="textAreaLeft" t="textAreaTop" r="textAreaRight" b="textAreaBottom"/>
            <a:pathLst>
              <a:path w="232173" h="446485">
                <a:moveTo>
                  <a:pt x="0" y="0"/>
                </a:moveTo>
                <a:lnTo>
                  <a:pt x="12429" y="0"/>
                </a:lnTo>
                <a:lnTo>
                  <a:pt x="15231" y="992"/>
                </a:lnTo>
                <a:lnTo>
                  <a:pt x="20991" y="4741"/>
                </a:lnTo>
                <a:lnTo>
                  <a:pt x="26858" y="9714"/>
                </a:lnTo>
                <a:lnTo>
                  <a:pt x="33765" y="16224"/>
                </a:lnTo>
                <a:lnTo>
                  <a:pt x="100037" y="82181"/>
                </a:lnTo>
                <a:lnTo>
                  <a:pt x="107371" y="90506"/>
                </a:lnTo>
                <a:lnTo>
                  <a:pt x="114245" y="99033"/>
                </a:lnTo>
                <a:lnTo>
                  <a:pt x="120811" y="107694"/>
                </a:lnTo>
                <a:lnTo>
                  <a:pt x="126182" y="117437"/>
                </a:lnTo>
                <a:lnTo>
                  <a:pt x="130754" y="127901"/>
                </a:lnTo>
                <a:lnTo>
                  <a:pt x="134794" y="138845"/>
                </a:lnTo>
                <a:lnTo>
                  <a:pt x="139472" y="150110"/>
                </a:lnTo>
                <a:lnTo>
                  <a:pt x="144575" y="161589"/>
                </a:lnTo>
                <a:lnTo>
                  <a:pt x="149962" y="173211"/>
                </a:lnTo>
                <a:lnTo>
                  <a:pt x="154545" y="183935"/>
                </a:lnTo>
                <a:lnTo>
                  <a:pt x="158592" y="194061"/>
                </a:lnTo>
                <a:lnTo>
                  <a:pt x="162283" y="203788"/>
                </a:lnTo>
                <a:lnTo>
                  <a:pt x="164743" y="214242"/>
                </a:lnTo>
                <a:lnTo>
                  <a:pt x="166384" y="225179"/>
                </a:lnTo>
                <a:lnTo>
                  <a:pt x="167477" y="236440"/>
                </a:lnTo>
                <a:lnTo>
                  <a:pt x="168206" y="246923"/>
                </a:lnTo>
                <a:lnTo>
                  <a:pt x="168692" y="256889"/>
                </a:lnTo>
                <a:lnTo>
                  <a:pt x="169232" y="275899"/>
                </a:lnTo>
                <a:lnTo>
                  <a:pt x="169472" y="294270"/>
                </a:lnTo>
                <a:lnTo>
                  <a:pt x="168544" y="303337"/>
                </a:lnTo>
                <a:lnTo>
                  <a:pt x="166933" y="312357"/>
                </a:lnTo>
                <a:lnTo>
                  <a:pt x="164867" y="321347"/>
                </a:lnTo>
                <a:lnTo>
                  <a:pt x="163489" y="330317"/>
                </a:lnTo>
                <a:lnTo>
                  <a:pt x="162571" y="339274"/>
                </a:lnTo>
                <a:lnTo>
                  <a:pt x="161959" y="348222"/>
                </a:lnTo>
                <a:lnTo>
                  <a:pt x="159567" y="356171"/>
                </a:lnTo>
                <a:lnTo>
                  <a:pt x="155987" y="363455"/>
                </a:lnTo>
                <a:lnTo>
                  <a:pt x="151616" y="370296"/>
                </a:lnTo>
                <a:lnTo>
                  <a:pt x="147710" y="375848"/>
                </a:lnTo>
                <a:lnTo>
                  <a:pt x="140724" y="384663"/>
                </a:lnTo>
                <a:lnTo>
                  <a:pt x="136480" y="388403"/>
                </a:lnTo>
                <a:lnTo>
                  <a:pt x="131667" y="391888"/>
                </a:lnTo>
                <a:lnTo>
                  <a:pt x="126473" y="395205"/>
                </a:lnTo>
                <a:lnTo>
                  <a:pt x="121026" y="398407"/>
                </a:lnTo>
                <a:lnTo>
                  <a:pt x="115411" y="401534"/>
                </a:lnTo>
                <a:lnTo>
                  <a:pt x="103879" y="407655"/>
                </a:lnTo>
                <a:lnTo>
                  <a:pt x="92140" y="413683"/>
                </a:lnTo>
                <a:lnTo>
                  <a:pt x="86231" y="414695"/>
                </a:lnTo>
                <a:lnTo>
                  <a:pt x="80308" y="414377"/>
                </a:lnTo>
                <a:lnTo>
                  <a:pt x="74374" y="413173"/>
                </a:lnTo>
                <a:lnTo>
                  <a:pt x="68435" y="412371"/>
                </a:lnTo>
                <a:lnTo>
                  <a:pt x="62490" y="411836"/>
                </a:lnTo>
                <a:lnTo>
                  <a:pt x="56543" y="411479"/>
                </a:lnTo>
                <a:lnTo>
                  <a:pt x="51586" y="410249"/>
                </a:lnTo>
                <a:lnTo>
                  <a:pt x="47289" y="408437"/>
                </a:lnTo>
                <a:lnTo>
                  <a:pt x="43432" y="406236"/>
                </a:lnTo>
                <a:lnTo>
                  <a:pt x="36501" y="401146"/>
                </a:lnTo>
                <a:lnTo>
                  <a:pt x="33264" y="398399"/>
                </a:lnTo>
                <a:lnTo>
                  <a:pt x="29121" y="396568"/>
                </a:lnTo>
                <a:lnTo>
                  <a:pt x="24375" y="395348"/>
                </a:lnTo>
                <a:lnTo>
                  <a:pt x="19227" y="394534"/>
                </a:lnTo>
                <a:lnTo>
                  <a:pt x="15794" y="392999"/>
                </a:lnTo>
                <a:lnTo>
                  <a:pt x="13506" y="390984"/>
                </a:lnTo>
                <a:lnTo>
                  <a:pt x="11980" y="388648"/>
                </a:lnTo>
                <a:lnTo>
                  <a:pt x="10286" y="383407"/>
                </a:lnTo>
                <a:lnTo>
                  <a:pt x="9108" y="370011"/>
                </a:lnTo>
                <a:lnTo>
                  <a:pt x="9009" y="367848"/>
                </a:lnTo>
                <a:lnTo>
                  <a:pt x="11610" y="364241"/>
                </a:lnTo>
                <a:lnTo>
                  <a:pt x="13693" y="361890"/>
                </a:lnTo>
                <a:lnTo>
                  <a:pt x="16074" y="360322"/>
                </a:lnTo>
                <a:lnTo>
                  <a:pt x="21365" y="358581"/>
                </a:lnTo>
                <a:lnTo>
                  <a:pt x="27025" y="357807"/>
                </a:lnTo>
                <a:lnTo>
                  <a:pt x="29923" y="357600"/>
                </a:lnTo>
                <a:lnTo>
                  <a:pt x="32847" y="358455"/>
                </a:lnTo>
                <a:lnTo>
                  <a:pt x="38742" y="362050"/>
                </a:lnTo>
                <a:lnTo>
                  <a:pt x="42695" y="363406"/>
                </a:lnTo>
                <a:lnTo>
                  <a:pt x="47315" y="364310"/>
                </a:lnTo>
                <a:lnTo>
                  <a:pt x="52379" y="364912"/>
                </a:lnTo>
                <a:lnTo>
                  <a:pt x="56747" y="366306"/>
                </a:lnTo>
                <a:lnTo>
                  <a:pt x="60652" y="368228"/>
                </a:lnTo>
                <a:lnTo>
                  <a:pt x="64247" y="370501"/>
                </a:lnTo>
                <a:lnTo>
                  <a:pt x="68629" y="373008"/>
                </a:lnTo>
                <a:lnTo>
                  <a:pt x="78788" y="378440"/>
                </a:lnTo>
                <a:lnTo>
                  <a:pt x="202407" y="440532"/>
                </a:lnTo>
                <a:lnTo>
                  <a:pt x="208360" y="442516"/>
                </a:lnTo>
                <a:lnTo>
                  <a:pt x="214313" y="443839"/>
                </a:lnTo>
                <a:lnTo>
                  <a:pt x="232172" y="446484"/>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17" name="SMARTInkAnnotation13"/>
          <p:cNvSpPr/>
          <p:nvPr/>
        </p:nvSpPr>
        <p:spPr>
          <a:xfrm>
            <a:off x="2892600" y="3160800"/>
            <a:ext cx="188640" cy="420480"/>
          </a:xfrm>
          <a:custGeom>
            <a:avLst/>
            <a:gdLst>
              <a:gd name="textAreaLeft" fmla="*/ 0 w 188640"/>
              <a:gd name="textAreaRight" fmla="*/ 189000 w 188640"/>
              <a:gd name="textAreaTop" fmla="*/ 0 h 420480"/>
              <a:gd name="textAreaBottom" fmla="*/ 420840 h 420480"/>
            </a:gdLst>
            <a:ahLst/>
            <a:rect l="textAreaLeft" t="textAreaTop" r="textAreaRight" b="textAreaBottom"/>
            <a:pathLst>
              <a:path w="187525" h="419696">
                <a:moveTo>
                  <a:pt x="0" y="0"/>
                </a:moveTo>
                <a:lnTo>
                  <a:pt x="0" y="4740"/>
                </a:lnTo>
                <a:lnTo>
                  <a:pt x="4741" y="17169"/>
                </a:lnTo>
                <a:lnTo>
                  <a:pt x="9714" y="25159"/>
                </a:lnTo>
                <a:lnTo>
                  <a:pt x="15231" y="33010"/>
                </a:lnTo>
                <a:lnTo>
                  <a:pt x="20991" y="43114"/>
                </a:lnTo>
                <a:lnTo>
                  <a:pt x="23916" y="49578"/>
                </a:lnTo>
                <a:lnTo>
                  <a:pt x="26858" y="56864"/>
                </a:lnTo>
                <a:lnTo>
                  <a:pt x="32773" y="72898"/>
                </a:lnTo>
                <a:lnTo>
                  <a:pt x="47630" y="116278"/>
                </a:lnTo>
                <a:lnTo>
                  <a:pt x="51597" y="126136"/>
                </a:lnTo>
                <a:lnTo>
                  <a:pt x="56226" y="136676"/>
                </a:lnTo>
                <a:lnTo>
                  <a:pt x="61296" y="147673"/>
                </a:lnTo>
                <a:lnTo>
                  <a:pt x="65669" y="158972"/>
                </a:lnTo>
                <a:lnTo>
                  <a:pt x="69577" y="170473"/>
                </a:lnTo>
                <a:lnTo>
                  <a:pt x="79816" y="202977"/>
                </a:lnTo>
                <a:lnTo>
                  <a:pt x="82976" y="212709"/>
                </a:lnTo>
                <a:lnTo>
                  <a:pt x="88060" y="223165"/>
                </a:lnTo>
                <a:lnTo>
                  <a:pt x="94426" y="234105"/>
                </a:lnTo>
                <a:lnTo>
                  <a:pt x="101646" y="245367"/>
                </a:lnTo>
                <a:lnTo>
                  <a:pt x="107451" y="255851"/>
                </a:lnTo>
                <a:lnTo>
                  <a:pt x="112314" y="265818"/>
                </a:lnTo>
                <a:lnTo>
                  <a:pt x="116548" y="275438"/>
                </a:lnTo>
                <a:lnTo>
                  <a:pt x="120363" y="285821"/>
                </a:lnTo>
                <a:lnTo>
                  <a:pt x="123898" y="296711"/>
                </a:lnTo>
                <a:lnTo>
                  <a:pt x="127248" y="307940"/>
                </a:lnTo>
                <a:lnTo>
                  <a:pt x="131465" y="318403"/>
                </a:lnTo>
                <a:lnTo>
                  <a:pt x="136260" y="328355"/>
                </a:lnTo>
                <a:lnTo>
                  <a:pt x="149845" y="353936"/>
                </a:lnTo>
                <a:lnTo>
                  <a:pt x="172526" y="398669"/>
                </a:lnTo>
                <a:lnTo>
                  <a:pt x="175897" y="408035"/>
                </a:lnTo>
                <a:lnTo>
                  <a:pt x="176796" y="411922"/>
                </a:lnTo>
                <a:lnTo>
                  <a:pt x="178388" y="414513"/>
                </a:lnTo>
                <a:lnTo>
                  <a:pt x="180441" y="416240"/>
                </a:lnTo>
                <a:lnTo>
                  <a:pt x="187524" y="419695"/>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18" name="SMARTInkAnnotation14"/>
          <p:cNvSpPr/>
          <p:nvPr/>
        </p:nvSpPr>
        <p:spPr>
          <a:xfrm>
            <a:off x="2884320" y="3197160"/>
            <a:ext cx="152640" cy="330120"/>
          </a:xfrm>
          <a:custGeom>
            <a:avLst/>
            <a:gdLst>
              <a:gd name="textAreaLeft" fmla="*/ 0 w 152640"/>
              <a:gd name="textAreaRight" fmla="*/ 153000 w 152640"/>
              <a:gd name="textAreaTop" fmla="*/ 0 h 330120"/>
              <a:gd name="textAreaBottom" fmla="*/ 330480 h 330120"/>
            </a:gdLst>
            <a:ahLst/>
            <a:rect l="textAreaLeft" t="textAreaTop" r="textAreaRight" b="textAreaBottom"/>
            <a:pathLst>
              <a:path w="151805" h="330399">
                <a:moveTo>
                  <a:pt x="151804" y="0"/>
                </a:moveTo>
                <a:lnTo>
                  <a:pt x="151804" y="13302"/>
                </a:lnTo>
                <a:lnTo>
                  <a:pt x="147836" y="22759"/>
                </a:lnTo>
                <a:lnTo>
                  <a:pt x="126265" y="69030"/>
                </a:lnTo>
                <a:lnTo>
                  <a:pt x="120887" y="81739"/>
                </a:lnTo>
                <a:lnTo>
                  <a:pt x="116310" y="93188"/>
                </a:lnTo>
                <a:lnTo>
                  <a:pt x="108579" y="113846"/>
                </a:lnTo>
                <a:lnTo>
                  <a:pt x="105128" y="123523"/>
                </a:lnTo>
                <a:lnTo>
                  <a:pt x="100843" y="132950"/>
                </a:lnTo>
                <a:lnTo>
                  <a:pt x="96002" y="142211"/>
                </a:lnTo>
                <a:lnTo>
                  <a:pt x="90790" y="151362"/>
                </a:lnTo>
                <a:lnTo>
                  <a:pt x="86323" y="160439"/>
                </a:lnTo>
                <a:lnTo>
                  <a:pt x="82354" y="169467"/>
                </a:lnTo>
                <a:lnTo>
                  <a:pt x="78715" y="178462"/>
                </a:lnTo>
                <a:lnTo>
                  <a:pt x="74304" y="186443"/>
                </a:lnTo>
                <a:lnTo>
                  <a:pt x="69380" y="193749"/>
                </a:lnTo>
                <a:lnTo>
                  <a:pt x="64113" y="200603"/>
                </a:lnTo>
                <a:lnTo>
                  <a:pt x="59609" y="208149"/>
                </a:lnTo>
                <a:lnTo>
                  <a:pt x="55614" y="216157"/>
                </a:lnTo>
                <a:lnTo>
                  <a:pt x="51959" y="224472"/>
                </a:lnTo>
                <a:lnTo>
                  <a:pt x="48530" y="232991"/>
                </a:lnTo>
                <a:lnTo>
                  <a:pt x="42074" y="250395"/>
                </a:lnTo>
                <a:lnTo>
                  <a:pt x="38963" y="258211"/>
                </a:lnTo>
                <a:lnTo>
                  <a:pt x="35897" y="265406"/>
                </a:lnTo>
                <a:lnTo>
                  <a:pt x="29845" y="278693"/>
                </a:lnTo>
                <a:lnTo>
                  <a:pt x="23847" y="291212"/>
                </a:lnTo>
                <a:lnTo>
                  <a:pt x="20859" y="296337"/>
                </a:lnTo>
                <a:lnTo>
                  <a:pt x="17875" y="300745"/>
                </a:lnTo>
                <a:lnTo>
                  <a:pt x="14893" y="304676"/>
                </a:lnTo>
                <a:lnTo>
                  <a:pt x="11913" y="308290"/>
                </a:lnTo>
                <a:lnTo>
                  <a:pt x="8934" y="311690"/>
                </a:lnTo>
                <a:lnTo>
                  <a:pt x="5956" y="314950"/>
                </a:lnTo>
                <a:lnTo>
                  <a:pt x="3970" y="318115"/>
                </a:lnTo>
                <a:lnTo>
                  <a:pt x="784" y="327678"/>
                </a:lnTo>
                <a:lnTo>
                  <a:pt x="0" y="330398"/>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19" name="SMARTInkAnnotation15"/>
          <p:cNvSpPr/>
          <p:nvPr/>
        </p:nvSpPr>
        <p:spPr>
          <a:xfrm>
            <a:off x="3133800" y="3116160"/>
            <a:ext cx="46080" cy="438120"/>
          </a:xfrm>
          <a:custGeom>
            <a:avLst/>
            <a:gdLst>
              <a:gd name="textAreaLeft" fmla="*/ 0 w 46080"/>
              <a:gd name="textAreaRight" fmla="*/ 46440 w 46080"/>
              <a:gd name="textAreaTop" fmla="*/ 0 h 438120"/>
              <a:gd name="textAreaBottom" fmla="*/ 438480 h 438120"/>
            </a:gdLst>
            <a:ahLst/>
            <a:rect l="textAreaLeft" t="textAreaTop" r="textAreaRight" b="textAreaBottom"/>
            <a:pathLst>
              <a:path w="44623" h="437556">
                <a:moveTo>
                  <a:pt x="44622" y="0"/>
                </a:moveTo>
                <a:lnTo>
                  <a:pt x="44622" y="12429"/>
                </a:lnTo>
                <a:lnTo>
                  <a:pt x="43630" y="16224"/>
                </a:lnTo>
                <a:lnTo>
                  <a:pt x="41976" y="20738"/>
                </a:lnTo>
                <a:lnTo>
                  <a:pt x="39882" y="25732"/>
                </a:lnTo>
                <a:lnTo>
                  <a:pt x="38486" y="32037"/>
                </a:lnTo>
                <a:lnTo>
                  <a:pt x="37554" y="39218"/>
                </a:lnTo>
                <a:lnTo>
                  <a:pt x="36934" y="46981"/>
                </a:lnTo>
                <a:lnTo>
                  <a:pt x="36520" y="55134"/>
                </a:lnTo>
                <a:lnTo>
                  <a:pt x="36060" y="72129"/>
                </a:lnTo>
                <a:lnTo>
                  <a:pt x="34946" y="80828"/>
                </a:lnTo>
                <a:lnTo>
                  <a:pt x="33211" y="89604"/>
                </a:lnTo>
                <a:lnTo>
                  <a:pt x="31061" y="98432"/>
                </a:lnTo>
                <a:lnTo>
                  <a:pt x="29629" y="108285"/>
                </a:lnTo>
                <a:lnTo>
                  <a:pt x="28673" y="118823"/>
                </a:lnTo>
                <a:lnTo>
                  <a:pt x="28037" y="129817"/>
                </a:lnTo>
                <a:lnTo>
                  <a:pt x="26620" y="140123"/>
                </a:lnTo>
                <a:lnTo>
                  <a:pt x="24683" y="149970"/>
                </a:lnTo>
                <a:lnTo>
                  <a:pt x="14446" y="191902"/>
                </a:lnTo>
                <a:lnTo>
                  <a:pt x="12599" y="204333"/>
                </a:lnTo>
                <a:lnTo>
                  <a:pt x="11367" y="217582"/>
                </a:lnTo>
                <a:lnTo>
                  <a:pt x="10546" y="231375"/>
                </a:lnTo>
                <a:lnTo>
                  <a:pt x="9006" y="243547"/>
                </a:lnTo>
                <a:lnTo>
                  <a:pt x="6988" y="254638"/>
                </a:lnTo>
                <a:lnTo>
                  <a:pt x="4650" y="265009"/>
                </a:lnTo>
                <a:lnTo>
                  <a:pt x="4084" y="275892"/>
                </a:lnTo>
                <a:lnTo>
                  <a:pt x="4698" y="287115"/>
                </a:lnTo>
                <a:lnTo>
                  <a:pt x="6100" y="298567"/>
                </a:lnTo>
                <a:lnTo>
                  <a:pt x="6042" y="310170"/>
                </a:lnTo>
                <a:lnTo>
                  <a:pt x="5011" y="321874"/>
                </a:lnTo>
                <a:lnTo>
                  <a:pt x="3333" y="333645"/>
                </a:lnTo>
                <a:lnTo>
                  <a:pt x="2213" y="344469"/>
                </a:lnTo>
                <a:lnTo>
                  <a:pt x="1467" y="354662"/>
                </a:lnTo>
                <a:lnTo>
                  <a:pt x="638" y="372932"/>
                </a:lnTo>
                <a:lnTo>
                  <a:pt x="269" y="387667"/>
                </a:lnTo>
                <a:lnTo>
                  <a:pt x="0" y="425450"/>
                </a:lnTo>
                <a:lnTo>
                  <a:pt x="983" y="429485"/>
                </a:lnTo>
                <a:lnTo>
                  <a:pt x="2632" y="432175"/>
                </a:lnTo>
                <a:lnTo>
                  <a:pt x="8904" y="437555"/>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0" name="SMARTInkAnnotation16"/>
          <p:cNvSpPr/>
          <p:nvPr/>
        </p:nvSpPr>
        <p:spPr>
          <a:xfrm>
            <a:off x="3224160" y="3224160"/>
            <a:ext cx="247680" cy="363600"/>
          </a:xfrm>
          <a:custGeom>
            <a:avLst/>
            <a:gdLst>
              <a:gd name="textAreaLeft" fmla="*/ 0 w 247680"/>
              <a:gd name="textAreaRight" fmla="*/ 248040 w 247680"/>
              <a:gd name="textAreaTop" fmla="*/ 0 h 363600"/>
              <a:gd name="textAreaBottom" fmla="*/ 363960 h 363600"/>
            </a:gdLst>
            <a:ahLst/>
            <a:rect l="textAreaLeft" t="textAreaTop" r="textAreaRight" b="textAreaBottom"/>
            <a:pathLst>
              <a:path w="248752" h="364189">
                <a:moveTo>
                  <a:pt x="142749" y="0"/>
                </a:moveTo>
                <a:lnTo>
                  <a:pt x="135060" y="0"/>
                </a:lnTo>
                <a:lnTo>
                  <a:pt x="129446" y="4740"/>
                </a:lnTo>
                <a:lnTo>
                  <a:pt x="126935" y="6137"/>
                </a:lnTo>
                <a:lnTo>
                  <a:pt x="121499" y="7688"/>
                </a:lnTo>
                <a:lnTo>
                  <a:pt x="115776" y="11023"/>
                </a:lnTo>
                <a:lnTo>
                  <a:pt x="112861" y="13302"/>
                </a:lnTo>
                <a:lnTo>
                  <a:pt x="106976" y="21126"/>
                </a:lnTo>
                <a:lnTo>
                  <a:pt x="100060" y="31217"/>
                </a:lnTo>
                <a:lnTo>
                  <a:pt x="95438" y="36686"/>
                </a:lnTo>
                <a:lnTo>
                  <a:pt x="90372" y="42317"/>
                </a:lnTo>
                <a:lnTo>
                  <a:pt x="85011" y="49047"/>
                </a:lnTo>
                <a:lnTo>
                  <a:pt x="79452" y="56510"/>
                </a:lnTo>
                <a:lnTo>
                  <a:pt x="73762" y="64462"/>
                </a:lnTo>
                <a:lnTo>
                  <a:pt x="67984" y="71748"/>
                </a:lnTo>
                <a:lnTo>
                  <a:pt x="62148" y="78590"/>
                </a:lnTo>
                <a:lnTo>
                  <a:pt x="56273" y="85136"/>
                </a:lnTo>
                <a:lnTo>
                  <a:pt x="51364" y="92475"/>
                </a:lnTo>
                <a:lnTo>
                  <a:pt x="47099" y="100346"/>
                </a:lnTo>
                <a:lnTo>
                  <a:pt x="43264" y="108569"/>
                </a:lnTo>
                <a:lnTo>
                  <a:pt x="38722" y="117027"/>
                </a:lnTo>
                <a:lnTo>
                  <a:pt x="33710" y="125644"/>
                </a:lnTo>
                <a:lnTo>
                  <a:pt x="28384" y="134364"/>
                </a:lnTo>
                <a:lnTo>
                  <a:pt x="23842" y="143154"/>
                </a:lnTo>
                <a:lnTo>
                  <a:pt x="19821" y="151991"/>
                </a:lnTo>
                <a:lnTo>
                  <a:pt x="16148" y="160858"/>
                </a:lnTo>
                <a:lnTo>
                  <a:pt x="13700" y="170738"/>
                </a:lnTo>
                <a:lnTo>
                  <a:pt x="12068" y="181294"/>
                </a:lnTo>
                <a:lnTo>
                  <a:pt x="10980" y="192300"/>
                </a:lnTo>
                <a:lnTo>
                  <a:pt x="9262" y="202614"/>
                </a:lnTo>
                <a:lnTo>
                  <a:pt x="7125" y="212467"/>
                </a:lnTo>
                <a:lnTo>
                  <a:pt x="4708" y="222012"/>
                </a:lnTo>
                <a:lnTo>
                  <a:pt x="3097" y="231351"/>
                </a:lnTo>
                <a:lnTo>
                  <a:pt x="2022" y="240555"/>
                </a:lnTo>
                <a:lnTo>
                  <a:pt x="1306" y="249667"/>
                </a:lnTo>
                <a:lnTo>
                  <a:pt x="829" y="257725"/>
                </a:lnTo>
                <a:lnTo>
                  <a:pt x="298" y="271972"/>
                </a:lnTo>
                <a:lnTo>
                  <a:pt x="0" y="295889"/>
                </a:lnTo>
                <a:lnTo>
                  <a:pt x="950" y="303423"/>
                </a:lnTo>
                <a:lnTo>
                  <a:pt x="2575" y="310430"/>
                </a:lnTo>
                <a:lnTo>
                  <a:pt x="4651" y="317087"/>
                </a:lnTo>
                <a:lnTo>
                  <a:pt x="8020" y="323508"/>
                </a:lnTo>
                <a:lnTo>
                  <a:pt x="12249" y="329774"/>
                </a:lnTo>
                <a:lnTo>
                  <a:pt x="17054" y="335935"/>
                </a:lnTo>
                <a:lnTo>
                  <a:pt x="21249" y="341035"/>
                </a:lnTo>
                <a:lnTo>
                  <a:pt x="28556" y="349347"/>
                </a:lnTo>
                <a:lnTo>
                  <a:pt x="33878" y="352953"/>
                </a:lnTo>
                <a:lnTo>
                  <a:pt x="40403" y="356348"/>
                </a:lnTo>
                <a:lnTo>
                  <a:pt x="47729" y="359605"/>
                </a:lnTo>
                <a:lnTo>
                  <a:pt x="54597" y="361775"/>
                </a:lnTo>
                <a:lnTo>
                  <a:pt x="61161" y="363223"/>
                </a:lnTo>
                <a:lnTo>
                  <a:pt x="67521" y="364188"/>
                </a:lnTo>
                <a:lnTo>
                  <a:pt x="74737" y="363838"/>
                </a:lnTo>
                <a:lnTo>
                  <a:pt x="82525" y="362614"/>
                </a:lnTo>
                <a:lnTo>
                  <a:pt x="90694" y="360805"/>
                </a:lnTo>
                <a:lnTo>
                  <a:pt x="99115" y="358607"/>
                </a:lnTo>
                <a:lnTo>
                  <a:pt x="107707" y="356149"/>
                </a:lnTo>
                <a:lnTo>
                  <a:pt x="116411" y="353519"/>
                </a:lnTo>
                <a:lnTo>
                  <a:pt x="125190" y="349781"/>
                </a:lnTo>
                <a:lnTo>
                  <a:pt x="134020" y="345305"/>
                </a:lnTo>
                <a:lnTo>
                  <a:pt x="142883" y="340336"/>
                </a:lnTo>
                <a:lnTo>
                  <a:pt x="150776" y="335039"/>
                </a:lnTo>
                <a:lnTo>
                  <a:pt x="158022" y="329523"/>
                </a:lnTo>
                <a:lnTo>
                  <a:pt x="164837" y="323862"/>
                </a:lnTo>
                <a:lnTo>
                  <a:pt x="172357" y="317111"/>
                </a:lnTo>
                <a:lnTo>
                  <a:pt x="188650" y="301672"/>
                </a:lnTo>
                <a:lnTo>
                  <a:pt x="196170" y="293388"/>
                </a:lnTo>
                <a:lnTo>
                  <a:pt x="203167" y="284889"/>
                </a:lnTo>
                <a:lnTo>
                  <a:pt x="209817" y="276247"/>
                </a:lnTo>
                <a:lnTo>
                  <a:pt x="215242" y="267508"/>
                </a:lnTo>
                <a:lnTo>
                  <a:pt x="219852" y="258706"/>
                </a:lnTo>
                <a:lnTo>
                  <a:pt x="223916" y="249861"/>
                </a:lnTo>
                <a:lnTo>
                  <a:pt x="228611" y="240988"/>
                </a:lnTo>
                <a:lnTo>
                  <a:pt x="233724" y="232096"/>
                </a:lnTo>
                <a:lnTo>
                  <a:pt x="239118" y="223192"/>
                </a:lnTo>
                <a:lnTo>
                  <a:pt x="241721" y="214279"/>
                </a:lnTo>
                <a:lnTo>
                  <a:pt x="242465" y="205360"/>
                </a:lnTo>
                <a:lnTo>
                  <a:pt x="241969" y="196438"/>
                </a:lnTo>
                <a:lnTo>
                  <a:pt x="242629" y="186521"/>
                </a:lnTo>
                <a:lnTo>
                  <a:pt x="244063" y="175941"/>
                </a:lnTo>
                <a:lnTo>
                  <a:pt x="246010" y="164919"/>
                </a:lnTo>
                <a:lnTo>
                  <a:pt x="247309" y="154595"/>
                </a:lnTo>
                <a:lnTo>
                  <a:pt x="248174" y="144735"/>
                </a:lnTo>
                <a:lnTo>
                  <a:pt x="248751" y="135185"/>
                </a:lnTo>
                <a:lnTo>
                  <a:pt x="248144" y="126834"/>
                </a:lnTo>
                <a:lnTo>
                  <a:pt x="246747" y="119283"/>
                </a:lnTo>
                <a:lnTo>
                  <a:pt x="244823" y="112264"/>
                </a:lnTo>
                <a:lnTo>
                  <a:pt x="243540" y="104608"/>
                </a:lnTo>
                <a:lnTo>
                  <a:pt x="242686" y="96528"/>
                </a:lnTo>
                <a:lnTo>
                  <a:pt x="242115" y="88164"/>
                </a:lnTo>
                <a:lnTo>
                  <a:pt x="240743" y="81596"/>
                </a:lnTo>
                <a:lnTo>
                  <a:pt x="236572" y="71653"/>
                </a:lnTo>
                <a:lnTo>
                  <a:pt x="228647" y="55737"/>
                </a:lnTo>
                <a:lnTo>
                  <a:pt x="222928" y="46931"/>
                </a:lnTo>
                <a:lnTo>
                  <a:pt x="217079" y="39710"/>
                </a:lnTo>
                <a:lnTo>
                  <a:pt x="211172" y="33193"/>
                </a:lnTo>
                <a:lnTo>
                  <a:pt x="205240" y="26989"/>
                </a:lnTo>
                <a:lnTo>
                  <a:pt x="202269" y="23946"/>
                </a:lnTo>
                <a:lnTo>
                  <a:pt x="199296" y="21917"/>
                </a:lnTo>
                <a:lnTo>
                  <a:pt x="193347" y="19663"/>
                </a:lnTo>
                <a:lnTo>
                  <a:pt x="187397" y="17859"/>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1" name="SMARTInkAnnotation17"/>
          <p:cNvSpPr/>
          <p:nvPr/>
        </p:nvSpPr>
        <p:spPr>
          <a:xfrm>
            <a:off x="3465360" y="2946240"/>
            <a:ext cx="214560" cy="108000"/>
          </a:xfrm>
          <a:custGeom>
            <a:avLst/>
            <a:gdLst>
              <a:gd name="textAreaLeft" fmla="*/ 0 w 214560"/>
              <a:gd name="textAreaRight" fmla="*/ 214920 w 214560"/>
              <a:gd name="textAreaTop" fmla="*/ 0 h 108000"/>
              <a:gd name="textAreaBottom" fmla="*/ 108360 h 108000"/>
            </a:gdLst>
            <a:ahLst/>
            <a:rect l="textAreaLeft" t="textAreaTop" r="textAreaRight" b="textAreaBottom"/>
            <a:pathLst>
              <a:path w="214281" h="107158">
                <a:moveTo>
                  <a:pt x="8897" y="0"/>
                </a:moveTo>
                <a:lnTo>
                  <a:pt x="8897" y="4741"/>
                </a:lnTo>
                <a:lnTo>
                  <a:pt x="7905" y="7130"/>
                </a:lnTo>
                <a:lnTo>
                  <a:pt x="6251" y="9714"/>
                </a:lnTo>
                <a:lnTo>
                  <a:pt x="4157" y="12429"/>
                </a:lnTo>
                <a:lnTo>
                  <a:pt x="2760" y="15232"/>
                </a:lnTo>
                <a:lnTo>
                  <a:pt x="1830" y="18092"/>
                </a:lnTo>
                <a:lnTo>
                  <a:pt x="1209" y="20991"/>
                </a:lnTo>
                <a:lnTo>
                  <a:pt x="795" y="23916"/>
                </a:lnTo>
                <a:lnTo>
                  <a:pt x="519" y="26858"/>
                </a:lnTo>
                <a:lnTo>
                  <a:pt x="335" y="29812"/>
                </a:lnTo>
                <a:lnTo>
                  <a:pt x="131" y="35739"/>
                </a:lnTo>
                <a:lnTo>
                  <a:pt x="0" y="47629"/>
                </a:lnTo>
                <a:lnTo>
                  <a:pt x="982" y="50604"/>
                </a:lnTo>
                <a:lnTo>
                  <a:pt x="2628" y="53580"/>
                </a:lnTo>
                <a:lnTo>
                  <a:pt x="4718" y="56556"/>
                </a:lnTo>
                <a:lnTo>
                  <a:pt x="6111" y="59532"/>
                </a:lnTo>
                <a:lnTo>
                  <a:pt x="7040" y="62509"/>
                </a:lnTo>
                <a:lnTo>
                  <a:pt x="7659" y="65485"/>
                </a:lnTo>
                <a:lnTo>
                  <a:pt x="8072" y="68462"/>
                </a:lnTo>
                <a:lnTo>
                  <a:pt x="8347" y="71438"/>
                </a:lnTo>
                <a:lnTo>
                  <a:pt x="8531" y="74415"/>
                </a:lnTo>
                <a:lnTo>
                  <a:pt x="9645" y="77391"/>
                </a:lnTo>
                <a:lnTo>
                  <a:pt x="11380" y="80368"/>
                </a:lnTo>
                <a:lnTo>
                  <a:pt x="13529" y="83344"/>
                </a:lnTo>
                <a:lnTo>
                  <a:pt x="15954" y="86320"/>
                </a:lnTo>
                <a:lnTo>
                  <a:pt x="18563" y="89297"/>
                </a:lnTo>
                <a:lnTo>
                  <a:pt x="21293" y="92274"/>
                </a:lnTo>
                <a:lnTo>
                  <a:pt x="24107" y="94258"/>
                </a:lnTo>
                <a:lnTo>
                  <a:pt x="29879" y="96463"/>
                </a:lnTo>
                <a:lnTo>
                  <a:pt x="32807" y="98043"/>
                </a:lnTo>
                <a:lnTo>
                  <a:pt x="35751" y="100089"/>
                </a:lnTo>
                <a:lnTo>
                  <a:pt x="38706" y="102445"/>
                </a:lnTo>
                <a:lnTo>
                  <a:pt x="42660" y="104015"/>
                </a:lnTo>
                <a:lnTo>
                  <a:pt x="47281" y="105063"/>
                </a:lnTo>
                <a:lnTo>
                  <a:pt x="52345" y="105761"/>
                </a:lnTo>
                <a:lnTo>
                  <a:pt x="57707" y="106226"/>
                </a:lnTo>
                <a:lnTo>
                  <a:pt x="63265" y="106536"/>
                </a:lnTo>
                <a:lnTo>
                  <a:pt x="74733" y="106881"/>
                </a:lnTo>
                <a:lnTo>
                  <a:pt x="103994" y="107132"/>
                </a:lnTo>
                <a:lnTo>
                  <a:pt x="214280" y="107157"/>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2" name="SMARTInkAnnotation18"/>
          <p:cNvSpPr/>
          <p:nvPr/>
        </p:nvSpPr>
        <p:spPr>
          <a:xfrm>
            <a:off x="3600360" y="2955960"/>
            <a:ext cx="20880" cy="285840"/>
          </a:xfrm>
          <a:custGeom>
            <a:avLst/>
            <a:gdLst>
              <a:gd name="textAreaLeft" fmla="*/ 0 w 20880"/>
              <a:gd name="textAreaRight" fmla="*/ 21240 w 20880"/>
              <a:gd name="textAreaTop" fmla="*/ 0 h 285840"/>
              <a:gd name="textAreaBottom" fmla="*/ 286200 h 285840"/>
            </a:gdLst>
            <a:ahLst/>
            <a:rect l="textAreaLeft" t="textAreaTop" r="textAreaRight" b="textAreaBottom"/>
            <a:pathLst>
              <a:path w="21686" h="285751">
                <a:moveTo>
                  <a:pt x="7688" y="0"/>
                </a:moveTo>
                <a:lnTo>
                  <a:pt x="2948" y="4741"/>
                </a:lnTo>
                <a:lnTo>
                  <a:pt x="1551" y="7129"/>
                </a:lnTo>
                <a:lnTo>
                  <a:pt x="620" y="9714"/>
                </a:lnTo>
                <a:lnTo>
                  <a:pt x="0" y="12429"/>
                </a:lnTo>
                <a:lnTo>
                  <a:pt x="578" y="15231"/>
                </a:lnTo>
                <a:lnTo>
                  <a:pt x="1956" y="18092"/>
                </a:lnTo>
                <a:lnTo>
                  <a:pt x="3867" y="20991"/>
                </a:lnTo>
                <a:lnTo>
                  <a:pt x="5140" y="25900"/>
                </a:lnTo>
                <a:lnTo>
                  <a:pt x="5990" y="32149"/>
                </a:lnTo>
                <a:lnTo>
                  <a:pt x="6556" y="39292"/>
                </a:lnTo>
                <a:lnTo>
                  <a:pt x="7926" y="46039"/>
                </a:lnTo>
                <a:lnTo>
                  <a:pt x="9831" y="52521"/>
                </a:lnTo>
                <a:lnTo>
                  <a:pt x="12093" y="58826"/>
                </a:lnTo>
                <a:lnTo>
                  <a:pt x="13601" y="65015"/>
                </a:lnTo>
                <a:lnTo>
                  <a:pt x="14607" y="71124"/>
                </a:lnTo>
                <a:lnTo>
                  <a:pt x="15277" y="77182"/>
                </a:lnTo>
                <a:lnTo>
                  <a:pt x="15724" y="85189"/>
                </a:lnTo>
                <a:lnTo>
                  <a:pt x="16221" y="104669"/>
                </a:lnTo>
                <a:lnTo>
                  <a:pt x="17345" y="114428"/>
                </a:lnTo>
                <a:lnTo>
                  <a:pt x="19088" y="123910"/>
                </a:lnTo>
                <a:lnTo>
                  <a:pt x="21241" y="133208"/>
                </a:lnTo>
                <a:lnTo>
                  <a:pt x="21685" y="142384"/>
                </a:lnTo>
                <a:lnTo>
                  <a:pt x="20988" y="151477"/>
                </a:lnTo>
                <a:lnTo>
                  <a:pt x="19532" y="160516"/>
                </a:lnTo>
                <a:lnTo>
                  <a:pt x="18560" y="169519"/>
                </a:lnTo>
                <a:lnTo>
                  <a:pt x="17913" y="178497"/>
                </a:lnTo>
                <a:lnTo>
                  <a:pt x="17481" y="187459"/>
                </a:lnTo>
                <a:lnTo>
                  <a:pt x="16201" y="196410"/>
                </a:lnTo>
                <a:lnTo>
                  <a:pt x="14356" y="205354"/>
                </a:lnTo>
                <a:lnTo>
                  <a:pt x="12133" y="214293"/>
                </a:lnTo>
                <a:lnTo>
                  <a:pt x="10652" y="223229"/>
                </a:lnTo>
                <a:lnTo>
                  <a:pt x="9664" y="232163"/>
                </a:lnTo>
                <a:lnTo>
                  <a:pt x="9006" y="241096"/>
                </a:lnTo>
                <a:lnTo>
                  <a:pt x="8566" y="249035"/>
                </a:lnTo>
                <a:lnTo>
                  <a:pt x="8079" y="263149"/>
                </a:lnTo>
                <a:lnTo>
                  <a:pt x="7688" y="28575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3" name="SMARTInkAnnotation19"/>
          <p:cNvSpPr/>
          <p:nvPr/>
        </p:nvSpPr>
        <p:spPr>
          <a:xfrm>
            <a:off x="3687840" y="3249720"/>
            <a:ext cx="108000" cy="420480"/>
          </a:xfrm>
          <a:custGeom>
            <a:avLst/>
            <a:gdLst>
              <a:gd name="textAreaLeft" fmla="*/ 0 w 108000"/>
              <a:gd name="textAreaRight" fmla="*/ 108360 w 108000"/>
              <a:gd name="textAreaTop" fmla="*/ 0 h 420480"/>
              <a:gd name="textAreaBottom" fmla="*/ 420840 h 420480"/>
            </a:gdLst>
            <a:ahLst/>
            <a:rect l="textAreaLeft" t="textAreaTop" r="textAreaRight" b="textAreaBottom"/>
            <a:pathLst>
              <a:path w="107158" h="419696">
                <a:moveTo>
                  <a:pt x="107157" y="0"/>
                </a:moveTo>
                <a:lnTo>
                  <a:pt x="107157" y="20117"/>
                </a:lnTo>
                <a:lnTo>
                  <a:pt x="104511" y="29115"/>
                </a:lnTo>
                <a:lnTo>
                  <a:pt x="102416" y="34293"/>
                </a:lnTo>
                <a:lnTo>
                  <a:pt x="101020" y="40721"/>
                </a:lnTo>
                <a:lnTo>
                  <a:pt x="100089" y="47983"/>
                </a:lnTo>
                <a:lnTo>
                  <a:pt x="99468" y="55801"/>
                </a:lnTo>
                <a:lnTo>
                  <a:pt x="98063" y="63990"/>
                </a:lnTo>
                <a:lnTo>
                  <a:pt x="96133" y="72426"/>
                </a:lnTo>
                <a:lnTo>
                  <a:pt x="93854" y="81026"/>
                </a:lnTo>
                <a:lnTo>
                  <a:pt x="88677" y="98519"/>
                </a:lnTo>
                <a:lnTo>
                  <a:pt x="77269" y="134003"/>
                </a:lnTo>
                <a:lnTo>
                  <a:pt x="75325" y="143906"/>
                </a:lnTo>
                <a:lnTo>
                  <a:pt x="74030" y="154476"/>
                </a:lnTo>
                <a:lnTo>
                  <a:pt x="73166" y="165492"/>
                </a:lnTo>
                <a:lnTo>
                  <a:pt x="71598" y="175812"/>
                </a:lnTo>
                <a:lnTo>
                  <a:pt x="69560" y="185669"/>
                </a:lnTo>
                <a:lnTo>
                  <a:pt x="67210" y="195217"/>
                </a:lnTo>
                <a:lnTo>
                  <a:pt x="63658" y="205551"/>
                </a:lnTo>
                <a:lnTo>
                  <a:pt x="59306" y="216409"/>
                </a:lnTo>
                <a:lnTo>
                  <a:pt x="54421" y="227616"/>
                </a:lnTo>
                <a:lnTo>
                  <a:pt x="50171" y="238065"/>
                </a:lnTo>
                <a:lnTo>
                  <a:pt x="42804" y="257611"/>
                </a:lnTo>
                <a:lnTo>
                  <a:pt x="39450" y="267983"/>
                </a:lnTo>
                <a:lnTo>
                  <a:pt x="36222" y="278866"/>
                </a:lnTo>
                <a:lnTo>
                  <a:pt x="29990" y="300550"/>
                </a:lnTo>
                <a:lnTo>
                  <a:pt x="20903" y="329492"/>
                </a:lnTo>
                <a:lnTo>
                  <a:pt x="14913" y="347854"/>
                </a:lnTo>
                <a:lnTo>
                  <a:pt x="12918" y="355926"/>
                </a:lnTo>
                <a:lnTo>
                  <a:pt x="11589" y="363292"/>
                </a:lnTo>
                <a:lnTo>
                  <a:pt x="10703" y="370187"/>
                </a:lnTo>
                <a:lnTo>
                  <a:pt x="9120" y="376768"/>
                </a:lnTo>
                <a:lnTo>
                  <a:pt x="7072" y="383140"/>
                </a:lnTo>
                <a:lnTo>
                  <a:pt x="4715" y="389372"/>
                </a:lnTo>
                <a:lnTo>
                  <a:pt x="2096" y="398942"/>
                </a:lnTo>
                <a:lnTo>
                  <a:pt x="277" y="410201"/>
                </a:lnTo>
                <a:lnTo>
                  <a:pt x="0" y="419695"/>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4" name="SMARTInkAnnotation20"/>
          <p:cNvSpPr/>
          <p:nvPr/>
        </p:nvSpPr>
        <p:spPr>
          <a:xfrm>
            <a:off x="3786120" y="3241800"/>
            <a:ext cx="241200" cy="390240"/>
          </a:xfrm>
          <a:custGeom>
            <a:avLst/>
            <a:gdLst>
              <a:gd name="textAreaLeft" fmla="*/ 0 w 241200"/>
              <a:gd name="textAreaRight" fmla="*/ 241560 w 241200"/>
              <a:gd name="textAreaTop" fmla="*/ 0 h 390240"/>
              <a:gd name="textAreaBottom" fmla="*/ 390600 h 390240"/>
            </a:gdLst>
            <a:ahLst/>
            <a:rect l="textAreaLeft" t="textAreaTop" r="textAreaRight" b="textAreaBottom"/>
            <a:pathLst>
              <a:path w="241103" h="391087">
                <a:moveTo>
                  <a:pt x="0" y="0"/>
                </a:moveTo>
                <a:lnTo>
                  <a:pt x="4741" y="4741"/>
                </a:lnTo>
                <a:lnTo>
                  <a:pt x="6137" y="7129"/>
                </a:lnTo>
                <a:lnTo>
                  <a:pt x="9094" y="16223"/>
                </a:lnTo>
                <a:lnTo>
                  <a:pt x="13302" y="25731"/>
                </a:lnTo>
                <a:lnTo>
                  <a:pt x="15834" y="36571"/>
                </a:lnTo>
                <a:lnTo>
                  <a:pt x="16509" y="42241"/>
                </a:lnTo>
                <a:lnTo>
                  <a:pt x="17952" y="48996"/>
                </a:lnTo>
                <a:lnTo>
                  <a:pt x="19905" y="56476"/>
                </a:lnTo>
                <a:lnTo>
                  <a:pt x="22200" y="64440"/>
                </a:lnTo>
                <a:lnTo>
                  <a:pt x="23730" y="72726"/>
                </a:lnTo>
                <a:lnTo>
                  <a:pt x="24750" y="81226"/>
                </a:lnTo>
                <a:lnTo>
                  <a:pt x="25429" y="89870"/>
                </a:lnTo>
                <a:lnTo>
                  <a:pt x="26875" y="98608"/>
                </a:lnTo>
                <a:lnTo>
                  <a:pt x="28831" y="107411"/>
                </a:lnTo>
                <a:lnTo>
                  <a:pt x="31127" y="116256"/>
                </a:lnTo>
                <a:lnTo>
                  <a:pt x="33649" y="125129"/>
                </a:lnTo>
                <a:lnTo>
                  <a:pt x="39099" y="142925"/>
                </a:lnTo>
                <a:lnTo>
                  <a:pt x="47745" y="169679"/>
                </a:lnTo>
                <a:lnTo>
                  <a:pt x="50681" y="179596"/>
                </a:lnTo>
                <a:lnTo>
                  <a:pt x="59555" y="211523"/>
                </a:lnTo>
                <a:lnTo>
                  <a:pt x="65495" y="230932"/>
                </a:lnTo>
                <a:lnTo>
                  <a:pt x="67476" y="240275"/>
                </a:lnTo>
                <a:lnTo>
                  <a:pt x="68797" y="249481"/>
                </a:lnTo>
                <a:lnTo>
                  <a:pt x="69677" y="258594"/>
                </a:lnTo>
                <a:lnTo>
                  <a:pt x="71256" y="267646"/>
                </a:lnTo>
                <a:lnTo>
                  <a:pt x="73301" y="276657"/>
                </a:lnTo>
                <a:lnTo>
                  <a:pt x="75657" y="285642"/>
                </a:lnTo>
                <a:lnTo>
                  <a:pt x="78218" y="293615"/>
                </a:lnTo>
                <a:lnTo>
                  <a:pt x="80919" y="300915"/>
                </a:lnTo>
                <a:lnTo>
                  <a:pt x="83712" y="307767"/>
                </a:lnTo>
                <a:lnTo>
                  <a:pt x="86566" y="315311"/>
                </a:lnTo>
                <a:lnTo>
                  <a:pt x="92383" y="331631"/>
                </a:lnTo>
                <a:lnTo>
                  <a:pt x="95322" y="339157"/>
                </a:lnTo>
                <a:lnTo>
                  <a:pt x="98275" y="346160"/>
                </a:lnTo>
                <a:lnTo>
                  <a:pt x="104201" y="358239"/>
                </a:lnTo>
                <a:lnTo>
                  <a:pt x="110143" y="366916"/>
                </a:lnTo>
                <a:lnTo>
                  <a:pt x="116090" y="374079"/>
                </a:lnTo>
                <a:lnTo>
                  <a:pt x="122041" y="380570"/>
                </a:lnTo>
                <a:lnTo>
                  <a:pt x="127993" y="386762"/>
                </a:lnTo>
                <a:lnTo>
                  <a:pt x="131961" y="388810"/>
                </a:lnTo>
                <a:lnTo>
                  <a:pt x="136592" y="390176"/>
                </a:lnTo>
                <a:lnTo>
                  <a:pt x="141663" y="391086"/>
                </a:lnTo>
                <a:lnTo>
                  <a:pt x="146036" y="390701"/>
                </a:lnTo>
                <a:lnTo>
                  <a:pt x="149943" y="389451"/>
                </a:lnTo>
                <a:lnTo>
                  <a:pt x="156930" y="385418"/>
                </a:lnTo>
                <a:lnTo>
                  <a:pt x="163344" y="380318"/>
                </a:lnTo>
                <a:lnTo>
                  <a:pt x="167435" y="376576"/>
                </a:lnTo>
                <a:lnTo>
                  <a:pt x="177273" y="367128"/>
                </a:lnTo>
                <a:lnTo>
                  <a:pt x="181682" y="360838"/>
                </a:lnTo>
                <a:lnTo>
                  <a:pt x="185613" y="353668"/>
                </a:lnTo>
                <a:lnTo>
                  <a:pt x="189226" y="345912"/>
                </a:lnTo>
                <a:lnTo>
                  <a:pt x="192628" y="337764"/>
                </a:lnTo>
                <a:lnTo>
                  <a:pt x="195887" y="329356"/>
                </a:lnTo>
                <a:lnTo>
                  <a:pt x="202155" y="312076"/>
                </a:lnTo>
                <a:lnTo>
                  <a:pt x="217256" y="267830"/>
                </a:lnTo>
                <a:lnTo>
                  <a:pt x="219251" y="258921"/>
                </a:lnTo>
                <a:lnTo>
                  <a:pt x="220582" y="250004"/>
                </a:lnTo>
                <a:lnTo>
                  <a:pt x="221469" y="241084"/>
                </a:lnTo>
                <a:lnTo>
                  <a:pt x="223052" y="231168"/>
                </a:lnTo>
                <a:lnTo>
                  <a:pt x="225100" y="220589"/>
                </a:lnTo>
                <a:lnTo>
                  <a:pt x="227457" y="209567"/>
                </a:lnTo>
                <a:lnTo>
                  <a:pt x="228037" y="200235"/>
                </a:lnTo>
                <a:lnTo>
                  <a:pt x="227431" y="192029"/>
                </a:lnTo>
                <a:lnTo>
                  <a:pt x="226035" y="184574"/>
                </a:lnTo>
                <a:lnTo>
                  <a:pt x="226096" y="176627"/>
                </a:lnTo>
                <a:lnTo>
                  <a:pt x="227129" y="168353"/>
                </a:lnTo>
                <a:lnTo>
                  <a:pt x="228810" y="159860"/>
                </a:lnTo>
                <a:lnTo>
                  <a:pt x="229931" y="152214"/>
                </a:lnTo>
                <a:lnTo>
                  <a:pt x="230678" y="145133"/>
                </a:lnTo>
                <a:lnTo>
                  <a:pt x="231508" y="132964"/>
                </a:lnTo>
                <a:lnTo>
                  <a:pt x="231877" y="124249"/>
                </a:lnTo>
                <a:lnTo>
                  <a:pt x="232968" y="120536"/>
                </a:lnTo>
                <a:lnTo>
                  <a:pt x="238251" y="110570"/>
                </a:lnTo>
                <a:lnTo>
                  <a:pt x="239835" y="104374"/>
                </a:lnTo>
                <a:lnTo>
                  <a:pt x="240851" y="93304"/>
                </a:lnTo>
                <a:lnTo>
                  <a:pt x="241102" y="89297"/>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5" name="SMARTInkAnnotation21"/>
          <p:cNvSpPr/>
          <p:nvPr/>
        </p:nvSpPr>
        <p:spPr>
          <a:xfrm>
            <a:off x="4010040" y="2795760"/>
            <a:ext cx="214200" cy="1143000"/>
          </a:xfrm>
          <a:custGeom>
            <a:avLst/>
            <a:gdLst>
              <a:gd name="textAreaLeft" fmla="*/ 0 w 214200"/>
              <a:gd name="textAreaRight" fmla="*/ 214560 w 214200"/>
              <a:gd name="textAreaTop" fmla="*/ 0 h 1143000"/>
              <a:gd name="textAreaBottom" fmla="*/ 1143360 h 1143000"/>
            </a:gdLst>
            <a:ahLst/>
            <a:rect l="textAreaLeft" t="textAreaTop" r="textAreaRight" b="textAreaBottom"/>
            <a:pathLst>
              <a:path w="214159" h="1142892">
                <a:moveTo>
                  <a:pt x="89297" y="8821"/>
                </a:moveTo>
                <a:lnTo>
                  <a:pt x="89297" y="4080"/>
                </a:lnTo>
                <a:lnTo>
                  <a:pt x="90290" y="2684"/>
                </a:lnTo>
                <a:lnTo>
                  <a:pt x="91943" y="1753"/>
                </a:lnTo>
                <a:lnTo>
                  <a:pt x="96986" y="258"/>
                </a:lnTo>
                <a:lnTo>
                  <a:pt x="102599" y="0"/>
                </a:lnTo>
                <a:lnTo>
                  <a:pt x="105111" y="956"/>
                </a:lnTo>
                <a:lnTo>
                  <a:pt x="110547" y="4663"/>
                </a:lnTo>
                <a:lnTo>
                  <a:pt x="116271" y="9619"/>
                </a:lnTo>
                <a:lnTo>
                  <a:pt x="119186" y="12329"/>
                </a:lnTo>
                <a:lnTo>
                  <a:pt x="125071" y="20633"/>
                </a:lnTo>
                <a:lnTo>
                  <a:pt x="130993" y="30938"/>
                </a:lnTo>
                <a:lnTo>
                  <a:pt x="136933" y="42132"/>
                </a:lnTo>
                <a:lnTo>
                  <a:pt x="145856" y="59591"/>
                </a:lnTo>
                <a:lnTo>
                  <a:pt x="151806" y="76695"/>
                </a:lnTo>
                <a:lnTo>
                  <a:pt x="157759" y="96534"/>
                </a:lnTo>
                <a:lnTo>
                  <a:pt x="163712" y="115273"/>
                </a:lnTo>
                <a:lnTo>
                  <a:pt x="169664" y="136169"/>
                </a:lnTo>
                <a:lnTo>
                  <a:pt x="184547" y="193675"/>
                </a:lnTo>
                <a:lnTo>
                  <a:pt x="190501" y="217317"/>
                </a:lnTo>
                <a:lnTo>
                  <a:pt x="196453" y="243699"/>
                </a:lnTo>
                <a:lnTo>
                  <a:pt x="208360" y="301058"/>
                </a:lnTo>
                <a:lnTo>
                  <a:pt x="211668" y="333173"/>
                </a:lnTo>
                <a:lnTo>
                  <a:pt x="213137" y="366297"/>
                </a:lnTo>
                <a:lnTo>
                  <a:pt x="213965" y="413829"/>
                </a:lnTo>
                <a:lnTo>
                  <a:pt x="214158" y="447785"/>
                </a:lnTo>
                <a:lnTo>
                  <a:pt x="211599" y="480075"/>
                </a:lnTo>
                <a:lnTo>
                  <a:pt x="208145" y="511954"/>
                </a:lnTo>
                <a:lnTo>
                  <a:pt x="206611" y="545967"/>
                </a:lnTo>
                <a:lnTo>
                  <a:pt x="203283" y="580927"/>
                </a:lnTo>
                <a:lnTo>
                  <a:pt x="198497" y="615317"/>
                </a:lnTo>
                <a:lnTo>
                  <a:pt x="193062" y="647138"/>
                </a:lnTo>
                <a:lnTo>
                  <a:pt x="175581" y="742674"/>
                </a:lnTo>
                <a:lnTo>
                  <a:pt x="171624" y="759002"/>
                </a:lnTo>
                <a:lnTo>
                  <a:pt x="167002" y="774847"/>
                </a:lnTo>
                <a:lnTo>
                  <a:pt x="161936" y="790372"/>
                </a:lnTo>
                <a:lnTo>
                  <a:pt x="157567" y="805683"/>
                </a:lnTo>
                <a:lnTo>
                  <a:pt x="153662" y="820851"/>
                </a:lnTo>
                <a:lnTo>
                  <a:pt x="150066" y="835924"/>
                </a:lnTo>
                <a:lnTo>
                  <a:pt x="145685" y="849942"/>
                </a:lnTo>
                <a:lnTo>
                  <a:pt x="140780" y="863255"/>
                </a:lnTo>
                <a:lnTo>
                  <a:pt x="135525" y="876100"/>
                </a:lnTo>
                <a:lnTo>
                  <a:pt x="130038" y="888632"/>
                </a:lnTo>
                <a:lnTo>
                  <a:pt x="118649" y="913139"/>
                </a:lnTo>
                <a:lnTo>
                  <a:pt x="113826" y="925231"/>
                </a:lnTo>
                <a:lnTo>
                  <a:pt x="109618" y="937261"/>
                </a:lnTo>
                <a:lnTo>
                  <a:pt x="105821" y="949249"/>
                </a:lnTo>
                <a:lnTo>
                  <a:pt x="101306" y="961210"/>
                </a:lnTo>
                <a:lnTo>
                  <a:pt x="96311" y="973153"/>
                </a:lnTo>
                <a:lnTo>
                  <a:pt x="90996" y="985084"/>
                </a:lnTo>
                <a:lnTo>
                  <a:pt x="85469" y="996014"/>
                </a:lnTo>
                <a:lnTo>
                  <a:pt x="79800" y="1006278"/>
                </a:lnTo>
                <a:lnTo>
                  <a:pt x="74036" y="1016096"/>
                </a:lnTo>
                <a:lnTo>
                  <a:pt x="69201" y="1025620"/>
                </a:lnTo>
                <a:lnTo>
                  <a:pt x="64986" y="1034944"/>
                </a:lnTo>
                <a:lnTo>
                  <a:pt x="61183" y="1044137"/>
                </a:lnTo>
                <a:lnTo>
                  <a:pt x="56664" y="1052250"/>
                </a:lnTo>
                <a:lnTo>
                  <a:pt x="51667" y="1059643"/>
                </a:lnTo>
                <a:lnTo>
                  <a:pt x="46351" y="1066557"/>
                </a:lnTo>
                <a:lnTo>
                  <a:pt x="41815" y="1073150"/>
                </a:lnTo>
                <a:lnTo>
                  <a:pt x="37798" y="1079529"/>
                </a:lnTo>
                <a:lnTo>
                  <a:pt x="34129" y="1085767"/>
                </a:lnTo>
                <a:lnTo>
                  <a:pt x="30690" y="1091910"/>
                </a:lnTo>
                <a:lnTo>
                  <a:pt x="24224" y="1104027"/>
                </a:lnTo>
                <a:lnTo>
                  <a:pt x="18042" y="1113381"/>
                </a:lnTo>
                <a:lnTo>
                  <a:pt x="15005" y="1117264"/>
                </a:lnTo>
                <a:lnTo>
                  <a:pt x="11630" y="1124225"/>
                </a:lnTo>
                <a:lnTo>
                  <a:pt x="10730" y="1127470"/>
                </a:lnTo>
                <a:lnTo>
                  <a:pt x="7085" y="1133722"/>
                </a:lnTo>
                <a:lnTo>
                  <a:pt x="0" y="1142891"/>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6" name="SMARTInkAnnotation22"/>
          <p:cNvSpPr/>
          <p:nvPr/>
        </p:nvSpPr>
        <p:spPr>
          <a:xfrm>
            <a:off x="4314960" y="3000240"/>
            <a:ext cx="399960" cy="1152720"/>
          </a:xfrm>
          <a:custGeom>
            <a:avLst/>
            <a:gdLst>
              <a:gd name="textAreaLeft" fmla="*/ 0 w 399960"/>
              <a:gd name="textAreaRight" fmla="*/ 400320 w 399960"/>
              <a:gd name="textAreaTop" fmla="*/ 0 h 1152720"/>
              <a:gd name="textAreaBottom" fmla="*/ 1153080 h 1152720"/>
            </a:gdLst>
            <a:ahLst/>
            <a:rect l="textAreaLeft" t="textAreaTop" r="textAreaRight" b="textAreaBottom"/>
            <a:pathLst>
              <a:path w="399987" h="1151930">
                <a:moveTo>
                  <a:pt x="399986" y="0"/>
                </a:moveTo>
                <a:lnTo>
                  <a:pt x="378995" y="0"/>
                </a:lnTo>
                <a:lnTo>
                  <a:pt x="370482" y="2645"/>
                </a:lnTo>
                <a:lnTo>
                  <a:pt x="360084" y="7129"/>
                </a:lnTo>
                <a:lnTo>
                  <a:pt x="348848" y="12428"/>
                </a:lnTo>
                <a:lnTo>
                  <a:pt x="331366" y="20990"/>
                </a:lnTo>
                <a:lnTo>
                  <a:pt x="322194" y="26857"/>
                </a:lnTo>
                <a:lnTo>
                  <a:pt x="313818" y="33764"/>
                </a:lnTo>
                <a:lnTo>
                  <a:pt x="303481" y="43449"/>
                </a:lnTo>
                <a:lnTo>
                  <a:pt x="296954" y="48810"/>
                </a:lnTo>
                <a:lnTo>
                  <a:pt x="289626" y="54367"/>
                </a:lnTo>
                <a:lnTo>
                  <a:pt x="281764" y="60057"/>
                </a:lnTo>
                <a:lnTo>
                  <a:pt x="274538" y="65835"/>
                </a:lnTo>
                <a:lnTo>
                  <a:pt x="267737" y="71671"/>
                </a:lnTo>
                <a:lnTo>
                  <a:pt x="261218" y="77546"/>
                </a:lnTo>
                <a:lnTo>
                  <a:pt x="254888" y="84439"/>
                </a:lnTo>
                <a:lnTo>
                  <a:pt x="242563" y="100036"/>
                </a:lnTo>
                <a:lnTo>
                  <a:pt x="235506" y="108362"/>
                </a:lnTo>
                <a:lnTo>
                  <a:pt x="227824" y="116890"/>
                </a:lnTo>
                <a:lnTo>
                  <a:pt x="219728" y="125552"/>
                </a:lnTo>
                <a:lnTo>
                  <a:pt x="212345" y="134302"/>
                </a:lnTo>
                <a:lnTo>
                  <a:pt x="205438" y="143113"/>
                </a:lnTo>
                <a:lnTo>
                  <a:pt x="198850" y="151963"/>
                </a:lnTo>
                <a:lnTo>
                  <a:pt x="186238" y="169734"/>
                </a:lnTo>
                <a:lnTo>
                  <a:pt x="180097" y="178640"/>
                </a:lnTo>
                <a:lnTo>
                  <a:pt x="165335" y="199119"/>
                </a:lnTo>
                <a:lnTo>
                  <a:pt x="157232" y="210137"/>
                </a:lnTo>
                <a:lnTo>
                  <a:pt x="149845" y="221451"/>
                </a:lnTo>
                <a:lnTo>
                  <a:pt x="142936" y="232962"/>
                </a:lnTo>
                <a:lnTo>
                  <a:pt x="136346" y="244604"/>
                </a:lnTo>
                <a:lnTo>
                  <a:pt x="123731" y="268125"/>
                </a:lnTo>
                <a:lnTo>
                  <a:pt x="99465" y="315562"/>
                </a:lnTo>
                <a:lnTo>
                  <a:pt x="87496" y="341994"/>
                </a:lnTo>
                <a:lnTo>
                  <a:pt x="69602" y="384766"/>
                </a:lnTo>
                <a:lnTo>
                  <a:pt x="58680" y="413100"/>
                </a:lnTo>
                <a:lnTo>
                  <a:pt x="50518" y="438923"/>
                </a:lnTo>
                <a:lnTo>
                  <a:pt x="43583" y="466275"/>
                </a:lnTo>
                <a:lnTo>
                  <a:pt x="34101" y="506918"/>
                </a:lnTo>
                <a:lnTo>
                  <a:pt x="28019" y="532875"/>
                </a:lnTo>
                <a:lnTo>
                  <a:pt x="16029" y="587315"/>
                </a:lnTo>
                <a:lnTo>
                  <a:pt x="11057" y="613255"/>
                </a:lnTo>
                <a:lnTo>
                  <a:pt x="8847" y="641321"/>
                </a:lnTo>
                <a:lnTo>
                  <a:pt x="7865" y="670331"/>
                </a:lnTo>
                <a:lnTo>
                  <a:pt x="6437" y="698768"/>
                </a:lnTo>
                <a:lnTo>
                  <a:pt x="2494" y="724636"/>
                </a:lnTo>
                <a:lnTo>
                  <a:pt x="80" y="752008"/>
                </a:lnTo>
                <a:lnTo>
                  <a:pt x="0" y="779718"/>
                </a:lnTo>
                <a:lnTo>
                  <a:pt x="4541" y="818622"/>
                </a:lnTo>
                <a:lnTo>
                  <a:pt x="5951" y="846696"/>
                </a:lnTo>
                <a:lnTo>
                  <a:pt x="9223" y="873064"/>
                </a:lnTo>
                <a:lnTo>
                  <a:pt x="16644" y="907576"/>
                </a:lnTo>
                <a:lnTo>
                  <a:pt x="25127" y="939299"/>
                </a:lnTo>
                <a:lnTo>
                  <a:pt x="31968" y="961185"/>
                </a:lnTo>
                <a:lnTo>
                  <a:pt x="45983" y="990241"/>
                </a:lnTo>
                <a:lnTo>
                  <a:pt x="57853" y="1016709"/>
                </a:lnTo>
                <a:lnTo>
                  <a:pt x="68010" y="1030977"/>
                </a:lnTo>
                <a:lnTo>
                  <a:pt x="84563" y="1062443"/>
                </a:lnTo>
                <a:lnTo>
                  <a:pt x="99270" y="1082530"/>
                </a:lnTo>
                <a:lnTo>
                  <a:pt x="111345" y="1100058"/>
                </a:lnTo>
                <a:lnTo>
                  <a:pt x="121550" y="1108369"/>
                </a:lnTo>
                <a:lnTo>
                  <a:pt x="132700" y="1115371"/>
                </a:lnTo>
                <a:lnTo>
                  <a:pt x="143278" y="1121790"/>
                </a:lnTo>
                <a:lnTo>
                  <a:pt x="154811" y="1130983"/>
                </a:lnTo>
                <a:lnTo>
                  <a:pt x="164512" y="1139990"/>
                </a:lnTo>
                <a:lnTo>
                  <a:pt x="170646" y="1145961"/>
                </a:lnTo>
                <a:lnTo>
                  <a:pt x="173671" y="1147951"/>
                </a:lnTo>
                <a:lnTo>
                  <a:pt x="185673" y="1151929"/>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7" name="SMARTInkAnnotation23"/>
          <p:cNvSpPr/>
          <p:nvPr/>
        </p:nvSpPr>
        <p:spPr>
          <a:xfrm>
            <a:off x="4608360" y="3152880"/>
            <a:ext cx="274680" cy="677880"/>
          </a:xfrm>
          <a:custGeom>
            <a:avLst/>
            <a:gdLst>
              <a:gd name="textAreaLeft" fmla="*/ 0 w 274680"/>
              <a:gd name="textAreaRight" fmla="*/ 275040 w 274680"/>
              <a:gd name="textAreaTop" fmla="*/ 0 h 677880"/>
              <a:gd name="textAreaBottom" fmla="*/ 678240 h 677880"/>
            </a:gdLst>
            <a:ahLst/>
            <a:rect l="textAreaLeft" t="textAreaTop" r="textAreaRight" b="textAreaBottom"/>
            <a:pathLst>
              <a:path w="274994" h="678534">
                <a:moveTo>
                  <a:pt x="213776" y="62385"/>
                </a:moveTo>
                <a:lnTo>
                  <a:pt x="213776" y="49083"/>
                </a:lnTo>
                <a:lnTo>
                  <a:pt x="214768" y="46572"/>
                </a:lnTo>
                <a:lnTo>
                  <a:pt x="219913" y="38297"/>
                </a:lnTo>
                <a:lnTo>
                  <a:pt x="221464" y="32497"/>
                </a:lnTo>
                <a:lnTo>
                  <a:pt x="222338" y="23653"/>
                </a:lnTo>
                <a:lnTo>
                  <a:pt x="221468" y="20689"/>
                </a:lnTo>
                <a:lnTo>
                  <a:pt x="214985" y="10568"/>
                </a:lnTo>
                <a:lnTo>
                  <a:pt x="209394" y="4588"/>
                </a:lnTo>
                <a:lnTo>
                  <a:pt x="206886" y="3018"/>
                </a:lnTo>
                <a:lnTo>
                  <a:pt x="201454" y="1273"/>
                </a:lnTo>
                <a:lnTo>
                  <a:pt x="193086" y="498"/>
                </a:lnTo>
                <a:lnTo>
                  <a:pt x="188077" y="291"/>
                </a:lnTo>
                <a:lnTo>
                  <a:pt x="177218" y="61"/>
                </a:lnTo>
                <a:lnTo>
                  <a:pt x="171545" y="0"/>
                </a:lnTo>
                <a:lnTo>
                  <a:pt x="165778" y="951"/>
                </a:lnTo>
                <a:lnTo>
                  <a:pt x="159949" y="2578"/>
                </a:lnTo>
                <a:lnTo>
                  <a:pt x="154079" y="4654"/>
                </a:lnTo>
                <a:lnTo>
                  <a:pt x="148181" y="7030"/>
                </a:lnTo>
                <a:lnTo>
                  <a:pt x="142265" y="9607"/>
                </a:lnTo>
                <a:lnTo>
                  <a:pt x="136336" y="12317"/>
                </a:lnTo>
                <a:lnTo>
                  <a:pt x="130400" y="16108"/>
                </a:lnTo>
                <a:lnTo>
                  <a:pt x="124457" y="20620"/>
                </a:lnTo>
                <a:lnTo>
                  <a:pt x="118511" y="25612"/>
                </a:lnTo>
                <a:lnTo>
                  <a:pt x="111571" y="29932"/>
                </a:lnTo>
                <a:lnTo>
                  <a:pt x="103967" y="33804"/>
                </a:lnTo>
                <a:lnTo>
                  <a:pt x="95922" y="37378"/>
                </a:lnTo>
                <a:lnTo>
                  <a:pt x="88573" y="42737"/>
                </a:lnTo>
                <a:lnTo>
                  <a:pt x="81690" y="49286"/>
                </a:lnTo>
                <a:lnTo>
                  <a:pt x="75118" y="56629"/>
                </a:lnTo>
                <a:lnTo>
                  <a:pt x="68751" y="64501"/>
                </a:lnTo>
                <a:lnTo>
                  <a:pt x="62522" y="72725"/>
                </a:lnTo>
                <a:lnTo>
                  <a:pt x="50310" y="89801"/>
                </a:lnTo>
                <a:lnTo>
                  <a:pt x="38267" y="107312"/>
                </a:lnTo>
                <a:lnTo>
                  <a:pt x="33270" y="116149"/>
                </a:lnTo>
                <a:lnTo>
                  <a:pt x="25072" y="133905"/>
                </a:lnTo>
                <a:lnTo>
                  <a:pt x="18121" y="151719"/>
                </a:lnTo>
                <a:lnTo>
                  <a:pt x="11724" y="169558"/>
                </a:lnTo>
                <a:lnTo>
                  <a:pt x="5574" y="187408"/>
                </a:lnTo>
                <a:lnTo>
                  <a:pt x="2179" y="205263"/>
                </a:lnTo>
                <a:lnTo>
                  <a:pt x="671" y="222129"/>
                </a:lnTo>
                <a:lnTo>
                  <a:pt x="0" y="236239"/>
                </a:lnTo>
                <a:lnTo>
                  <a:pt x="2348" y="249125"/>
                </a:lnTo>
                <a:lnTo>
                  <a:pt x="4363" y="255339"/>
                </a:lnTo>
                <a:lnTo>
                  <a:pt x="11893" y="267536"/>
                </a:lnTo>
                <a:lnTo>
                  <a:pt x="16680" y="273566"/>
                </a:lnTo>
                <a:lnTo>
                  <a:pt x="24643" y="282912"/>
                </a:lnTo>
                <a:lnTo>
                  <a:pt x="28156" y="286794"/>
                </a:lnTo>
                <a:lnTo>
                  <a:pt x="32483" y="289382"/>
                </a:lnTo>
                <a:lnTo>
                  <a:pt x="37351" y="291107"/>
                </a:lnTo>
                <a:lnTo>
                  <a:pt x="42581" y="292257"/>
                </a:lnTo>
                <a:lnTo>
                  <a:pt x="48053" y="293024"/>
                </a:lnTo>
                <a:lnTo>
                  <a:pt x="53685" y="293535"/>
                </a:lnTo>
                <a:lnTo>
                  <a:pt x="59423" y="293875"/>
                </a:lnTo>
                <a:lnTo>
                  <a:pt x="71091" y="294254"/>
                </a:lnTo>
                <a:lnTo>
                  <a:pt x="76981" y="294355"/>
                </a:lnTo>
                <a:lnTo>
                  <a:pt x="82892" y="293430"/>
                </a:lnTo>
                <a:lnTo>
                  <a:pt x="88817" y="291821"/>
                </a:lnTo>
                <a:lnTo>
                  <a:pt x="94750" y="289756"/>
                </a:lnTo>
                <a:lnTo>
                  <a:pt x="100692" y="287388"/>
                </a:lnTo>
                <a:lnTo>
                  <a:pt x="106636" y="284817"/>
                </a:lnTo>
                <a:lnTo>
                  <a:pt x="112584" y="282110"/>
                </a:lnTo>
                <a:lnTo>
                  <a:pt x="119525" y="278322"/>
                </a:lnTo>
                <a:lnTo>
                  <a:pt x="127129" y="273812"/>
                </a:lnTo>
                <a:lnTo>
                  <a:pt x="135176" y="268820"/>
                </a:lnTo>
                <a:lnTo>
                  <a:pt x="142524" y="262517"/>
                </a:lnTo>
                <a:lnTo>
                  <a:pt x="149408" y="255337"/>
                </a:lnTo>
                <a:lnTo>
                  <a:pt x="155981" y="247574"/>
                </a:lnTo>
                <a:lnTo>
                  <a:pt x="162347" y="240415"/>
                </a:lnTo>
                <a:lnTo>
                  <a:pt x="174713" y="227168"/>
                </a:lnTo>
                <a:lnTo>
                  <a:pt x="180789" y="219866"/>
                </a:lnTo>
                <a:lnTo>
                  <a:pt x="186823" y="212020"/>
                </a:lnTo>
                <a:lnTo>
                  <a:pt x="192831" y="203814"/>
                </a:lnTo>
                <a:lnTo>
                  <a:pt x="197828" y="195366"/>
                </a:lnTo>
                <a:lnTo>
                  <a:pt x="210594" y="169256"/>
                </a:lnTo>
                <a:lnTo>
                  <a:pt x="215623" y="160421"/>
                </a:lnTo>
                <a:lnTo>
                  <a:pt x="220961" y="151555"/>
                </a:lnTo>
                <a:lnTo>
                  <a:pt x="226503" y="143660"/>
                </a:lnTo>
                <a:lnTo>
                  <a:pt x="232182" y="136412"/>
                </a:lnTo>
                <a:lnTo>
                  <a:pt x="237953" y="129596"/>
                </a:lnTo>
                <a:lnTo>
                  <a:pt x="242793" y="122075"/>
                </a:lnTo>
                <a:lnTo>
                  <a:pt x="250815" y="105781"/>
                </a:lnTo>
                <a:lnTo>
                  <a:pt x="260910" y="84614"/>
                </a:lnTo>
                <a:lnTo>
                  <a:pt x="265445" y="70515"/>
                </a:lnTo>
                <a:lnTo>
                  <a:pt x="266788" y="55313"/>
                </a:lnTo>
                <a:lnTo>
                  <a:pt x="267969" y="51717"/>
                </a:lnTo>
                <a:lnTo>
                  <a:pt x="269749" y="49320"/>
                </a:lnTo>
                <a:lnTo>
                  <a:pt x="271927" y="47722"/>
                </a:lnTo>
                <a:lnTo>
                  <a:pt x="273379" y="45664"/>
                </a:lnTo>
                <a:lnTo>
                  <a:pt x="274993" y="40732"/>
                </a:lnTo>
                <a:lnTo>
                  <a:pt x="274431" y="39020"/>
                </a:lnTo>
                <a:lnTo>
                  <a:pt x="273064" y="37879"/>
                </a:lnTo>
                <a:lnTo>
                  <a:pt x="267688" y="35730"/>
                </a:lnTo>
                <a:lnTo>
                  <a:pt x="262713" y="40376"/>
                </a:lnTo>
                <a:lnTo>
                  <a:pt x="261283" y="42752"/>
                </a:lnTo>
                <a:lnTo>
                  <a:pt x="254060" y="61331"/>
                </a:lnTo>
                <a:lnTo>
                  <a:pt x="246107" y="77837"/>
                </a:lnTo>
                <a:lnTo>
                  <a:pt x="240382" y="92073"/>
                </a:lnTo>
                <a:lnTo>
                  <a:pt x="234530" y="108322"/>
                </a:lnTo>
                <a:lnTo>
                  <a:pt x="219718" y="151852"/>
                </a:lnTo>
                <a:lnTo>
                  <a:pt x="213771" y="172263"/>
                </a:lnTo>
                <a:lnTo>
                  <a:pt x="210796" y="183262"/>
                </a:lnTo>
                <a:lnTo>
                  <a:pt x="204845" y="203421"/>
                </a:lnTo>
                <a:lnTo>
                  <a:pt x="198893" y="223294"/>
                </a:lnTo>
                <a:lnTo>
                  <a:pt x="192940" y="245356"/>
                </a:lnTo>
                <a:lnTo>
                  <a:pt x="190955" y="256795"/>
                </a:lnTo>
                <a:lnTo>
                  <a:pt x="189632" y="268390"/>
                </a:lnTo>
                <a:lnTo>
                  <a:pt x="188751" y="280089"/>
                </a:lnTo>
                <a:lnTo>
                  <a:pt x="187170" y="291857"/>
                </a:lnTo>
                <a:lnTo>
                  <a:pt x="185125" y="303671"/>
                </a:lnTo>
                <a:lnTo>
                  <a:pt x="174713" y="355888"/>
                </a:lnTo>
                <a:lnTo>
                  <a:pt x="172851" y="368187"/>
                </a:lnTo>
                <a:lnTo>
                  <a:pt x="171610" y="379362"/>
                </a:lnTo>
                <a:lnTo>
                  <a:pt x="170782" y="389789"/>
                </a:lnTo>
                <a:lnTo>
                  <a:pt x="170230" y="401701"/>
                </a:lnTo>
                <a:lnTo>
                  <a:pt x="169618" y="428166"/>
                </a:lnTo>
                <a:lnTo>
                  <a:pt x="168462" y="440184"/>
                </a:lnTo>
                <a:lnTo>
                  <a:pt x="166699" y="451173"/>
                </a:lnTo>
                <a:lnTo>
                  <a:pt x="163088" y="472312"/>
                </a:lnTo>
                <a:lnTo>
                  <a:pt x="162124" y="483506"/>
                </a:lnTo>
                <a:lnTo>
                  <a:pt x="161482" y="494937"/>
                </a:lnTo>
                <a:lnTo>
                  <a:pt x="160768" y="515576"/>
                </a:lnTo>
                <a:lnTo>
                  <a:pt x="159459" y="534670"/>
                </a:lnTo>
                <a:lnTo>
                  <a:pt x="154136" y="561163"/>
                </a:lnTo>
                <a:lnTo>
                  <a:pt x="152117" y="582021"/>
                </a:lnTo>
                <a:lnTo>
                  <a:pt x="151520" y="600769"/>
                </a:lnTo>
                <a:lnTo>
                  <a:pt x="151380" y="612883"/>
                </a:lnTo>
                <a:lnTo>
                  <a:pt x="150350" y="617899"/>
                </a:lnTo>
                <a:lnTo>
                  <a:pt x="144215" y="633079"/>
                </a:lnTo>
                <a:lnTo>
                  <a:pt x="142709" y="645632"/>
                </a:lnTo>
                <a:lnTo>
                  <a:pt x="143578" y="648662"/>
                </a:lnTo>
                <a:lnTo>
                  <a:pt x="148548" y="657666"/>
                </a:lnTo>
                <a:lnTo>
                  <a:pt x="151162" y="669080"/>
                </a:lnTo>
                <a:lnTo>
                  <a:pt x="151268" y="678533"/>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8" name="SMARTInkAnnotation24"/>
          <p:cNvSpPr/>
          <p:nvPr/>
        </p:nvSpPr>
        <p:spPr>
          <a:xfrm>
            <a:off x="4919760" y="3768840"/>
            <a:ext cx="360" cy="7920"/>
          </a:xfrm>
          <a:custGeom>
            <a:avLst/>
            <a:gdLst>
              <a:gd name="textAreaLeft" fmla="*/ 0 w 360"/>
              <a:gd name="textAreaRight" fmla="*/ 720 w 360"/>
              <a:gd name="textAreaTop" fmla="*/ 0 h 7920"/>
              <a:gd name="textAreaBottom" fmla="*/ 8280 h 7920"/>
            </a:gdLst>
            <a:ahLst/>
            <a:rect l="textAreaLeft" t="textAreaTop" r="textAreaRight" b="textAreaBottom"/>
            <a:pathLst>
              <a:path w="1" h="8930">
                <a:moveTo>
                  <a:pt x="0" y="0"/>
                </a:moveTo>
                <a:lnTo>
                  <a:pt x="0" y="8929"/>
                </a:lnTo>
              </a:path>
            </a:pathLst>
          </a:custGeom>
          <a:noFill/>
          <a:ln w="38160">
            <a:solidFill>
              <a:srgbClr val="000000"/>
            </a:solidFill>
            <a:round/>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Constantia"/>
            </a:endParaRPr>
          </a:p>
        </p:txBody>
      </p:sp>
      <p:sp>
        <p:nvSpPr>
          <p:cNvPr id="229" name="SMARTInkAnnotation25"/>
          <p:cNvSpPr/>
          <p:nvPr/>
        </p:nvSpPr>
        <p:spPr>
          <a:xfrm>
            <a:off x="5054760" y="3214800"/>
            <a:ext cx="293400" cy="637920"/>
          </a:xfrm>
          <a:custGeom>
            <a:avLst/>
            <a:gdLst>
              <a:gd name="textAreaLeft" fmla="*/ 0 w 293400"/>
              <a:gd name="textAreaRight" fmla="*/ 293760 w 293400"/>
              <a:gd name="textAreaTop" fmla="*/ 0 h 637920"/>
              <a:gd name="textAreaBottom" fmla="*/ 638280 h 637920"/>
            </a:gdLst>
            <a:ahLst/>
            <a:rect l="textAreaLeft" t="textAreaTop" r="textAreaRight" b="textAreaBottom"/>
            <a:pathLst>
              <a:path w="294476" h="638668">
                <a:moveTo>
                  <a:pt x="214154" y="0"/>
                </a:moveTo>
                <a:lnTo>
                  <a:pt x="188423" y="0"/>
                </a:lnTo>
                <a:lnTo>
                  <a:pt x="184102" y="992"/>
                </a:lnTo>
                <a:lnTo>
                  <a:pt x="176654" y="4741"/>
                </a:lnTo>
                <a:lnTo>
                  <a:pt x="170037" y="9714"/>
                </a:lnTo>
                <a:lnTo>
                  <a:pt x="162797" y="15231"/>
                </a:lnTo>
                <a:lnTo>
                  <a:pt x="158088" y="18092"/>
                </a:lnTo>
                <a:lnTo>
                  <a:pt x="152964" y="20991"/>
                </a:lnTo>
                <a:lnTo>
                  <a:pt x="148556" y="25900"/>
                </a:lnTo>
                <a:lnTo>
                  <a:pt x="141012" y="39292"/>
                </a:lnTo>
                <a:lnTo>
                  <a:pt x="136620" y="46039"/>
                </a:lnTo>
                <a:lnTo>
                  <a:pt x="131706" y="52520"/>
                </a:lnTo>
                <a:lnTo>
                  <a:pt x="126447" y="58826"/>
                </a:lnTo>
                <a:lnTo>
                  <a:pt x="117957" y="73770"/>
                </a:lnTo>
                <a:lnTo>
                  <a:pt x="109885" y="90334"/>
                </a:lnTo>
                <a:lnTo>
                  <a:pt x="104953" y="98918"/>
                </a:lnTo>
                <a:lnTo>
                  <a:pt x="99682" y="107617"/>
                </a:lnTo>
                <a:lnTo>
                  <a:pt x="88533" y="125220"/>
                </a:lnTo>
                <a:lnTo>
                  <a:pt x="82782" y="134082"/>
                </a:lnTo>
                <a:lnTo>
                  <a:pt x="76963" y="143958"/>
                </a:lnTo>
                <a:lnTo>
                  <a:pt x="71100" y="154511"/>
                </a:lnTo>
                <a:lnTo>
                  <a:pt x="65206" y="165515"/>
                </a:lnTo>
                <a:lnTo>
                  <a:pt x="60286" y="176820"/>
                </a:lnTo>
                <a:lnTo>
                  <a:pt x="56013" y="188325"/>
                </a:lnTo>
                <a:lnTo>
                  <a:pt x="52172" y="199965"/>
                </a:lnTo>
                <a:lnTo>
                  <a:pt x="42613" y="226126"/>
                </a:lnTo>
                <a:lnTo>
                  <a:pt x="37285" y="240047"/>
                </a:lnTo>
                <a:lnTo>
                  <a:pt x="32742" y="253297"/>
                </a:lnTo>
                <a:lnTo>
                  <a:pt x="28720" y="266099"/>
                </a:lnTo>
                <a:lnTo>
                  <a:pt x="25047" y="278603"/>
                </a:lnTo>
                <a:lnTo>
                  <a:pt x="21606" y="291899"/>
                </a:lnTo>
                <a:lnTo>
                  <a:pt x="15137" y="319902"/>
                </a:lnTo>
                <a:lnTo>
                  <a:pt x="5917" y="363558"/>
                </a:lnTo>
                <a:lnTo>
                  <a:pt x="3892" y="377310"/>
                </a:lnTo>
                <a:lnTo>
                  <a:pt x="2543" y="390446"/>
                </a:lnTo>
                <a:lnTo>
                  <a:pt x="1642" y="403172"/>
                </a:lnTo>
                <a:lnTo>
                  <a:pt x="1042" y="416618"/>
                </a:lnTo>
                <a:lnTo>
                  <a:pt x="375" y="444786"/>
                </a:lnTo>
                <a:lnTo>
                  <a:pt x="0" y="488535"/>
                </a:lnTo>
                <a:lnTo>
                  <a:pt x="940" y="502300"/>
                </a:lnTo>
                <a:lnTo>
                  <a:pt x="2558" y="515444"/>
                </a:lnTo>
                <a:lnTo>
                  <a:pt x="4629" y="528177"/>
                </a:lnTo>
                <a:lnTo>
                  <a:pt x="7002" y="539641"/>
                </a:lnTo>
                <a:lnTo>
                  <a:pt x="9576" y="550261"/>
                </a:lnTo>
                <a:lnTo>
                  <a:pt x="16074" y="569998"/>
                </a:lnTo>
                <a:lnTo>
                  <a:pt x="20585" y="579428"/>
                </a:lnTo>
                <a:lnTo>
                  <a:pt x="25576" y="588692"/>
                </a:lnTo>
                <a:lnTo>
                  <a:pt x="30889" y="596852"/>
                </a:lnTo>
                <a:lnTo>
                  <a:pt x="36415" y="604276"/>
                </a:lnTo>
                <a:lnTo>
                  <a:pt x="42083" y="611210"/>
                </a:lnTo>
                <a:lnTo>
                  <a:pt x="47846" y="616826"/>
                </a:lnTo>
                <a:lnTo>
                  <a:pt x="53674" y="621561"/>
                </a:lnTo>
                <a:lnTo>
                  <a:pt x="59542" y="625709"/>
                </a:lnTo>
                <a:lnTo>
                  <a:pt x="65438" y="628476"/>
                </a:lnTo>
                <a:lnTo>
                  <a:pt x="71354" y="630320"/>
                </a:lnTo>
                <a:lnTo>
                  <a:pt x="77283" y="631549"/>
                </a:lnTo>
                <a:lnTo>
                  <a:pt x="83219" y="633361"/>
                </a:lnTo>
                <a:lnTo>
                  <a:pt x="89161" y="635561"/>
                </a:lnTo>
                <a:lnTo>
                  <a:pt x="95107" y="638020"/>
                </a:lnTo>
                <a:lnTo>
                  <a:pt x="102047" y="638667"/>
                </a:lnTo>
                <a:lnTo>
                  <a:pt x="109650" y="638106"/>
                </a:lnTo>
                <a:lnTo>
                  <a:pt x="117696" y="636740"/>
                </a:lnTo>
                <a:lnTo>
                  <a:pt x="125044" y="634837"/>
                </a:lnTo>
                <a:lnTo>
                  <a:pt x="131927" y="632577"/>
                </a:lnTo>
                <a:lnTo>
                  <a:pt x="138500" y="630077"/>
                </a:lnTo>
                <a:lnTo>
                  <a:pt x="153742" y="624654"/>
                </a:lnTo>
                <a:lnTo>
                  <a:pt x="161972" y="621819"/>
                </a:lnTo>
                <a:lnTo>
                  <a:pt x="169445" y="617944"/>
                </a:lnTo>
                <a:lnTo>
                  <a:pt x="176410" y="613377"/>
                </a:lnTo>
                <a:lnTo>
                  <a:pt x="183039" y="608348"/>
                </a:lnTo>
                <a:lnTo>
                  <a:pt x="189442" y="602019"/>
                </a:lnTo>
                <a:lnTo>
                  <a:pt x="195695" y="594822"/>
                </a:lnTo>
                <a:lnTo>
                  <a:pt x="201848" y="587048"/>
                </a:lnTo>
                <a:lnTo>
                  <a:pt x="208927" y="578889"/>
                </a:lnTo>
                <a:lnTo>
                  <a:pt x="216622" y="570473"/>
                </a:lnTo>
                <a:lnTo>
                  <a:pt x="224729" y="561886"/>
                </a:lnTo>
                <a:lnTo>
                  <a:pt x="232118" y="553184"/>
                </a:lnTo>
                <a:lnTo>
                  <a:pt x="239029" y="544407"/>
                </a:lnTo>
                <a:lnTo>
                  <a:pt x="245620" y="535579"/>
                </a:lnTo>
                <a:lnTo>
                  <a:pt x="251007" y="525724"/>
                </a:lnTo>
                <a:lnTo>
                  <a:pt x="255590" y="515186"/>
                </a:lnTo>
                <a:lnTo>
                  <a:pt x="259637" y="504192"/>
                </a:lnTo>
                <a:lnTo>
                  <a:pt x="263328" y="491901"/>
                </a:lnTo>
                <a:lnTo>
                  <a:pt x="266780" y="478747"/>
                </a:lnTo>
                <a:lnTo>
                  <a:pt x="288512" y="390250"/>
                </a:lnTo>
                <a:lnTo>
                  <a:pt x="290515" y="377245"/>
                </a:lnTo>
                <a:lnTo>
                  <a:pt x="291851" y="363613"/>
                </a:lnTo>
                <a:lnTo>
                  <a:pt x="292741" y="349565"/>
                </a:lnTo>
                <a:lnTo>
                  <a:pt x="293730" y="323373"/>
                </a:lnTo>
                <a:lnTo>
                  <a:pt x="294287" y="286314"/>
                </a:lnTo>
                <a:lnTo>
                  <a:pt x="294475" y="233496"/>
                </a:lnTo>
                <a:lnTo>
                  <a:pt x="293499" y="220156"/>
                </a:lnTo>
                <a:lnTo>
                  <a:pt x="291855" y="207294"/>
                </a:lnTo>
                <a:lnTo>
                  <a:pt x="289767" y="194751"/>
                </a:lnTo>
                <a:lnTo>
                  <a:pt x="288375" y="182420"/>
                </a:lnTo>
                <a:lnTo>
                  <a:pt x="287448" y="170230"/>
                </a:lnTo>
                <a:lnTo>
                  <a:pt x="286829" y="158135"/>
                </a:lnTo>
                <a:lnTo>
                  <a:pt x="285424" y="147095"/>
                </a:lnTo>
                <a:lnTo>
                  <a:pt x="283496" y="136759"/>
                </a:lnTo>
                <a:lnTo>
                  <a:pt x="281218" y="126891"/>
                </a:lnTo>
                <a:lnTo>
                  <a:pt x="279699" y="116344"/>
                </a:lnTo>
                <a:lnTo>
                  <a:pt x="278687" y="105344"/>
                </a:lnTo>
                <a:lnTo>
                  <a:pt x="278012" y="94042"/>
                </a:lnTo>
                <a:lnTo>
                  <a:pt x="274616" y="76192"/>
                </a:lnTo>
                <a:lnTo>
                  <a:pt x="269800" y="61644"/>
                </a:lnTo>
                <a:lnTo>
                  <a:pt x="262502" y="42298"/>
                </a:lnTo>
                <a:lnTo>
                  <a:pt x="258907" y="24990"/>
                </a:lnTo>
                <a:lnTo>
                  <a:pt x="254549" y="16729"/>
                </a:lnTo>
                <a:lnTo>
                  <a:pt x="251999" y="14129"/>
                </a:lnTo>
                <a:lnTo>
                  <a:pt x="249305" y="12396"/>
                </a:lnTo>
                <a:lnTo>
                  <a:pt x="243668" y="10470"/>
                </a:lnTo>
                <a:lnTo>
                  <a:pt x="234915" y="9386"/>
                </a:lnTo>
                <a:lnTo>
                  <a:pt x="231964" y="9234"/>
                </a:lnTo>
                <a:lnTo>
                  <a:pt x="223084" y="893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30" name="SMARTInkAnnotation26"/>
          <p:cNvSpPr/>
          <p:nvPr/>
        </p:nvSpPr>
        <p:spPr>
          <a:xfrm>
            <a:off x="5456160" y="3581280"/>
            <a:ext cx="268200" cy="357480"/>
          </a:xfrm>
          <a:custGeom>
            <a:avLst/>
            <a:gdLst>
              <a:gd name="textAreaLeft" fmla="*/ 0 w 268200"/>
              <a:gd name="textAreaRight" fmla="*/ 268560 w 268200"/>
              <a:gd name="textAreaTop" fmla="*/ 0 h 357480"/>
              <a:gd name="textAreaBottom" fmla="*/ 357840 h 357480"/>
            </a:gdLst>
            <a:ahLst/>
            <a:rect l="textAreaLeft" t="textAreaTop" r="textAreaRight" b="textAreaBottom"/>
            <a:pathLst>
              <a:path w="267635" h="356651">
                <a:moveTo>
                  <a:pt x="62362" y="61970"/>
                </a:moveTo>
                <a:lnTo>
                  <a:pt x="62362" y="75272"/>
                </a:lnTo>
                <a:lnTo>
                  <a:pt x="61371" y="77784"/>
                </a:lnTo>
                <a:lnTo>
                  <a:pt x="57622" y="83219"/>
                </a:lnTo>
                <a:lnTo>
                  <a:pt x="56226" y="87051"/>
                </a:lnTo>
                <a:lnTo>
                  <a:pt x="54674" y="96599"/>
                </a:lnTo>
                <a:lnTo>
                  <a:pt x="53985" y="107457"/>
                </a:lnTo>
                <a:lnTo>
                  <a:pt x="53801" y="113130"/>
                </a:lnTo>
                <a:lnTo>
                  <a:pt x="53542" y="135337"/>
                </a:lnTo>
                <a:lnTo>
                  <a:pt x="52513" y="143624"/>
                </a:lnTo>
                <a:lnTo>
                  <a:pt x="50836" y="152125"/>
                </a:lnTo>
                <a:lnTo>
                  <a:pt x="48725" y="160768"/>
                </a:lnTo>
                <a:lnTo>
                  <a:pt x="47318" y="168515"/>
                </a:lnTo>
                <a:lnTo>
                  <a:pt x="46380" y="175664"/>
                </a:lnTo>
                <a:lnTo>
                  <a:pt x="45754" y="182415"/>
                </a:lnTo>
                <a:lnTo>
                  <a:pt x="44345" y="189891"/>
                </a:lnTo>
                <a:lnTo>
                  <a:pt x="42413" y="197852"/>
                </a:lnTo>
                <a:lnTo>
                  <a:pt x="40133" y="206136"/>
                </a:lnTo>
                <a:lnTo>
                  <a:pt x="38613" y="214635"/>
                </a:lnTo>
                <a:lnTo>
                  <a:pt x="37600" y="223278"/>
                </a:lnTo>
                <a:lnTo>
                  <a:pt x="36925" y="232017"/>
                </a:lnTo>
                <a:lnTo>
                  <a:pt x="35482" y="239827"/>
                </a:lnTo>
                <a:lnTo>
                  <a:pt x="33528" y="247018"/>
                </a:lnTo>
                <a:lnTo>
                  <a:pt x="31234" y="253796"/>
                </a:lnTo>
                <a:lnTo>
                  <a:pt x="28711" y="260299"/>
                </a:lnTo>
                <a:lnTo>
                  <a:pt x="26038" y="266619"/>
                </a:lnTo>
                <a:lnTo>
                  <a:pt x="23263" y="272817"/>
                </a:lnTo>
                <a:lnTo>
                  <a:pt x="20181" y="282349"/>
                </a:lnTo>
                <a:lnTo>
                  <a:pt x="19359" y="286280"/>
                </a:lnTo>
                <a:lnTo>
                  <a:pt x="15799" y="293293"/>
                </a:lnTo>
                <a:lnTo>
                  <a:pt x="8217" y="302820"/>
                </a:lnTo>
                <a:lnTo>
                  <a:pt x="344" y="311464"/>
                </a:lnTo>
                <a:lnTo>
                  <a:pt x="72" y="309117"/>
                </a:lnTo>
                <a:lnTo>
                  <a:pt x="0" y="307102"/>
                </a:lnTo>
                <a:lnTo>
                  <a:pt x="944" y="305758"/>
                </a:lnTo>
                <a:lnTo>
                  <a:pt x="2565" y="304863"/>
                </a:lnTo>
                <a:lnTo>
                  <a:pt x="4638" y="304266"/>
                </a:lnTo>
                <a:lnTo>
                  <a:pt x="6020" y="301883"/>
                </a:lnTo>
                <a:lnTo>
                  <a:pt x="7556" y="293944"/>
                </a:lnTo>
                <a:lnTo>
                  <a:pt x="10884" y="283801"/>
                </a:lnTo>
                <a:lnTo>
                  <a:pt x="13161" y="278319"/>
                </a:lnTo>
                <a:lnTo>
                  <a:pt x="15671" y="271687"/>
                </a:lnTo>
                <a:lnTo>
                  <a:pt x="21105" y="256381"/>
                </a:lnTo>
                <a:lnTo>
                  <a:pt x="38587" y="204666"/>
                </a:lnTo>
                <a:lnTo>
                  <a:pt x="41551" y="194804"/>
                </a:lnTo>
                <a:lnTo>
                  <a:pt x="47490" y="173262"/>
                </a:lnTo>
                <a:lnTo>
                  <a:pt x="51456" y="161962"/>
                </a:lnTo>
                <a:lnTo>
                  <a:pt x="56083" y="150459"/>
                </a:lnTo>
                <a:lnTo>
                  <a:pt x="61153" y="138822"/>
                </a:lnTo>
                <a:lnTo>
                  <a:pt x="65525" y="128088"/>
                </a:lnTo>
                <a:lnTo>
                  <a:pt x="73029" y="108223"/>
                </a:lnTo>
                <a:lnTo>
                  <a:pt x="82831" y="80305"/>
                </a:lnTo>
                <a:lnTo>
                  <a:pt x="86923" y="72209"/>
                </a:lnTo>
                <a:lnTo>
                  <a:pt x="91634" y="64827"/>
                </a:lnTo>
                <a:lnTo>
                  <a:pt x="96760" y="57922"/>
                </a:lnTo>
                <a:lnTo>
                  <a:pt x="101169" y="51333"/>
                </a:lnTo>
                <a:lnTo>
                  <a:pt x="105101" y="44957"/>
                </a:lnTo>
                <a:lnTo>
                  <a:pt x="108714" y="38722"/>
                </a:lnTo>
                <a:lnTo>
                  <a:pt x="115375" y="29148"/>
                </a:lnTo>
                <a:lnTo>
                  <a:pt x="118540" y="25206"/>
                </a:lnTo>
                <a:lnTo>
                  <a:pt x="122057" y="18180"/>
                </a:lnTo>
                <a:lnTo>
                  <a:pt x="122995" y="14917"/>
                </a:lnTo>
                <a:lnTo>
                  <a:pt x="126683" y="8646"/>
                </a:lnTo>
                <a:lnTo>
                  <a:pt x="129055" y="5585"/>
                </a:lnTo>
                <a:lnTo>
                  <a:pt x="131629" y="3544"/>
                </a:lnTo>
                <a:lnTo>
                  <a:pt x="134337" y="2184"/>
                </a:lnTo>
                <a:lnTo>
                  <a:pt x="141072" y="0"/>
                </a:lnTo>
                <a:lnTo>
                  <a:pt x="141625" y="813"/>
                </a:lnTo>
                <a:lnTo>
                  <a:pt x="142239" y="4362"/>
                </a:lnTo>
                <a:lnTo>
                  <a:pt x="145157" y="9247"/>
                </a:lnTo>
                <a:lnTo>
                  <a:pt x="147325" y="11939"/>
                </a:lnTo>
                <a:lnTo>
                  <a:pt x="148770" y="15717"/>
                </a:lnTo>
                <a:lnTo>
                  <a:pt x="150375" y="25207"/>
                </a:lnTo>
                <a:lnTo>
                  <a:pt x="151089" y="36040"/>
                </a:lnTo>
                <a:lnTo>
                  <a:pt x="151406" y="47469"/>
                </a:lnTo>
                <a:lnTo>
                  <a:pt x="151626" y="81644"/>
                </a:lnTo>
                <a:lnTo>
                  <a:pt x="150645" y="89968"/>
                </a:lnTo>
                <a:lnTo>
                  <a:pt x="148999" y="98495"/>
                </a:lnTo>
                <a:lnTo>
                  <a:pt x="146909" y="107156"/>
                </a:lnTo>
                <a:lnTo>
                  <a:pt x="145516" y="115907"/>
                </a:lnTo>
                <a:lnTo>
                  <a:pt x="144588" y="124717"/>
                </a:lnTo>
                <a:lnTo>
                  <a:pt x="143968" y="133567"/>
                </a:lnTo>
                <a:lnTo>
                  <a:pt x="143555" y="142443"/>
                </a:lnTo>
                <a:lnTo>
                  <a:pt x="143097" y="160244"/>
                </a:lnTo>
                <a:lnTo>
                  <a:pt x="141982" y="168165"/>
                </a:lnTo>
                <a:lnTo>
                  <a:pt x="140247" y="175431"/>
                </a:lnTo>
                <a:lnTo>
                  <a:pt x="138098" y="182259"/>
                </a:lnTo>
                <a:lnTo>
                  <a:pt x="135710" y="192492"/>
                </a:lnTo>
                <a:lnTo>
                  <a:pt x="135074" y="196610"/>
                </a:lnTo>
                <a:lnTo>
                  <a:pt x="131721" y="203830"/>
                </a:lnTo>
                <a:lnTo>
                  <a:pt x="125271" y="213193"/>
                </a:lnTo>
                <a:lnTo>
                  <a:pt x="127694" y="213516"/>
                </a:lnTo>
                <a:lnTo>
                  <a:pt x="132594" y="213724"/>
                </a:lnTo>
                <a:lnTo>
                  <a:pt x="138184" y="209019"/>
                </a:lnTo>
                <a:lnTo>
                  <a:pt x="139699" y="206636"/>
                </a:lnTo>
                <a:lnTo>
                  <a:pt x="142825" y="197548"/>
                </a:lnTo>
                <a:lnTo>
                  <a:pt x="147071" y="188042"/>
                </a:lnTo>
                <a:lnTo>
                  <a:pt x="155040" y="171534"/>
                </a:lnTo>
                <a:lnTo>
                  <a:pt x="157882" y="164778"/>
                </a:lnTo>
                <a:lnTo>
                  <a:pt x="160769" y="157298"/>
                </a:lnTo>
                <a:lnTo>
                  <a:pt x="163686" y="149334"/>
                </a:lnTo>
                <a:lnTo>
                  <a:pt x="167614" y="142041"/>
                </a:lnTo>
                <a:lnTo>
                  <a:pt x="172218" y="135194"/>
                </a:lnTo>
                <a:lnTo>
                  <a:pt x="177271" y="128646"/>
                </a:lnTo>
                <a:lnTo>
                  <a:pt x="181633" y="121303"/>
                </a:lnTo>
                <a:lnTo>
                  <a:pt x="185532" y="113432"/>
                </a:lnTo>
                <a:lnTo>
                  <a:pt x="189124" y="105208"/>
                </a:lnTo>
                <a:lnTo>
                  <a:pt x="192511" y="98732"/>
                </a:lnTo>
                <a:lnTo>
                  <a:pt x="202018" y="83887"/>
                </a:lnTo>
                <a:lnTo>
                  <a:pt x="208106" y="73034"/>
                </a:lnTo>
                <a:lnTo>
                  <a:pt x="212111" y="68354"/>
                </a:lnTo>
                <a:lnTo>
                  <a:pt x="216765" y="64242"/>
                </a:lnTo>
                <a:lnTo>
                  <a:pt x="229012" y="55253"/>
                </a:lnTo>
                <a:lnTo>
                  <a:pt x="235874" y="48956"/>
                </a:lnTo>
                <a:lnTo>
                  <a:pt x="238561" y="47341"/>
                </a:lnTo>
                <a:lnTo>
                  <a:pt x="246090" y="45068"/>
                </a:lnTo>
                <a:lnTo>
                  <a:pt x="248199" y="44536"/>
                </a:lnTo>
                <a:lnTo>
                  <a:pt x="248761" y="45386"/>
                </a:lnTo>
                <a:lnTo>
                  <a:pt x="249387" y="48977"/>
                </a:lnTo>
                <a:lnTo>
                  <a:pt x="252310" y="53881"/>
                </a:lnTo>
                <a:lnTo>
                  <a:pt x="254479" y="56577"/>
                </a:lnTo>
                <a:lnTo>
                  <a:pt x="255925" y="59367"/>
                </a:lnTo>
                <a:lnTo>
                  <a:pt x="257531" y="65112"/>
                </a:lnTo>
                <a:lnTo>
                  <a:pt x="258245" y="73619"/>
                </a:lnTo>
                <a:lnTo>
                  <a:pt x="258435" y="78666"/>
                </a:lnTo>
                <a:lnTo>
                  <a:pt x="261292" y="89565"/>
                </a:lnTo>
                <a:lnTo>
                  <a:pt x="263444" y="95250"/>
                </a:lnTo>
                <a:lnTo>
                  <a:pt x="264878" y="101023"/>
                </a:lnTo>
                <a:lnTo>
                  <a:pt x="265834" y="106857"/>
                </a:lnTo>
                <a:lnTo>
                  <a:pt x="266471" y="112731"/>
                </a:lnTo>
                <a:lnTo>
                  <a:pt x="266896" y="119623"/>
                </a:lnTo>
                <a:lnTo>
                  <a:pt x="267368" y="135219"/>
                </a:lnTo>
                <a:lnTo>
                  <a:pt x="267634" y="160733"/>
                </a:lnTo>
                <a:lnTo>
                  <a:pt x="266679" y="168492"/>
                </a:lnTo>
                <a:lnTo>
                  <a:pt x="265050" y="175649"/>
                </a:lnTo>
                <a:lnTo>
                  <a:pt x="262972" y="182404"/>
                </a:lnTo>
                <a:lnTo>
                  <a:pt x="261587" y="189884"/>
                </a:lnTo>
                <a:lnTo>
                  <a:pt x="260663" y="197848"/>
                </a:lnTo>
                <a:lnTo>
                  <a:pt x="260048" y="206134"/>
                </a:lnTo>
                <a:lnTo>
                  <a:pt x="259637" y="214634"/>
                </a:lnTo>
                <a:lnTo>
                  <a:pt x="259181" y="232016"/>
                </a:lnTo>
                <a:lnTo>
                  <a:pt x="258067" y="240818"/>
                </a:lnTo>
                <a:lnTo>
                  <a:pt x="256332" y="249663"/>
                </a:lnTo>
                <a:lnTo>
                  <a:pt x="254183" y="258536"/>
                </a:lnTo>
                <a:lnTo>
                  <a:pt x="252751" y="266436"/>
                </a:lnTo>
                <a:lnTo>
                  <a:pt x="251796" y="273687"/>
                </a:lnTo>
                <a:lnTo>
                  <a:pt x="251159" y="280505"/>
                </a:lnTo>
                <a:lnTo>
                  <a:pt x="250735" y="287035"/>
                </a:lnTo>
                <a:lnTo>
                  <a:pt x="250452" y="293373"/>
                </a:lnTo>
                <a:lnTo>
                  <a:pt x="250263" y="299582"/>
                </a:lnTo>
                <a:lnTo>
                  <a:pt x="249145" y="304714"/>
                </a:lnTo>
                <a:lnTo>
                  <a:pt x="245258" y="313062"/>
                </a:lnTo>
                <a:lnTo>
                  <a:pt x="242868" y="322725"/>
                </a:lnTo>
                <a:lnTo>
                  <a:pt x="241806" y="332642"/>
                </a:lnTo>
                <a:lnTo>
                  <a:pt x="241334" y="340358"/>
                </a:lnTo>
                <a:lnTo>
                  <a:pt x="241068" y="350279"/>
                </a:lnTo>
                <a:lnTo>
                  <a:pt x="240956" y="35665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31" name="SMARTInkAnnotation27"/>
          <p:cNvSpPr/>
          <p:nvPr/>
        </p:nvSpPr>
        <p:spPr>
          <a:xfrm>
            <a:off x="5697360" y="3106800"/>
            <a:ext cx="231840" cy="996840"/>
          </a:xfrm>
          <a:custGeom>
            <a:avLst/>
            <a:gdLst>
              <a:gd name="textAreaLeft" fmla="*/ 0 w 231840"/>
              <a:gd name="textAreaRight" fmla="*/ 232200 w 231840"/>
              <a:gd name="textAreaTop" fmla="*/ 0 h 996840"/>
              <a:gd name="textAreaBottom" fmla="*/ 997200 h 996840"/>
            </a:gdLst>
            <a:ahLst/>
            <a:rect l="textAreaLeft" t="textAreaTop" r="textAreaRight" b="textAreaBottom"/>
            <a:pathLst>
              <a:path w="232138" h="996331">
                <a:moveTo>
                  <a:pt x="125016" y="0"/>
                </a:moveTo>
                <a:lnTo>
                  <a:pt x="129756" y="4740"/>
                </a:lnTo>
                <a:lnTo>
                  <a:pt x="131153" y="7129"/>
                </a:lnTo>
                <a:lnTo>
                  <a:pt x="134110" y="15231"/>
                </a:lnTo>
                <a:lnTo>
                  <a:pt x="140830" y="23915"/>
                </a:lnTo>
                <a:lnTo>
                  <a:pt x="146266" y="29811"/>
                </a:lnTo>
                <a:lnTo>
                  <a:pt x="151989" y="38385"/>
                </a:lnTo>
                <a:lnTo>
                  <a:pt x="157840" y="48810"/>
                </a:lnTo>
                <a:lnTo>
                  <a:pt x="166712" y="65835"/>
                </a:lnTo>
                <a:lnTo>
                  <a:pt x="172652" y="77546"/>
                </a:lnTo>
                <a:lnTo>
                  <a:pt x="178599" y="92012"/>
                </a:lnTo>
                <a:lnTo>
                  <a:pt x="184550" y="108363"/>
                </a:lnTo>
                <a:lnTo>
                  <a:pt x="199430" y="151963"/>
                </a:lnTo>
                <a:lnTo>
                  <a:pt x="205383" y="172380"/>
                </a:lnTo>
                <a:lnTo>
                  <a:pt x="210344" y="193691"/>
                </a:lnTo>
                <a:lnTo>
                  <a:pt x="214129" y="223416"/>
                </a:lnTo>
                <a:lnTo>
                  <a:pt x="218531" y="245478"/>
                </a:lnTo>
                <a:lnTo>
                  <a:pt x="221148" y="271159"/>
                </a:lnTo>
                <a:lnTo>
                  <a:pt x="223304" y="298116"/>
                </a:lnTo>
                <a:lnTo>
                  <a:pt x="227569" y="323327"/>
                </a:lnTo>
                <a:lnTo>
                  <a:pt x="230126" y="350406"/>
                </a:lnTo>
                <a:lnTo>
                  <a:pt x="231263" y="379970"/>
                </a:lnTo>
                <a:lnTo>
                  <a:pt x="231993" y="444811"/>
                </a:lnTo>
                <a:lnTo>
                  <a:pt x="232137" y="505685"/>
                </a:lnTo>
                <a:lnTo>
                  <a:pt x="229510" y="535634"/>
                </a:lnTo>
                <a:lnTo>
                  <a:pt x="226028" y="565482"/>
                </a:lnTo>
                <a:lnTo>
                  <a:pt x="224480" y="595284"/>
                </a:lnTo>
                <a:lnTo>
                  <a:pt x="221147" y="625065"/>
                </a:lnTo>
                <a:lnTo>
                  <a:pt x="215366" y="654838"/>
                </a:lnTo>
                <a:lnTo>
                  <a:pt x="211046" y="669722"/>
                </a:lnTo>
                <a:lnTo>
                  <a:pt x="206181" y="684607"/>
                </a:lnTo>
                <a:lnTo>
                  <a:pt x="201947" y="698498"/>
                </a:lnTo>
                <a:lnTo>
                  <a:pt x="194596" y="724516"/>
                </a:lnTo>
                <a:lnTo>
                  <a:pt x="190254" y="737011"/>
                </a:lnTo>
                <a:lnTo>
                  <a:pt x="185375" y="749309"/>
                </a:lnTo>
                <a:lnTo>
                  <a:pt x="180138" y="761477"/>
                </a:lnTo>
                <a:lnTo>
                  <a:pt x="169028" y="785580"/>
                </a:lnTo>
                <a:lnTo>
                  <a:pt x="145727" y="833392"/>
                </a:lnTo>
                <a:lnTo>
                  <a:pt x="139815" y="844321"/>
                </a:lnTo>
                <a:lnTo>
                  <a:pt x="133890" y="854584"/>
                </a:lnTo>
                <a:lnTo>
                  <a:pt x="122014" y="873924"/>
                </a:lnTo>
                <a:lnTo>
                  <a:pt x="110122" y="892442"/>
                </a:lnTo>
                <a:lnTo>
                  <a:pt x="104172" y="900555"/>
                </a:lnTo>
                <a:lnTo>
                  <a:pt x="98222" y="907948"/>
                </a:lnTo>
                <a:lnTo>
                  <a:pt x="92270" y="914861"/>
                </a:lnTo>
                <a:lnTo>
                  <a:pt x="86318" y="921454"/>
                </a:lnTo>
                <a:lnTo>
                  <a:pt x="74414" y="934072"/>
                </a:lnTo>
                <a:lnTo>
                  <a:pt x="69453" y="940214"/>
                </a:lnTo>
                <a:lnTo>
                  <a:pt x="65153" y="946294"/>
                </a:lnTo>
                <a:lnTo>
                  <a:pt x="61295" y="952332"/>
                </a:lnTo>
                <a:lnTo>
                  <a:pt x="56739" y="957348"/>
                </a:lnTo>
                <a:lnTo>
                  <a:pt x="51716" y="961685"/>
                </a:lnTo>
                <a:lnTo>
                  <a:pt x="46384" y="965569"/>
                </a:lnTo>
                <a:lnTo>
                  <a:pt x="41836" y="969150"/>
                </a:lnTo>
                <a:lnTo>
                  <a:pt x="37813" y="972530"/>
                </a:lnTo>
                <a:lnTo>
                  <a:pt x="30697" y="978931"/>
                </a:lnTo>
                <a:lnTo>
                  <a:pt x="24227" y="985083"/>
                </a:lnTo>
                <a:lnTo>
                  <a:pt x="21112" y="987120"/>
                </a:lnTo>
                <a:lnTo>
                  <a:pt x="15006" y="989384"/>
                </a:lnTo>
                <a:lnTo>
                  <a:pt x="9464" y="991036"/>
                </a:lnTo>
                <a:lnTo>
                  <a:pt x="4348" y="991148"/>
                </a:lnTo>
                <a:lnTo>
                  <a:pt x="2899" y="992156"/>
                </a:lnTo>
                <a:lnTo>
                  <a:pt x="1933" y="993820"/>
                </a:lnTo>
                <a:lnTo>
                  <a:pt x="1288" y="995922"/>
                </a:lnTo>
                <a:lnTo>
                  <a:pt x="859" y="996330"/>
                </a:lnTo>
                <a:lnTo>
                  <a:pt x="573" y="995611"/>
                </a:lnTo>
                <a:lnTo>
                  <a:pt x="0" y="991195"/>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32" name="SMARTInkAnnotation28"/>
          <p:cNvSpPr/>
          <p:nvPr/>
        </p:nvSpPr>
        <p:spPr>
          <a:xfrm>
            <a:off x="6062760" y="3375000"/>
            <a:ext cx="428400" cy="19080"/>
          </a:xfrm>
          <a:custGeom>
            <a:avLst/>
            <a:gdLst>
              <a:gd name="textAreaLeft" fmla="*/ 0 w 428400"/>
              <a:gd name="textAreaRight" fmla="*/ 428760 w 428400"/>
              <a:gd name="textAreaTop" fmla="*/ 0 h 19080"/>
              <a:gd name="textAreaBottom" fmla="*/ 19440 h 19080"/>
            </a:gdLst>
            <a:ahLst/>
            <a:rect l="textAreaLeft" t="textAreaTop" r="textAreaRight" b="textAreaBottom"/>
            <a:pathLst>
              <a:path w="428626" h="17860">
                <a:moveTo>
                  <a:pt x="0" y="17859"/>
                </a:moveTo>
                <a:lnTo>
                  <a:pt x="13302" y="17859"/>
                </a:lnTo>
                <a:lnTo>
                  <a:pt x="15814" y="16867"/>
                </a:lnTo>
                <a:lnTo>
                  <a:pt x="18480" y="15213"/>
                </a:lnTo>
                <a:lnTo>
                  <a:pt x="21249" y="13118"/>
                </a:lnTo>
                <a:lnTo>
                  <a:pt x="25080" y="11722"/>
                </a:lnTo>
                <a:lnTo>
                  <a:pt x="29618" y="10791"/>
                </a:lnTo>
                <a:lnTo>
                  <a:pt x="34629" y="10170"/>
                </a:lnTo>
                <a:lnTo>
                  <a:pt x="40944" y="9757"/>
                </a:lnTo>
                <a:lnTo>
                  <a:pt x="48132" y="9481"/>
                </a:lnTo>
                <a:lnTo>
                  <a:pt x="69824" y="9093"/>
                </a:lnTo>
                <a:lnTo>
                  <a:pt x="94930" y="8962"/>
                </a:lnTo>
                <a:lnTo>
                  <a:pt x="101982" y="7959"/>
                </a:lnTo>
                <a:lnTo>
                  <a:pt x="109660" y="6298"/>
                </a:lnTo>
                <a:lnTo>
                  <a:pt x="117755" y="4198"/>
                </a:lnTo>
                <a:lnTo>
                  <a:pt x="126128" y="2799"/>
                </a:lnTo>
                <a:lnTo>
                  <a:pt x="134687" y="1866"/>
                </a:lnTo>
                <a:lnTo>
                  <a:pt x="143369" y="1243"/>
                </a:lnTo>
                <a:lnTo>
                  <a:pt x="153127" y="829"/>
                </a:lnTo>
                <a:lnTo>
                  <a:pt x="174551" y="368"/>
                </a:lnTo>
                <a:lnTo>
                  <a:pt x="339325" y="0"/>
                </a:lnTo>
                <a:lnTo>
                  <a:pt x="347263" y="992"/>
                </a:lnTo>
                <a:lnTo>
                  <a:pt x="354540" y="2645"/>
                </a:lnTo>
                <a:lnTo>
                  <a:pt x="361376" y="4740"/>
                </a:lnTo>
                <a:lnTo>
                  <a:pt x="367917" y="6137"/>
                </a:lnTo>
                <a:lnTo>
                  <a:pt x="374262" y="7068"/>
                </a:lnTo>
                <a:lnTo>
                  <a:pt x="380476" y="7688"/>
                </a:lnTo>
                <a:lnTo>
                  <a:pt x="386604" y="8102"/>
                </a:lnTo>
                <a:lnTo>
                  <a:pt x="398703" y="8562"/>
                </a:lnTo>
                <a:lnTo>
                  <a:pt x="417395" y="8897"/>
                </a:lnTo>
                <a:lnTo>
                  <a:pt x="428625" y="8929"/>
                </a:lnTo>
              </a:path>
            </a:pathLst>
          </a:custGeom>
          <a:noFill/>
          <a:ln w="38160">
            <a:solidFill>
              <a:srgbClr val="000000"/>
            </a:solidFill>
            <a:round/>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Constantia"/>
            </a:endParaRPr>
          </a:p>
        </p:txBody>
      </p:sp>
      <p:sp>
        <p:nvSpPr>
          <p:cNvPr id="233" name="SMARTInkAnnotation29"/>
          <p:cNvSpPr/>
          <p:nvPr/>
        </p:nvSpPr>
        <p:spPr>
          <a:xfrm>
            <a:off x="6099120" y="3527280"/>
            <a:ext cx="347760" cy="17640"/>
          </a:xfrm>
          <a:custGeom>
            <a:avLst/>
            <a:gdLst>
              <a:gd name="textAreaLeft" fmla="*/ 0 w 347760"/>
              <a:gd name="textAreaRight" fmla="*/ 348120 w 347760"/>
              <a:gd name="textAreaTop" fmla="*/ 0 h 17640"/>
              <a:gd name="textAreaBottom" fmla="*/ 18000 h 17640"/>
            </a:gdLst>
            <a:ahLst/>
            <a:rect l="textAreaLeft" t="textAreaTop" r="textAreaRight" b="textAreaBottom"/>
            <a:pathLst>
              <a:path w="348259" h="17860">
                <a:moveTo>
                  <a:pt x="0" y="17859"/>
                </a:moveTo>
                <a:lnTo>
                  <a:pt x="64799" y="17859"/>
                </a:lnTo>
                <a:lnTo>
                  <a:pt x="71972" y="16867"/>
                </a:lnTo>
                <a:lnTo>
                  <a:pt x="78739" y="15214"/>
                </a:lnTo>
                <a:lnTo>
                  <a:pt x="85235" y="13119"/>
                </a:lnTo>
                <a:lnTo>
                  <a:pt x="91550" y="11723"/>
                </a:lnTo>
                <a:lnTo>
                  <a:pt x="97744" y="10792"/>
                </a:lnTo>
                <a:lnTo>
                  <a:pt x="103858" y="10171"/>
                </a:lnTo>
                <a:lnTo>
                  <a:pt x="110911" y="9757"/>
                </a:lnTo>
                <a:lnTo>
                  <a:pt x="126685" y="9298"/>
                </a:lnTo>
                <a:lnTo>
                  <a:pt x="152300" y="9039"/>
                </a:lnTo>
                <a:lnTo>
                  <a:pt x="161065" y="8010"/>
                </a:lnTo>
                <a:lnTo>
                  <a:pt x="169885" y="6332"/>
                </a:lnTo>
                <a:lnTo>
                  <a:pt x="178741" y="4222"/>
                </a:lnTo>
                <a:lnTo>
                  <a:pt x="187621" y="2815"/>
                </a:lnTo>
                <a:lnTo>
                  <a:pt x="196519" y="1876"/>
                </a:lnTo>
                <a:lnTo>
                  <a:pt x="205427" y="1251"/>
                </a:lnTo>
                <a:lnTo>
                  <a:pt x="214342" y="834"/>
                </a:lnTo>
                <a:lnTo>
                  <a:pt x="232186" y="371"/>
                </a:lnTo>
                <a:lnTo>
                  <a:pt x="285587" y="22"/>
                </a:lnTo>
                <a:lnTo>
                  <a:pt x="348258" y="0"/>
                </a:lnTo>
              </a:path>
            </a:pathLst>
          </a:custGeom>
          <a:noFill/>
          <a:ln w="38160">
            <a:solidFill>
              <a:srgbClr val="000000"/>
            </a:solidFill>
            <a:round/>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Constantia"/>
            </a:endParaRPr>
          </a:p>
        </p:txBody>
      </p:sp>
      <p:sp>
        <p:nvSpPr>
          <p:cNvPr id="234" name="SMARTInkAnnotation30"/>
          <p:cNvSpPr/>
          <p:nvPr/>
        </p:nvSpPr>
        <p:spPr>
          <a:xfrm>
            <a:off x="6643800" y="3133800"/>
            <a:ext cx="81000" cy="839880"/>
          </a:xfrm>
          <a:custGeom>
            <a:avLst/>
            <a:gdLst>
              <a:gd name="textAreaLeft" fmla="*/ 0 w 81000"/>
              <a:gd name="textAreaRight" fmla="*/ 81360 w 81000"/>
              <a:gd name="textAreaTop" fmla="*/ 0 h 839880"/>
              <a:gd name="textAreaBottom" fmla="*/ 840240 h 839880"/>
            </a:gdLst>
            <a:ahLst/>
            <a:rect l="textAreaLeft" t="textAreaTop" r="textAreaRight" b="textAreaBottom"/>
            <a:pathLst>
              <a:path w="80336" h="839392">
                <a:moveTo>
                  <a:pt x="71438" y="0"/>
                </a:moveTo>
                <a:lnTo>
                  <a:pt x="76178" y="9481"/>
                </a:lnTo>
                <a:lnTo>
                  <a:pt x="78506" y="27365"/>
                </a:lnTo>
                <a:lnTo>
                  <a:pt x="79539" y="49865"/>
                </a:lnTo>
                <a:lnTo>
                  <a:pt x="80000" y="69787"/>
                </a:lnTo>
                <a:lnTo>
                  <a:pt x="80335" y="137300"/>
                </a:lnTo>
                <a:lnTo>
                  <a:pt x="79353" y="150072"/>
                </a:lnTo>
                <a:lnTo>
                  <a:pt x="77708" y="163548"/>
                </a:lnTo>
                <a:lnTo>
                  <a:pt x="75618" y="177493"/>
                </a:lnTo>
                <a:lnTo>
                  <a:pt x="74223" y="191751"/>
                </a:lnTo>
                <a:lnTo>
                  <a:pt x="73296" y="206217"/>
                </a:lnTo>
                <a:lnTo>
                  <a:pt x="72676" y="220821"/>
                </a:lnTo>
                <a:lnTo>
                  <a:pt x="71272" y="235519"/>
                </a:lnTo>
                <a:lnTo>
                  <a:pt x="69342" y="250278"/>
                </a:lnTo>
                <a:lnTo>
                  <a:pt x="67065" y="265079"/>
                </a:lnTo>
                <a:lnTo>
                  <a:pt x="65546" y="280899"/>
                </a:lnTo>
                <a:lnTo>
                  <a:pt x="64533" y="297399"/>
                </a:lnTo>
                <a:lnTo>
                  <a:pt x="63858" y="314352"/>
                </a:lnTo>
                <a:lnTo>
                  <a:pt x="62416" y="331607"/>
                </a:lnTo>
                <a:lnTo>
                  <a:pt x="60462" y="349063"/>
                </a:lnTo>
                <a:lnTo>
                  <a:pt x="55645" y="384334"/>
                </a:lnTo>
                <a:lnTo>
                  <a:pt x="38615" y="491164"/>
                </a:lnTo>
                <a:lnTo>
                  <a:pt x="32707" y="526866"/>
                </a:lnTo>
                <a:lnTo>
                  <a:pt x="29742" y="549681"/>
                </a:lnTo>
                <a:lnTo>
                  <a:pt x="20829" y="627984"/>
                </a:lnTo>
                <a:lnTo>
                  <a:pt x="17855" y="648843"/>
                </a:lnTo>
                <a:lnTo>
                  <a:pt x="14880" y="667711"/>
                </a:lnTo>
                <a:lnTo>
                  <a:pt x="11904" y="684258"/>
                </a:lnTo>
                <a:lnTo>
                  <a:pt x="5952" y="713226"/>
                </a:lnTo>
                <a:lnTo>
                  <a:pt x="3969" y="726507"/>
                </a:lnTo>
                <a:lnTo>
                  <a:pt x="1763" y="751848"/>
                </a:lnTo>
                <a:lnTo>
                  <a:pt x="784" y="773694"/>
                </a:lnTo>
                <a:lnTo>
                  <a:pt x="232" y="800081"/>
                </a:lnTo>
                <a:lnTo>
                  <a:pt x="0" y="839391"/>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35" name="SMARTInkAnnotation31"/>
          <p:cNvSpPr/>
          <p:nvPr/>
        </p:nvSpPr>
        <p:spPr>
          <a:xfrm>
            <a:off x="6875640" y="3201840"/>
            <a:ext cx="428400" cy="752760"/>
          </a:xfrm>
          <a:custGeom>
            <a:avLst/>
            <a:gdLst>
              <a:gd name="textAreaLeft" fmla="*/ 0 w 428400"/>
              <a:gd name="textAreaRight" fmla="*/ 428760 w 428400"/>
              <a:gd name="textAreaTop" fmla="*/ 0 h 752760"/>
              <a:gd name="textAreaBottom" fmla="*/ 753120 h 752760"/>
            </a:gdLst>
            <a:ahLst/>
            <a:rect l="textAreaLeft" t="textAreaTop" r="textAreaRight" b="textAreaBottom"/>
            <a:pathLst>
              <a:path w="428409" h="753544">
                <a:moveTo>
                  <a:pt x="232123" y="31225"/>
                </a:moveTo>
                <a:lnTo>
                  <a:pt x="197571" y="31225"/>
                </a:lnTo>
                <a:lnTo>
                  <a:pt x="193213" y="32217"/>
                </a:lnTo>
                <a:lnTo>
                  <a:pt x="181348" y="38354"/>
                </a:lnTo>
                <a:lnTo>
                  <a:pt x="171191" y="43653"/>
                </a:lnTo>
                <a:lnTo>
                  <a:pt x="160063" y="51962"/>
                </a:lnTo>
                <a:lnTo>
                  <a:pt x="148503" y="62269"/>
                </a:lnTo>
                <a:lnTo>
                  <a:pt x="136750" y="73465"/>
                </a:lnTo>
                <a:lnTo>
                  <a:pt x="124912" y="87701"/>
                </a:lnTo>
                <a:lnTo>
                  <a:pt x="113035" y="103950"/>
                </a:lnTo>
                <a:lnTo>
                  <a:pt x="95194" y="129832"/>
                </a:lnTo>
                <a:lnTo>
                  <a:pt x="83292" y="147480"/>
                </a:lnTo>
                <a:lnTo>
                  <a:pt x="71387" y="167891"/>
                </a:lnTo>
                <a:lnTo>
                  <a:pt x="59481" y="190192"/>
                </a:lnTo>
                <a:lnTo>
                  <a:pt x="47575" y="213332"/>
                </a:lnTo>
                <a:lnTo>
                  <a:pt x="41623" y="226052"/>
                </a:lnTo>
                <a:lnTo>
                  <a:pt x="29716" y="253414"/>
                </a:lnTo>
                <a:lnTo>
                  <a:pt x="24756" y="267655"/>
                </a:lnTo>
                <a:lnTo>
                  <a:pt x="20455" y="282111"/>
                </a:lnTo>
                <a:lnTo>
                  <a:pt x="16598" y="296709"/>
                </a:lnTo>
                <a:lnTo>
                  <a:pt x="9664" y="326158"/>
                </a:lnTo>
                <a:lnTo>
                  <a:pt x="6426" y="340956"/>
                </a:lnTo>
                <a:lnTo>
                  <a:pt x="4268" y="355782"/>
                </a:lnTo>
                <a:lnTo>
                  <a:pt x="2829" y="370628"/>
                </a:lnTo>
                <a:lnTo>
                  <a:pt x="1869" y="385486"/>
                </a:lnTo>
                <a:lnTo>
                  <a:pt x="1230" y="401344"/>
                </a:lnTo>
                <a:lnTo>
                  <a:pt x="520" y="434839"/>
                </a:lnTo>
                <a:lnTo>
                  <a:pt x="0" y="527944"/>
                </a:lnTo>
                <a:lnTo>
                  <a:pt x="976" y="542949"/>
                </a:lnTo>
                <a:lnTo>
                  <a:pt x="2619" y="557913"/>
                </a:lnTo>
                <a:lnTo>
                  <a:pt x="4706" y="572850"/>
                </a:lnTo>
                <a:lnTo>
                  <a:pt x="7089" y="586777"/>
                </a:lnTo>
                <a:lnTo>
                  <a:pt x="9671" y="600030"/>
                </a:lnTo>
                <a:lnTo>
                  <a:pt x="12383" y="612835"/>
                </a:lnTo>
                <a:lnTo>
                  <a:pt x="16177" y="625339"/>
                </a:lnTo>
                <a:lnTo>
                  <a:pt x="20690" y="637645"/>
                </a:lnTo>
                <a:lnTo>
                  <a:pt x="30997" y="660909"/>
                </a:lnTo>
                <a:lnTo>
                  <a:pt x="42191" y="681170"/>
                </a:lnTo>
                <a:lnTo>
                  <a:pt x="53782" y="700097"/>
                </a:lnTo>
                <a:lnTo>
                  <a:pt x="59650" y="709312"/>
                </a:lnTo>
                <a:lnTo>
                  <a:pt x="66540" y="716447"/>
                </a:lnTo>
                <a:lnTo>
                  <a:pt x="74109" y="722195"/>
                </a:lnTo>
                <a:lnTo>
                  <a:pt x="82132" y="727020"/>
                </a:lnTo>
                <a:lnTo>
                  <a:pt x="89465" y="732221"/>
                </a:lnTo>
                <a:lnTo>
                  <a:pt x="96338" y="737673"/>
                </a:lnTo>
                <a:lnTo>
                  <a:pt x="102904" y="743292"/>
                </a:lnTo>
                <a:lnTo>
                  <a:pt x="110258" y="747037"/>
                </a:lnTo>
                <a:lnTo>
                  <a:pt x="118137" y="749534"/>
                </a:lnTo>
                <a:lnTo>
                  <a:pt x="126366" y="751199"/>
                </a:lnTo>
                <a:lnTo>
                  <a:pt x="134830" y="752309"/>
                </a:lnTo>
                <a:lnTo>
                  <a:pt x="143448" y="753050"/>
                </a:lnTo>
                <a:lnTo>
                  <a:pt x="152170" y="753543"/>
                </a:lnTo>
                <a:lnTo>
                  <a:pt x="159969" y="752880"/>
                </a:lnTo>
                <a:lnTo>
                  <a:pt x="167154" y="751445"/>
                </a:lnTo>
                <a:lnTo>
                  <a:pt x="173927" y="749496"/>
                </a:lnTo>
                <a:lnTo>
                  <a:pt x="181419" y="746213"/>
                </a:lnTo>
                <a:lnTo>
                  <a:pt x="189391" y="742040"/>
                </a:lnTo>
                <a:lnTo>
                  <a:pt x="197681" y="737274"/>
                </a:lnTo>
                <a:lnTo>
                  <a:pt x="205193" y="732111"/>
                </a:lnTo>
                <a:lnTo>
                  <a:pt x="212185" y="726686"/>
                </a:lnTo>
                <a:lnTo>
                  <a:pt x="218831" y="721084"/>
                </a:lnTo>
                <a:lnTo>
                  <a:pt x="231507" y="704277"/>
                </a:lnTo>
                <a:lnTo>
                  <a:pt x="244748" y="684570"/>
                </a:lnTo>
                <a:lnTo>
                  <a:pt x="252446" y="675147"/>
                </a:lnTo>
                <a:lnTo>
                  <a:pt x="260554" y="665889"/>
                </a:lnTo>
                <a:lnTo>
                  <a:pt x="267944" y="654756"/>
                </a:lnTo>
                <a:lnTo>
                  <a:pt x="274855" y="642373"/>
                </a:lnTo>
                <a:lnTo>
                  <a:pt x="281447" y="629157"/>
                </a:lnTo>
                <a:lnTo>
                  <a:pt x="287826" y="615385"/>
                </a:lnTo>
                <a:lnTo>
                  <a:pt x="300205" y="586854"/>
                </a:lnTo>
                <a:lnTo>
                  <a:pt x="307277" y="572300"/>
                </a:lnTo>
                <a:lnTo>
                  <a:pt x="314967" y="557637"/>
                </a:lnTo>
                <a:lnTo>
                  <a:pt x="323071" y="542901"/>
                </a:lnTo>
                <a:lnTo>
                  <a:pt x="330459" y="528115"/>
                </a:lnTo>
                <a:lnTo>
                  <a:pt x="337367" y="513298"/>
                </a:lnTo>
                <a:lnTo>
                  <a:pt x="350336" y="483604"/>
                </a:lnTo>
                <a:lnTo>
                  <a:pt x="380839" y="409240"/>
                </a:lnTo>
                <a:lnTo>
                  <a:pt x="392808" y="376833"/>
                </a:lnTo>
                <a:lnTo>
                  <a:pt x="398777" y="359857"/>
                </a:lnTo>
                <a:lnTo>
                  <a:pt x="403749" y="343578"/>
                </a:lnTo>
                <a:lnTo>
                  <a:pt x="408055" y="327765"/>
                </a:lnTo>
                <a:lnTo>
                  <a:pt x="411920" y="312262"/>
                </a:lnTo>
                <a:lnTo>
                  <a:pt x="418859" y="281807"/>
                </a:lnTo>
                <a:lnTo>
                  <a:pt x="422097" y="266741"/>
                </a:lnTo>
                <a:lnTo>
                  <a:pt x="424257" y="251735"/>
                </a:lnTo>
                <a:lnTo>
                  <a:pt x="425697" y="236770"/>
                </a:lnTo>
                <a:lnTo>
                  <a:pt x="426657" y="221833"/>
                </a:lnTo>
                <a:lnTo>
                  <a:pt x="427723" y="194653"/>
                </a:lnTo>
                <a:lnTo>
                  <a:pt x="428323" y="157038"/>
                </a:lnTo>
                <a:lnTo>
                  <a:pt x="428408" y="144866"/>
                </a:lnTo>
                <a:lnTo>
                  <a:pt x="427471" y="132783"/>
                </a:lnTo>
                <a:lnTo>
                  <a:pt x="425856" y="120758"/>
                </a:lnTo>
                <a:lnTo>
                  <a:pt x="421414" y="97806"/>
                </a:lnTo>
                <a:lnTo>
                  <a:pt x="416132" y="77684"/>
                </a:lnTo>
                <a:lnTo>
                  <a:pt x="407581" y="54361"/>
                </a:lnTo>
                <a:lnTo>
                  <a:pt x="399070" y="41177"/>
                </a:lnTo>
                <a:lnTo>
                  <a:pt x="385768" y="22598"/>
                </a:lnTo>
                <a:lnTo>
                  <a:pt x="382179" y="16544"/>
                </a:lnTo>
                <a:lnTo>
                  <a:pt x="377801" y="12507"/>
                </a:lnTo>
                <a:lnTo>
                  <a:pt x="372898" y="9817"/>
                </a:lnTo>
                <a:lnTo>
                  <a:pt x="362157" y="5835"/>
                </a:lnTo>
                <a:lnTo>
                  <a:pt x="350771" y="758"/>
                </a:lnTo>
                <a:lnTo>
                  <a:pt x="344956" y="0"/>
                </a:lnTo>
                <a:lnTo>
                  <a:pt x="333203" y="1803"/>
                </a:lnTo>
                <a:lnTo>
                  <a:pt x="321365" y="5911"/>
                </a:lnTo>
                <a:lnTo>
                  <a:pt x="310481" y="10052"/>
                </a:lnTo>
                <a:lnTo>
                  <a:pt x="298776" y="13376"/>
                </a:lnTo>
                <a:lnTo>
                  <a:pt x="285701" y="22295"/>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36" name="SMARTInkAnnotation32"/>
          <p:cNvSpPr/>
          <p:nvPr/>
        </p:nvSpPr>
        <p:spPr>
          <a:xfrm>
            <a:off x="7377120" y="3170160"/>
            <a:ext cx="301680" cy="803520"/>
          </a:xfrm>
          <a:custGeom>
            <a:avLst/>
            <a:gdLst>
              <a:gd name="textAreaLeft" fmla="*/ 0 w 301680"/>
              <a:gd name="textAreaRight" fmla="*/ 301680 w 301680"/>
              <a:gd name="textAreaTop" fmla="*/ 0 h 803520"/>
              <a:gd name="textAreaBottom" fmla="*/ 803880 h 803520"/>
            </a:gdLst>
            <a:ahLst/>
            <a:rect l="textAreaLeft" t="textAreaTop" r="textAreaRight" b="textAreaBottom"/>
            <a:pathLst>
              <a:path w="301336" h="803132">
                <a:moveTo>
                  <a:pt x="275007" y="44648"/>
                </a:moveTo>
                <a:lnTo>
                  <a:pt x="270267" y="35167"/>
                </a:lnTo>
                <a:lnTo>
                  <a:pt x="266886" y="32374"/>
                </a:lnTo>
                <a:lnTo>
                  <a:pt x="262649" y="30513"/>
                </a:lnTo>
                <a:lnTo>
                  <a:pt x="257838" y="29271"/>
                </a:lnTo>
                <a:lnTo>
                  <a:pt x="252647" y="27452"/>
                </a:lnTo>
                <a:lnTo>
                  <a:pt x="247202" y="25246"/>
                </a:lnTo>
                <a:lnTo>
                  <a:pt x="241588" y="22784"/>
                </a:lnTo>
                <a:lnTo>
                  <a:pt x="235860" y="21142"/>
                </a:lnTo>
                <a:lnTo>
                  <a:pt x="230057" y="20048"/>
                </a:lnTo>
                <a:lnTo>
                  <a:pt x="224205" y="19318"/>
                </a:lnTo>
                <a:lnTo>
                  <a:pt x="218319" y="19824"/>
                </a:lnTo>
                <a:lnTo>
                  <a:pt x="212411" y="21154"/>
                </a:lnTo>
                <a:lnTo>
                  <a:pt x="183929" y="30416"/>
                </a:lnTo>
                <a:lnTo>
                  <a:pt x="176585" y="33176"/>
                </a:lnTo>
                <a:lnTo>
                  <a:pt x="169705" y="36008"/>
                </a:lnTo>
                <a:lnTo>
                  <a:pt x="163134" y="38888"/>
                </a:lnTo>
                <a:lnTo>
                  <a:pt x="156769" y="42792"/>
                </a:lnTo>
                <a:lnTo>
                  <a:pt x="150541" y="47379"/>
                </a:lnTo>
                <a:lnTo>
                  <a:pt x="144405" y="52422"/>
                </a:lnTo>
                <a:lnTo>
                  <a:pt x="138330" y="58760"/>
                </a:lnTo>
                <a:lnTo>
                  <a:pt x="132295" y="65963"/>
                </a:lnTo>
                <a:lnTo>
                  <a:pt x="126287" y="73741"/>
                </a:lnTo>
                <a:lnTo>
                  <a:pt x="120298" y="81902"/>
                </a:lnTo>
                <a:lnTo>
                  <a:pt x="108352" y="98909"/>
                </a:lnTo>
                <a:lnTo>
                  <a:pt x="99073" y="116389"/>
                </a:lnTo>
                <a:lnTo>
                  <a:pt x="91643" y="135072"/>
                </a:lnTo>
                <a:lnTo>
                  <a:pt x="85032" y="156605"/>
                </a:lnTo>
                <a:lnTo>
                  <a:pt x="81433" y="179404"/>
                </a:lnTo>
                <a:lnTo>
                  <a:pt x="79833" y="203758"/>
                </a:lnTo>
                <a:lnTo>
                  <a:pt x="79123" y="231119"/>
                </a:lnTo>
                <a:lnTo>
                  <a:pt x="79926" y="244368"/>
                </a:lnTo>
                <a:lnTo>
                  <a:pt x="81452" y="257170"/>
                </a:lnTo>
                <a:lnTo>
                  <a:pt x="83463" y="269673"/>
                </a:lnTo>
                <a:lnTo>
                  <a:pt x="91033" y="310972"/>
                </a:lnTo>
                <a:lnTo>
                  <a:pt x="99559" y="354628"/>
                </a:lnTo>
                <a:lnTo>
                  <a:pt x="103471" y="369372"/>
                </a:lnTo>
                <a:lnTo>
                  <a:pt x="108064" y="384162"/>
                </a:lnTo>
                <a:lnTo>
                  <a:pt x="113110" y="398983"/>
                </a:lnTo>
                <a:lnTo>
                  <a:pt x="119450" y="413824"/>
                </a:lnTo>
                <a:lnTo>
                  <a:pt x="126655" y="428680"/>
                </a:lnTo>
                <a:lnTo>
                  <a:pt x="134433" y="443544"/>
                </a:lnTo>
                <a:lnTo>
                  <a:pt x="141605" y="458415"/>
                </a:lnTo>
                <a:lnTo>
                  <a:pt x="148368" y="473290"/>
                </a:lnTo>
                <a:lnTo>
                  <a:pt x="154863" y="488167"/>
                </a:lnTo>
                <a:lnTo>
                  <a:pt x="167370" y="515280"/>
                </a:lnTo>
                <a:lnTo>
                  <a:pt x="173483" y="528067"/>
                </a:lnTo>
                <a:lnTo>
                  <a:pt x="179544" y="541553"/>
                </a:lnTo>
                <a:lnTo>
                  <a:pt x="197553" y="583242"/>
                </a:lnTo>
                <a:lnTo>
                  <a:pt x="209495" y="608799"/>
                </a:lnTo>
                <a:lnTo>
                  <a:pt x="227374" y="645500"/>
                </a:lnTo>
                <a:lnTo>
                  <a:pt x="236639" y="669542"/>
                </a:lnTo>
                <a:lnTo>
                  <a:pt x="243072" y="692465"/>
                </a:lnTo>
                <a:lnTo>
                  <a:pt x="245931" y="712575"/>
                </a:lnTo>
                <a:lnTo>
                  <a:pt x="244555" y="731434"/>
                </a:lnTo>
                <a:lnTo>
                  <a:pt x="240849" y="756140"/>
                </a:lnTo>
                <a:lnTo>
                  <a:pt x="240329" y="763055"/>
                </a:lnTo>
                <a:lnTo>
                  <a:pt x="237105" y="773382"/>
                </a:lnTo>
                <a:lnTo>
                  <a:pt x="234856" y="777526"/>
                </a:lnTo>
                <a:lnTo>
                  <a:pt x="227065" y="784775"/>
                </a:lnTo>
                <a:lnTo>
                  <a:pt x="217981" y="791304"/>
                </a:lnTo>
                <a:lnTo>
                  <a:pt x="210635" y="797514"/>
                </a:lnTo>
                <a:lnTo>
                  <a:pt x="206297" y="799566"/>
                </a:lnTo>
                <a:lnTo>
                  <a:pt x="201418" y="800934"/>
                </a:lnTo>
                <a:lnTo>
                  <a:pt x="196183" y="801847"/>
                </a:lnTo>
                <a:lnTo>
                  <a:pt x="189715" y="802455"/>
                </a:lnTo>
                <a:lnTo>
                  <a:pt x="182427" y="802861"/>
                </a:lnTo>
                <a:lnTo>
                  <a:pt x="174591" y="803131"/>
                </a:lnTo>
                <a:lnTo>
                  <a:pt x="166392" y="802319"/>
                </a:lnTo>
                <a:lnTo>
                  <a:pt x="157949" y="800785"/>
                </a:lnTo>
                <a:lnTo>
                  <a:pt x="149343" y="798771"/>
                </a:lnTo>
                <a:lnTo>
                  <a:pt x="141622" y="796436"/>
                </a:lnTo>
                <a:lnTo>
                  <a:pt x="134489" y="793887"/>
                </a:lnTo>
                <a:lnTo>
                  <a:pt x="127751" y="791195"/>
                </a:lnTo>
                <a:lnTo>
                  <a:pt x="112326" y="785559"/>
                </a:lnTo>
                <a:lnTo>
                  <a:pt x="104045" y="782666"/>
                </a:lnTo>
                <a:lnTo>
                  <a:pt x="95548" y="778754"/>
                </a:lnTo>
                <a:lnTo>
                  <a:pt x="86907" y="774162"/>
                </a:lnTo>
                <a:lnTo>
                  <a:pt x="78169" y="769115"/>
                </a:lnTo>
                <a:lnTo>
                  <a:pt x="70360" y="763767"/>
                </a:lnTo>
                <a:lnTo>
                  <a:pt x="63169" y="758217"/>
                </a:lnTo>
                <a:lnTo>
                  <a:pt x="56391" y="752533"/>
                </a:lnTo>
                <a:lnTo>
                  <a:pt x="49888" y="746759"/>
                </a:lnTo>
                <a:lnTo>
                  <a:pt x="37370" y="735051"/>
                </a:lnTo>
                <a:lnTo>
                  <a:pt x="32247" y="729152"/>
                </a:lnTo>
                <a:lnTo>
                  <a:pt x="23908" y="717304"/>
                </a:lnTo>
                <a:lnTo>
                  <a:pt x="16895" y="705424"/>
                </a:lnTo>
                <a:lnTo>
                  <a:pt x="10469" y="692537"/>
                </a:lnTo>
                <a:lnTo>
                  <a:pt x="4307" y="676888"/>
                </a:lnTo>
                <a:lnTo>
                  <a:pt x="907" y="660010"/>
                </a:lnTo>
                <a:lnTo>
                  <a:pt x="0" y="651343"/>
                </a:lnTo>
                <a:lnTo>
                  <a:pt x="1638" y="636420"/>
                </a:lnTo>
                <a:lnTo>
                  <a:pt x="8138" y="611571"/>
                </a:lnTo>
                <a:lnTo>
                  <a:pt x="14516" y="591293"/>
                </a:lnTo>
                <a:lnTo>
                  <a:pt x="18995" y="581719"/>
                </a:lnTo>
                <a:lnTo>
                  <a:pt x="23965" y="572359"/>
                </a:lnTo>
                <a:lnTo>
                  <a:pt x="29263" y="563143"/>
                </a:lnTo>
                <a:lnTo>
                  <a:pt x="34779" y="554022"/>
                </a:lnTo>
                <a:lnTo>
                  <a:pt x="40442" y="544965"/>
                </a:lnTo>
                <a:lnTo>
                  <a:pt x="47192" y="535951"/>
                </a:lnTo>
                <a:lnTo>
                  <a:pt x="54670" y="526964"/>
                </a:lnTo>
                <a:lnTo>
                  <a:pt x="62631" y="517997"/>
                </a:lnTo>
                <a:lnTo>
                  <a:pt x="70915" y="508050"/>
                </a:lnTo>
                <a:lnTo>
                  <a:pt x="88058" y="486414"/>
                </a:lnTo>
                <a:lnTo>
                  <a:pt x="114443" y="451921"/>
                </a:lnTo>
                <a:lnTo>
                  <a:pt x="123316" y="441179"/>
                </a:lnTo>
                <a:lnTo>
                  <a:pt x="132208" y="431041"/>
                </a:lnTo>
                <a:lnTo>
                  <a:pt x="141112" y="421306"/>
                </a:lnTo>
                <a:lnTo>
                  <a:pt x="150025" y="410847"/>
                </a:lnTo>
                <a:lnTo>
                  <a:pt x="167866" y="388643"/>
                </a:lnTo>
                <a:lnTo>
                  <a:pt x="212502" y="330229"/>
                </a:lnTo>
                <a:lnTo>
                  <a:pt x="221431" y="318379"/>
                </a:lnTo>
                <a:lnTo>
                  <a:pt x="229367" y="306510"/>
                </a:lnTo>
                <a:lnTo>
                  <a:pt x="236643" y="294629"/>
                </a:lnTo>
                <a:lnTo>
                  <a:pt x="243478" y="282740"/>
                </a:lnTo>
                <a:lnTo>
                  <a:pt x="256364" y="258946"/>
                </a:lnTo>
                <a:lnTo>
                  <a:pt x="280806" y="211333"/>
                </a:lnTo>
                <a:lnTo>
                  <a:pt x="287506" y="190167"/>
                </a:lnTo>
                <a:lnTo>
                  <a:pt x="291477" y="169847"/>
                </a:lnTo>
                <a:lnTo>
                  <a:pt x="296548" y="147586"/>
                </a:lnTo>
                <a:lnTo>
                  <a:pt x="299463" y="127109"/>
                </a:lnTo>
                <a:lnTo>
                  <a:pt x="300760" y="108086"/>
                </a:lnTo>
                <a:lnTo>
                  <a:pt x="301335" y="89710"/>
                </a:lnTo>
                <a:lnTo>
                  <a:pt x="298946" y="74267"/>
                </a:lnTo>
                <a:lnTo>
                  <a:pt x="294668" y="54416"/>
                </a:lnTo>
                <a:lnTo>
                  <a:pt x="292675" y="42044"/>
                </a:lnTo>
                <a:lnTo>
                  <a:pt x="288482" y="29931"/>
                </a:lnTo>
                <a:lnTo>
                  <a:pt x="283312" y="20579"/>
                </a:lnTo>
                <a:lnTo>
                  <a:pt x="274821" y="9735"/>
                </a:lnTo>
                <a:lnTo>
                  <a:pt x="271907" y="6490"/>
                </a:lnTo>
                <a:lnTo>
                  <a:pt x="268972" y="4327"/>
                </a:lnTo>
                <a:lnTo>
                  <a:pt x="263065" y="1923"/>
                </a:lnTo>
                <a:lnTo>
                  <a:pt x="254160" y="569"/>
                </a:lnTo>
                <a:lnTo>
                  <a:pt x="248218"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37" name="SMARTInkAnnotation33"/>
          <p:cNvSpPr/>
          <p:nvPr/>
        </p:nvSpPr>
        <p:spPr>
          <a:xfrm>
            <a:off x="7680240" y="3313080"/>
            <a:ext cx="419040" cy="631800"/>
          </a:xfrm>
          <a:custGeom>
            <a:avLst/>
            <a:gdLst>
              <a:gd name="textAreaLeft" fmla="*/ 0 w 419040"/>
              <a:gd name="textAreaRight" fmla="*/ 419400 w 419040"/>
              <a:gd name="textAreaTop" fmla="*/ 0 h 631800"/>
              <a:gd name="textAreaBottom" fmla="*/ 632160 h 631800"/>
            </a:gdLst>
            <a:ahLst/>
            <a:rect l="textAreaLeft" t="textAreaTop" r="textAreaRight" b="textAreaBottom"/>
            <a:pathLst>
              <a:path w="418846" h="631672">
                <a:moveTo>
                  <a:pt x="330117" y="53578"/>
                </a:moveTo>
                <a:lnTo>
                  <a:pt x="325377" y="48837"/>
                </a:lnTo>
                <a:lnTo>
                  <a:pt x="322989" y="47441"/>
                </a:lnTo>
                <a:lnTo>
                  <a:pt x="313895" y="44483"/>
                </a:lnTo>
                <a:lnTo>
                  <a:pt x="304386" y="40275"/>
                </a:lnTo>
                <a:lnTo>
                  <a:pt x="292617" y="32328"/>
                </a:lnTo>
                <a:lnTo>
                  <a:pt x="288250" y="31474"/>
                </a:lnTo>
                <a:lnTo>
                  <a:pt x="283355" y="31897"/>
                </a:lnTo>
                <a:lnTo>
                  <a:pt x="272623" y="34020"/>
                </a:lnTo>
                <a:lnTo>
                  <a:pt x="261238" y="34964"/>
                </a:lnTo>
                <a:lnTo>
                  <a:pt x="249565" y="35383"/>
                </a:lnTo>
                <a:lnTo>
                  <a:pt x="236769" y="36562"/>
                </a:lnTo>
                <a:lnTo>
                  <a:pt x="229190" y="38265"/>
                </a:lnTo>
                <a:lnTo>
                  <a:pt x="221161" y="40392"/>
                </a:lnTo>
                <a:lnTo>
                  <a:pt x="213824" y="43796"/>
                </a:lnTo>
                <a:lnTo>
                  <a:pt x="206947" y="48048"/>
                </a:lnTo>
                <a:lnTo>
                  <a:pt x="200379" y="52868"/>
                </a:lnTo>
                <a:lnTo>
                  <a:pt x="193024" y="57073"/>
                </a:lnTo>
                <a:lnTo>
                  <a:pt x="185143" y="60869"/>
                </a:lnTo>
                <a:lnTo>
                  <a:pt x="176913" y="64392"/>
                </a:lnTo>
                <a:lnTo>
                  <a:pt x="169442" y="68724"/>
                </a:lnTo>
                <a:lnTo>
                  <a:pt x="162478" y="73597"/>
                </a:lnTo>
                <a:lnTo>
                  <a:pt x="155850" y="78831"/>
                </a:lnTo>
                <a:lnTo>
                  <a:pt x="148454" y="85296"/>
                </a:lnTo>
                <a:lnTo>
                  <a:pt x="140548" y="92582"/>
                </a:lnTo>
                <a:lnTo>
                  <a:pt x="123826" y="108616"/>
                </a:lnTo>
                <a:lnTo>
                  <a:pt x="106471" y="125664"/>
                </a:lnTo>
                <a:lnTo>
                  <a:pt x="98669" y="135370"/>
                </a:lnTo>
                <a:lnTo>
                  <a:pt x="91482" y="145809"/>
                </a:lnTo>
                <a:lnTo>
                  <a:pt x="84707" y="156737"/>
                </a:lnTo>
                <a:lnTo>
                  <a:pt x="77213" y="167991"/>
                </a:lnTo>
                <a:lnTo>
                  <a:pt x="60950" y="191079"/>
                </a:lnTo>
                <a:lnTo>
                  <a:pt x="53438" y="202792"/>
                </a:lnTo>
                <a:lnTo>
                  <a:pt x="46445" y="214570"/>
                </a:lnTo>
                <a:lnTo>
                  <a:pt x="39801" y="226390"/>
                </a:lnTo>
                <a:lnTo>
                  <a:pt x="34377" y="239231"/>
                </a:lnTo>
                <a:lnTo>
                  <a:pt x="29770" y="252753"/>
                </a:lnTo>
                <a:lnTo>
                  <a:pt x="25706" y="266729"/>
                </a:lnTo>
                <a:lnTo>
                  <a:pt x="21012" y="280014"/>
                </a:lnTo>
                <a:lnTo>
                  <a:pt x="15899" y="292840"/>
                </a:lnTo>
                <a:lnTo>
                  <a:pt x="10506" y="305359"/>
                </a:lnTo>
                <a:lnTo>
                  <a:pt x="6910" y="318667"/>
                </a:lnTo>
                <a:lnTo>
                  <a:pt x="4513" y="332499"/>
                </a:lnTo>
                <a:lnTo>
                  <a:pt x="2915" y="346682"/>
                </a:lnTo>
                <a:lnTo>
                  <a:pt x="1850" y="361097"/>
                </a:lnTo>
                <a:lnTo>
                  <a:pt x="1140" y="375669"/>
                </a:lnTo>
                <a:lnTo>
                  <a:pt x="350" y="405089"/>
                </a:lnTo>
                <a:lnTo>
                  <a:pt x="0" y="434701"/>
                </a:lnTo>
                <a:lnTo>
                  <a:pt x="1891" y="448550"/>
                </a:lnTo>
                <a:lnTo>
                  <a:pt x="5135" y="461752"/>
                </a:lnTo>
                <a:lnTo>
                  <a:pt x="9283" y="474523"/>
                </a:lnTo>
                <a:lnTo>
                  <a:pt x="13040" y="487004"/>
                </a:lnTo>
                <a:lnTo>
                  <a:pt x="19861" y="511457"/>
                </a:lnTo>
                <a:lnTo>
                  <a:pt x="24061" y="522541"/>
                </a:lnTo>
                <a:lnTo>
                  <a:pt x="28846" y="532908"/>
                </a:lnTo>
                <a:lnTo>
                  <a:pt x="39454" y="552363"/>
                </a:lnTo>
                <a:lnTo>
                  <a:pt x="50783" y="570932"/>
                </a:lnTo>
                <a:lnTo>
                  <a:pt x="57573" y="579058"/>
                </a:lnTo>
                <a:lnTo>
                  <a:pt x="65078" y="586461"/>
                </a:lnTo>
                <a:lnTo>
                  <a:pt x="73057" y="593380"/>
                </a:lnTo>
                <a:lnTo>
                  <a:pt x="81354" y="599977"/>
                </a:lnTo>
                <a:lnTo>
                  <a:pt x="89861" y="606360"/>
                </a:lnTo>
                <a:lnTo>
                  <a:pt x="98508" y="612599"/>
                </a:lnTo>
                <a:lnTo>
                  <a:pt x="107251" y="617751"/>
                </a:lnTo>
                <a:lnTo>
                  <a:pt x="116056" y="622177"/>
                </a:lnTo>
                <a:lnTo>
                  <a:pt x="124902" y="626121"/>
                </a:lnTo>
                <a:lnTo>
                  <a:pt x="134768" y="628750"/>
                </a:lnTo>
                <a:lnTo>
                  <a:pt x="145315" y="630502"/>
                </a:lnTo>
                <a:lnTo>
                  <a:pt x="156314" y="631671"/>
                </a:lnTo>
                <a:lnTo>
                  <a:pt x="166623" y="631458"/>
                </a:lnTo>
                <a:lnTo>
                  <a:pt x="176473" y="630323"/>
                </a:lnTo>
                <a:lnTo>
                  <a:pt x="186016" y="628575"/>
                </a:lnTo>
                <a:lnTo>
                  <a:pt x="195355" y="625425"/>
                </a:lnTo>
                <a:lnTo>
                  <a:pt x="204557" y="621340"/>
                </a:lnTo>
                <a:lnTo>
                  <a:pt x="213668" y="616633"/>
                </a:lnTo>
                <a:lnTo>
                  <a:pt x="222719" y="611510"/>
                </a:lnTo>
                <a:lnTo>
                  <a:pt x="231730" y="606111"/>
                </a:lnTo>
                <a:lnTo>
                  <a:pt x="240713" y="600526"/>
                </a:lnTo>
                <a:lnTo>
                  <a:pt x="250671" y="593827"/>
                </a:lnTo>
                <a:lnTo>
                  <a:pt x="272318" y="578447"/>
                </a:lnTo>
                <a:lnTo>
                  <a:pt x="282655" y="570178"/>
                </a:lnTo>
                <a:lnTo>
                  <a:pt x="292523" y="561689"/>
                </a:lnTo>
                <a:lnTo>
                  <a:pt x="302078" y="553053"/>
                </a:lnTo>
                <a:lnTo>
                  <a:pt x="311425" y="543327"/>
                </a:lnTo>
                <a:lnTo>
                  <a:pt x="320632" y="532874"/>
                </a:lnTo>
                <a:lnTo>
                  <a:pt x="329747" y="521937"/>
                </a:lnTo>
                <a:lnTo>
                  <a:pt x="337808" y="510677"/>
                </a:lnTo>
                <a:lnTo>
                  <a:pt x="345167" y="499200"/>
                </a:lnTo>
                <a:lnTo>
                  <a:pt x="352057" y="487581"/>
                </a:lnTo>
                <a:lnTo>
                  <a:pt x="358635" y="474874"/>
                </a:lnTo>
                <a:lnTo>
                  <a:pt x="365003" y="461443"/>
                </a:lnTo>
                <a:lnTo>
                  <a:pt x="377372" y="433288"/>
                </a:lnTo>
                <a:lnTo>
                  <a:pt x="389485" y="404239"/>
                </a:lnTo>
                <a:lnTo>
                  <a:pt x="394500" y="389547"/>
                </a:lnTo>
                <a:lnTo>
                  <a:pt x="398836" y="374792"/>
                </a:lnTo>
                <a:lnTo>
                  <a:pt x="412925" y="320205"/>
                </a:lnTo>
                <a:lnTo>
                  <a:pt x="415088" y="306736"/>
                </a:lnTo>
                <a:lnTo>
                  <a:pt x="416531" y="292795"/>
                </a:lnTo>
                <a:lnTo>
                  <a:pt x="417491" y="278540"/>
                </a:lnTo>
                <a:lnTo>
                  <a:pt x="418133" y="264076"/>
                </a:lnTo>
                <a:lnTo>
                  <a:pt x="418845" y="234776"/>
                </a:lnTo>
                <a:lnTo>
                  <a:pt x="418043" y="221009"/>
                </a:lnTo>
                <a:lnTo>
                  <a:pt x="416515" y="207863"/>
                </a:lnTo>
                <a:lnTo>
                  <a:pt x="414506" y="195130"/>
                </a:lnTo>
                <a:lnTo>
                  <a:pt x="413166" y="182673"/>
                </a:lnTo>
                <a:lnTo>
                  <a:pt x="412272" y="170399"/>
                </a:lnTo>
                <a:lnTo>
                  <a:pt x="411676" y="158247"/>
                </a:lnTo>
                <a:lnTo>
                  <a:pt x="410287" y="147170"/>
                </a:lnTo>
                <a:lnTo>
                  <a:pt x="408367" y="136808"/>
                </a:lnTo>
                <a:lnTo>
                  <a:pt x="403591" y="117358"/>
                </a:lnTo>
                <a:lnTo>
                  <a:pt x="398160" y="98792"/>
                </a:lnTo>
                <a:lnTo>
                  <a:pt x="389793" y="80618"/>
                </a:lnTo>
                <a:lnTo>
                  <a:pt x="380453" y="63612"/>
                </a:lnTo>
                <a:lnTo>
                  <a:pt x="369616" y="42881"/>
                </a:lnTo>
                <a:lnTo>
                  <a:pt x="363216" y="30302"/>
                </a:lnTo>
                <a:lnTo>
                  <a:pt x="354419" y="20744"/>
                </a:lnTo>
                <a:lnTo>
                  <a:pt x="344888" y="14180"/>
                </a:lnTo>
                <a:lnTo>
                  <a:pt x="333943" y="9493"/>
                </a:lnTo>
                <a:lnTo>
                  <a:pt x="321188"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38" name="SMARTInkAnnotation34"/>
          <p:cNvSpPr/>
          <p:nvPr/>
        </p:nvSpPr>
        <p:spPr>
          <a:xfrm>
            <a:off x="8180280" y="3367080"/>
            <a:ext cx="382680" cy="601560"/>
          </a:xfrm>
          <a:custGeom>
            <a:avLst/>
            <a:gdLst>
              <a:gd name="textAreaLeft" fmla="*/ 0 w 382680"/>
              <a:gd name="textAreaRight" fmla="*/ 383040 w 382680"/>
              <a:gd name="textAreaTop" fmla="*/ 0 h 601560"/>
              <a:gd name="textAreaBottom" fmla="*/ 601920 h 601560"/>
            </a:gdLst>
            <a:ahLst/>
            <a:rect l="textAreaLeft" t="textAreaTop" r="textAreaRight" b="textAreaBottom"/>
            <a:pathLst>
              <a:path w="383369" h="602672">
                <a:moveTo>
                  <a:pt x="222791" y="17824"/>
                </a:moveTo>
                <a:lnTo>
                  <a:pt x="209489" y="4522"/>
                </a:lnTo>
                <a:lnTo>
                  <a:pt x="206978" y="3003"/>
                </a:lnTo>
                <a:lnTo>
                  <a:pt x="201542" y="1315"/>
                </a:lnTo>
                <a:lnTo>
                  <a:pt x="189968" y="232"/>
                </a:lnTo>
                <a:lnTo>
                  <a:pt x="178127" y="17"/>
                </a:lnTo>
                <a:lnTo>
                  <a:pt x="175156" y="0"/>
                </a:lnTo>
                <a:lnTo>
                  <a:pt x="166563" y="2626"/>
                </a:lnTo>
                <a:lnTo>
                  <a:pt x="157122" y="7101"/>
                </a:lnTo>
                <a:lnTo>
                  <a:pt x="145236" y="15198"/>
                </a:lnTo>
                <a:lnTo>
                  <a:pt x="135074" y="20956"/>
                </a:lnTo>
                <a:lnTo>
                  <a:pt x="123944" y="29469"/>
                </a:lnTo>
                <a:lnTo>
                  <a:pt x="112383" y="39867"/>
                </a:lnTo>
                <a:lnTo>
                  <a:pt x="100630" y="51103"/>
                </a:lnTo>
                <a:lnTo>
                  <a:pt x="82857" y="68585"/>
                </a:lnTo>
                <a:lnTo>
                  <a:pt x="70971" y="83048"/>
                </a:lnTo>
                <a:lnTo>
                  <a:pt x="59074" y="99399"/>
                </a:lnTo>
                <a:lnTo>
                  <a:pt x="47171" y="116587"/>
                </a:lnTo>
                <a:lnTo>
                  <a:pt x="37913" y="134149"/>
                </a:lnTo>
                <a:lnTo>
                  <a:pt x="29498" y="152868"/>
                </a:lnTo>
                <a:lnTo>
                  <a:pt x="19143" y="174417"/>
                </a:lnTo>
                <a:lnTo>
                  <a:pt x="15589" y="185719"/>
                </a:lnTo>
                <a:lnTo>
                  <a:pt x="13219" y="197223"/>
                </a:lnTo>
                <a:lnTo>
                  <a:pt x="11639" y="208861"/>
                </a:lnTo>
                <a:lnTo>
                  <a:pt x="9594" y="220588"/>
                </a:lnTo>
                <a:lnTo>
                  <a:pt x="7238" y="232375"/>
                </a:lnTo>
                <a:lnTo>
                  <a:pt x="4675" y="244202"/>
                </a:lnTo>
                <a:lnTo>
                  <a:pt x="2967" y="256055"/>
                </a:lnTo>
                <a:lnTo>
                  <a:pt x="1827" y="267926"/>
                </a:lnTo>
                <a:lnTo>
                  <a:pt x="1068" y="279809"/>
                </a:lnTo>
                <a:lnTo>
                  <a:pt x="562" y="291700"/>
                </a:lnTo>
                <a:lnTo>
                  <a:pt x="0" y="315495"/>
                </a:lnTo>
                <a:lnTo>
                  <a:pt x="841" y="327396"/>
                </a:lnTo>
                <a:lnTo>
                  <a:pt x="2395" y="339299"/>
                </a:lnTo>
                <a:lnTo>
                  <a:pt x="4423" y="351203"/>
                </a:lnTo>
                <a:lnTo>
                  <a:pt x="5776" y="363108"/>
                </a:lnTo>
                <a:lnTo>
                  <a:pt x="6677" y="375014"/>
                </a:lnTo>
                <a:lnTo>
                  <a:pt x="7278" y="386919"/>
                </a:lnTo>
                <a:lnTo>
                  <a:pt x="8670" y="398825"/>
                </a:lnTo>
                <a:lnTo>
                  <a:pt x="10591" y="410731"/>
                </a:lnTo>
                <a:lnTo>
                  <a:pt x="12864" y="422637"/>
                </a:lnTo>
                <a:lnTo>
                  <a:pt x="16364" y="434543"/>
                </a:lnTo>
                <a:lnTo>
                  <a:pt x="20681" y="446449"/>
                </a:lnTo>
                <a:lnTo>
                  <a:pt x="25543" y="458356"/>
                </a:lnTo>
                <a:lnTo>
                  <a:pt x="33592" y="479522"/>
                </a:lnTo>
                <a:lnTo>
                  <a:pt x="37127" y="489334"/>
                </a:lnTo>
                <a:lnTo>
                  <a:pt x="41469" y="498852"/>
                </a:lnTo>
                <a:lnTo>
                  <a:pt x="51584" y="517364"/>
                </a:lnTo>
                <a:lnTo>
                  <a:pt x="58051" y="526468"/>
                </a:lnTo>
                <a:lnTo>
                  <a:pt x="65340" y="535514"/>
                </a:lnTo>
                <a:lnTo>
                  <a:pt x="73175" y="544521"/>
                </a:lnTo>
                <a:lnTo>
                  <a:pt x="80383" y="552510"/>
                </a:lnTo>
                <a:lnTo>
                  <a:pt x="93684" y="566679"/>
                </a:lnTo>
                <a:lnTo>
                  <a:pt x="101000" y="573235"/>
                </a:lnTo>
                <a:lnTo>
                  <a:pt x="108856" y="579590"/>
                </a:lnTo>
                <a:lnTo>
                  <a:pt x="117068" y="585811"/>
                </a:lnTo>
                <a:lnTo>
                  <a:pt x="124528" y="589959"/>
                </a:lnTo>
                <a:lnTo>
                  <a:pt x="131487" y="592724"/>
                </a:lnTo>
                <a:lnTo>
                  <a:pt x="138109" y="594567"/>
                </a:lnTo>
                <a:lnTo>
                  <a:pt x="144509" y="596788"/>
                </a:lnTo>
                <a:lnTo>
                  <a:pt x="150759" y="599261"/>
                </a:lnTo>
                <a:lnTo>
                  <a:pt x="156911" y="601902"/>
                </a:lnTo>
                <a:lnTo>
                  <a:pt x="163988" y="602671"/>
                </a:lnTo>
                <a:lnTo>
                  <a:pt x="171684" y="602191"/>
                </a:lnTo>
                <a:lnTo>
                  <a:pt x="179790" y="600878"/>
                </a:lnTo>
                <a:lnTo>
                  <a:pt x="187179" y="600004"/>
                </a:lnTo>
                <a:lnTo>
                  <a:pt x="194089" y="599420"/>
                </a:lnTo>
                <a:lnTo>
                  <a:pt x="200680" y="599031"/>
                </a:lnTo>
                <a:lnTo>
                  <a:pt x="207059" y="596788"/>
                </a:lnTo>
                <a:lnTo>
                  <a:pt x="213295" y="593308"/>
                </a:lnTo>
                <a:lnTo>
                  <a:pt x="224525" y="585142"/>
                </a:lnTo>
                <a:lnTo>
                  <a:pt x="232823" y="578205"/>
                </a:lnTo>
                <a:lnTo>
                  <a:pt x="242462" y="566523"/>
                </a:lnTo>
                <a:lnTo>
                  <a:pt x="253362" y="552402"/>
                </a:lnTo>
                <a:lnTo>
                  <a:pt x="264821" y="539510"/>
                </a:lnTo>
                <a:lnTo>
                  <a:pt x="276528" y="524521"/>
                </a:lnTo>
                <a:lnTo>
                  <a:pt x="288346" y="507937"/>
                </a:lnTo>
                <a:lnTo>
                  <a:pt x="300214" y="490644"/>
                </a:lnTo>
                <a:lnTo>
                  <a:pt x="306157" y="480873"/>
                </a:lnTo>
                <a:lnTo>
                  <a:pt x="312104" y="470391"/>
                </a:lnTo>
                <a:lnTo>
                  <a:pt x="318051" y="459434"/>
                </a:lnTo>
                <a:lnTo>
                  <a:pt x="323009" y="448161"/>
                </a:lnTo>
                <a:lnTo>
                  <a:pt x="327307" y="436676"/>
                </a:lnTo>
                <a:lnTo>
                  <a:pt x="331165" y="425051"/>
                </a:lnTo>
                <a:lnTo>
                  <a:pt x="335719" y="413332"/>
                </a:lnTo>
                <a:lnTo>
                  <a:pt x="340741" y="401551"/>
                </a:lnTo>
                <a:lnTo>
                  <a:pt x="346073" y="389728"/>
                </a:lnTo>
                <a:lnTo>
                  <a:pt x="350619" y="377877"/>
                </a:lnTo>
                <a:lnTo>
                  <a:pt x="354643" y="366008"/>
                </a:lnTo>
                <a:lnTo>
                  <a:pt x="358318" y="354126"/>
                </a:lnTo>
                <a:lnTo>
                  <a:pt x="365046" y="330341"/>
                </a:lnTo>
                <a:lnTo>
                  <a:pt x="377450" y="282734"/>
                </a:lnTo>
                <a:lnTo>
                  <a:pt x="379476" y="270829"/>
                </a:lnTo>
                <a:lnTo>
                  <a:pt x="380825" y="258924"/>
                </a:lnTo>
                <a:lnTo>
                  <a:pt x="381726" y="247018"/>
                </a:lnTo>
                <a:lnTo>
                  <a:pt x="382326" y="236105"/>
                </a:lnTo>
                <a:lnTo>
                  <a:pt x="382993" y="216041"/>
                </a:lnTo>
                <a:lnTo>
                  <a:pt x="383368" y="188011"/>
                </a:lnTo>
                <a:lnTo>
                  <a:pt x="380810" y="172507"/>
                </a:lnTo>
                <a:lnTo>
                  <a:pt x="376367" y="158010"/>
                </a:lnTo>
                <a:lnTo>
                  <a:pt x="371083" y="141645"/>
                </a:lnTo>
                <a:lnTo>
                  <a:pt x="368073" y="127095"/>
                </a:lnTo>
                <a:lnTo>
                  <a:pt x="365744" y="114014"/>
                </a:lnTo>
                <a:lnTo>
                  <a:pt x="358855" y="95493"/>
                </a:lnTo>
                <a:lnTo>
                  <a:pt x="350529" y="78430"/>
                </a:lnTo>
                <a:lnTo>
                  <a:pt x="338828" y="63273"/>
                </a:lnTo>
                <a:lnTo>
                  <a:pt x="326962" y="50724"/>
                </a:lnTo>
                <a:lnTo>
                  <a:pt x="312088" y="35684"/>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39" name="SMARTInkAnnotation35"/>
          <p:cNvSpPr/>
          <p:nvPr/>
        </p:nvSpPr>
        <p:spPr>
          <a:xfrm>
            <a:off x="8572680" y="3348000"/>
            <a:ext cx="339480" cy="677880"/>
          </a:xfrm>
          <a:custGeom>
            <a:avLst/>
            <a:gdLst>
              <a:gd name="textAreaLeft" fmla="*/ 0 w 339480"/>
              <a:gd name="textAreaRight" fmla="*/ 339840 w 339480"/>
              <a:gd name="textAreaTop" fmla="*/ 0 h 677880"/>
              <a:gd name="textAreaBottom" fmla="*/ 678240 h 677880"/>
            </a:gdLst>
            <a:ahLst/>
            <a:rect l="textAreaLeft" t="textAreaTop" r="textAreaRight" b="textAreaBottom"/>
            <a:pathLst>
              <a:path w="339084" h="676870">
                <a:moveTo>
                  <a:pt x="133822" y="17860"/>
                </a:moveTo>
                <a:lnTo>
                  <a:pt x="138967" y="17860"/>
                </a:lnTo>
                <a:lnTo>
                  <a:pt x="134081" y="17860"/>
                </a:lnTo>
                <a:lnTo>
                  <a:pt x="129159" y="22600"/>
                </a:lnTo>
                <a:lnTo>
                  <a:pt x="126745" y="23997"/>
                </a:lnTo>
                <a:lnTo>
                  <a:pt x="121416" y="25548"/>
                </a:lnTo>
                <a:lnTo>
                  <a:pt x="119598" y="26954"/>
                </a:lnTo>
                <a:lnTo>
                  <a:pt x="118386" y="28883"/>
                </a:lnTo>
                <a:lnTo>
                  <a:pt x="117579" y="31162"/>
                </a:lnTo>
                <a:lnTo>
                  <a:pt x="114035" y="36339"/>
                </a:lnTo>
                <a:lnTo>
                  <a:pt x="109153" y="42940"/>
                </a:lnTo>
                <a:lnTo>
                  <a:pt x="100825" y="56820"/>
                </a:lnTo>
                <a:lnTo>
                  <a:pt x="95014" y="64280"/>
                </a:lnTo>
                <a:lnTo>
                  <a:pt x="93067" y="68650"/>
                </a:lnTo>
                <a:lnTo>
                  <a:pt x="89335" y="84282"/>
                </a:lnTo>
                <a:lnTo>
                  <a:pt x="82386" y="101481"/>
                </a:lnTo>
                <a:lnTo>
                  <a:pt x="74044" y="119145"/>
                </a:lnTo>
                <a:lnTo>
                  <a:pt x="59375" y="148839"/>
                </a:lnTo>
                <a:lnTo>
                  <a:pt x="53441" y="163386"/>
                </a:lnTo>
                <a:lnTo>
                  <a:pt x="47495" y="179772"/>
                </a:lnTo>
                <a:lnTo>
                  <a:pt x="14760" y="276834"/>
                </a:lnTo>
                <a:lnTo>
                  <a:pt x="11453" y="294686"/>
                </a:lnTo>
                <a:lnTo>
                  <a:pt x="8991" y="312542"/>
                </a:lnTo>
                <a:lnTo>
                  <a:pt x="4589" y="330400"/>
                </a:lnTo>
                <a:lnTo>
                  <a:pt x="1971" y="350904"/>
                </a:lnTo>
                <a:lnTo>
                  <a:pt x="1273" y="361929"/>
                </a:lnTo>
                <a:lnTo>
                  <a:pt x="497" y="382115"/>
                </a:lnTo>
                <a:lnTo>
                  <a:pt x="61" y="412860"/>
                </a:lnTo>
                <a:lnTo>
                  <a:pt x="0" y="424068"/>
                </a:lnTo>
                <a:lnTo>
                  <a:pt x="2577" y="444460"/>
                </a:lnTo>
                <a:lnTo>
                  <a:pt x="7031" y="463444"/>
                </a:lnTo>
                <a:lnTo>
                  <a:pt x="12317" y="481803"/>
                </a:lnTo>
                <a:lnTo>
                  <a:pt x="20871" y="508874"/>
                </a:lnTo>
                <a:lnTo>
                  <a:pt x="29690" y="535747"/>
                </a:lnTo>
                <a:lnTo>
                  <a:pt x="38262" y="553625"/>
                </a:lnTo>
                <a:lnTo>
                  <a:pt x="47695" y="570502"/>
                </a:lnTo>
                <a:lnTo>
                  <a:pt x="55195" y="584616"/>
                </a:lnTo>
                <a:lnTo>
                  <a:pt x="64481" y="597504"/>
                </a:lnTo>
                <a:lnTo>
                  <a:pt x="69736" y="603719"/>
                </a:lnTo>
                <a:lnTo>
                  <a:pt x="75222" y="610839"/>
                </a:lnTo>
                <a:lnTo>
                  <a:pt x="80865" y="618562"/>
                </a:lnTo>
                <a:lnTo>
                  <a:pt x="86611" y="626687"/>
                </a:lnTo>
                <a:lnTo>
                  <a:pt x="92427" y="633097"/>
                </a:lnTo>
                <a:lnTo>
                  <a:pt x="98288" y="638361"/>
                </a:lnTo>
                <a:lnTo>
                  <a:pt x="104179" y="642863"/>
                </a:lnTo>
                <a:lnTo>
                  <a:pt x="110091" y="646857"/>
                </a:lnTo>
                <a:lnTo>
                  <a:pt x="116017" y="650511"/>
                </a:lnTo>
                <a:lnTo>
                  <a:pt x="121953" y="653940"/>
                </a:lnTo>
                <a:lnTo>
                  <a:pt x="133839" y="660395"/>
                </a:lnTo>
                <a:lnTo>
                  <a:pt x="157638" y="672624"/>
                </a:lnTo>
                <a:lnTo>
                  <a:pt x="163590" y="674635"/>
                </a:lnTo>
                <a:lnTo>
                  <a:pt x="169542" y="675976"/>
                </a:lnTo>
                <a:lnTo>
                  <a:pt x="175494" y="676869"/>
                </a:lnTo>
                <a:lnTo>
                  <a:pt x="181448" y="676473"/>
                </a:lnTo>
                <a:lnTo>
                  <a:pt x="187400" y="675216"/>
                </a:lnTo>
                <a:lnTo>
                  <a:pt x="193354" y="673386"/>
                </a:lnTo>
                <a:lnTo>
                  <a:pt x="199307" y="672167"/>
                </a:lnTo>
                <a:lnTo>
                  <a:pt x="205259" y="671354"/>
                </a:lnTo>
                <a:lnTo>
                  <a:pt x="211213" y="670811"/>
                </a:lnTo>
                <a:lnTo>
                  <a:pt x="217166" y="668465"/>
                </a:lnTo>
                <a:lnTo>
                  <a:pt x="223119" y="664917"/>
                </a:lnTo>
                <a:lnTo>
                  <a:pt x="229073" y="660567"/>
                </a:lnTo>
                <a:lnTo>
                  <a:pt x="238332" y="653088"/>
                </a:lnTo>
                <a:lnTo>
                  <a:pt x="246747" y="645464"/>
                </a:lnTo>
                <a:lnTo>
                  <a:pt x="257102" y="635462"/>
                </a:lnTo>
                <a:lnTo>
                  <a:pt x="265673" y="624401"/>
                </a:lnTo>
                <a:lnTo>
                  <a:pt x="276077" y="607018"/>
                </a:lnTo>
                <a:lnTo>
                  <a:pt x="285442" y="586654"/>
                </a:lnTo>
                <a:lnTo>
                  <a:pt x="292490" y="570298"/>
                </a:lnTo>
                <a:lnTo>
                  <a:pt x="302238" y="553107"/>
                </a:lnTo>
                <a:lnTo>
                  <a:pt x="307893" y="535544"/>
                </a:lnTo>
                <a:lnTo>
                  <a:pt x="311397" y="516825"/>
                </a:lnTo>
                <a:lnTo>
                  <a:pt x="316263" y="495276"/>
                </a:lnTo>
                <a:lnTo>
                  <a:pt x="324580" y="460831"/>
                </a:lnTo>
                <a:lnTo>
                  <a:pt x="327744" y="439962"/>
                </a:lnTo>
                <a:lnTo>
                  <a:pt x="330143" y="419773"/>
                </a:lnTo>
                <a:lnTo>
                  <a:pt x="332172" y="408833"/>
                </a:lnTo>
                <a:lnTo>
                  <a:pt x="334516" y="397571"/>
                </a:lnTo>
                <a:lnTo>
                  <a:pt x="336078" y="386095"/>
                </a:lnTo>
                <a:lnTo>
                  <a:pt x="337121" y="374475"/>
                </a:lnTo>
                <a:lnTo>
                  <a:pt x="337816" y="362759"/>
                </a:lnTo>
                <a:lnTo>
                  <a:pt x="338588" y="339159"/>
                </a:lnTo>
                <a:lnTo>
                  <a:pt x="339083" y="291670"/>
                </a:lnTo>
                <a:lnTo>
                  <a:pt x="338131" y="279775"/>
                </a:lnTo>
                <a:lnTo>
                  <a:pt x="336504" y="267876"/>
                </a:lnTo>
                <a:lnTo>
                  <a:pt x="334428" y="255975"/>
                </a:lnTo>
                <a:lnTo>
                  <a:pt x="333044" y="245064"/>
                </a:lnTo>
                <a:lnTo>
                  <a:pt x="331506" y="225004"/>
                </a:lnTo>
                <a:lnTo>
                  <a:pt x="330104" y="214495"/>
                </a:lnTo>
                <a:lnTo>
                  <a:pt x="328176" y="203520"/>
                </a:lnTo>
                <a:lnTo>
                  <a:pt x="325900" y="192235"/>
                </a:lnTo>
                <a:lnTo>
                  <a:pt x="320724" y="171758"/>
                </a:lnTo>
                <a:lnTo>
                  <a:pt x="314124" y="152736"/>
                </a:lnTo>
                <a:lnTo>
                  <a:pt x="304576" y="134359"/>
                </a:lnTo>
                <a:lnTo>
                  <a:pt x="292785" y="112019"/>
                </a:lnTo>
                <a:lnTo>
                  <a:pt x="283517" y="96419"/>
                </a:lnTo>
                <a:lnTo>
                  <a:pt x="273775" y="80557"/>
                </a:lnTo>
                <a:lnTo>
                  <a:pt x="266138" y="66892"/>
                </a:lnTo>
                <a:lnTo>
                  <a:pt x="256791" y="54204"/>
                </a:lnTo>
                <a:lnTo>
                  <a:pt x="247014" y="42942"/>
                </a:lnTo>
                <a:lnTo>
                  <a:pt x="239362" y="34630"/>
                </a:lnTo>
                <a:lnTo>
                  <a:pt x="230007" y="27628"/>
                </a:lnTo>
                <a:lnTo>
                  <a:pt x="224735" y="24372"/>
                </a:lnTo>
                <a:lnTo>
                  <a:pt x="219235" y="20217"/>
                </a:lnTo>
                <a:lnTo>
                  <a:pt x="213585" y="15463"/>
                </a:lnTo>
                <a:lnTo>
                  <a:pt x="196330"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40" name="SMARTInkAnnotation36"/>
          <p:cNvSpPr/>
          <p:nvPr/>
        </p:nvSpPr>
        <p:spPr>
          <a:xfrm>
            <a:off x="8867880" y="3419640"/>
            <a:ext cx="204840" cy="642600"/>
          </a:xfrm>
          <a:custGeom>
            <a:avLst/>
            <a:gdLst>
              <a:gd name="textAreaLeft" fmla="*/ 0 w 204840"/>
              <a:gd name="textAreaRight" fmla="*/ 205200 w 204840"/>
              <a:gd name="textAreaTop" fmla="*/ 0 h 642600"/>
              <a:gd name="textAreaBottom" fmla="*/ 642960 h 642600"/>
            </a:gdLst>
            <a:ahLst/>
            <a:rect l="textAreaLeft" t="textAreaTop" r="textAreaRight" b="textAreaBottom"/>
            <a:pathLst>
              <a:path w="205384" h="642901">
                <a:moveTo>
                  <a:pt x="160735" y="0"/>
                </a:moveTo>
                <a:lnTo>
                  <a:pt x="160735" y="29888"/>
                </a:lnTo>
                <a:lnTo>
                  <a:pt x="161728" y="32824"/>
                </a:lnTo>
                <a:lnTo>
                  <a:pt x="165476" y="38732"/>
                </a:lnTo>
                <a:lnTo>
                  <a:pt x="167803" y="47310"/>
                </a:lnTo>
                <a:lnTo>
                  <a:pt x="169298" y="64246"/>
                </a:lnTo>
                <a:lnTo>
                  <a:pt x="170411" y="67636"/>
                </a:lnTo>
                <a:lnTo>
                  <a:pt x="174296" y="74047"/>
                </a:lnTo>
                <a:lnTo>
                  <a:pt x="176683" y="82850"/>
                </a:lnTo>
                <a:lnTo>
                  <a:pt x="177320" y="87975"/>
                </a:lnTo>
                <a:lnTo>
                  <a:pt x="180674" y="96316"/>
                </a:lnTo>
                <a:lnTo>
                  <a:pt x="182957" y="99929"/>
                </a:lnTo>
                <a:lnTo>
                  <a:pt x="185494" y="109236"/>
                </a:lnTo>
                <a:lnTo>
                  <a:pt x="187123" y="126639"/>
                </a:lnTo>
                <a:lnTo>
                  <a:pt x="187405" y="141261"/>
                </a:lnTo>
                <a:lnTo>
                  <a:pt x="187489" y="158161"/>
                </a:lnTo>
                <a:lnTo>
                  <a:pt x="188493" y="162988"/>
                </a:lnTo>
                <a:lnTo>
                  <a:pt x="193653" y="175513"/>
                </a:lnTo>
                <a:lnTo>
                  <a:pt x="195623" y="191351"/>
                </a:lnTo>
                <a:lnTo>
                  <a:pt x="196208" y="208611"/>
                </a:lnTo>
                <a:lnTo>
                  <a:pt x="196444" y="255994"/>
                </a:lnTo>
                <a:lnTo>
                  <a:pt x="199095" y="267895"/>
                </a:lnTo>
                <a:lnTo>
                  <a:pt x="202588" y="279799"/>
                </a:lnTo>
                <a:lnTo>
                  <a:pt x="204556" y="297657"/>
                </a:lnTo>
                <a:lnTo>
                  <a:pt x="205138" y="315515"/>
                </a:lnTo>
                <a:lnTo>
                  <a:pt x="205383" y="510646"/>
                </a:lnTo>
                <a:lnTo>
                  <a:pt x="202737" y="524941"/>
                </a:lnTo>
                <a:lnTo>
                  <a:pt x="199246" y="537908"/>
                </a:lnTo>
                <a:lnTo>
                  <a:pt x="196288" y="555374"/>
                </a:lnTo>
                <a:lnTo>
                  <a:pt x="190562" y="568265"/>
                </a:lnTo>
                <a:lnTo>
                  <a:pt x="187432" y="583219"/>
                </a:lnTo>
                <a:lnTo>
                  <a:pt x="183184" y="590930"/>
                </a:lnTo>
                <a:lnTo>
                  <a:pt x="177989" y="600310"/>
                </a:lnTo>
                <a:lnTo>
                  <a:pt x="172372" y="610101"/>
                </a:lnTo>
                <a:lnTo>
                  <a:pt x="166568" y="617760"/>
                </a:lnTo>
                <a:lnTo>
                  <a:pt x="160682" y="624471"/>
                </a:lnTo>
                <a:lnTo>
                  <a:pt x="157723" y="627650"/>
                </a:lnTo>
                <a:lnTo>
                  <a:pt x="154758" y="629769"/>
                </a:lnTo>
                <a:lnTo>
                  <a:pt x="148819" y="632124"/>
                </a:lnTo>
                <a:lnTo>
                  <a:pt x="142871" y="635816"/>
                </a:lnTo>
                <a:lnTo>
                  <a:pt x="139896" y="638190"/>
                </a:lnTo>
                <a:lnTo>
                  <a:pt x="136920" y="639773"/>
                </a:lnTo>
                <a:lnTo>
                  <a:pt x="130968" y="641530"/>
                </a:lnTo>
                <a:lnTo>
                  <a:pt x="125016" y="642313"/>
                </a:lnTo>
                <a:lnTo>
                  <a:pt x="119063" y="642659"/>
                </a:lnTo>
                <a:lnTo>
                  <a:pt x="113110" y="642814"/>
                </a:lnTo>
                <a:lnTo>
                  <a:pt x="99440" y="642900"/>
                </a:lnTo>
                <a:lnTo>
                  <a:pt x="95066" y="641921"/>
                </a:lnTo>
                <a:lnTo>
                  <a:pt x="91159" y="640275"/>
                </a:lnTo>
                <a:lnTo>
                  <a:pt x="87562" y="638186"/>
                </a:lnTo>
                <a:lnTo>
                  <a:pt x="84171" y="636794"/>
                </a:lnTo>
                <a:lnTo>
                  <a:pt x="77759" y="635246"/>
                </a:lnTo>
                <a:lnTo>
                  <a:pt x="71601" y="631912"/>
                </a:lnTo>
                <a:lnTo>
                  <a:pt x="65558" y="627123"/>
                </a:lnTo>
                <a:lnTo>
                  <a:pt x="59565" y="621688"/>
                </a:lnTo>
                <a:lnTo>
                  <a:pt x="53594" y="613319"/>
                </a:lnTo>
                <a:lnTo>
                  <a:pt x="50611" y="608309"/>
                </a:lnTo>
                <a:lnTo>
                  <a:pt x="46640" y="603977"/>
                </a:lnTo>
                <a:lnTo>
                  <a:pt x="42008" y="600097"/>
                </a:lnTo>
                <a:lnTo>
                  <a:pt x="36935" y="596517"/>
                </a:lnTo>
                <a:lnTo>
                  <a:pt x="32561" y="593139"/>
                </a:lnTo>
                <a:lnTo>
                  <a:pt x="28653" y="589894"/>
                </a:lnTo>
                <a:lnTo>
                  <a:pt x="25055" y="586740"/>
                </a:lnTo>
                <a:lnTo>
                  <a:pt x="21665" y="583644"/>
                </a:lnTo>
                <a:lnTo>
                  <a:pt x="15251" y="577559"/>
                </a:lnTo>
                <a:lnTo>
                  <a:pt x="13144" y="573555"/>
                </a:lnTo>
                <a:lnTo>
                  <a:pt x="9486" y="556655"/>
                </a:lnTo>
                <a:lnTo>
                  <a:pt x="6532" y="552334"/>
                </a:lnTo>
                <a:lnTo>
                  <a:pt x="0" y="544711"/>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41" name="SMARTInkAnnotation37"/>
          <p:cNvSpPr/>
          <p:nvPr/>
        </p:nvSpPr>
        <p:spPr>
          <a:xfrm>
            <a:off x="8920080" y="340200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125017" h="8821">
                <a:moveTo>
                  <a:pt x="0" y="8820"/>
                </a:moveTo>
                <a:lnTo>
                  <a:pt x="13303" y="8820"/>
                </a:lnTo>
                <a:lnTo>
                  <a:pt x="15814" y="7828"/>
                </a:lnTo>
                <a:lnTo>
                  <a:pt x="18481" y="6175"/>
                </a:lnTo>
                <a:lnTo>
                  <a:pt x="21250" y="4079"/>
                </a:lnTo>
                <a:lnTo>
                  <a:pt x="24088" y="2683"/>
                </a:lnTo>
                <a:lnTo>
                  <a:pt x="26974" y="1752"/>
                </a:lnTo>
                <a:lnTo>
                  <a:pt x="29889" y="1132"/>
                </a:lnTo>
                <a:lnTo>
                  <a:pt x="32825" y="718"/>
                </a:lnTo>
                <a:lnTo>
                  <a:pt x="35774" y="442"/>
                </a:lnTo>
                <a:lnTo>
                  <a:pt x="38732" y="258"/>
                </a:lnTo>
                <a:lnTo>
                  <a:pt x="49957" y="54"/>
                </a:lnTo>
                <a:lnTo>
                  <a:pt x="57118" y="0"/>
                </a:lnTo>
                <a:lnTo>
                  <a:pt x="63875" y="955"/>
                </a:lnTo>
                <a:lnTo>
                  <a:pt x="70364" y="2585"/>
                </a:lnTo>
                <a:lnTo>
                  <a:pt x="76675" y="4663"/>
                </a:lnTo>
                <a:lnTo>
                  <a:pt x="82867" y="6049"/>
                </a:lnTo>
                <a:lnTo>
                  <a:pt x="88979" y="6973"/>
                </a:lnTo>
                <a:lnTo>
                  <a:pt x="95039" y="7588"/>
                </a:lnTo>
                <a:lnTo>
                  <a:pt x="101062" y="7999"/>
                </a:lnTo>
                <a:lnTo>
                  <a:pt x="107064" y="8273"/>
                </a:lnTo>
                <a:lnTo>
                  <a:pt x="125016" y="8820"/>
                </a:lnTo>
              </a:path>
            </a:pathLst>
          </a:custGeom>
          <a:noFill/>
          <a:ln w="38160">
            <a:solidFill>
              <a:srgbClr val="000000"/>
            </a:solidFill>
            <a:roun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Constantia"/>
            </a:endParaRPr>
          </a:p>
        </p:txBody>
      </p:sp>
      <p:sp>
        <p:nvSpPr>
          <p:cNvPr id="242" name="SMARTInkAnnotation38"/>
          <p:cNvSpPr/>
          <p:nvPr/>
        </p:nvSpPr>
        <p:spPr>
          <a:xfrm>
            <a:off x="9090000" y="3411360"/>
            <a:ext cx="9720" cy="8280"/>
          </a:xfrm>
          <a:custGeom>
            <a:avLst/>
            <a:gdLst>
              <a:gd name="textAreaLeft" fmla="*/ 0 w 9720"/>
              <a:gd name="textAreaRight" fmla="*/ 10080 w 9720"/>
              <a:gd name="textAreaTop" fmla="*/ 0 h 8280"/>
              <a:gd name="textAreaBottom" fmla="*/ 8640 h 8280"/>
            </a:gdLst>
            <a:ahLst/>
            <a:rect l="textAreaLeft" t="textAreaTop" r="textAreaRight" b="textAreaBottom"/>
            <a:pathLst>
              <a:path w="8931" h="8931">
                <a:moveTo>
                  <a:pt x="0" y="8930"/>
                </a:moveTo>
                <a:lnTo>
                  <a:pt x="0" y="33"/>
                </a:lnTo>
                <a:lnTo>
                  <a:pt x="8930" y="0"/>
                </a:lnTo>
              </a:path>
            </a:pathLst>
          </a:custGeom>
          <a:noFill/>
          <a:ln w="38160">
            <a:solidFill>
              <a:srgbClr val="000000"/>
            </a:solidFill>
            <a:round/>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Constantia"/>
            </a:endParaRPr>
          </a:p>
        </p:txBody>
      </p:sp>
      <p:sp>
        <p:nvSpPr>
          <p:cNvPr id="243" name="SMARTInkAnnotation39"/>
          <p:cNvSpPr/>
          <p:nvPr/>
        </p:nvSpPr>
        <p:spPr>
          <a:xfrm>
            <a:off x="8974080" y="3394080"/>
            <a:ext cx="98640" cy="17280"/>
          </a:xfrm>
          <a:custGeom>
            <a:avLst/>
            <a:gdLst>
              <a:gd name="textAreaLeft" fmla="*/ 0 w 98640"/>
              <a:gd name="textAreaRight" fmla="*/ 99000 w 98640"/>
              <a:gd name="textAreaTop" fmla="*/ 0 h 17280"/>
              <a:gd name="textAreaBottom" fmla="*/ 17640 h 17280"/>
            </a:gdLst>
            <a:ahLst/>
            <a:rect l="textAreaLeft" t="textAreaTop" r="textAreaRight" b="textAreaBottom"/>
            <a:pathLst>
              <a:path w="98228" h="17828">
                <a:moveTo>
                  <a:pt x="98227" y="17827"/>
                </a:moveTo>
                <a:lnTo>
                  <a:pt x="93486" y="13086"/>
                </a:lnTo>
                <a:lnTo>
                  <a:pt x="91099" y="11690"/>
                </a:lnTo>
                <a:lnTo>
                  <a:pt x="88514" y="10759"/>
                </a:lnTo>
                <a:lnTo>
                  <a:pt x="85798" y="10139"/>
                </a:lnTo>
                <a:lnTo>
                  <a:pt x="82995" y="9725"/>
                </a:lnTo>
                <a:lnTo>
                  <a:pt x="80135" y="9449"/>
                </a:lnTo>
                <a:lnTo>
                  <a:pt x="77236" y="9265"/>
                </a:lnTo>
                <a:lnTo>
                  <a:pt x="71369" y="9061"/>
                </a:lnTo>
                <a:lnTo>
                  <a:pt x="64259" y="8930"/>
                </a:lnTo>
                <a:lnTo>
                  <a:pt x="42545" y="8900"/>
                </a:lnTo>
                <a:lnTo>
                  <a:pt x="39278" y="7907"/>
                </a:lnTo>
                <a:lnTo>
                  <a:pt x="36108" y="6253"/>
                </a:lnTo>
                <a:lnTo>
                  <a:pt x="28630" y="1210"/>
                </a:lnTo>
                <a:lnTo>
                  <a:pt x="27024" y="795"/>
                </a:lnTo>
                <a:lnTo>
                  <a:pt x="24961" y="520"/>
                </a:lnTo>
                <a:lnTo>
                  <a:pt x="22594" y="336"/>
                </a:lnTo>
                <a:lnTo>
                  <a:pt x="20023" y="213"/>
                </a:lnTo>
                <a:lnTo>
                  <a:pt x="10587" y="0"/>
                </a:lnTo>
                <a:lnTo>
                  <a:pt x="9043" y="982"/>
                </a:lnTo>
                <a:lnTo>
                  <a:pt x="7021" y="2628"/>
                </a:lnTo>
                <a:lnTo>
                  <a:pt x="0" y="8897"/>
                </a:lnTo>
              </a:path>
            </a:pathLst>
          </a:custGeom>
          <a:noFill/>
          <a:ln w="38160">
            <a:solidFill>
              <a:srgbClr val="00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Constantia"/>
            </a:endParaRPr>
          </a:p>
        </p:txBody>
      </p:sp>
      <p:sp>
        <p:nvSpPr>
          <p:cNvPr id="244" name="SMARTInkAnnotation40"/>
          <p:cNvSpPr/>
          <p:nvPr/>
        </p:nvSpPr>
        <p:spPr>
          <a:xfrm>
            <a:off x="517680" y="4062240"/>
            <a:ext cx="36360" cy="625680"/>
          </a:xfrm>
          <a:custGeom>
            <a:avLst/>
            <a:gdLst>
              <a:gd name="textAreaLeft" fmla="*/ 0 w 36360"/>
              <a:gd name="textAreaRight" fmla="*/ 36720 w 36360"/>
              <a:gd name="textAreaTop" fmla="*/ 0 h 625680"/>
              <a:gd name="textAreaBottom" fmla="*/ 626040 h 625680"/>
            </a:gdLst>
            <a:ahLst/>
            <a:rect l="textAreaLeft" t="textAreaTop" r="textAreaRight" b="textAreaBottom"/>
            <a:pathLst>
              <a:path w="35720" h="625079">
                <a:moveTo>
                  <a:pt x="0" y="0"/>
                </a:moveTo>
                <a:lnTo>
                  <a:pt x="0" y="12429"/>
                </a:lnTo>
                <a:lnTo>
                  <a:pt x="993" y="15232"/>
                </a:lnTo>
                <a:lnTo>
                  <a:pt x="2646" y="18092"/>
                </a:lnTo>
                <a:lnTo>
                  <a:pt x="4741" y="20991"/>
                </a:lnTo>
                <a:lnTo>
                  <a:pt x="6137" y="24908"/>
                </a:lnTo>
                <a:lnTo>
                  <a:pt x="7068" y="29504"/>
                </a:lnTo>
                <a:lnTo>
                  <a:pt x="8103" y="39903"/>
                </a:lnTo>
                <a:lnTo>
                  <a:pt x="8685" y="57905"/>
                </a:lnTo>
                <a:lnTo>
                  <a:pt x="8930" y="358927"/>
                </a:lnTo>
                <a:lnTo>
                  <a:pt x="9922" y="372238"/>
                </a:lnTo>
                <a:lnTo>
                  <a:pt x="11576" y="386073"/>
                </a:lnTo>
                <a:lnTo>
                  <a:pt x="13670" y="400258"/>
                </a:lnTo>
                <a:lnTo>
                  <a:pt x="15067" y="413682"/>
                </a:lnTo>
                <a:lnTo>
                  <a:pt x="15998" y="426601"/>
                </a:lnTo>
                <a:lnTo>
                  <a:pt x="16618" y="439182"/>
                </a:lnTo>
                <a:lnTo>
                  <a:pt x="17308" y="466390"/>
                </a:lnTo>
                <a:lnTo>
                  <a:pt x="17492" y="480591"/>
                </a:lnTo>
                <a:lnTo>
                  <a:pt x="18607" y="494027"/>
                </a:lnTo>
                <a:lnTo>
                  <a:pt x="20342" y="506953"/>
                </a:lnTo>
                <a:lnTo>
                  <a:pt x="22491" y="519539"/>
                </a:lnTo>
                <a:lnTo>
                  <a:pt x="23924" y="530906"/>
                </a:lnTo>
                <a:lnTo>
                  <a:pt x="24879" y="541461"/>
                </a:lnTo>
                <a:lnTo>
                  <a:pt x="25516" y="551474"/>
                </a:lnTo>
                <a:lnTo>
                  <a:pt x="26933" y="561127"/>
                </a:lnTo>
                <a:lnTo>
                  <a:pt x="28869" y="570538"/>
                </a:lnTo>
                <a:lnTo>
                  <a:pt x="31153" y="579788"/>
                </a:lnTo>
                <a:lnTo>
                  <a:pt x="32675" y="587939"/>
                </a:lnTo>
                <a:lnTo>
                  <a:pt x="33690" y="595358"/>
                </a:lnTo>
                <a:lnTo>
                  <a:pt x="34366" y="602288"/>
                </a:lnTo>
                <a:lnTo>
                  <a:pt x="35118" y="612634"/>
                </a:lnTo>
                <a:lnTo>
                  <a:pt x="35719" y="625078"/>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45" name="SMARTInkAnnotation41"/>
          <p:cNvSpPr/>
          <p:nvPr/>
        </p:nvSpPr>
        <p:spPr>
          <a:xfrm>
            <a:off x="561960" y="3956040"/>
            <a:ext cx="330120" cy="357120"/>
          </a:xfrm>
          <a:custGeom>
            <a:avLst/>
            <a:gdLst>
              <a:gd name="textAreaLeft" fmla="*/ 0 w 330120"/>
              <a:gd name="textAreaRight" fmla="*/ 330480 w 330120"/>
              <a:gd name="textAreaTop" fmla="*/ 0 h 357120"/>
              <a:gd name="textAreaBottom" fmla="*/ 357480 h 357120"/>
            </a:gdLst>
            <a:ahLst/>
            <a:rect l="textAreaLeft" t="textAreaTop" r="textAreaRight" b="textAreaBottom"/>
            <a:pathLst>
              <a:path w="329721" h="356977">
                <a:moveTo>
                  <a:pt x="0" y="89142"/>
                </a:moveTo>
                <a:lnTo>
                  <a:pt x="0" y="84402"/>
                </a:lnTo>
                <a:lnTo>
                  <a:pt x="2646" y="76783"/>
                </a:lnTo>
                <a:lnTo>
                  <a:pt x="7129" y="67774"/>
                </a:lnTo>
                <a:lnTo>
                  <a:pt x="15231" y="57125"/>
                </a:lnTo>
                <a:lnTo>
                  <a:pt x="23916" y="47685"/>
                </a:lnTo>
                <a:lnTo>
                  <a:pt x="29811" y="41613"/>
                </a:lnTo>
                <a:lnTo>
                  <a:pt x="38385" y="35607"/>
                </a:lnTo>
                <a:lnTo>
                  <a:pt x="47818" y="29630"/>
                </a:lnTo>
                <a:lnTo>
                  <a:pt x="55317" y="23666"/>
                </a:lnTo>
                <a:lnTo>
                  <a:pt x="64604" y="17708"/>
                </a:lnTo>
                <a:lnTo>
                  <a:pt x="69858" y="14731"/>
                </a:lnTo>
                <a:lnTo>
                  <a:pt x="80988" y="8776"/>
                </a:lnTo>
                <a:lnTo>
                  <a:pt x="86734" y="5799"/>
                </a:lnTo>
                <a:lnTo>
                  <a:pt x="93541" y="3815"/>
                </a:lnTo>
                <a:lnTo>
                  <a:pt x="101056" y="2491"/>
                </a:lnTo>
                <a:lnTo>
                  <a:pt x="109043" y="1609"/>
                </a:lnTo>
                <a:lnTo>
                  <a:pt x="116351" y="1022"/>
                </a:lnTo>
                <a:lnTo>
                  <a:pt x="123208" y="630"/>
                </a:lnTo>
                <a:lnTo>
                  <a:pt x="129764" y="368"/>
                </a:lnTo>
                <a:lnTo>
                  <a:pt x="157952" y="0"/>
                </a:lnTo>
                <a:lnTo>
                  <a:pt x="166817" y="941"/>
                </a:lnTo>
                <a:lnTo>
                  <a:pt x="174711" y="2560"/>
                </a:lnTo>
                <a:lnTo>
                  <a:pt x="181958" y="4632"/>
                </a:lnTo>
                <a:lnTo>
                  <a:pt x="197948" y="9579"/>
                </a:lnTo>
                <a:lnTo>
                  <a:pt x="232467" y="20840"/>
                </a:lnTo>
                <a:lnTo>
                  <a:pt x="240306" y="24756"/>
                </a:lnTo>
                <a:lnTo>
                  <a:pt x="247517" y="29351"/>
                </a:lnTo>
                <a:lnTo>
                  <a:pt x="254308" y="34399"/>
                </a:lnTo>
                <a:lnTo>
                  <a:pt x="260820" y="39748"/>
                </a:lnTo>
                <a:lnTo>
                  <a:pt x="267145" y="45299"/>
                </a:lnTo>
                <a:lnTo>
                  <a:pt x="273347" y="50984"/>
                </a:lnTo>
                <a:lnTo>
                  <a:pt x="279466" y="57750"/>
                </a:lnTo>
                <a:lnTo>
                  <a:pt x="285529" y="65238"/>
                </a:lnTo>
                <a:lnTo>
                  <a:pt x="291556" y="73206"/>
                </a:lnTo>
                <a:lnTo>
                  <a:pt x="297558" y="80502"/>
                </a:lnTo>
                <a:lnTo>
                  <a:pt x="303544" y="87351"/>
                </a:lnTo>
                <a:lnTo>
                  <a:pt x="309519" y="93901"/>
                </a:lnTo>
                <a:lnTo>
                  <a:pt x="314494" y="101244"/>
                </a:lnTo>
                <a:lnTo>
                  <a:pt x="318803" y="109117"/>
                </a:lnTo>
                <a:lnTo>
                  <a:pt x="322668" y="117342"/>
                </a:lnTo>
                <a:lnTo>
                  <a:pt x="325245" y="125801"/>
                </a:lnTo>
                <a:lnTo>
                  <a:pt x="326963" y="134417"/>
                </a:lnTo>
                <a:lnTo>
                  <a:pt x="328108" y="143139"/>
                </a:lnTo>
                <a:lnTo>
                  <a:pt x="328871" y="151928"/>
                </a:lnTo>
                <a:lnTo>
                  <a:pt x="329380" y="160765"/>
                </a:lnTo>
                <a:lnTo>
                  <a:pt x="329720" y="169633"/>
                </a:lnTo>
                <a:lnTo>
                  <a:pt x="328954" y="178522"/>
                </a:lnTo>
                <a:lnTo>
                  <a:pt x="327451" y="187424"/>
                </a:lnTo>
                <a:lnTo>
                  <a:pt x="325457" y="196335"/>
                </a:lnTo>
                <a:lnTo>
                  <a:pt x="322143" y="205252"/>
                </a:lnTo>
                <a:lnTo>
                  <a:pt x="317949" y="214174"/>
                </a:lnTo>
                <a:lnTo>
                  <a:pt x="313169" y="223098"/>
                </a:lnTo>
                <a:lnTo>
                  <a:pt x="307998" y="231032"/>
                </a:lnTo>
                <a:lnTo>
                  <a:pt x="302566" y="238306"/>
                </a:lnTo>
                <a:lnTo>
                  <a:pt x="296961" y="245139"/>
                </a:lnTo>
                <a:lnTo>
                  <a:pt x="291239" y="252671"/>
                </a:lnTo>
                <a:lnTo>
                  <a:pt x="279591" y="268978"/>
                </a:lnTo>
                <a:lnTo>
                  <a:pt x="272714" y="276501"/>
                </a:lnTo>
                <a:lnTo>
                  <a:pt x="265153" y="283501"/>
                </a:lnTo>
                <a:lnTo>
                  <a:pt x="257136" y="290153"/>
                </a:lnTo>
                <a:lnTo>
                  <a:pt x="247822" y="296571"/>
                </a:lnTo>
                <a:lnTo>
                  <a:pt x="237644" y="302834"/>
                </a:lnTo>
                <a:lnTo>
                  <a:pt x="226891" y="308994"/>
                </a:lnTo>
                <a:lnTo>
                  <a:pt x="215753" y="314093"/>
                </a:lnTo>
                <a:lnTo>
                  <a:pt x="204358" y="318485"/>
                </a:lnTo>
                <a:lnTo>
                  <a:pt x="192794" y="322404"/>
                </a:lnTo>
                <a:lnTo>
                  <a:pt x="182107" y="327001"/>
                </a:lnTo>
                <a:lnTo>
                  <a:pt x="172006" y="332052"/>
                </a:lnTo>
                <a:lnTo>
                  <a:pt x="162296" y="337402"/>
                </a:lnTo>
                <a:lnTo>
                  <a:pt x="151853" y="341961"/>
                </a:lnTo>
                <a:lnTo>
                  <a:pt x="140923" y="345993"/>
                </a:lnTo>
                <a:lnTo>
                  <a:pt x="129667" y="349673"/>
                </a:lnTo>
                <a:lnTo>
                  <a:pt x="119187" y="352126"/>
                </a:lnTo>
                <a:lnTo>
                  <a:pt x="109224" y="353761"/>
                </a:lnTo>
                <a:lnTo>
                  <a:pt x="99605" y="354852"/>
                </a:lnTo>
                <a:lnTo>
                  <a:pt x="90216" y="355579"/>
                </a:lnTo>
                <a:lnTo>
                  <a:pt x="80980" y="356064"/>
                </a:lnTo>
                <a:lnTo>
                  <a:pt x="63772" y="356602"/>
                </a:lnTo>
                <a:lnTo>
                  <a:pt x="36556" y="356948"/>
                </a:lnTo>
                <a:lnTo>
                  <a:pt x="30324" y="356976"/>
                </a:lnTo>
                <a:lnTo>
                  <a:pt x="25177" y="356003"/>
                </a:lnTo>
                <a:lnTo>
                  <a:pt x="13192" y="350885"/>
                </a:lnTo>
                <a:lnTo>
                  <a:pt x="2900" y="348652"/>
                </a:lnTo>
                <a:lnTo>
                  <a:pt x="1933" y="348469"/>
                </a:lnTo>
                <a:lnTo>
                  <a:pt x="1289" y="347355"/>
                </a:lnTo>
                <a:lnTo>
                  <a:pt x="0" y="339174"/>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46" name="SMARTInkAnnotation42"/>
          <p:cNvSpPr/>
          <p:nvPr/>
        </p:nvSpPr>
        <p:spPr>
          <a:xfrm>
            <a:off x="955800" y="4205160"/>
            <a:ext cx="231480" cy="36720"/>
          </a:xfrm>
          <a:custGeom>
            <a:avLst/>
            <a:gdLst>
              <a:gd name="textAreaLeft" fmla="*/ 0 w 231480"/>
              <a:gd name="textAreaRight" fmla="*/ 231840 w 231480"/>
              <a:gd name="textAreaTop" fmla="*/ 0 h 36720"/>
              <a:gd name="textAreaBottom" fmla="*/ 37080 h 36720"/>
            </a:gdLst>
            <a:ahLst/>
            <a:rect l="textAreaLeft" t="textAreaTop" r="textAreaRight" b="textAreaBottom"/>
            <a:pathLst>
              <a:path w="232173" h="35600">
                <a:moveTo>
                  <a:pt x="0" y="35599"/>
                </a:moveTo>
                <a:lnTo>
                  <a:pt x="4741" y="35599"/>
                </a:lnTo>
                <a:lnTo>
                  <a:pt x="6137" y="34607"/>
                </a:lnTo>
                <a:lnTo>
                  <a:pt x="7068" y="32954"/>
                </a:lnTo>
                <a:lnTo>
                  <a:pt x="7688" y="30859"/>
                </a:lnTo>
                <a:lnTo>
                  <a:pt x="9094" y="29462"/>
                </a:lnTo>
                <a:lnTo>
                  <a:pt x="11024" y="28531"/>
                </a:lnTo>
                <a:lnTo>
                  <a:pt x="13302" y="27911"/>
                </a:lnTo>
                <a:lnTo>
                  <a:pt x="16806" y="27497"/>
                </a:lnTo>
                <a:lnTo>
                  <a:pt x="21126" y="27222"/>
                </a:lnTo>
                <a:lnTo>
                  <a:pt x="25990" y="27037"/>
                </a:lnTo>
                <a:lnTo>
                  <a:pt x="30225" y="25923"/>
                </a:lnTo>
                <a:lnTo>
                  <a:pt x="34041" y="24187"/>
                </a:lnTo>
                <a:lnTo>
                  <a:pt x="37577" y="22038"/>
                </a:lnTo>
                <a:lnTo>
                  <a:pt x="41918" y="20606"/>
                </a:lnTo>
                <a:lnTo>
                  <a:pt x="46797" y="19650"/>
                </a:lnTo>
                <a:lnTo>
                  <a:pt x="52034" y="19014"/>
                </a:lnTo>
                <a:lnTo>
                  <a:pt x="57510" y="17597"/>
                </a:lnTo>
                <a:lnTo>
                  <a:pt x="63145" y="15660"/>
                </a:lnTo>
                <a:lnTo>
                  <a:pt x="68885" y="13377"/>
                </a:lnTo>
                <a:lnTo>
                  <a:pt x="75689" y="11855"/>
                </a:lnTo>
                <a:lnTo>
                  <a:pt x="83202" y="10840"/>
                </a:lnTo>
                <a:lnTo>
                  <a:pt x="91187" y="10163"/>
                </a:lnTo>
                <a:lnTo>
                  <a:pt x="98494" y="8720"/>
                </a:lnTo>
                <a:lnTo>
                  <a:pt x="105350" y="6766"/>
                </a:lnTo>
                <a:lnTo>
                  <a:pt x="111905" y="4471"/>
                </a:lnTo>
                <a:lnTo>
                  <a:pt x="118260" y="2941"/>
                </a:lnTo>
                <a:lnTo>
                  <a:pt x="124481" y="1921"/>
                </a:lnTo>
                <a:lnTo>
                  <a:pt x="130612" y="1241"/>
                </a:lnTo>
                <a:lnTo>
                  <a:pt x="137676" y="787"/>
                </a:lnTo>
                <a:lnTo>
                  <a:pt x="145362" y="485"/>
                </a:lnTo>
                <a:lnTo>
                  <a:pt x="167755" y="60"/>
                </a:lnTo>
                <a:lnTo>
                  <a:pt x="174345" y="0"/>
                </a:lnTo>
                <a:lnTo>
                  <a:pt x="180722" y="952"/>
                </a:lnTo>
                <a:lnTo>
                  <a:pt x="186958" y="2580"/>
                </a:lnTo>
                <a:lnTo>
                  <a:pt x="193100" y="4657"/>
                </a:lnTo>
                <a:lnTo>
                  <a:pt x="199178" y="6041"/>
                </a:lnTo>
                <a:lnTo>
                  <a:pt x="205215" y="6964"/>
                </a:lnTo>
                <a:lnTo>
                  <a:pt x="211224" y="7579"/>
                </a:lnTo>
                <a:lnTo>
                  <a:pt x="216222" y="8982"/>
                </a:lnTo>
                <a:lnTo>
                  <a:pt x="220547" y="10909"/>
                </a:lnTo>
                <a:lnTo>
                  <a:pt x="232172" y="17740"/>
                </a:lnTo>
              </a:path>
            </a:pathLst>
          </a:custGeom>
          <a:noFill/>
          <a:ln w="38160">
            <a:solidFill>
              <a:srgbClr val="000000"/>
            </a:solidFill>
            <a:round/>
          </a:ln>
        </p:spPr>
        <p:style>
          <a:lnRef idx="0"/>
          <a:fillRef idx="0"/>
          <a:effectRef idx="0"/>
          <a:fontRef idx="minor"/>
        </p:style>
        <p:txBody>
          <a:bodyPr lIns="90000" rIns="90000" tIns="-9720" bIns="-9720" anchor="ctr">
            <a:noAutofit/>
          </a:bodyPr>
          <a:p>
            <a:endParaRPr b="0" lang="en-US" sz="1800" spc="-1" strike="noStrike">
              <a:solidFill>
                <a:srgbClr val="000000"/>
              </a:solidFill>
              <a:latin typeface="Constantia"/>
            </a:endParaRPr>
          </a:p>
        </p:txBody>
      </p:sp>
      <p:sp>
        <p:nvSpPr>
          <p:cNvPr id="247" name="SMARTInkAnnotation43"/>
          <p:cNvSpPr/>
          <p:nvPr/>
        </p:nvSpPr>
        <p:spPr>
          <a:xfrm>
            <a:off x="892080" y="4446720"/>
            <a:ext cx="295200" cy="27000"/>
          </a:xfrm>
          <a:custGeom>
            <a:avLst/>
            <a:gdLst>
              <a:gd name="textAreaLeft" fmla="*/ 0 w 295200"/>
              <a:gd name="textAreaRight" fmla="*/ 295560 w 295200"/>
              <a:gd name="textAreaTop" fmla="*/ 0 h 27000"/>
              <a:gd name="textAreaBottom" fmla="*/ 27360 h 27000"/>
            </a:gdLst>
            <a:ahLst/>
            <a:rect l="textAreaLeft" t="textAreaTop" r="textAreaRight" b="textAreaBottom"/>
            <a:pathLst>
              <a:path w="294681" h="26790">
                <a:moveTo>
                  <a:pt x="0" y="8930"/>
                </a:moveTo>
                <a:lnTo>
                  <a:pt x="7689" y="8930"/>
                </a:lnTo>
                <a:lnTo>
                  <a:pt x="9095" y="7937"/>
                </a:lnTo>
                <a:lnTo>
                  <a:pt x="11024" y="6284"/>
                </a:lnTo>
                <a:lnTo>
                  <a:pt x="13303" y="4190"/>
                </a:lnTo>
                <a:lnTo>
                  <a:pt x="16806" y="2793"/>
                </a:lnTo>
                <a:lnTo>
                  <a:pt x="21126" y="1862"/>
                </a:lnTo>
                <a:lnTo>
                  <a:pt x="25990" y="1241"/>
                </a:lnTo>
                <a:lnTo>
                  <a:pt x="31218" y="828"/>
                </a:lnTo>
                <a:lnTo>
                  <a:pt x="36687" y="552"/>
                </a:lnTo>
                <a:lnTo>
                  <a:pt x="48055" y="246"/>
                </a:lnTo>
                <a:lnTo>
                  <a:pt x="173977" y="0"/>
                </a:lnTo>
                <a:lnTo>
                  <a:pt x="181469" y="992"/>
                </a:lnTo>
                <a:lnTo>
                  <a:pt x="189440" y="2646"/>
                </a:lnTo>
                <a:lnTo>
                  <a:pt x="197731" y="4741"/>
                </a:lnTo>
                <a:lnTo>
                  <a:pt x="205243" y="6137"/>
                </a:lnTo>
                <a:lnTo>
                  <a:pt x="212235" y="7068"/>
                </a:lnTo>
                <a:lnTo>
                  <a:pt x="218880" y="7688"/>
                </a:lnTo>
                <a:lnTo>
                  <a:pt x="225296" y="9094"/>
                </a:lnTo>
                <a:lnTo>
                  <a:pt x="231556" y="11024"/>
                </a:lnTo>
                <a:lnTo>
                  <a:pt x="237715" y="13302"/>
                </a:lnTo>
                <a:lnTo>
                  <a:pt x="243805" y="14821"/>
                </a:lnTo>
                <a:lnTo>
                  <a:pt x="249849" y="15834"/>
                </a:lnTo>
                <a:lnTo>
                  <a:pt x="255863" y="16509"/>
                </a:lnTo>
                <a:lnTo>
                  <a:pt x="261857" y="17951"/>
                </a:lnTo>
                <a:lnTo>
                  <a:pt x="267837" y="19906"/>
                </a:lnTo>
                <a:lnTo>
                  <a:pt x="273808" y="22200"/>
                </a:lnTo>
                <a:lnTo>
                  <a:pt x="278781" y="23729"/>
                </a:lnTo>
                <a:lnTo>
                  <a:pt x="283088" y="24750"/>
                </a:lnTo>
                <a:lnTo>
                  <a:pt x="294680" y="26789"/>
                </a:lnTo>
              </a:path>
            </a:pathLst>
          </a:custGeom>
          <a:noFill/>
          <a:ln w="38160">
            <a:solidFill>
              <a:srgbClr val="000000"/>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Constantia"/>
            </a:endParaRPr>
          </a:p>
        </p:txBody>
      </p:sp>
      <p:sp>
        <p:nvSpPr>
          <p:cNvPr id="248" name="SMARTInkAnnotation44"/>
          <p:cNvSpPr/>
          <p:nvPr/>
        </p:nvSpPr>
        <p:spPr>
          <a:xfrm>
            <a:off x="1330200" y="4133880"/>
            <a:ext cx="473040" cy="544320"/>
          </a:xfrm>
          <a:custGeom>
            <a:avLst/>
            <a:gdLst>
              <a:gd name="textAreaLeft" fmla="*/ 0 w 473040"/>
              <a:gd name="textAreaRight" fmla="*/ 473400 w 473040"/>
              <a:gd name="textAreaTop" fmla="*/ 0 h 544320"/>
              <a:gd name="textAreaBottom" fmla="*/ 544680 h 544320"/>
            </a:gdLst>
            <a:ahLst/>
            <a:rect l="textAreaLeft" t="textAreaTop" r="textAreaRight" b="textAreaBottom"/>
            <a:pathLst>
              <a:path w="473274" h="544530">
                <a:moveTo>
                  <a:pt x="0" y="8930"/>
                </a:moveTo>
                <a:lnTo>
                  <a:pt x="0" y="43482"/>
                </a:lnTo>
                <a:lnTo>
                  <a:pt x="2646" y="54382"/>
                </a:lnTo>
                <a:lnTo>
                  <a:pt x="4741" y="60067"/>
                </a:lnTo>
                <a:lnTo>
                  <a:pt x="7068" y="74322"/>
                </a:lnTo>
                <a:lnTo>
                  <a:pt x="8102" y="89587"/>
                </a:lnTo>
                <a:lnTo>
                  <a:pt x="8562" y="102986"/>
                </a:lnTo>
                <a:lnTo>
                  <a:pt x="11412" y="118202"/>
                </a:lnTo>
                <a:lnTo>
                  <a:pt x="13561" y="126426"/>
                </a:lnTo>
                <a:lnTo>
                  <a:pt x="14994" y="135878"/>
                </a:lnTo>
                <a:lnTo>
                  <a:pt x="15949" y="146147"/>
                </a:lnTo>
                <a:lnTo>
                  <a:pt x="16586" y="156963"/>
                </a:lnTo>
                <a:lnTo>
                  <a:pt x="18003" y="167150"/>
                </a:lnTo>
                <a:lnTo>
                  <a:pt x="19939" y="176918"/>
                </a:lnTo>
                <a:lnTo>
                  <a:pt x="22223" y="186406"/>
                </a:lnTo>
                <a:lnTo>
                  <a:pt x="23745" y="196700"/>
                </a:lnTo>
                <a:lnTo>
                  <a:pt x="24760" y="207532"/>
                </a:lnTo>
                <a:lnTo>
                  <a:pt x="25436" y="218722"/>
                </a:lnTo>
                <a:lnTo>
                  <a:pt x="26879" y="230150"/>
                </a:lnTo>
                <a:lnTo>
                  <a:pt x="28833" y="241738"/>
                </a:lnTo>
                <a:lnTo>
                  <a:pt x="31129" y="253432"/>
                </a:lnTo>
                <a:lnTo>
                  <a:pt x="36324" y="277009"/>
                </a:lnTo>
                <a:lnTo>
                  <a:pt x="39099" y="288852"/>
                </a:lnTo>
                <a:lnTo>
                  <a:pt x="40949" y="300717"/>
                </a:lnTo>
                <a:lnTo>
                  <a:pt x="42182" y="312595"/>
                </a:lnTo>
                <a:lnTo>
                  <a:pt x="43004" y="324482"/>
                </a:lnTo>
                <a:lnTo>
                  <a:pt x="44544" y="336376"/>
                </a:lnTo>
                <a:lnTo>
                  <a:pt x="46563" y="348274"/>
                </a:lnTo>
                <a:lnTo>
                  <a:pt x="48902" y="360175"/>
                </a:lnTo>
                <a:lnTo>
                  <a:pt x="54145" y="383982"/>
                </a:lnTo>
                <a:lnTo>
                  <a:pt x="56933" y="395886"/>
                </a:lnTo>
                <a:lnTo>
                  <a:pt x="59783" y="406799"/>
                </a:lnTo>
                <a:lnTo>
                  <a:pt x="62676" y="417051"/>
                </a:lnTo>
                <a:lnTo>
                  <a:pt x="65597" y="426862"/>
                </a:lnTo>
                <a:lnTo>
                  <a:pt x="69528" y="436380"/>
                </a:lnTo>
                <a:lnTo>
                  <a:pt x="74133" y="445701"/>
                </a:lnTo>
                <a:lnTo>
                  <a:pt x="79188" y="454892"/>
                </a:lnTo>
                <a:lnTo>
                  <a:pt x="83550" y="463996"/>
                </a:lnTo>
                <a:lnTo>
                  <a:pt x="87450" y="473041"/>
                </a:lnTo>
                <a:lnTo>
                  <a:pt x="91042" y="482048"/>
                </a:lnTo>
                <a:lnTo>
                  <a:pt x="97679" y="499994"/>
                </a:lnTo>
                <a:lnTo>
                  <a:pt x="100838" y="508946"/>
                </a:lnTo>
                <a:lnTo>
                  <a:pt x="104929" y="515907"/>
                </a:lnTo>
                <a:lnTo>
                  <a:pt x="119174" y="530444"/>
                </a:lnTo>
                <a:lnTo>
                  <a:pt x="126719" y="537708"/>
                </a:lnTo>
                <a:lnTo>
                  <a:pt x="130120" y="540043"/>
                </a:lnTo>
                <a:lnTo>
                  <a:pt x="136545" y="542636"/>
                </a:lnTo>
                <a:lnTo>
                  <a:pt x="145740" y="544096"/>
                </a:lnTo>
                <a:lnTo>
                  <a:pt x="154748" y="544529"/>
                </a:lnTo>
                <a:lnTo>
                  <a:pt x="156743" y="543597"/>
                </a:lnTo>
                <a:lnTo>
                  <a:pt x="158074" y="541985"/>
                </a:lnTo>
                <a:lnTo>
                  <a:pt x="158961" y="539917"/>
                </a:lnTo>
                <a:lnTo>
                  <a:pt x="164949" y="532266"/>
                </a:lnTo>
                <a:lnTo>
                  <a:pt x="166521" y="527484"/>
                </a:lnTo>
                <a:lnTo>
                  <a:pt x="168267" y="514234"/>
                </a:lnTo>
                <a:lnTo>
                  <a:pt x="171689" y="501070"/>
                </a:lnTo>
                <a:lnTo>
                  <a:pt x="175525" y="487612"/>
                </a:lnTo>
                <a:lnTo>
                  <a:pt x="177230" y="471709"/>
                </a:lnTo>
                <a:lnTo>
                  <a:pt x="178677" y="462308"/>
                </a:lnTo>
                <a:lnTo>
                  <a:pt x="180633" y="452073"/>
                </a:lnTo>
                <a:lnTo>
                  <a:pt x="182930" y="441281"/>
                </a:lnTo>
                <a:lnTo>
                  <a:pt x="184461" y="431109"/>
                </a:lnTo>
                <a:lnTo>
                  <a:pt x="185482" y="421351"/>
                </a:lnTo>
                <a:lnTo>
                  <a:pt x="186162" y="411870"/>
                </a:lnTo>
                <a:lnTo>
                  <a:pt x="187608" y="401580"/>
                </a:lnTo>
                <a:lnTo>
                  <a:pt x="189564" y="390751"/>
                </a:lnTo>
                <a:lnTo>
                  <a:pt x="191861" y="379563"/>
                </a:lnTo>
                <a:lnTo>
                  <a:pt x="193391" y="368136"/>
                </a:lnTo>
                <a:lnTo>
                  <a:pt x="194412" y="356549"/>
                </a:lnTo>
                <a:lnTo>
                  <a:pt x="195092" y="344856"/>
                </a:lnTo>
                <a:lnTo>
                  <a:pt x="196538" y="334083"/>
                </a:lnTo>
                <a:lnTo>
                  <a:pt x="198494" y="323925"/>
                </a:lnTo>
                <a:lnTo>
                  <a:pt x="200790" y="314177"/>
                </a:lnTo>
                <a:lnTo>
                  <a:pt x="202321" y="304702"/>
                </a:lnTo>
                <a:lnTo>
                  <a:pt x="203342" y="295408"/>
                </a:lnTo>
                <a:lnTo>
                  <a:pt x="204022" y="286235"/>
                </a:lnTo>
                <a:lnTo>
                  <a:pt x="205468" y="277145"/>
                </a:lnTo>
                <a:lnTo>
                  <a:pt x="207424" y="268106"/>
                </a:lnTo>
                <a:lnTo>
                  <a:pt x="209720" y="259105"/>
                </a:lnTo>
                <a:lnTo>
                  <a:pt x="211251" y="250127"/>
                </a:lnTo>
                <a:lnTo>
                  <a:pt x="212271" y="241166"/>
                </a:lnTo>
                <a:lnTo>
                  <a:pt x="214398" y="224263"/>
                </a:lnTo>
                <a:lnTo>
                  <a:pt x="220180" y="204583"/>
                </a:lnTo>
                <a:lnTo>
                  <a:pt x="222335" y="191035"/>
                </a:lnTo>
                <a:lnTo>
                  <a:pt x="222973" y="175886"/>
                </a:lnTo>
                <a:lnTo>
                  <a:pt x="223123" y="168130"/>
                </a:lnTo>
                <a:lnTo>
                  <a:pt x="224155" y="165665"/>
                </a:lnTo>
                <a:lnTo>
                  <a:pt x="225835" y="164022"/>
                </a:lnTo>
                <a:lnTo>
                  <a:pt x="232062" y="160792"/>
                </a:lnTo>
                <a:lnTo>
                  <a:pt x="232166" y="176961"/>
                </a:lnTo>
                <a:lnTo>
                  <a:pt x="232171" y="207716"/>
                </a:lnTo>
                <a:lnTo>
                  <a:pt x="234817" y="221634"/>
                </a:lnTo>
                <a:lnTo>
                  <a:pt x="238309" y="235426"/>
                </a:lnTo>
                <a:lnTo>
                  <a:pt x="239860" y="251477"/>
                </a:lnTo>
                <a:lnTo>
                  <a:pt x="241266" y="259925"/>
                </a:lnTo>
                <a:lnTo>
                  <a:pt x="243196" y="268534"/>
                </a:lnTo>
                <a:lnTo>
                  <a:pt x="245474" y="277249"/>
                </a:lnTo>
                <a:lnTo>
                  <a:pt x="246993" y="286035"/>
                </a:lnTo>
                <a:lnTo>
                  <a:pt x="248006" y="294870"/>
                </a:lnTo>
                <a:lnTo>
                  <a:pt x="248681" y="303736"/>
                </a:lnTo>
                <a:lnTo>
                  <a:pt x="250123" y="312624"/>
                </a:lnTo>
                <a:lnTo>
                  <a:pt x="252077" y="321525"/>
                </a:lnTo>
                <a:lnTo>
                  <a:pt x="254372" y="330436"/>
                </a:lnTo>
                <a:lnTo>
                  <a:pt x="256894" y="339354"/>
                </a:lnTo>
                <a:lnTo>
                  <a:pt x="262341" y="357198"/>
                </a:lnTo>
                <a:lnTo>
                  <a:pt x="270987" y="383980"/>
                </a:lnTo>
                <a:lnTo>
                  <a:pt x="272932" y="392908"/>
                </a:lnTo>
                <a:lnTo>
                  <a:pt x="274228" y="401837"/>
                </a:lnTo>
                <a:lnTo>
                  <a:pt x="276660" y="418704"/>
                </a:lnTo>
                <a:lnTo>
                  <a:pt x="281049" y="432814"/>
                </a:lnTo>
                <a:lnTo>
                  <a:pt x="286306" y="445701"/>
                </a:lnTo>
                <a:lnTo>
                  <a:pt x="291950" y="458042"/>
                </a:lnTo>
                <a:lnTo>
                  <a:pt x="297766" y="470142"/>
                </a:lnTo>
                <a:lnTo>
                  <a:pt x="306618" y="483370"/>
                </a:lnTo>
                <a:lnTo>
                  <a:pt x="317506" y="496729"/>
                </a:lnTo>
                <a:lnTo>
                  <a:pt x="321287" y="505910"/>
                </a:lnTo>
                <a:lnTo>
                  <a:pt x="325687" y="511922"/>
                </a:lnTo>
                <a:lnTo>
                  <a:pt x="328250" y="513922"/>
                </a:lnTo>
                <a:lnTo>
                  <a:pt x="330951" y="515255"/>
                </a:lnTo>
                <a:lnTo>
                  <a:pt x="333743" y="516144"/>
                </a:lnTo>
                <a:lnTo>
                  <a:pt x="336597" y="515744"/>
                </a:lnTo>
                <a:lnTo>
                  <a:pt x="339492" y="514486"/>
                </a:lnTo>
                <a:lnTo>
                  <a:pt x="346526" y="510078"/>
                </a:lnTo>
                <a:lnTo>
                  <a:pt x="360535" y="496659"/>
                </a:lnTo>
                <a:lnTo>
                  <a:pt x="369204" y="483289"/>
                </a:lnTo>
                <a:lnTo>
                  <a:pt x="372450" y="472434"/>
                </a:lnTo>
                <a:lnTo>
                  <a:pt x="374885" y="460002"/>
                </a:lnTo>
                <a:lnTo>
                  <a:pt x="379274" y="444555"/>
                </a:lnTo>
                <a:lnTo>
                  <a:pt x="387324" y="419123"/>
                </a:lnTo>
                <a:lnTo>
                  <a:pt x="404845" y="366067"/>
                </a:lnTo>
                <a:lnTo>
                  <a:pt x="407811" y="356162"/>
                </a:lnTo>
                <a:lnTo>
                  <a:pt x="416725" y="324251"/>
                </a:lnTo>
                <a:lnTo>
                  <a:pt x="425650" y="294512"/>
                </a:lnTo>
                <a:lnTo>
                  <a:pt x="431602" y="272446"/>
                </a:lnTo>
                <a:lnTo>
                  <a:pt x="433586" y="261006"/>
                </a:lnTo>
                <a:lnTo>
                  <a:pt x="434909" y="249411"/>
                </a:lnTo>
                <a:lnTo>
                  <a:pt x="435791" y="237711"/>
                </a:lnTo>
                <a:lnTo>
                  <a:pt x="437371" y="225943"/>
                </a:lnTo>
                <a:lnTo>
                  <a:pt x="439417" y="214128"/>
                </a:lnTo>
                <a:lnTo>
                  <a:pt x="441773" y="202284"/>
                </a:lnTo>
                <a:lnTo>
                  <a:pt x="444335" y="191410"/>
                </a:lnTo>
                <a:lnTo>
                  <a:pt x="447036" y="181185"/>
                </a:lnTo>
                <a:lnTo>
                  <a:pt x="449829" y="171392"/>
                </a:lnTo>
                <a:lnTo>
                  <a:pt x="451690" y="161886"/>
                </a:lnTo>
                <a:lnTo>
                  <a:pt x="452932" y="152573"/>
                </a:lnTo>
                <a:lnTo>
                  <a:pt x="453759" y="143387"/>
                </a:lnTo>
                <a:lnTo>
                  <a:pt x="455303" y="134287"/>
                </a:lnTo>
                <a:lnTo>
                  <a:pt x="457324" y="125244"/>
                </a:lnTo>
                <a:lnTo>
                  <a:pt x="459664" y="116238"/>
                </a:lnTo>
                <a:lnTo>
                  <a:pt x="461224" y="107258"/>
                </a:lnTo>
                <a:lnTo>
                  <a:pt x="462264" y="98294"/>
                </a:lnTo>
                <a:lnTo>
                  <a:pt x="464412" y="81390"/>
                </a:lnTo>
                <a:lnTo>
                  <a:pt x="468673" y="67262"/>
                </a:lnTo>
                <a:lnTo>
                  <a:pt x="471229" y="54369"/>
                </a:lnTo>
                <a:lnTo>
                  <a:pt x="472365" y="42023"/>
                </a:lnTo>
                <a:lnTo>
                  <a:pt x="473004" y="25901"/>
                </a:lnTo>
                <a:lnTo>
                  <a:pt x="473267" y="8974"/>
                </a:lnTo>
                <a:lnTo>
                  <a:pt x="473273"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49" name="SMARTInkAnnotation45"/>
          <p:cNvSpPr/>
          <p:nvPr/>
        </p:nvSpPr>
        <p:spPr>
          <a:xfrm>
            <a:off x="1625760" y="3990960"/>
            <a:ext cx="507960" cy="1019160"/>
          </a:xfrm>
          <a:custGeom>
            <a:avLst/>
            <a:gdLst>
              <a:gd name="textAreaLeft" fmla="*/ 0 w 507960"/>
              <a:gd name="textAreaRight" fmla="*/ 508320 w 507960"/>
              <a:gd name="textAreaTop" fmla="*/ 0 h 1019160"/>
              <a:gd name="textAreaBottom" fmla="*/ 1019520 h 1019160"/>
            </a:gdLst>
            <a:ahLst/>
            <a:rect l="textAreaLeft" t="textAreaTop" r="textAreaRight" b="textAreaBottom"/>
            <a:pathLst>
              <a:path w="507752" h="1017985">
                <a:moveTo>
                  <a:pt x="500062" y="0"/>
                </a:moveTo>
                <a:lnTo>
                  <a:pt x="504803" y="0"/>
                </a:lnTo>
                <a:lnTo>
                  <a:pt x="506199" y="992"/>
                </a:lnTo>
                <a:lnTo>
                  <a:pt x="507130" y="2645"/>
                </a:lnTo>
                <a:lnTo>
                  <a:pt x="507751" y="4740"/>
                </a:lnTo>
                <a:lnTo>
                  <a:pt x="505795" y="12359"/>
                </a:lnTo>
                <a:lnTo>
                  <a:pt x="502610" y="22360"/>
                </a:lnTo>
                <a:lnTo>
                  <a:pt x="499825" y="39147"/>
                </a:lnTo>
                <a:lnTo>
                  <a:pt x="487733" y="68520"/>
                </a:lnTo>
                <a:lnTo>
                  <a:pt x="476166" y="99414"/>
                </a:lnTo>
                <a:lnTo>
                  <a:pt x="461356" y="143031"/>
                </a:lnTo>
                <a:lnTo>
                  <a:pt x="447693" y="169710"/>
                </a:lnTo>
                <a:lnTo>
                  <a:pt x="436769" y="190190"/>
                </a:lnTo>
                <a:lnTo>
                  <a:pt x="426291" y="212521"/>
                </a:lnTo>
                <a:lnTo>
                  <a:pt x="418327" y="235675"/>
                </a:lnTo>
                <a:lnTo>
                  <a:pt x="408834" y="259195"/>
                </a:lnTo>
                <a:lnTo>
                  <a:pt x="397009" y="282877"/>
                </a:lnTo>
                <a:lnTo>
                  <a:pt x="381831" y="306631"/>
                </a:lnTo>
                <a:lnTo>
                  <a:pt x="367809" y="333065"/>
                </a:lnTo>
                <a:lnTo>
                  <a:pt x="353970" y="361349"/>
                </a:lnTo>
                <a:lnTo>
                  <a:pt x="346113" y="375837"/>
                </a:lnTo>
                <a:lnTo>
                  <a:pt x="330437" y="405163"/>
                </a:lnTo>
                <a:lnTo>
                  <a:pt x="316855" y="434734"/>
                </a:lnTo>
                <a:lnTo>
                  <a:pt x="301559" y="464413"/>
                </a:lnTo>
                <a:lnTo>
                  <a:pt x="285831" y="494140"/>
                </a:lnTo>
                <a:lnTo>
                  <a:pt x="272226" y="523888"/>
                </a:lnTo>
                <a:lnTo>
                  <a:pt x="256919" y="553646"/>
                </a:lnTo>
                <a:lnTo>
                  <a:pt x="240194" y="583408"/>
                </a:lnTo>
                <a:lnTo>
                  <a:pt x="222838" y="613173"/>
                </a:lnTo>
                <a:lnTo>
                  <a:pt x="214043" y="627063"/>
                </a:lnTo>
                <a:lnTo>
                  <a:pt x="205203" y="640292"/>
                </a:lnTo>
                <a:lnTo>
                  <a:pt x="196333" y="653080"/>
                </a:lnTo>
                <a:lnTo>
                  <a:pt x="187443" y="666566"/>
                </a:lnTo>
                <a:lnTo>
                  <a:pt x="169628" y="694781"/>
                </a:lnTo>
                <a:lnTo>
                  <a:pt x="154434" y="723856"/>
                </a:lnTo>
                <a:lnTo>
                  <a:pt x="140075" y="752323"/>
                </a:lnTo>
                <a:lnTo>
                  <a:pt x="132078" y="765471"/>
                </a:lnTo>
                <a:lnTo>
                  <a:pt x="116248" y="790662"/>
                </a:lnTo>
                <a:lnTo>
                  <a:pt x="102598" y="815088"/>
                </a:lnTo>
                <a:lnTo>
                  <a:pt x="87271" y="839173"/>
                </a:lnTo>
                <a:lnTo>
                  <a:pt x="39099" y="910292"/>
                </a:lnTo>
                <a:lnTo>
                  <a:pt x="25696" y="937458"/>
                </a:lnTo>
                <a:lnTo>
                  <a:pt x="12278" y="966175"/>
                </a:lnTo>
                <a:lnTo>
                  <a:pt x="4079" y="983892"/>
                </a:lnTo>
                <a:lnTo>
                  <a:pt x="1208" y="995867"/>
                </a:lnTo>
                <a:lnTo>
                  <a:pt x="0" y="1017984"/>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50" name="SMARTInkAnnotation46"/>
          <p:cNvSpPr/>
          <p:nvPr/>
        </p:nvSpPr>
        <p:spPr>
          <a:xfrm>
            <a:off x="2027160" y="4357800"/>
            <a:ext cx="223920" cy="428400"/>
          </a:xfrm>
          <a:custGeom>
            <a:avLst/>
            <a:gdLst>
              <a:gd name="textAreaLeft" fmla="*/ 0 w 223920"/>
              <a:gd name="textAreaRight" fmla="*/ 224280 w 223920"/>
              <a:gd name="textAreaTop" fmla="*/ 0 h 428400"/>
              <a:gd name="textAreaBottom" fmla="*/ 428760 h 428400"/>
            </a:gdLst>
            <a:ahLst/>
            <a:rect l="textAreaLeft" t="textAreaTop" r="textAreaRight" b="textAreaBottom"/>
            <a:pathLst>
              <a:path w="222720" h="428090">
                <a:moveTo>
                  <a:pt x="160211" y="0"/>
                </a:moveTo>
                <a:lnTo>
                  <a:pt x="155470" y="4740"/>
                </a:lnTo>
                <a:lnTo>
                  <a:pt x="153082" y="6136"/>
                </a:lnTo>
                <a:lnTo>
                  <a:pt x="147782" y="7689"/>
                </a:lnTo>
                <a:lnTo>
                  <a:pt x="145972" y="9094"/>
                </a:lnTo>
                <a:lnTo>
                  <a:pt x="144765" y="11024"/>
                </a:lnTo>
                <a:lnTo>
                  <a:pt x="143961" y="13303"/>
                </a:lnTo>
                <a:lnTo>
                  <a:pt x="140421" y="18480"/>
                </a:lnTo>
                <a:lnTo>
                  <a:pt x="135540" y="24088"/>
                </a:lnTo>
                <a:lnTo>
                  <a:pt x="130064" y="29888"/>
                </a:lnTo>
                <a:lnTo>
                  <a:pt x="104864" y="55325"/>
                </a:lnTo>
                <a:lnTo>
                  <a:pt x="98240" y="64607"/>
                </a:lnTo>
                <a:lnTo>
                  <a:pt x="91989" y="76339"/>
                </a:lnTo>
                <a:lnTo>
                  <a:pt x="88933" y="83635"/>
                </a:lnTo>
                <a:lnTo>
                  <a:pt x="85903" y="91476"/>
                </a:lnTo>
                <a:lnTo>
                  <a:pt x="82891" y="98687"/>
                </a:lnTo>
                <a:lnTo>
                  <a:pt x="76899" y="111991"/>
                </a:lnTo>
                <a:lnTo>
                  <a:pt x="67947" y="130637"/>
                </a:lnTo>
                <a:lnTo>
                  <a:pt x="63975" y="137693"/>
                </a:lnTo>
                <a:lnTo>
                  <a:pt x="59343" y="145374"/>
                </a:lnTo>
                <a:lnTo>
                  <a:pt x="54270" y="153470"/>
                </a:lnTo>
                <a:lnTo>
                  <a:pt x="49897" y="161845"/>
                </a:lnTo>
                <a:lnTo>
                  <a:pt x="45988" y="170404"/>
                </a:lnTo>
                <a:lnTo>
                  <a:pt x="42391" y="179087"/>
                </a:lnTo>
                <a:lnTo>
                  <a:pt x="39000" y="187852"/>
                </a:lnTo>
                <a:lnTo>
                  <a:pt x="32587" y="205530"/>
                </a:lnTo>
                <a:lnTo>
                  <a:pt x="5439" y="285754"/>
                </a:lnTo>
                <a:lnTo>
                  <a:pt x="3452" y="293690"/>
                </a:lnTo>
                <a:lnTo>
                  <a:pt x="2127" y="300965"/>
                </a:lnTo>
                <a:lnTo>
                  <a:pt x="1243" y="307800"/>
                </a:lnTo>
                <a:lnTo>
                  <a:pt x="655" y="315333"/>
                </a:lnTo>
                <a:lnTo>
                  <a:pt x="262" y="323331"/>
                </a:lnTo>
                <a:lnTo>
                  <a:pt x="0" y="331640"/>
                </a:lnTo>
                <a:lnTo>
                  <a:pt x="818" y="339163"/>
                </a:lnTo>
                <a:lnTo>
                  <a:pt x="2355" y="346164"/>
                </a:lnTo>
                <a:lnTo>
                  <a:pt x="5717" y="359233"/>
                </a:lnTo>
                <a:lnTo>
                  <a:pt x="7211" y="371657"/>
                </a:lnTo>
                <a:lnTo>
                  <a:pt x="10521" y="383793"/>
                </a:lnTo>
                <a:lnTo>
                  <a:pt x="12793" y="389807"/>
                </a:lnTo>
                <a:lnTo>
                  <a:pt x="16291" y="394809"/>
                </a:lnTo>
                <a:lnTo>
                  <a:pt x="20608" y="399136"/>
                </a:lnTo>
                <a:lnTo>
                  <a:pt x="25471" y="403013"/>
                </a:lnTo>
                <a:lnTo>
                  <a:pt x="29704" y="406589"/>
                </a:lnTo>
                <a:lnTo>
                  <a:pt x="33519" y="409966"/>
                </a:lnTo>
                <a:lnTo>
                  <a:pt x="37055" y="413208"/>
                </a:lnTo>
                <a:lnTo>
                  <a:pt x="41396" y="416363"/>
                </a:lnTo>
                <a:lnTo>
                  <a:pt x="46274" y="419459"/>
                </a:lnTo>
                <a:lnTo>
                  <a:pt x="51511" y="422514"/>
                </a:lnTo>
                <a:lnTo>
                  <a:pt x="56987" y="424551"/>
                </a:lnTo>
                <a:lnTo>
                  <a:pt x="62621" y="425910"/>
                </a:lnTo>
                <a:lnTo>
                  <a:pt x="68362" y="426815"/>
                </a:lnTo>
                <a:lnTo>
                  <a:pt x="74174" y="427418"/>
                </a:lnTo>
                <a:lnTo>
                  <a:pt x="80032" y="427820"/>
                </a:lnTo>
                <a:lnTo>
                  <a:pt x="85923" y="428089"/>
                </a:lnTo>
                <a:lnTo>
                  <a:pt x="91834" y="427275"/>
                </a:lnTo>
                <a:lnTo>
                  <a:pt x="97759" y="425741"/>
                </a:lnTo>
                <a:lnTo>
                  <a:pt x="103694" y="423726"/>
                </a:lnTo>
                <a:lnTo>
                  <a:pt x="109634" y="422382"/>
                </a:lnTo>
                <a:lnTo>
                  <a:pt x="115579" y="421487"/>
                </a:lnTo>
                <a:lnTo>
                  <a:pt x="121527" y="420890"/>
                </a:lnTo>
                <a:lnTo>
                  <a:pt x="127476" y="419500"/>
                </a:lnTo>
                <a:lnTo>
                  <a:pt x="133427" y="417580"/>
                </a:lnTo>
                <a:lnTo>
                  <a:pt x="139378" y="415308"/>
                </a:lnTo>
                <a:lnTo>
                  <a:pt x="145330" y="412802"/>
                </a:lnTo>
                <a:lnTo>
                  <a:pt x="151283" y="410139"/>
                </a:lnTo>
                <a:lnTo>
                  <a:pt x="163188" y="404534"/>
                </a:lnTo>
                <a:lnTo>
                  <a:pt x="175094" y="398736"/>
                </a:lnTo>
                <a:lnTo>
                  <a:pt x="180055" y="394808"/>
                </a:lnTo>
                <a:lnTo>
                  <a:pt x="184354" y="390205"/>
                </a:lnTo>
                <a:lnTo>
                  <a:pt x="188213" y="385153"/>
                </a:lnTo>
                <a:lnTo>
                  <a:pt x="192769" y="380792"/>
                </a:lnTo>
                <a:lnTo>
                  <a:pt x="197792" y="376892"/>
                </a:lnTo>
                <a:lnTo>
                  <a:pt x="203124" y="373301"/>
                </a:lnTo>
                <a:lnTo>
                  <a:pt x="206679" y="369914"/>
                </a:lnTo>
                <a:lnTo>
                  <a:pt x="209049" y="366664"/>
                </a:lnTo>
                <a:lnTo>
                  <a:pt x="212675" y="360407"/>
                </a:lnTo>
                <a:lnTo>
                  <a:pt x="215031" y="357350"/>
                </a:lnTo>
                <a:lnTo>
                  <a:pt x="222719" y="348258"/>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51" name="SMARTInkAnnotation47"/>
          <p:cNvSpPr/>
          <p:nvPr/>
        </p:nvSpPr>
        <p:spPr>
          <a:xfrm>
            <a:off x="1990800" y="4572000"/>
            <a:ext cx="241200" cy="17640"/>
          </a:xfrm>
          <a:custGeom>
            <a:avLst/>
            <a:gdLst>
              <a:gd name="textAreaLeft" fmla="*/ 0 w 241200"/>
              <a:gd name="textAreaRight" fmla="*/ 241560 w 241200"/>
              <a:gd name="textAreaTop" fmla="*/ 0 h 17640"/>
              <a:gd name="textAreaBottom" fmla="*/ 18000 h 17640"/>
            </a:gdLst>
            <a:ahLst/>
            <a:rect l="textAreaLeft" t="textAreaTop" r="textAreaRight" b="textAreaBottom"/>
            <a:pathLst>
              <a:path w="241102" h="17860">
                <a:moveTo>
                  <a:pt x="0" y="17859"/>
                </a:moveTo>
                <a:lnTo>
                  <a:pt x="117496" y="17859"/>
                </a:lnTo>
                <a:lnTo>
                  <a:pt x="124964" y="16867"/>
                </a:lnTo>
                <a:lnTo>
                  <a:pt x="131926" y="15214"/>
                </a:lnTo>
                <a:lnTo>
                  <a:pt x="138552" y="13119"/>
                </a:lnTo>
                <a:lnTo>
                  <a:pt x="145946" y="11722"/>
                </a:lnTo>
                <a:lnTo>
                  <a:pt x="153852" y="10791"/>
                </a:lnTo>
                <a:lnTo>
                  <a:pt x="162099" y="10170"/>
                </a:lnTo>
                <a:lnTo>
                  <a:pt x="170574" y="9757"/>
                </a:lnTo>
                <a:lnTo>
                  <a:pt x="187928" y="9297"/>
                </a:lnTo>
                <a:lnTo>
                  <a:pt x="223968" y="8961"/>
                </a:lnTo>
                <a:lnTo>
                  <a:pt x="227695" y="7959"/>
                </a:lnTo>
                <a:lnTo>
                  <a:pt x="231171" y="6298"/>
                </a:lnTo>
                <a:lnTo>
                  <a:pt x="241101" y="0"/>
                </a:lnTo>
              </a:path>
            </a:pathLst>
          </a:custGeom>
          <a:noFill/>
          <a:ln w="38160">
            <a:solidFill>
              <a:srgbClr val="000000"/>
            </a:solidFill>
            <a:round/>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Constantia"/>
            </a:endParaRPr>
          </a:p>
        </p:txBody>
      </p:sp>
      <p:sp>
        <p:nvSpPr>
          <p:cNvPr id="252" name="SMARTInkAnnotation48"/>
          <p:cNvSpPr/>
          <p:nvPr/>
        </p:nvSpPr>
        <p:spPr>
          <a:xfrm>
            <a:off x="2419200" y="4429080"/>
            <a:ext cx="322560" cy="81000"/>
          </a:xfrm>
          <a:custGeom>
            <a:avLst/>
            <a:gdLst>
              <a:gd name="textAreaLeft" fmla="*/ 0 w 322560"/>
              <a:gd name="textAreaRight" fmla="*/ 322920 w 322560"/>
              <a:gd name="textAreaTop" fmla="*/ 0 h 81000"/>
              <a:gd name="textAreaBottom" fmla="*/ 81360 h 81000"/>
            </a:gdLst>
            <a:ahLst/>
            <a:rect l="textAreaLeft" t="textAreaTop" r="textAreaRight" b="textAreaBottom"/>
            <a:pathLst>
              <a:path w="321470" h="80368">
                <a:moveTo>
                  <a:pt x="0" y="80367"/>
                </a:moveTo>
                <a:lnTo>
                  <a:pt x="0" y="71805"/>
                </a:lnTo>
                <a:lnTo>
                  <a:pt x="992" y="70690"/>
                </a:lnTo>
                <a:lnTo>
                  <a:pt x="4740" y="66805"/>
                </a:lnTo>
                <a:lnTo>
                  <a:pt x="8121" y="64381"/>
                </a:lnTo>
                <a:lnTo>
                  <a:pt x="12360" y="61772"/>
                </a:lnTo>
                <a:lnTo>
                  <a:pt x="17169" y="59041"/>
                </a:lnTo>
                <a:lnTo>
                  <a:pt x="21368" y="57219"/>
                </a:lnTo>
                <a:lnTo>
                  <a:pt x="28679" y="55197"/>
                </a:lnTo>
                <a:lnTo>
                  <a:pt x="32018" y="53665"/>
                </a:lnTo>
                <a:lnTo>
                  <a:pt x="35236" y="51652"/>
                </a:lnTo>
                <a:lnTo>
                  <a:pt x="38373" y="49317"/>
                </a:lnTo>
                <a:lnTo>
                  <a:pt x="42450" y="46769"/>
                </a:lnTo>
                <a:lnTo>
                  <a:pt x="47151" y="44078"/>
                </a:lnTo>
                <a:lnTo>
                  <a:pt x="52270" y="41291"/>
                </a:lnTo>
                <a:lnTo>
                  <a:pt x="56675" y="39434"/>
                </a:lnTo>
                <a:lnTo>
                  <a:pt x="64215" y="37370"/>
                </a:lnTo>
                <a:lnTo>
                  <a:pt x="68607" y="35827"/>
                </a:lnTo>
                <a:lnTo>
                  <a:pt x="73519" y="33806"/>
                </a:lnTo>
                <a:lnTo>
                  <a:pt x="78778" y="31467"/>
                </a:lnTo>
                <a:lnTo>
                  <a:pt x="89914" y="26222"/>
                </a:lnTo>
                <a:lnTo>
                  <a:pt x="95661" y="23435"/>
                </a:lnTo>
                <a:lnTo>
                  <a:pt x="101477" y="21576"/>
                </a:lnTo>
                <a:lnTo>
                  <a:pt x="107339" y="20337"/>
                </a:lnTo>
                <a:lnTo>
                  <a:pt x="113231" y="19511"/>
                </a:lnTo>
                <a:lnTo>
                  <a:pt x="119144" y="18961"/>
                </a:lnTo>
                <a:lnTo>
                  <a:pt x="125070" y="18593"/>
                </a:lnTo>
                <a:lnTo>
                  <a:pt x="131005" y="18349"/>
                </a:lnTo>
                <a:lnTo>
                  <a:pt x="137938" y="17193"/>
                </a:lnTo>
                <a:lnTo>
                  <a:pt x="145537" y="15431"/>
                </a:lnTo>
                <a:lnTo>
                  <a:pt x="153579" y="13264"/>
                </a:lnTo>
                <a:lnTo>
                  <a:pt x="160925" y="11819"/>
                </a:lnTo>
                <a:lnTo>
                  <a:pt x="167807" y="10855"/>
                </a:lnTo>
                <a:lnTo>
                  <a:pt x="174379" y="10213"/>
                </a:lnTo>
                <a:lnTo>
                  <a:pt x="181737" y="8793"/>
                </a:lnTo>
                <a:lnTo>
                  <a:pt x="189619" y="6855"/>
                </a:lnTo>
                <a:lnTo>
                  <a:pt x="197850" y="4570"/>
                </a:lnTo>
                <a:lnTo>
                  <a:pt x="206314" y="3046"/>
                </a:lnTo>
                <a:lnTo>
                  <a:pt x="214933" y="2030"/>
                </a:lnTo>
                <a:lnTo>
                  <a:pt x="223656" y="1354"/>
                </a:lnTo>
                <a:lnTo>
                  <a:pt x="231456" y="902"/>
                </a:lnTo>
                <a:lnTo>
                  <a:pt x="245414" y="401"/>
                </a:lnTo>
                <a:lnTo>
                  <a:pt x="269551" y="79"/>
                </a:lnTo>
                <a:lnTo>
                  <a:pt x="321469" y="0"/>
                </a:lnTo>
              </a:path>
            </a:pathLst>
          </a:custGeom>
          <a:noFill/>
          <a:ln w="38160">
            <a:solidFill>
              <a:srgbClr val="000000"/>
            </a:solidFill>
            <a:round/>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Constantia"/>
            </a:endParaRPr>
          </a:p>
        </p:txBody>
      </p:sp>
      <p:sp>
        <p:nvSpPr>
          <p:cNvPr id="253" name="SMARTInkAnnotation49"/>
          <p:cNvSpPr/>
          <p:nvPr/>
        </p:nvSpPr>
        <p:spPr>
          <a:xfrm>
            <a:off x="2428920" y="4589640"/>
            <a:ext cx="276120" cy="18720"/>
          </a:xfrm>
          <a:custGeom>
            <a:avLst/>
            <a:gdLst>
              <a:gd name="textAreaLeft" fmla="*/ 0 w 276120"/>
              <a:gd name="textAreaRight" fmla="*/ 276480 w 276120"/>
              <a:gd name="textAreaTop" fmla="*/ 0 h 18720"/>
              <a:gd name="textAreaBottom" fmla="*/ 19080 h 18720"/>
            </a:gdLst>
            <a:ahLst/>
            <a:rect l="textAreaLeft" t="textAreaTop" r="textAreaRight" b="textAreaBottom"/>
            <a:pathLst>
              <a:path w="276821" h="17861">
                <a:moveTo>
                  <a:pt x="0" y="17860"/>
                </a:moveTo>
                <a:lnTo>
                  <a:pt x="157767" y="17860"/>
                </a:lnTo>
                <a:lnTo>
                  <a:pt x="162725" y="16867"/>
                </a:lnTo>
                <a:lnTo>
                  <a:pt x="167022" y="15214"/>
                </a:lnTo>
                <a:lnTo>
                  <a:pt x="170879" y="13119"/>
                </a:lnTo>
                <a:lnTo>
                  <a:pt x="175435" y="11723"/>
                </a:lnTo>
                <a:lnTo>
                  <a:pt x="180456" y="10791"/>
                </a:lnTo>
                <a:lnTo>
                  <a:pt x="185789" y="10171"/>
                </a:lnTo>
                <a:lnTo>
                  <a:pt x="191328" y="9757"/>
                </a:lnTo>
                <a:lnTo>
                  <a:pt x="197005" y="9481"/>
                </a:lnTo>
                <a:lnTo>
                  <a:pt x="211830" y="9093"/>
                </a:lnTo>
                <a:lnTo>
                  <a:pt x="252597" y="8933"/>
                </a:lnTo>
                <a:lnTo>
                  <a:pt x="255710" y="7939"/>
                </a:lnTo>
                <a:lnTo>
                  <a:pt x="258778" y="6286"/>
                </a:lnTo>
                <a:lnTo>
                  <a:pt x="266090" y="1242"/>
                </a:lnTo>
                <a:lnTo>
                  <a:pt x="267683" y="828"/>
                </a:lnTo>
                <a:lnTo>
                  <a:pt x="272097" y="368"/>
                </a:lnTo>
                <a:lnTo>
                  <a:pt x="276820" y="0"/>
                </a:lnTo>
              </a:path>
            </a:pathLst>
          </a:custGeom>
          <a:noFill/>
          <a:ln w="38160">
            <a:solidFill>
              <a:srgbClr val="000000"/>
            </a:solidFill>
            <a:roun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Constantia"/>
            </a:endParaRPr>
          </a:p>
        </p:txBody>
      </p:sp>
      <p:sp>
        <p:nvSpPr>
          <p:cNvPr id="254" name="SMARTInkAnnotation50"/>
          <p:cNvSpPr/>
          <p:nvPr/>
        </p:nvSpPr>
        <p:spPr>
          <a:xfrm>
            <a:off x="2867040" y="4232160"/>
            <a:ext cx="98280" cy="723960"/>
          </a:xfrm>
          <a:custGeom>
            <a:avLst/>
            <a:gdLst>
              <a:gd name="textAreaLeft" fmla="*/ 0 w 98280"/>
              <a:gd name="textAreaRight" fmla="*/ 98640 w 98280"/>
              <a:gd name="textAreaTop" fmla="*/ 0 h 723960"/>
              <a:gd name="textAreaBottom" fmla="*/ 723960 h 723960"/>
            </a:gdLst>
            <a:ahLst/>
            <a:rect l="textAreaLeft" t="textAreaTop" r="textAreaRight" b="textAreaBottom"/>
            <a:pathLst>
              <a:path w="98228" h="723306">
                <a:moveTo>
                  <a:pt x="98227" y="0"/>
                </a:moveTo>
                <a:lnTo>
                  <a:pt x="98227" y="7689"/>
                </a:lnTo>
                <a:lnTo>
                  <a:pt x="95581" y="13670"/>
                </a:lnTo>
                <a:lnTo>
                  <a:pt x="93486" y="18043"/>
                </a:lnTo>
                <a:lnTo>
                  <a:pt x="91159" y="25548"/>
                </a:lnTo>
                <a:lnTo>
                  <a:pt x="89665" y="43191"/>
                </a:lnTo>
                <a:lnTo>
                  <a:pt x="89370" y="65784"/>
                </a:lnTo>
                <a:lnTo>
                  <a:pt x="89298" y="151964"/>
                </a:lnTo>
                <a:lnTo>
                  <a:pt x="86652" y="172381"/>
                </a:lnTo>
                <a:lnTo>
                  <a:pt x="84557" y="183381"/>
                </a:lnTo>
                <a:lnTo>
                  <a:pt x="83160" y="194685"/>
                </a:lnTo>
                <a:lnTo>
                  <a:pt x="82229" y="206188"/>
                </a:lnTo>
                <a:lnTo>
                  <a:pt x="81609" y="217826"/>
                </a:lnTo>
                <a:lnTo>
                  <a:pt x="80919" y="241340"/>
                </a:lnTo>
                <a:lnTo>
                  <a:pt x="80735" y="253167"/>
                </a:lnTo>
                <a:lnTo>
                  <a:pt x="79621" y="266012"/>
                </a:lnTo>
                <a:lnTo>
                  <a:pt x="77885" y="279537"/>
                </a:lnTo>
                <a:lnTo>
                  <a:pt x="75736" y="293515"/>
                </a:lnTo>
                <a:lnTo>
                  <a:pt x="70702" y="322274"/>
                </a:lnTo>
                <a:lnTo>
                  <a:pt x="67971" y="336888"/>
                </a:lnTo>
                <a:lnTo>
                  <a:pt x="62290" y="363710"/>
                </a:lnTo>
                <a:lnTo>
                  <a:pt x="59386" y="376419"/>
                </a:lnTo>
                <a:lnTo>
                  <a:pt x="53514" y="406415"/>
                </a:lnTo>
                <a:lnTo>
                  <a:pt x="50559" y="422748"/>
                </a:lnTo>
                <a:lnTo>
                  <a:pt x="44630" y="451479"/>
                </a:lnTo>
                <a:lnTo>
                  <a:pt x="35713" y="492614"/>
                </a:lnTo>
                <a:lnTo>
                  <a:pt x="32739" y="507003"/>
                </a:lnTo>
                <a:lnTo>
                  <a:pt x="30756" y="520564"/>
                </a:lnTo>
                <a:lnTo>
                  <a:pt x="29434" y="533574"/>
                </a:lnTo>
                <a:lnTo>
                  <a:pt x="28552" y="546216"/>
                </a:lnTo>
                <a:lnTo>
                  <a:pt x="26972" y="558613"/>
                </a:lnTo>
                <a:lnTo>
                  <a:pt x="24927" y="570846"/>
                </a:lnTo>
                <a:lnTo>
                  <a:pt x="22571" y="582971"/>
                </a:lnTo>
                <a:lnTo>
                  <a:pt x="17308" y="607025"/>
                </a:lnTo>
                <a:lnTo>
                  <a:pt x="14515" y="618996"/>
                </a:lnTo>
                <a:lnTo>
                  <a:pt x="12654" y="629953"/>
                </a:lnTo>
                <a:lnTo>
                  <a:pt x="10585" y="650065"/>
                </a:lnTo>
                <a:lnTo>
                  <a:pt x="9041" y="658603"/>
                </a:lnTo>
                <a:lnTo>
                  <a:pt x="7020" y="666280"/>
                </a:lnTo>
                <a:lnTo>
                  <a:pt x="4680" y="673382"/>
                </a:lnTo>
                <a:lnTo>
                  <a:pt x="2080" y="686565"/>
                </a:lnTo>
                <a:lnTo>
                  <a:pt x="617" y="705143"/>
                </a:lnTo>
                <a:lnTo>
                  <a:pt x="0" y="723305"/>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55" name="SMARTInkAnnotation51"/>
          <p:cNvSpPr/>
          <p:nvPr/>
        </p:nvSpPr>
        <p:spPr>
          <a:xfrm>
            <a:off x="3038400" y="4313160"/>
            <a:ext cx="363600" cy="606600"/>
          </a:xfrm>
          <a:custGeom>
            <a:avLst/>
            <a:gdLst>
              <a:gd name="textAreaLeft" fmla="*/ 0 w 363600"/>
              <a:gd name="textAreaRight" fmla="*/ 363960 w 363600"/>
              <a:gd name="textAreaTop" fmla="*/ 0 h 606600"/>
              <a:gd name="textAreaBottom" fmla="*/ 606960 h 606600"/>
            </a:gdLst>
            <a:ahLst/>
            <a:rect l="textAreaLeft" t="textAreaTop" r="textAreaRight" b="textAreaBottom"/>
            <a:pathLst>
              <a:path w="364152" h="606595">
                <a:moveTo>
                  <a:pt x="239334" y="17818"/>
                </a:moveTo>
                <a:lnTo>
                  <a:pt x="239334" y="13078"/>
                </a:lnTo>
                <a:lnTo>
                  <a:pt x="238342" y="10689"/>
                </a:lnTo>
                <a:lnTo>
                  <a:pt x="231645" y="1568"/>
                </a:lnTo>
                <a:lnTo>
                  <a:pt x="230240" y="1031"/>
                </a:lnTo>
                <a:lnTo>
                  <a:pt x="220854" y="171"/>
                </a:lnTo>
                <a:lnTo>
                  <a:pt x="209715" y="21"/>
                </a:lnTo>
                <a:lnTo>
                  <a:pt x="204705" y="0"/>
                </a:lnTo>
                <a:lnTo>
                  <a:pt x="200373" y="979"/>
                </a:lnTo>
                <a:lnTo>
                  <a:pt x="192914" y="4712"/>
                </a:lnTo>
                <a:lnTo>
                  <a:pt x="183645" y="12324"/>
                </a:lnTo>
                <a:lnTo>
                  <a:pt x="172912" y="22321"/>
                </a:lnTo>
                <a:lnTo>
                  <a:pt x="149852" y="44909"/>
                </a:lnTo>
                <a:lnTo>
                  <a:pt x="126188" y="68480"/>
                </a:lnTo>
                <a:lnTo>
                  <a:pt x="120247" y="75405"/>
                </a:lnTo>
                <a:lnTo>
                  <a:pt x="114302" y="82998"/>
                </a:lnTo>
                <a:lnTo>
                  <a:pt x="108354" y="91037"/>
                </a:lnTo>
                <a:lnTo>
                  <a:pt x="96454" y="107907"/>
                </a:lnTo>
                <a:lnTo>
                  <a:pt x="90502" y="116572"/>
                </a:lnTo>
                <a:lnTo>
                  <a:pt x="84550" y="126318"/>
                </a:lnTo>
                <a:lnTo>
                  <a:pt x="78598" y="136784"/>
                </a:lnTo>
                <a:lnTo>
                  <a:pt x="66692" y="158997"/>
                </a:lnTo>
                <a:lnTo>
                  <a:pt x="54786" y="182098"/>
                </a:lnTo>
                <a:lnTo>
                  <a:pt x="49826" y="193815"/>
                </a:lnTo>
                <a:lnTo>
                  <a:pt x="45526" y="205595"/>
                </a:lnTo>
                <a:lnTo>
                  <a:pt x="41668" y="217417"/>
                </a:lnTo>
                <a:lnTo>
                  <a:pt x="38104" y="230259"/>
                </a:lnTo>
                <a:lnTo>
                  <a:pt x="34735" y="243781"/>
                </a:lnTo>
                <a:lnTo>
                  <a:pt x="16160" y="323528"/>
                </a:lnTo>
                <a:lnTo>
                  <a:pt x="10169" y="351134"/>
                </a:lnTo>
                <a:lnTo>
                  <a:pt x="4199" y="376633"/>
                </a:lnTo>
                <a:lnTo>
                  <a:pt x="2210" y="389981"/>
                </a:lnTo>
                <a:lnTo>
                  <a:pt x="884" y="403842"/>
                </a:lnTo>
                <a:lnTo>
                  <a:pt x="0" y="418042"/>
                </a:lnTo>
                <a:lnTo>
                  <a:pt x="403" y="431478"/>
                </a:lnTo>
                <a:lnTo>
                  <a:pt x="1664" y="444404"/>
                </a:lnTo>
                <a:lnTo>
                  <a:pt x="3496" y="456990"/>
                </a:lnTo>
                <a:lnTo>
                  <a:pt x="5710" y="469349"/>
                </a:lnTo>
                <a:lnTo>
                  <a:pt x="8179" y="481558"/>
                </a:lnTo>
                <a:lnTo>
                  <a:pt x="10816" y="493666"/>
                </a:lnTo>
                <a:lnTo>
                  <a:pt x="13567" y="504714"/>
                </a:lnTo>
                <a:lnTo>
                  <a:pt x="16393" y="515056"/>
                </a:lnTo>
                <a:lnTo>
                  <a:pt x="22179" y="534484"/>
                </a:lnTo>
                <a:lnTo>
                  <a:pt x="28057" y="553041"/>
                </a:lnTo>
                <a:lnTo>
                  <a:pt x="36623" y="568565"/>
                </a:lnTo>
                <a:lnTo>
                  <a:pt x="47045" y="581087"/>
                </a:lnTo>
                <a:lnTo>
                  <a:pt x="58292" y="589959"/>
                </a:lnTo>
                <a:lnTo>
                  <a:pt x="64069" y="593715"/>
                </a:lnTo>
                <a:lnTo>
                  <a:pt x="69904" y="597209"/>
                </a:lnTo>
                <a:lnTo>
                  <a:pt x="75780" y="600532"/>
                </a:lnTo>
                <a:lnTo>
                  <a:pt x="82672" y="602748"/>
                </a:lnTo>
                <a:lnTo>
                  <a:pt x="90244" y="604224"/>
                </a:lnTo>
                <a:lnTo>
                  <a:pt x="98269" y="605209"/>
                </a:lnTo>
                <a:lnTo>
                  <a:pt x="105603" y="605865"/>
                </a:lnTo>
                <a:lnTo>
                  <a:pt x="112477" y="606303"/>
                </a:lnTo>
                <a:lnTo>
                  <a:pt x="119044" y="606594"/>
                </a:lnTo>
                <a:lnTo>
                  <a:pt x="126398" y="604804"/>
                </a:lnTo>
                <a:lnTo>
                  <a:pt x="134278" y="601627"/>
                </a:lnTo>
                <a:lnTo>
                  <a:pt x="142507" y="597524"/>
                </a:lnTo>
                <a:lnTo>
                  <a:pt x="150971" y="592805"/>
                </a:lnTo>
                <a:lnTo>
                  <a:pt x="159589" y="587673"/>
                </a:lnTo>
                <a:lnTo>
                  <a:pt x="177103" y="576681"/>
                </a:lnTo>
                <a:lnTo>
                  <a:pt x="194808" y="565181"/>
                </a:lnTo>
                <a:lnTo>
                  <a:pt x="202705" y="558344"/>
                </a:lnTo>
                <a:lnTo>
                  <a:pt x="209954" y="550809"/>
                </a:lnTo>
                <a:lnTo>
                  <a:pt x="216770" y="542810"/>
                </a:lnTo>
                <a:lnTo>
                  <a:pt x="224292" y="534500"/>
                </a:lnTo>
                <a:lnTo>
                  <a:pt x="240586" y="517330"/>
                </a:lnTo>
                <a:lnTo>
                  <a:pt x="248106" y="507592"/>
                </a:lnTo>
                <a:lnTo>
                  <a:pt x="255104" y="497130"/>
                </a:lnTo>
                <a:lnTo>
                  <a:pt x="268171" y="475916"/>
                </a:lnTo>
                <a:lnTo>
                  <a:pt x="280593" y="456566"/>
                </a:lnTo>
                <a:lnTo>
                  <a:pt x="285692" y="446246"/>
                </a:lnTo>
                <a:lnTo>
                  <a:pt x="290083" y="435398"/>
                </a:lnTo>
                <a:lnTo>
                  <a:pt x="294002" y="424197"/>
                </a:lnTo>
                <a:lnTo>
                  <a:pt x="303649" y="398522"/>
                </a:lnTo>
                <a:lnTo>
                  <a:pt x="309000" y="384730"/>
                </a:lnTo>
                <a:lnTo>
                  <a:pt x="313559" y="371567"/>
                </a:lnTo>
                <a:lnTo>
                  <a:pt x="317591" y="358823"/>
                </a:lnTo>
                <a:lnTo>
                  <a:pt x="324717" y="334078"/>
                </a:lnTo>
                <a:lnTo>
                  <a:pt x="331191" y="309852"/>
                </a:lnTo>
                <a:lnTo>
                  <a:pt x="335298" y="296844"/>
                </a:lnTo>
                <a:lnTo>
                  <a:pt x="340021" y="283210"/>
                </a:lnTo>
                <a:lnTo>
                  <a:pt x="345154" y="269160"/>
                </a:lnTo>
                <a:lnTo>
                  <a:pt x="348576" y="255825"/>
                </a:lnTo>
                <a:lnTo>
                  <a:pt x="350857" y="242966"/>
                </a:lnTo>
                <a:lnTo>
                  <a:pt x="352378" y="230425"/>
                </a:lnTo>
                <a:lnTo>
                  <a:pt x="354385" y="218095"/>
                </a:lnTo>
                <a:lnTo>
                  <a:pt x="356714" y="205906"/>
                </a:lnTo>
                <a:lnTo>
                  <a:pt x="359259" y="193812"/>
                </a:lnTo>
                <a:lnTo>
                  <a:pt x="360956" y="181780"/>
                </a:lnTo>
                <a:lnTo>
                  <a:pt x="362087" y="169790"/>
                </a:lnTo>
                <a:lnTo>
                  <a:pt x="362841" y="157828"/>
                </a:lnTo>
                <a:lnTo>
                  <a:pt x="363679" y="136600"/>
                </a:lnTo>
                <a:lnTo>
                  <a:pt x="364151" y="107914"/>
                </a:lnTo>
                <a:lnTo>
                  <a:pt x="363269" y="89611"/>
                </a:lnTo>
                <a:lnTo>
                  <a:pt x="359570" y="71555"/>
                </a:lnTo>
                <a:lnTo>
                  <a:pt x="354619" y="56253"/>
                </a:lnTo>
                <a:lnTo>
                  <a:pt x="349110" y="43830"/>
                </a:lnTo>
                <a:lnTo>
                  <a:pt x="339440" y="30266"/>
                </a:lnTo>
                <a:lnTo>
                  <a:pt x="329797" y="19712"/>
                </a:lnTo>
                <a:lnTo>
                  <a:pt x="321542" y="13699"/>
                </a:lnTo>
                <a:lnTo>
                  <a:pt x="313574" y="10035"/>
                </a:lnTo>
                <a:lnTo>
                  <a:pt x="303418" y="5099"/>
                </a:lnTo>
                <a:lnTo>
                  <a:pt x="294935" y="2243"/>
                </a:lnTo>
                <a:lnTo>
                  <a:pt x="291284" y="1482"/>
                </a:lnTo>
                <a:lnTo>
                  <a:pt x="286866" y="1967"/>
                </a:lnTo>
                <a:lnTo>
                  <a:pt x="276665" y="5150"/>
                </a:lnTo>
                <a:lnTo>
                  <a:pt x="268162" y="9873"/>
                </a:lnTo>
                <a:lnTo>
                  <a:pt x="264506" y="12522"/>
                </a:lnTo>
                <a:lnTo>
                  <a:pt x="257798" y="15464"/>
                </a:lnTo>
                <a:lnTo>
                  <a:pt x="254620" y="16249"/>
                </a:lnTo>
                <a:lnTo>
                  <a:pt x="252501" y="17764"/>
                </a:lnTo>
                <a:lnTo>
                  <a:pt x="251089" y="19767"/>
                </a:lnTo>
                <a:lnTo>
                  <a:pt x="248264" y="26748"/>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56" name="SMARTInkAnnotation52"/>
          <p:cNvSpPr/>
          <p:nvPr/>
        </p:nvSpPr>
        <p:spPr>
          <a:xfrm>
            <a:off x="3519360" y="4322880"/>
            <a:ext cx="293760" cy="704880"/>
          </a:xfrm>
          <a:custGeom>
            <a:avLst/>
            <a:gdLst>
              <a:gd name="textAreaLeft" fmla="*/ 0 w 293760"/>
              <a:gd name="textAreaRight" fmla="*/ 294120 w 293760"/>
              <a:gd name="textAreaTop" fmla="*/ 0 h 704880"/>
              <a:gd name="textAreaBottom" fmla="*/ 705240 h 704880"/>
            </a:gdLst>
            <a:ahLst/>
            <a:rect l="textAreaLeft" t="textAreaTop" r="textAreaRight" b="textAreaBottom"/>
            <a:pathLst>
              <a:path w="292386" h="704511">
                <a:moveTo>
                  <a:pt x="221475" y="17460"/>
                </a:moveTo>
                <a:lnTo>
                  <a:pt x="216734" y="12719"/>
                </a:lnTo>
                <a:lnTo>
                  <a:pt x="214346" y="11323"/>
                </a:lnTo>
                <a:lnTo>
                  <a:pt x="206244" y="8365"/>
                </a:lnTo>
                <a:lnTo>
                  <a:pt x="197559" y="2638"/>
                </a:lnTo>
                <a:lnTo>
                  <a:pt x="191663" y="950"/>
                </a:lnTo>
                <a:lnTo>
                  <a:pt x="183090" y="201"/>
                </a:lnTo>
                <a:lnTo>
                  <a:pt x="178025" y="0"/>
                </a:lnTo>
                <a:lnTo>
                  <a:pt x="172665" y="859"/>
                </a:lnTo>
                <a:lnTo>
                  <a:pt x="167107" y="2424"/>
                </a:lnTo>
                <a:lnTo>
                  <a:pt x="161417" y="4459"/>
                </a:lnTo>
                <a:lnTo>
                  <a:pt x="155639" y="5816"/>
                </a:lnTo>
                <a:lnTo>
                  <a:pt x="149803" y="6720"/>
                </a:lnTo>
                <a:lnTo>
                  <a:pt x="143928" y="7323"/>
                </a:lnTo>
                <a:lnTo>
                  <a:pt x="138027" y="8718"/>
                </a:lnTo>
                <a:lnTo>
                  <a:pt x="132109" y="10639"/>
                </a:lnTo>
                <a:lnTo>
                  <a:pt x="126179" y="12913"/>
                </a:lnTo>
                <a:lnTo>
                  <a:pt x="120240" y="16413"/>
                </a:lnTo>
                <a:lnTo>
                  <a:pt x="114298" y="20731"/>
                </a:lnTo>
                <a:lnTo>
                  <a:pt x="108352" y="25594"/>
                </a:lnTo>
                <a:lnTo>
                  <a:pt x="102404" y="29827"/>
                </a:lnTo>
                <a:lnTo>
                  <a:pt x="96453" y="33642"/>
                </a:lnTo>
                <a:lnTo>
                  <a:pt x="90502" y="37178"/>
                </a:lnTo>
                <a:lnTo>
                  <a:pt x="84550" y="42511"/>
                </a:lnTo>
                <a:lnTo>
                  <a:pt x="78598" y="49043"/>
                </a:lnTo>
                <a:lnTo>
                  <a:pt x="72645" y="56375"/>
                </a:lnTo>
                <a:lnTo>
                  <a:pt x="66693" y="63247"/>
                </a:lnTo>
                <a:lnTo>
                  <a:pt x="60740" y="69813"/>
                </a:lnTo>
                <a:lnTo>
                  <a:pt x="48834" y="82399"/>
                </a:lnTo>
                <a:lnTo>
                  <a:pt x="36928" y="94608"/>
                </a:lnTo>
                <a:lnTo>
                  <a:pt x="31967" y="100642"/>
                </a:lnTo>
                <a:lnTo>
                  <a:pt x="23809" y="112638"/>
                </a:lnTo>
                <a:lnTo>
                  <a:pt x="16875" y="127230"/>
                </a:lnTo>
                <a:lnTo>
                  <a:pt x="11480" y="143637"/>
                </a:lnTo>
                <a:lnTo>
                  <a:pt x="9081" y="160851"/>
                </a:lnTo>
                <a:lnTo>
                  <a:pt x="8441" y="171593"/>
                </a:lnTo>
                <a:lnTo>
                  <a:pt x="7731" y="196758"/>
                </a:lnTo>
                <a:lnTo>
                  <a:pt x="8533" y="210413"/>
                </a:lnTo>
                <a:lnTo>
                  <a:pt x="10061" y="224479"/>
                </a:lnTo>
                <a:lnTo>
                  <a:pt x="12071" y="238816"/>
                </a:lnTo>
                <a:lnTo>
                  <a:pt x="19596" y="260038"/>
                </a:lnTo>
                <a:lnTo>
                  <a:pt x="24381" y="268476"/>
                </a:lnTo>
                <a:lnTo>
                  <a:pt x="29555" y="277077"/>
                </a:lnTo>
                <a:lnTo>
                  <a:pt x="40596" y="294572"/>
                </a:lnTo>
                <a:lnTo>
                  <a:pt x="46319" y="302412"/>
                </a:lnTo>
                <a:lnTo>
                  <a:pt x="52118" y="309623"/>
                </a:lnTo>
                <a:lnTo>
                  <a:pt x="57969" y="316415"/>
                </a:lnTo>
                <a:lnTo>
                  <a:pt x="63854" y="322927"/>
                </a:lnTo>
                <a:lnTo>
                  <a:pt x="75684" y="335455"/>
                </a:lnTo>
                <a:lnTo>
                  <a:pt x="82609" y="341574"/>
                </a:lnTo>
                <a:lnTo>
                  <a:pt x="90202" y="347637"/>
                </a:lnTo>
                <a:lnTo>
                  <a:pt x="98241" y="353664"/>
                </a:lnTo>
                <a:lnTo>
                  <a:pt x="115110" y="365652"/>
                </a:lnTo>
                <a:lnTo>
                  <a:pt x="123776" y="371627"/>
                </a:lnTo>
                <a:lnTo>
                  <a:pt x="131538" y="377595"/>
                </a:lnTo>
                <a:lnTo>
                  <a:pt x="138696" y="383557"/>
                </a:lnTo>
                <a:lnTo>
                  <a:pt x="145453" y="389517"/>
                </a:lnTo>
                <a:lnTo>
                  <a:pt x="152934" y="395475"/>
                </a:lnTo>
                <a:lnTo>
                  <a:pt x="160898" y="401430"/>
                </a:lnTo>
                <a:lnTo>
                  <a:pt x="169184" y="407386"/>
                </a:lnTo>
                <a:lnTo>
                  <a:pt x="176692" y="413340"/>
                </a:lnTo>
                <a:lnTo>
                  <a:pt x="183682" y="419294"/>
                </a:lnTo>
                <a:lnTo>
                  <a:pt x="190327" y="425247"/>
                </a:lnTo>
                <a:lnTo>
                  <a:pt x="196741" y="432193"/>
                </a:lnTo>
                <a:lnTo>
                  <a:pt x="203001" y="439800"/>
                </a:lnTo>
                <a:lnTo>
                  <a:pt x="209159" y="447849"/>
                </a:lnTo>
                <a:lnTo>
                  <a:pt x="215249" y="455198"/>
                </a:lnTo>
                <a:lnTo>
                  <a:pt x="221292" y="462082"/>
                </a:lnTo>
                <a:lnTo>
                  <a:pt x="227306" y="468656"/>
                </a:lnTo>
                <a:lnTo>
                  <a:pt x="232308" y="475023"/>
                </a:lnTo>
                <a:lnTo>
                  <a:pt x="240511" y="487389"/>
                </a:lnTo>
                <a:lnTo>
                  <a:pt x="247464" y="502146"/>
                </a:lnTo>
                <a:lnTo>
                  <a:pt x="253862" y="517633"/>
                </a:lnTo>
                <a:lnTo>
                  <a:pt x="262050" y="537510"/>
                </a:lnTo>
                <a:lnTo>
                  <a:pt x="264313" y="549888"/>
                </a:lnTo>
                <a:lnTo>
                  <a:pt x="262673" y="564649"/>
                </a:lnTo>
                <a:lnTo>
                  <a:pt x="259629" y="580139"/>
                </a:lnTo>
                <a:lnTo>
                  <a:pt x="258276" y="593638"/>
                </a:lnTo>
                <a:lnTo>
                  <a:pt x="255931" y="600016"/>
                </a:lnTo>
                <a:lnTo>
                  <a:pt x="248033" y="612395"/>
                </a:lnTo>
                <a:lnTo>
                  <a:pt x="240554" y="624511"/>
                </a:lnTo>
                <a:lnTo>
                  <a:pt x="232932" y="636511"/>
                </a:lnTo>
                <a:lnTo>
                  <a:pt x="228120" y="642488"/>
                </a:lnTo>
                <a:lnTo>
                  <a:pt x="222929" y="648458"/>
                </a:lnTo>
                <a:lnTo>
                  <a:pt x="217483" y="654422"/>
                </a:lnTo>
                <a:lnTo>
                  <a:pt x="206141" y="666340"/>
                </a:lnTo>
                <a:lnTo>
                  <a:pt x="200338" y="671305"/>
                </a:lnTo>
                <a:lnTo>
                  <a:pt x="194485" y="675606"/>
                </a:lnTo>
                <a:lnTo>
                  <a:pt x="188599" y="679466"/>
                </a:lnTo>
                <a:lnTo>
                  <a:pt x="181698" y="683031"/>
                </a:lnTo>
                <a:lnTo>
                  <a:pt x="174121" y="686401"/>
                </a:lnTo>
                <a:lnTo>
                  <a:pt x="166093" y="689640"/>
                </a:lnTo>
                <a:lnTo>
                  <a:pt x="158757" y="692790"/>
                </a:lnTo>
                <a:lnTo>
                  <a:pt x="145314" y="698937"/>
                </a:lnTo>
                <a:lnTo>
                  <a:pt x="138951" y="700974"/>
                </a:lnTo>
                <a:lnTo>
                  <a:pt x="132724" y="702331"/>
                </a:lnTo>
                <a:lnTo>
                  <a:pt x="126589" y="703236"/>
                </a:lnTo>
                <a:lnTo>
                  <a:pt x="120514" y="703839"/>
                </a:lnTo>
                <a:lnTo>
                  <a:pt x="114480" y="704241"/>
                </a:lnTo>
                <a:lnTo>
                  <a:pt x="108473" y="704510"/>
                </a:lnTo>
                <a:lnTo>
                  <a:pt x="102484" y="703696"/>
                </a:lnTo>
                <a:lnTo>
                  <a:pt x="96507" y="702162"/>
                </a:lnTo>
                <a:lnTo>
                  <a:pt x="90538" y="700147"/>
                </a:lnTo>
                <a:lnTo>
                  <a:pt x="84574" y="697811"/>
                </a:lnTo>
                <a:lnTo>
                  <a:pt x="78614" y="695262"/>
                </a:lnTo>
                <a:lnTo>
                  <a:pt x="66700" y="689783"/>
                </a:lnTo>
                <a:lnTo>
                  <a:pt x="54790" y="684041"/>
                </a:lnTo>
                <a:lnTo>
                  <a:pt x="49828" y="681121"/>
                </a:lnTo>
                <a:lnTo>
                  <a:pt x="41669" y="675230"/>
                </a:lnTo>
                <a:lnTo>
                  <a:pt x="34736" y="666659"/>
                </a:lnTo>
                <a:lnTo>
                  <a:pt x="28346" y="656235"/>
                </a:lnTo>
                <a:lnTo>
                  <a:pt x="22200" y="644987"/>
                </a:lnTo>
                <a:lnTo>
                  <a:pt x="10169" y="621598"/>
                </a:lnTo>
                <a:lnTo>
                  <a:pt x="4199" y="609750"/>
                </a:lnTo>
                <a:lnTo>
                  <a:pt x="885" y="595224"/>
                </a:lnTo>
                <a:lnTo>
                  <a:pt x="0" y="587182"/>
                </a:lnTo>
                <a:lnTo>
                  <a:pt x="1664" y="570310"/>
                </a:lnTo>
                <a:lnTo>
                  <a:pt x="4718" y="553882"/>
                </a:lnTo>
                <a:lnTo>
                  <a:pt x="7430" y="532485"/>
                </a:lnTo>
                <a:lnTo>
                  <a:pt x="11581" y="516235"/>
                </a:lnTo>
                <a:lnTo>
                  <a:pt x="16733" y="499091"/>
                </a:lnTo>
                <a:lnTo>
                  <a:pt x="19496" y="490351"/>
                </a:lnTo>
                <a:lnTo>
                  <a:pt x="27857" y="475350"/>
                </a:lnTo>
                <a:lnTo>
                  <a:pt x="32865" y="468571"/>
                </a:lnTo>
                <a:lnTo>
                  <a:pt x="43721" y="453103"/>
                </a:lnTo>
                <a:lnTo>
                  <a:pt x="49394" y="444810"/>
                </a:lnTo>
                <a:lnTo>
                  <a:pt x="55161" y="437297"/>
                </a:lnTo>
                <a:lnTo>
                  <a:pt x="60989" y="430305"/>
                </a:lnTo>
                <a:lnTo>
                  <a:pt x="66860" y="423658"/>
                </a:lnTo>
                <a:lnTo>
                  <a:pt x="78674" y="410983"/>
                </a:lnTo>
                <a:lnTo>
                  <a:pt x="99127" y="390043"/>
                </a:lnTo>
                <a:lnTo>
                  <a:pt x="127964" y="361042"/>
                </a:lnTo>
                <a:lnTo>
                  <a:pt x="135322" y="354663"/>
                </a:lnTo>
                <a:lnTo>
                  <a:pt x="143204" y="348426"/>
                </a:lnTo>
                <a:lnTo>
                  <a:pt x="151435" y="342284"/>
                </a:lnTo>
                <a:lnTo>
                  <a:pt x="168518" y="330167"/>
                </a:lnTo>
                <a:lnTo>
                  <a:pt x="177240" y="324158"/>
                </a:lnTo>
                <a:lnTo>
                  <a:pt x="185040" y="317175"/>
                </a:lnTo>
                <a:lnTo>
                  <a:pt x="192224" y="309543"/>
                </a:lnTo>
                <a:lnTo>
                  <a:pt x="198998" y="301479"/>
                </a:lnTo>
                <a:lnTo>
                  <a:pt x="206490" y="294118"/>
                </a:lnTo>
                <a:lnTo>
                  <a:pt x="214461" y="287227"/>
                </a:lnTo>
                <a:lnTo>
                  <a:pt x="222752" y="280647"/>
                </a:lnTo>
                <a:lnTo>
                  <a:pt x="230264" y="274278"/>
                </a:lnTo>
                <a:lnTo>
                  <a:pt x="237256" y="268047"/>
                </a:lnTo>
                <a:lnTo>
                  <a:pt x="243902" y="261909"/>
                </a:lnTo>
                <a:lnTo>
                  <a:pt x="249325" y="255832"/>
                </a:lnTo>
                <a:lnTo>
                  <a:pt x="257996" y="243788"/>
                </a:lnTo>
                <a:lnTo>
                  <a:pt x="265157" y="231821"/>
                </a:lnTo>
                <a:lnTo>
                  <a:pt x="271647" y="219888"/>
                </a:lnTo>
                <a:lnTo>
                  <a:pt x="283898" y="196058"/>
                </a:lnTo>
                <a:lnTo>
                  <a:pt x="288906" y="184149"/>
                </a:lnTo>
                <a:lnTo>
                  <a:pt x="291725" y="166289"/>
                </a:lnTo>
                <a:lnTo>
                  <a:pt x="292385" y="154382"/>
                </a:lnTo>
                <a:lnTo>
                  <a:pt x="290032" y="142475"/>
                </a:lnTo>
                <a:lnTo>
                  <a:pt x="286671" y="130569"/>
                </a:lnTo>
                <a:lnTo>
                  <a:pt x="283787" y="113701"/>
                </a:lnTo>
                <a:lnTo>
                  <a:pt x="278082" y="100987"/>
                </a:lnTo>
                <a:lnTo>
                  <a:pt x="274958" y="86085"/>
                </a:lnTo>
                <a:lnTo>
                  <a:pt x="270711" y="78387"/>
                </a:lnTo>
                <a:lnTo>
                  <a:pt x="262742" y="68475"/>
                </a:lnTo>
                <a:lnTo>
                  <a:pt x="260893" y="65361"/>
                </a:lnTo>
                <a:lnTo>
                  <a:pt x="257298" y="56237"/>
                </a:lnTo>
                <a:lnTo>
                  <a:pt x="252940" y="50238"/>
                </a:lnTo>
                <a:lnTo>
                  <a:pt x="250389" y="48242"/>
                </a:lnTo>
                <a:lnTo>
                  <a:pt x="247696" y="46911"/>
                </a:lnTo>
                <a:lnTo>
                  <a:pt x="240986" y="44775"/>
                </a:lnTo>
                <a:lnTo>
                  <a:pt x="235083" y="44404"/>
                </a:lnTo>
                <a:lnTo>
                  <a:pt x="232531" y="45345"/>
                </a:lnTo>
                <a:lnTo>
                  <a:pt x="227051" y="49035"/>
                </a:lnTo>
                <a:lnTo>
                  <a:pt x="225192" y="51408"/>
                </a:lnTo>
                <a:lnTo>
                  <a:pt x="223953" y="53982"/>
                </a:lnTo>
                <a:lnTo>
                  <a:pt x="223127" y="56691"/>
                </a:lnTo>
                <a:lnTo>
                  <a:pt x="221584" y="58497"/>
                </a:lnTo>
                <a:lnTo>
                  <a:pt x="219563" y="59700"/>
                </a:lnTo>
                <a:lnTo>
                  <a:pt x="212545" y="62108"/>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57" name="SMARTInkAnnotation53"/>
          <p:cNvSpPr/>
          <p:nvPr/>
        </p:nvSpPr>
        <p:spPr>
          <a:xfrm>
            <a:off x="3948120" y="4473720"/>
            <a:ext cx="417600" cy="527040"/>
          </a:xfrm>
          <a:custGeom>
            <a:avLst/>
            <a:gdLst>
              <a:gd name="textAreaLeft" fmla="*/ 0 w 417600"/>
              <a:gd name="textAreaRight" fmla="*/ 417960 w 417600"/>
              <a:gd name="textAreaTop" fmla="*/ 0 h 527040"/>
              <a:gd name="textAreaBottom" fmla="*/ 527400 h 527040"/>
            </a:gdLst>
            <a:ahLst/>
            <a:rect l="textAreaLeft" t="textAreaTop" r="textAreaRight" b="textAreaBottom"/>
            <a:pathLst>
              <a:path w="418756" h="526562">
                <a:moveTo>
                  <a:pt x="213899" y="26667"/>
                </a:moveTo>
                <a:lnTo>
                  <a:pt x="209158" y="26667"/>
                </a:lnTo>
                <a:lnTo>
                  <a:pt x="206770" y="25675"/>
                </a:lnTo>
                <a:lnTo>
                  <a:pt x="201470" y="21927"/>
                </a:lnTo>
                <a:lnTo>
                  <a:pt x="199660" y="19538"/>
                </a:lnTo>
                <a:lnTo>
                  <a:pt x="198453" y="16954"/>
                </a:lnTo>
                <a:lnTo>
                  <a:pt x="197649" y="14239"/>
                </a:lnTo>
                <a:lnTo>
                  <a:pt x="196120" y="12428"/>
                </a:lnTo>
                <a:lnTo>
                  <a:pt x="194109" y="11221"/>
                </a:lnTo>
                <a:lnTo>
                  <a:pt x="191776" y="10417"/>
                </a:lnTo>
                <a:lnTo>
                  <a:pt x="186538" y="6878"/>
                </a:lnTo>
                <a:lnTo>
                  <a:pt x="183752" y="4544"/>
                </a:lnTo>
                <a:lnTo>
                  <a:pt x="180903" y="2989"/>
                </a:lnTo>
                <a:lnTo>
                  <a:pt x="175091" y="1261"/>
                </a:lnTo>
                <a:lnTo>
                  <a:pt x="163274" y="152"/>
                </a:lnTo>
                <a:lnTo>
                  <a:pt x="157334" y="0"/>
                </a:lnTo>
                <a:lnTo>
                  <a:pt x="154361" y="951"/>
                </a:lnTo>
                <a:lnTo>
                  <a:pt x="148411" y="4655"/>
                </a:lnTo>
                <a:lnTo>
                  <a:pt x="136508" y="15117"/>
                </a:lnTo>
                <a:lnTo>
                  <a:pt x="126586" y="23796"/>
                </a:lnTo>
                <a:lnTo>
                  <a:pt x="116885" y="29691"/>
                </a:lnTo>
                <a:lnTo>
                  <a:pt x="105007" y="38588"/>
                </a:lnTo>
                <a:lnTo>
                  <a:pt x="95719" y="47179"/>
                </a:lnTo>
                <a:lnTo>
                  <a:pt x="85968" y="57612"/>
                </a:lnTo>
                <a:lnTo>
                  <a:pt x="78327" y="68863"/>
                </a:lnTo>
                <a:lnTo>
                  <a:pt x="71624" y="80478"/>
                </a:lnTo>
                <a:lnTo>
                  <a:pt x="64345" y="92255"/>
                </a:lnTo>
                <a:lnTo>
                  <a:pt x="54495" y="104104"/>
                </a:lnTo>
                <a:lnTo>
                  <a:pt x="46149" y="115984"/>
                </a:lnTo>
                <a:lnTo>
                  <a:pt x="39132" y="128872"/>
                </a:lnTo>
                <a:lnTo>
                  <a:pt x="26544" y="158753"/>
                </a:lnTo>
                <a:lnTo>
                  <a:pt x="20497" y="172684"/>
                </a:lnTo>
                <a:lnTo>
                  <a:pt x="14503" y="188798"/>
                </a:lnTo>
                <a:lnTo>
                  <a:pt x="12507" y="197262"/>
                </a:lnTo>
                <a:lnTo>
                  <a:pt x="11177" y="205882"/>
                </a:lnTo>
                <a:lnTo>
                  <a:pt x="10290" y="214604"/>
                </a:lnTo>
                <a:lnTo>
                  <a:pt x="8706" y="223396"/>
                </a:lnTo>
                <a:lnTo>
                  <a:pt x="6659" y="232234"/>
                </a:lnTo>
                <a:lnTo>
                  <a:pt x="4301" y="241102"/>
                </a:lnTo>
                <a:lnTo>
                  <a:pt x="2729" y="249991"/>
                </a:lnTo>
                <a:lnTo>
                  <a:pt x="1682" y="258894"/>
                </a:lnTo>
                <a:lnTo>
                  <a:pt x="984" y="267805"/>
                </a:lnTo>
                <a:lnTo>
                  <a:pt x="518" y="276723"/>
                </a:lnTo>
                <a:lnTo>
                  <a:pt x="0" y="294569"/>
                </a:lnTo>
                <a:lnTo>
                  <a:pt x="855" y="303495"/>
                </a:lnTo>
                <a:lnTo>
                  <a:pt x="2416" y="312422"/>
                </a:lnTo>
                <a:lnTo>
                  <a:pt x="4450" y="321351"/>
                </a:lnTo>
                <a:lnTo>
                  <a:pt x="5805" y="330279"/>
                </a:lnTo>
                <a:lnTo>
                  <a:pt x="6709" y="339208"/>
                </a:lnTo>
                <a:lnTo>
                  <a:pt x="7311" y="348137"/>
                </a:lnTo>
                <a:lnTo>
                  <a:pt x="8705" y="357066"/>
                </a:lnTo>
                <a:lnTo>
                  <a:pt x="10626" y="365996"/>
                </a:lnTo>
                <a:lnTo>
                  <a:pt x="12900" y="374926"/>
                </a:lnTo>
                <a:lnTo>
                  <a:pt x="18071" y="390139"/>
                </a:lnTo>
                <a:lnTo>
                  <a:pt x="24669" y="404507"/>
                </a:lnTo>
                <a:lnTo>
                  <a:pt x="42428" y="435339"/>
                </a:lnTo>
                <a:lnTo>
                  <a:pt x="50377" y="448408"/>
                </a:lnTo>
                <a:lnTo>
                  <a:pt x="60525" y="460832"/>
                </a:lnTo>
                <a:lnTo>
                  <a:pt x="71649" y="472968"/>
                </a:lnTo>
                <a:lnTo>
                  <a:pt x="84200" y="484976"/>
                </a:lnTo>
                <a:lnTo>
                  <a:pt x="91714" y="490957"/>
                </a:lnTo>
                <a:lnTo>
                  <a:pt x="99700" y="496928"/>
                </a:lnTo>
                <a:lnTo>
                  <a:pt x="107009" y="501901"/>
                </a:lnTo>
                <a:lnTo>
                  <a:pt x="113865" y="506208"/>
                </a:lnTo>
                <a:lnTo>
                  <a:pt x="126776" y="513641"/>
                </a:lnTo>
                <a:lnTo>
                  <a:pt x="139128" y="520251"/>
                </a:lnTo>
                <a:lnTo>
                  <a:pt x="146192" y="522411"/>
                </a:lnTo>
                <a:lnTo>
                  <a:pt x="153878" y="523850"/>
                </a:lnTo>
                <a:lnTo>
                  <a:pt x="161979" y="524810"/>
                </a:lnTo>
                <a:lnTo>
                  <a:pt x="169364" y="525450"/>
                </a:lnTo>
                <a:lnTo>
                  <a:pt x="176271" y="525877"/>
                </a:lnTo>
                <a:lnTo>
                  <a:pt x="182861" y="526161"/>
                </a:lnTo>
                <a:lnTo>
                  <a:pt x="198120" y="526477"/>
                </a:lnTo>
                <a:lnTo>
                  <a:pt x="206356" y="526561"/>
                </a:lnTo>
                <a:lnTo>
                  <a:pt x="213831" y="525625"/>
                </a:lnTo>
                <a:lnTo>
                  <a:pt x="220799" y="524009"/>
                </a:lnTo>
                <a:lnTo>
                  <a:pt x="242732" y="516994"/>
                </a:lnTo>
                <a:lnTo>
                  <a:pt x="250980" y="514286"/>
                </a:lnTo>
                <a:lnTo>
                  <a:pt x="258464" y="511489"/>
                </a:lnTo>
                <a:lnTo>
                  <a:pt x="265437" y="508632"/>
                </a:lnTo>
                <a:lnTo>
                  <a:pt x="272070" y="505735"/>
                </a:lnTo>
                <a:lnTo>
                  <a:pt x="279469" y="501819"/>
                </a:lnTo>
                <a:lnTo>
                  <a:pt x="287378" y="497225"/>
                </a:lnTo>
                <a:lnTo>
                  <a:pt x="295627" y="492177"/>
                </a:lnTo>
                <a:lnTo>
                  <a:pt x="303111" y="486828"/>
                </a:lnTo>
                <a:lnTo>
                  <a:pt x="310084" y="481277"/>
                </a:lnTo>
                <a:lnTo>
                  <a:pt x="323124" y="469817"/>
                </a:lnTo>
                <a:lnTo>
                  <a:pt x="335535" y="458110"/>
                </a:lnTo>
                <a:lnTo>
                  <a:pt x="347665" y="443647"/>
                </a:lnTo>
                <a:lnTo>
                  <a:pt x="359671" y="427296"/>
                </a:lnTo>
                <a:lnTo>
                  <a:pt x="371621" y="410108"/>
                </a:lnTo>
                <a:lnTo>
                  <a:pt x="380901" y="395192"/>
                </a:lnTo>
                <a:lnTo>
                  <a:pt x="388333" y="380956"/>
                </a:lnTo>
                <a:lnTo>
                  <a:pt x="394943" y="364707"/>
                </a:lnTo>
                <a:lnTo>
                  <a:pt x="401189" y="347563"/>
                </a:lnTo>
                <a:lnTo>
                  <a:pt x="413282" y="312305"/>
                </a:lnTo>
                <a:lnTo>
                  <a:pt x="415282" y="303413"/>
                </a:lnTo>
                <a:lnTo>
                  <a:pt x="416615" y="294508"/>
                </a:lnTo>
                <a:lnTo>
                  <a:pt x="417504" y="285595"/>
                </a:lnTo>
                <a:lnTo>
                  <a:pt x="418491" y="270401"/>
                </a:lnTo>
                <a:lnTo>
                  <a:pt x="418755" y="263570"/>
                </a:lnTo>
                <a:lnTo>
                  <a:pt x="416401" y="250689"/>
                </a:lnTo>
                <a:lnTo>
                  <a:pt x="412048" y="238349"/>
                </a:lnTo>
                <a:lnTo>
                  <a:pt x="406807" y="226251"/>
                </a:lnTo>
                <a:lnTo>
                  <a:pt x="401169" y="211613"/>
                </a:lnTo>
                <a:lnTo>
                  <a:pt x="395357" y="197171"/>
                </a:lnTo>
                <a:lnTo>
                  <a:pt x="383540" y="177168"/>
                </a:lnTo>
                <a:lnTo>
                  <a:pt x="374626" y="162872"/>
                </a:lnTo>
                <a:lnTo>
                  <a:pt x="363056" y="149706"/>
                </a:lnTo>
                <a:lnTo>
                  <a:pt x="346109" y="132221"/>
                </a:lnTo>
                <a:lnTo>
                  <a:pt x="342718" y="129778"/>
                </a:lnTo>
                <a:lnTo>
                  <a:pt x="336306" y="127064"/>
                </a:lnTo>
                <a:lnTo>
                  <a:pt x="334199" y="125349"/>
                </a:lnTo>
                <a:lnTo>
                  <a:pt x="332794" y="123213"/>
                </a:lnTo>
                <a:lnTo>
                  <a:pt x="329985" y="115964"/>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58" name="SMARTInkAnnotation54"/>
          <p:cNvSpPr/>
          <p:nvPr/>
        </p:nvSpPr>
        <p:spPr>
          <a:xfrm>
            <a:off x="4402080" y="4581360"/>
            <a:ext cx="345960" cy="382680"/>
          </a:xfrm>
          <a:custGeom>
            <a:avLst/>
            <a:gdLst>
              <a:gd name="textAreaLeft" fmla="*/ 0 w 345960"/>
              <a:gd name="textAreaRight" fmla="*/ 346320 w 345960"/>
              <a:gd name="textAreaTop" fmla="*/ 0 h 382680"/>
              <a:gd name="textAreaBottom" fmla="*/ 383040 h 382680"/>
            </a:gdLst>
            <a:ahLst/>
            <a:rect l="textAreaLeft" t="textAreaTop" r="textAreaRight" b="textAreaBottom"/>
            <a:pathLst>
              <a:path w="346290" h="383432">
                <a:moveTo>
                  <a:pt x="214154" y="35719"/>
                </a:moveTo>
                <a:lnTo>
                  <a:pt x="214154" y="30979"/>
                </a:lnTo>
                <a:lnTo>
                  <a:pt x="213162" y="28590"/>
                </a:lnTo>
                <a:lnTo>
                  <a:pt x="206466" y="19468"/>
                </a:lnTo>
                <a:lnTo>
                  <a:pt x="200852" y="13596"/>
                </a:lnTo>
                <a:lnTo>
                  <a:pt x="197348" y="12040"/>
                </a:lnTo>
                <a:lnTo>
                  <a:pt x="188164" y="10312"/>
                </a:lnTo>
                <a:lnTo>
                  <a:pt x="180113" y="9544"/>
                </a:lnTo>
                <a:lnTo>
                  <a:pt x="170003" y="9112"/>
                </a:lnTo>
                <a:lnTo>
                  <a:pt x="166860" y="9052"/>
                </a:lnTo>
                <a:lnTo>
                  <a:pt x="158078" y="11630"/>
                </a:lnTo>
                <a:lnTo>
                  <a:pt x="147559" y="16083"/>
                </a:lnTo>
                <a:lnTo>
                  <a:pt x="136270" y="21369"/>
                </a:lnTo>
                <a:lnTo>
                  <a:pt x="130481" y="23176"/>
                </a:lnTo>
                <a:lnTo>
                  <a:pt x="124638" y="24380"/>
                </a:lnTo>
                <a:lnTo>
                  <a:pt x="118758" y="25184"/>
                </a:lnTo>
                <a:lnTo>
                  <a:pt x="112853" y="27704"/>
                </a:lnTo>
                <a:lnTo>
                  <a:pt x="106933" y="31367"/>
                </a:lnTo>
                <a:lnTo>
                  <a:pt x="101002" y="35795"/>
                </a:lnTo>
                <a:lnTo>
                  <a:pt x="95062" y="39738"/>
                </a:lnTo>
                <a:lnTo>
                  <a:pt x="89119" y="43359"/>
                </a:lnTo>
                <a:lnTo>
                  <a:pt x="83172" y="46766"/>
                </a:lnTo>
                <a:lnTo>
                  <a:pt x="73919" y="55842"/>
                </a:lnTo>
                <a:lnTo>
                  <a:pt x="65507" y="67483"/>
                </a:lnTo>
                <a:lnTo>
                  <a:pt x="55154" y="82578"/>
                </a:lnTo>
                <a:lnTo>
                  <a:pt x="49615" y="89779"/>
                </a:lnTo>
                <a:lnTo>
                  <a:pt x="43938" y="96563"/>
                </a:lnTo>
                <a:lnTo>
                  <a:pt x="38169" y="103071"/>
                </a:lnTo>
                <a:lnTo>
                  <a:pt x="33330" y="109394"/>
                </a:lnTo>
                <a:lnTo>
                  <a:pt x="29113" y="115594"/>
                </a:lnTo>
                <a:lnTo>
                  <a:pt x="25309" y="121711"/>
                </a:lnTo>
                <a:lnTo>
                  <a:pt x="21781" y="128766"/>
                </a:lnTo>
                <a:lnTo>
                  <a:pt x="18436" y="136446"/>
                </a:lnTo>
                <a:lnTo>
                  <a:pt x="15215" y="144542"/>
                </a:lnTo>
                <a:lnTo>
                  <a:pt x="8989" y="161475"/>
                </a:lnTo>
                <a:lnTo>
                  <a:pt x="5940" y="170158"/>
                </a:lnTo>
                <a:lnTo>
                  <a:pt x="3907" y="178923"/>
                </a:lnTo>
                <a:lnTo>
                  <a:pt x="2552" y="187743"/>
                </a:lnTo>
                <a:lnTo>
                  <a:pt x="1648" y="196599"/>
                </a:lnTo>
                <a:lnTo>
                  <a:pt x="1046" y="205481"/>
                </a:lnTo>
                <a:lnTo>
                  <a:pt x="645" y="214378"/>
                </a:lnTo>
                <a:lnTo>
                  <a:pt x="198" y="232201"/>
                </a:lnTo>
                <a:lnTo>
                  <a:pt x="0" y="250045"/>
                </a:lnTo>
                <a:lnTo>
                  <a:pt x="1932" y="258970"/>
                </a:lnTo>
                <a:lnTo>
                  <a:pt x="5203" y="267897"/>
                </a:lnTo>
                <a:lnTo>
                  <a:pt x="16644" y="292035"/>
                </a:lnTo>
                <a:lnTo>
                  <a:pt x="19973" y="298870"/>
                </a:lnTo>
                <a:lnTo>
                  <a:pt x="24176" y="305411"/>
                </a:lnTo>
                <a:lnTo>
                  <a:pt x="28963" y="311756"/>
                </a:lnTo>
                <a:lnTo>
                  <a:pt x="34139" y="317970"/>
                </a:lnTo>
                <a:lnTo>
                  <a:pt x="39574" y="325090"/>
                </a:lnTo>
                <a:lnTo>
                  <a:pt x="45181" y="332812"/>
                </a:lnTo>
                <a:lnTo>
                  <a:pt x="50904" y="340938"/>
                </a:lnTo>
                <a:lnTo>
                  <a:pt x="57695" y="347346"/>
                </a:lnTo>
                <a:lnTo>
                  <a:pt x="65199" y="352612"/>
                </a:lnTo>
                <a:lnTo>
                  <a:pt x="73180" y="357113"/>
                </a:lnTo>
                <a:lnTo>
                  <a:pt x="81475" y="361107"/>
                </a:lnTo>
                <a:lnTo>
                  <a:pt x="89983" y="364762"/>
                </a:lnTo>
                <a:lnTo>
                  <a:pt x="98631" y="368191"/>
                </a:lnTo>
                <a:lnTo>
                  <a:pt x="116177" y="374646"/>
                </a:lnTo>
                <a:lnTo>
                  <a:pt x="125024" y="377756"/>
                </a:lnTo>
                <a:lnTo>
                  <a:pt x="133898" y="379830"/>
                </a:lnTo>
                <a:lnTo>
                  <a:pt x="142791" y="381212"/>
                </a:lnTo>
                <a:lnTo>
                  <a:pt x="151695" y="382133"/>
                </a:lnTo>
                <a:lnTo>
                  <a:pt x="160609" y="382748"/>
                </a:lnTo>
                <a:lnTo>
                  <a:pt x="169528" y="383158"/>
                </a:lnTo>
                <a:lnTo>
                  <a:pt x="178450" y="383431"/>
                </a:lnTo>
                <a:lnTo>
                  <a:pt x="187375" y="382621"/>
                </a:lnTo>
                <a:lnTo>
                  <a:pt x="196301" y="381089"/>
                </a:lnTo>
                <a:lnTo>
                  <a:pt x="205229" y="379075"/>
                </a:lnTo>
                <a:lnTo>
                  <a:pt x="213164" y="375748"/>
                </a:lnTo>
                <a:lnTo>
                  <a:pt x="220440" y="371545"/>
                </a:lnTo>
                <a:lnTo>
                  <a:pt x="227274" y="366760"/>
                </a:lnTo>
                <a:lnTo>
                  <a:pt x="234807" y="362577"/>
                </a:lnTo>
                <a:lnTo>
                  <a:pt x="242806" y="358796"/>
                </a:lnTo>
                <a:lnTo>
                  <a:pt x="251114" y="355284"/>
                </a:lnTo>
                <a:lnTo>
                  <a:pt x="258638" y="349965"/>
                </a:lnTo>
                <a:lnTo>
                  <a:pt x="265638" y="343443"/>
                </a:lnTo>
                <a:lnTo>
                  <a:pt x="272289" y="336118"/>
                </a:lnTo>
                <a:lnTo>
                  <a:pt x="284971" y="322688"/>
                </a:lnTo>
                <a:lnTo>
                  <a:pt x="291131" y="316328"/>
                </a:lnTo>
                <a:lnTo>
                  <a:pt x="297222" y="309112"/>
                </a:lnTo>
                <a:lnTo>
                  <a:pt x="303267" y="301325"/>
                </a:lnTo>
                <a:lnTo>
                  <a:pt x="309281" y="293157"/>
                </a:lnTo>
                <a:lnTo>
                  <a:pt x="314283" y="283743"/>
                </a:lnTo>
                <a:lnTo>
                  <a:pt x="318610" y="273498"/>
                </a:lnTo>
                <a:lnTo>
                  <a:pt x="329440" y="242763"/>
                </a:lnTo>
                <a:lnTo>
                  <a:pt x="332683" y="233280"/>
                </a:lnTo>
                <a:lnTo>
                  <a:pt x="335838" y="222989"/>
                </a:lnTo>
                <a:lnTo>
                  <a:pt x="341989" y="200971"/>
                </a:lnTo>
                <a:lnTo>
                  <a:pt x="344025" y="190535"/>
                </a:lnTo>
                <a:lnTo>
                  <a:pt x="345384" y="180602"/>
                </a:lnTo>
                <a:lnTo>
                  <a:pt x="346289" y="171003"/>
                </a:lnTo>
                <a:lnTo>
                  <a:pt x="345900" y="160635"/>
                </a:lnTo>
                <a:lnTo>
                  <a:pt x="344649" y="149754"/>
                </a:lnTo>
                <a:lnTo>
                  <a:pt x="342822" y="138531"/>
                </a:lnTo>
                <a:lnTo>
                  <a:pt x="340613" y="128073"/>
                </a:lnTo>
                <a:lnTo>
                  <a:pt x="338147" y="118124"/>
                </a:lnTo>
                <a:lnTo>
                  <a:pt x="335512" y="108515"/>
                </a:lnTo>
                <a:lnTo>
                  <a:pt x="329937" y="89901"/>
                </a:lnTo>
                <a:lnTo>
                  <a:pt x="327062" y="80770"/>
                </a:lnTo>
                <a:lnTo>
                  <a:pt x="324152" y="72698"/>
                </a:lnTo>
                <a:lnTo>
                  <a:pt x="321221" y="65333"/>
                </a:lnTo>
                <a:lnTo>
                  <a:pt x="318274" y="58438"/>
                </a:lnTo>
                <a:lnTo>
                  <a:pt x="314325" y="51857"/>
                </a:lnTo>
                <a:lnTo>
                  <a:pt x="309708" y="45486"/>
                </a:lnTo>
                <a:lnTo>
                  <a:pt x="299287" y="34107"/>
                </a:lnTo>
                <a:lnTo>
                  <a:pt x="293730" y="29683"/>
                </a:lnTo>
                <a:lnTo>
                  <a:pt x="288041" y="25742"/>
                </a:lnTo>
                <a:lnTo>
                  <a:pt x="282263" y="22122"/>
                </a:lnTo>
                <a:lnTo>
                  <a:pt x="276427" y="18717"/>
                </a:lnTo>
                <a:lnTo>
                  <a:pt x="265643" y="12288"/>
                </a:lnTo>
                <a:lnTo>
                  <a:pt x="257544" y="6122"/>
                </a:lnTo>
                <a:lnTo>
                  <a:pt x="250636" y="2721"/>
                </a:lnTo>
                <a:lnTo>
                  <a:pt x="240943"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59" name="SMARTInkAnnotation55"/>
          <p:cNvSpPr/>
          <p:nvPr/>
        </p:nvSpPr>
        <p:spPr>
          <a:xfrm>
            <a:off x="4768920" y="46069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311954" h="383031">
                <a:moveTo>
                  <a:pt x="213776" y="8930"/>
                </a:moveTo>
                <a:lnTo>
                  <a:pt x="213776" y="4190"/>
                </a:lnTo>
                <a:lnTo>
                  <a:pt x="212784" y="2793"/>
                </a:lnTo>
                <a:lnTo>
                  <a:pt x="211131" y="1862"/>
                </a:lnTo>
                <a:lnTo>
                  <a:pt x="206647" y="827"/>
                </a:lnTo>
                <a:lnTo>
                  <a:pt x="198545" y="246"/>
                </a:lnTo>
                <a:lnTo>
                  <a:pt x="189861" y="72"/>
                </a:lnTo>
                <a:lnTo>
                  <a:pt x="170327" y="10"/>
                </a:lnTo>
                <a:lnTo>
                  <a:pt x="164967" y="999"/>
                </a:lnTo>
                <a:lnTo>
                  <a:pt x="159408" y="2650"/>
                </a:lnTo>
                <a:lnTo>
                  <a:pt x="153719" y="4743"/>
                </a:lnTo>
                <a:lnTo>
                  <a:pt x="147941" y="7131"/>
                </a:lnTo>
                <a:lnTo>
                  <a:pt x="142105" y="9716"/>
                </a:lnTo>
                <a:lnTo>
                  <a:pt x="130329" y="15232"/>
                </a:lnTo>
                <a:lnTo>
                  <a:pt x="118480" y="20992"/>
                </a:lnTo>
                <a:lnTo>
                  <a:pt x="112542" y="24908"/>
                </a:lnTo>
                <a:lnTo>
                  <a:pt x="106600" y="29504"/>
                </a:lnTo>
                <a:lnTo>
                  <a:pt x="100653" y="34553"/>
                </a:lnTo>
                <a:lnTo>
                  <a:pt x="94705" y="39902"/>
                </a:lnTo>
                <a:lnTo>
                  <a:pt x="82803" y="51138"/>
                </a:lnTo>
                <a:lnTo>
                  <a:pt x="73546" y="62746"/>
                </a:lnTo>
                <a:lnTo>
                  <a:pt x="65131" y="74521"/>
                </a:lnTo>
                <a:lnTo>
                  <a:pt x="60110" y="80438"/>
                </a:lnTo>
                <a:lnTo>
                  <a:pt x="54777" y="86368"/>
                </a:lnTo>
                <a:lnTo>
                  <a:pt x="43561" y="98248"/>
                </a:lnTo>
                <a:lnTo>
                  <a:pt x="37791" y="104194"/>
                </a:lnTo>
                <a:lnTo>
                  <a:pt x="32953" y="111135"/>
                </a:lnTo>
                <a:lnTo>
                  <a:pt x="28735" y="118738"/>
                </a:lnTo>
                <a:lnTo>
                  <a:pt x="14837" y="147589"/>
                </a:lnTo>
                <a:lnTo>
                  <a:pt x="11697" y="154947"/>
                </a:lnTo>
                <a:lnTo>
                  <a:pt x="8612" y="162830"/>
                </a:lnTo>
                <a:lnTo>
                  <a:pt x="5562" y="171061"/>
                </a:lnTo>
                <a:lnTo>
                  <a:pt x="3530" y="179525"/>
                </a:lnTo>
                <a:lnTo>
                  <a:pt x="2174" y="188145"/>
                </a:lnTo>
                <a:lnTo>
                  <a:pt x="1271" y="196867"/>
                </a:lnTo>
                <a:lnTo>
                  <a:pt x="669" y="205659"/>
                </a:lnTo>
                <a:lnTo>
                  <a:pt x="267" y="214497"/>
                </a:lnTo>
                <a:lnTo>
                  <a:pt x="0" y="223365"/>
                </a:lnTo>
                <a:lnTo>
                  <a:pt x="813" y="232254"/>
                </a:lnTo>
                <a:lnTo>
                  <a:pt x="2348" y="241156"/>
                </a:lnTo>
                <a:lnTo>
                  <a:pt x="4363" y="250068"/>
                </a:lnTo>
                <a:lnTo>
                  <a:pt x="6698" y="258986"/>
                </a:lnTo>
                <a:lnTo>
                  <a:pt x="9248" y="267907"/>
                </a:lnTo>
                <a:lnTo>
                  <a:pt x="11940" y="276832"/>
                </a:lnTo>
                <a:lnTo>
                  <a:pt x="14727" y="284765"/>
                </a:lnTo>
                <a:lnTo>
                  <a:pt x="17577" y="292039"/>
                </a:lnTo>
                <a:lnTo>
                  <a:pt x="20469" y="298872"/>
                </a:lnTo>
                <a:lnTo>
                  <a:pt x="24381" y="306405"/>
                </a:lnTo>
                <a:lnTo>
                  <a:pt x="28974" y="314403"/>
                </a:lnTo>
                <a:lnTo>
                  <a:pt x="34020" y="322712"/>
                </a:lnTo>
                <a:lnTo>
                  <a:pt x="39368" y="330235"/>
                </a:lnTo>
                <a:lnTo>
                  <a:pt x="44919" y="337235"/>
                </a:lnTo>
                <a:lnTo>
                  <a:pt x="50603" y="343885"/>
                </a:lnTo>
                <a:lnTo>
                  <a:pt x="57369" y="349311"/>
                </a:lnTo>
                <a:lnTo>
                  <a:pt x="64856" y="353922"/>
                </a:lnTo>
                <a:lnTo>
                  <a:pt x="72824" y="357987"/>
                </a:lnTo>
                <a:lnTo>
                  <a:pt x="80121" y="362682"/>
                </a:lnTo>
                <a:lnTo>
                  <a:pt x="86970" y="367796"/>
                </a:lnTo>
                <a:lnTo>
                  <a:pt x="93520" y="373189"/>
                </a:lnTo>
                <a:lnTo>
                  <a:pt x="101855" y="376786"/>
                </a:lnTo>
                <a:lnTo>
                  <a:pt x="111381" y="379183"/>
                </a:lnTo>
                <a:lnTo>
                  <a:pt x="121700" y="380781"/>
                </a:lnTo>
                <a:lnTo>
                  <a:pt x="131556" y="381846"/>
                </a:lnTo>
                <a:lnTo>
                  <a:pt x="141103" y="382557"/>
                </a:lnTo>
                <a:lnTo>
                  <a:pt x="150445" y="383030"/>
                </a:lnTo>
                <a:lnTo>
                  <a:pt x="159650" y="382353"/>
                </a:lnTo>
                <a:lnTo>
                  <a:pt x="168762" y="380910"/>
                </a:lnTo>
                <a:lnTo>
                  <a:pt x="177814" y="378956"/>
                </a:lnTo>
                <a:lnTo>
                  <a:pt x="185832" y="376661"/>
                </a:lnTo>
                <a:lnTo>
                  <a:pt x="193163" y="374138"/>
                </a:lnTo>
                <a:lnTo>
                  <a:pt x="200034" y="371465"/>
                </a:lnTo>
                <a:lnTo>
                  <a:pt x="215606" y="365848"/>
                </a:lnTo>
                <a:lnTo>
                  <a:pt x="223926" y="362961"/>
                </a:lnTo>
                <a:lnTo>
                  <a:pt x="231457" y="359052"/>
                </a:lnTo>
                <a:lnTo>
                  <a:pt x="238461" y="354462"/>
                </a:lnTo>
                <a:lnTo>
                  <a:pt x="245116" y="349417"/>
                </a:lnTo>
                <a:lnTo>
                  <a:pt x="251537" y="344070"/>
                </a:lnTo>
                <a:lnTo>
                  <a:pt x="257801" y="338521"/>
                </a:lnTo>
                <a:lnTo>
                  <a:pt x="263962" y="332837"/>
                </a:lnTo>
                <a:lnTo>
                  <a:pt x="270054" y="326071"/>
                </a:lnTo>
                <a:lnTo>
                  <a:pt x="276099" y="318584"/>
                </a:lnTo>
                <a:lnTo>
                  <a:pt x="282115" y="310616"/>
                </a:lnTo>
                <a:lnTo>
                  <a:pt x="287116" y="302327"/>
                </a:lnTo>
                <a:lnTo>
                  <a:pt x="291443" y="293826"/>
                </a:lnTo>
                <a:lnTo>
                  <a:pt x="295320" y="285181"/>
                </a:lnTo>
                <a:lnTo>
                  <a:pt x="298897" y="276441"/>
                </a:lnTo>
                <a:lnTo>
                  <a:pt x="302273" y="267638"/>
                </a:lnTo>
                <a:lnTo>
                  <a:pt x="305516" y="258792"/>
                </a:lnTo>
                <a:lnTo>
                  <a:pt x="307679" y="249919"/>
                </a:lnTo>
                <a:lnTo>
                  <a:pt x="309120" y="241027"/>
                </a:lnTo>
                <a:lnTo>
                  <a:pt x="310081" y="232122"/>
                </a:lnTo>
                <a:lnTo>
                  <a:pt x="310722" y="222217"/>
                </a:lnTo>
                <a:lnTo>
                  <a:pt x="311148" y="211645"/>
                </a:lnTo>
                <a:lnTo>
                  <a:pt x="311750" y="180449"/>
                </a:lnTo>
                <a:lnTo>
                  <a:pt x="311953" y="138502"/>
                </a:lnTo>
                <a:lnTo>
                  <a:pt x="310977" y="128053"/>
                </a:lnTo>
                <a:lnTo>
                  <a:pt x="309335" y="118111"/>
                </a:lnTo>
                <a:lnTo>
                  <a:pt x="307248" y="108506"/>
                </a:lnTo>
                <a:lnTo>
                  <a:pt x="304864" y="99126"/>
                </a:lnTo>
                <a:lnTo>
                  <a:pt x="302282" y="89896"/>
                </a:lnTo>
                <a:lnTo>
                  <a:pt x="299570" y="80767"/>
                </a:lnTo>
                <a:lnTo>
                  <a:pt x="296769" y="72697"/>
                </a:lnTo>
                <a:lnTo>
                  <a:pt x="293909" y="65331"/>
                </a:lnTo>
                <a:lnTo>
                  <a:pt x="291011" y="58437"/>
                </a:lnTo>
                <a:lnTo>
                  <a:pt x="287094" y="51857"/>
                </a:lnTo>
                <a:lnTo>
                  <a:pt x="282498" y="45485"/>
                </a:lnTo>
                <a:lnTo>
                  <a:pt x="273093" y="34106"/>
                </a:lnTo>
                <a:lnTo>
                  <a:pt x="265606" y="25742"/>
                </a:lnTo>
                <a:lnTo>
                  <a:pt x="256325" y="18717"/>
                </a:lnTo>
                <a:lnTo>
                  <a:pt x="246578" y="12288"/>
                </a:lnTo>
                <a:lnTo>
                  <a:pt x="238938" y="6122"/>
                </a:lnTo>
                <a:lnTo>
                  <a:pt x="232235" y="2721"/>
                </a:lnTo>
                <a:lnTo>
                  <a:pt x="225949" y="1209"/>
                </a:lnTo>
                <a:lnTo>
                  <a:pt x="222884" y="806"/>
                </a:lnTo>
                <a:lnTo>
                  <a:pt x="213776"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60" name="SMARTInkAnnotation56"/>
          <p:cNvSpPr/>
          <p:nvPr/>
        </p:nvSpPr>
        <p:spPr>
          <a:xfrm>
            <a:off x="5160960" y="4616280"/>
            <a:ext cx="152280" cy="374760"/>
          </a:xfrm>
          <a:custGeom>
            <a:avLst/>
            <a:gdLst>
              <a:gd name="textAreaLeft" fmla="*/ 0 w 152280"/>
              <a:gd name="textAreaRight" fmla="*/ 152640 w 152280"/>
              <a:gd name="textAreaTop" fmla="*/ 0 h 374760"/>
              <a:gd name="textAreaBottom" fmla="*/ 375120 h 374760"/>
            </a:gdLst>
            <a:ahLst/>
            <a:rect l="textAreaLeft" t="textAreaTop" r="textAreaRight" b="textAreaBottom"/>
            <a:pathLst>
              <a:path w="151425" h="374880">
                <a:moveTo>
                  <a:pt x="89297" y="0"/>
                </a:moveTo>
                <a:lnTo>
                  <a:pt x="89297" y="12429"/>
                </a:lnTo>
                <a:lnTo>
                  <a:pt x="90289" y="15232"/>
                </a:lnTo>
                <a:lnTo>
                  <a:pt x="94037" y="20991"/>
                </a:lnTo>
                <a:lnTo>
                  <a:pt x="96426" y="24908"/>
                </a:lnTo>
                <a:lnTo>
                  <a:pt x="99010" y="29504"/>
                </a:lnTo>
                <a:lnTo>
                  <a:pt x="101726" y="34552"/>
                </a:lnTo>
                <a:lnTo>
                  <a:pt x="104528" y="38910"/>
                </a:lnTo>
                <a:lnTo>
                  <a:pt x="107389" y="42807"/>
                </a:lnTo>
                <a:lnTo>
                  <a:pt x="110288" y="46398"/>
                </a:lnTo>
                <a:lnTo>
                  <a:pt x="112221" y="50776"/>
                </a:lnTo>
                <a:lnTo>
                  <a:pt x="114368" y="60932"/>
                </a:lnTo>
                <a:lnTo>
                  <a:pt x="117968" y="72059"/>
                </a:lnTo>
                <a:lnTo>
                  <a:pt x="120318" y="77806"/>
                </a:lnTo>
                <a:lnTo>
                  <a:pt x="122875" y="84613"/>
                </a:lnTo>
                <a:lnTo>
                  <a:pt x="128364" y="100113"/>
                </a:lnTo>
                <a:lnTo>
                  <a:pt x="131217" y="107422"/>
                </a:lnTo>
                <a:lnTo>
                  <a:pt x="134111" y="114279"/>
                </a:lnTo>
                <a:lnTo>
                  <a:pt x="137032" y="120834"/>
                </a:lnTo>
                <a:lnTo>
                  <a:pt x="138980" y="127189"/>
                </a:lnTo>
                <a:lnTo>
                  <a:pt x="140279" y="133410"/>
                </a:lnTo>
                <a:lnTo>
                  <a:pt x="141144" y="139541"/>
                </a:lnTo>
                <a:lnTo>
                  <a:pt x="141721" y="145614"/>
                </a:lnTo>
                <a:lnTo>
                  <a:pt x="142106" y="151646"/>
                </a:lnTo>
                <a:lnTo>
                  <a:pt x="142363" y="157652"/>
                </a:lnTo>
                <a:lnTo>
                  <a:pt x="143525" y="164633"/>
                </a:lnTo>
                <a:lnTo>
                  <a:pt x="145293" y="172263"/>
                </a:lnTo>
                <a:lnTo>
                  <a:pt x="147464" y="180327"/>
                </a:lnTo>
                <a:lnTo>
                  <a:pt x="148911" y="187687"/>
                </a:lnTo>
                <a:lnTo>
                  <a:pt x="149876" y="194577"/>
                </a:lnTo>
                <a:lnTo>
                  <a:pt x="150519" y="201156"/>
                </a:lnTo>
                <a:lnTo>
                  <a:pt x="150947" y="208518"/>
                </a:lnTo>
                <a:lnTo>
                  <a:pt x="151424" y="224635"/>
                </a:lnTo>
                <a:lnTo>
                  <a:pt x="150559" y="232109"/>
                </a:lnTo>
                <a:lnTo>
                  <a:pt x="148990" y="239075"/>
                </a:lnTo>
                <a:lnTo>
                  <a:pt x="146952" y="245704"/>
                </a:lnTo>
                <a:lnTo>
                  <a:pt x="145593" y="253099"/>
                </a:lnTo>
                <a:lnTo>
                  <a:pt x="144687" y="261006"/>
                </a:lnTo>
                <a:lnTo>
                  <a:pt x="144083" y="269254"/>
                </a:lnTo>
                <a:lnTo>
                  <a:pt x="142688" y="276738"/>
                </a:lnTo>
                <a:lnTo>
                  <a:pt x="140766" y="283711"/>
                </a:lnTo>
                <a:lnTo>
                  <a:pt x="138493" y="290343"/>
                </a:lnTo>
                <a:lnTo>
                  <a:pt x="136977" y="296750"/>
                </a:lnTo>
                <a:lnTo>
                  <a:pt x="135966" y="303005"/>
                </a:lnTo>
                <a:lnTo>
                  <a:pt x="135293" y="309160"/>
                </a:lnTo>
                <a:lnTo>
                  <a:pt x="133852" y="315247"/>
                </a:lnTo>
                <a:lnTo>
                  <a:pt x="131898" y="321290"/>
                </a:lnTo>
                <a:lnTo>
                  <a:pt x="129604" y="327302"/>
                </a:lnTo>
                <a:lnTo>
                  <a:pt x="127082" y="333296"/>
                </a:lnTo>
                <a:lnTo>
                  <a:pt x="124409" y="339275"/>
                </a:lnTo>
                <a:lnTo>
                  <a:pt x="121635" y="345246"/>
                </a:lnTo>
                <a:lnTo>
                  <a:pt x="117801" y="350218"/>
                </a:lnTo>
                <a:lnTo>
                  <a:pt x="113261" y="354525"/>
                </a:lnTo>
                <a:lnTo>
                  <a:pt x="108249" y="358390"/>
                </a:lnTo>
                <a:lnTo>
                  <a:pt x="103916" y="361958"/>
                </a:lnTo>
                <a:lnTo>
                  <a:pt x="100035" y="365328"/>
                </a:lnTo>
                <a:lnTo>
                  <a:pt x="96456" y="368568"/>
                </a:lnTo>
                <a:lnTo>
                  <a:pt x="92086" y="370728"/>
                </a:lnTo>
                <a:lnTo>
                  <a:pt x="87188" y="372167"/>
                </a:lnTo>
                <a:lnTo>
                  <a:pt x="81938" y="373127"/>
                </a:lnTo>
                <a:lnTo>
                  <a:pt x="76453" y="373767"/>
                </a:lnTo>
                <a:lnTo>
                  <a:pt x="70812" y="374194"/>
                </a:lnTo>
                <a:lnTo>
                  <a:pt x="60246" y="374668"/>
                </a:lnTo>
                <a:lnTo>
                  <a:pt x="52242" y="374879"/>
                </a:lnTo>
                <a:lnTo>
                  <a:pt x="47726" y="373942"/>
                </a:lnTo>
                <a:lnTo>
                  <a:pt x="42732" y="372326"/>
                </a:lnTo>
                <a:lnTo>
                  <a:pt x="37418" y="370256"/>
                </a:lnTo>
                <a:lnTo>
                  <a:pt x="23576" y="365311"/>
                </a:lnTo>
                <a:lnTo>
                  <a:pt x="0" y="357187"/>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61" name="SMARTInkAnnotation57"/>
          <p:cNvSpPr/>
          <p:nvPr/>
        </p:nvSpPr>
        <p:spPr>
          <a:xfrm>
            <a:off x="5116680" y="4572000"/>
            <a:ext cx="420480" cy="36360"/>
          </a:xfrm>
          <a:custGeom>
            <a:avLst/>
            <a:gdLst>
              <a:gd name="textAreaLeft" fmla="*/ 0 w 420480"/>
              <a:gd name="textAreaRight" fmla="*/ 420840 w 420480"/>
              <a:gd name="textAreaTop" fmla="*/ 0 h 36360"/>
              <a:gd name="textAreaBottom" fmla="*/ 36720 h 36360"/>
            </a:gdLst>
            <a:ahLst/>
            <a:rect l="textAreaLeft" t="textAreaTop" r="textAreaRight" b="textAreaBottom"/>
            <a:pathLst>
              <a:path w="419697" h="35351">
                <a:moveTo>
                  <a:pt x="0" y="8562"/>
                </a:moveTo>
                <a:lnTo>
                  <a:pt x="4741" y="3821"/>
                </a:lnTo>
                <a:lnTo>
                  <a:pt x="7130" y="2425"/>
                </a:lnTo>
                <a:lnTo>
                  <a:pt x="9714" y="1493"/>
                </a:lnTo>
                <a:lnTo>
                  <a:pt x="16224" y="459"/>
                </a:lnTo>
                <a:lnTo>
                  <a:pt x="25732" y="0"/>
                </a:lnTo>
                <a:lnTo>
                  <a:pt x="31045" y="869"/>
                </a:lnTo>
                <a:lnTo>
                  <a:pt x="36571" y="2441"/>
                </a:lnTo>
                <a:lnTo>
                  <a:pt x="42241" y="4481"/>
                </a:lnTo>
                <a:lnTo>
                  <a:pt x="48005" y="5841"/>
                </a:lnTo>
                <a:lnTo>
                  <a:pt x="53831" y="6748"/>
                </a:lnTo>
                <a:lnTo>
                  <a:pt x="66590" y="7755"/>
                </a:lnTo>
                <a:lnTo>
                  <a:pt x="82181" y="8203"/>
                </a:lnTo>
                <a:lnTo>
                  <a:pt x="90507" y="9315"/>
                </a:lnTo>
                <a:lnTo>
                  <a:pt x="99033" y="11049"/>
                </a:lnTo>
                <a:lnTo>
                  <a:pt x="107694" y="13196"/>
                </a:lnTo>
                <a:lnTo>
                  <a:pt x="117437" y="14628"/>
                </a:lnTo>
                <a:lnTo>
                  <a:pt x="127900" y="15582"/>
                </a:lnTo>
                <a:lnTo>
                  <a:pt x="138846" y="16218"/>
                </a:lnTo>
                <a:lnTo>
                  <a:pt x="149118" y="17635"/>
                </a:lnTo>
                <a:lnTo>
                  <a:pt x="158944" y="19571"/>
                </a:lnTo>
                <a:lnTo>
                  <a:pt x="168470" y="21855"/>
                </a:lnTo>
                <a:lnTo>
                  <a:pt x="178791" y="23377"/>
                </a:lnTo>
                <a:lnTo>
                  <a:pt x="189639" y="24391"/>
                </a:lnTo>
                <a:lnTo>
                  <a:pt x="200841" y="25068"/>
                </a:lnTo>
                <a:lnTo>
                  <a:pt x="211284" y="26511"/>
                </a:lnTo>
                <a:lnTo>
                  <a:pt x="221224" y="28465"/>
                </a:lnTo>
                <a:lnTo>
                  <a:pt x="230826" y="30760"/>
                </a:lnTo>
                <a:lnTo>
                  <a:pt x="241197" y="32290"/>
                </a:lnTo>
                <a:lnTo>
                  <a:pt x="252079" y="33310"/>
                </a:lnTo>
                <a:lnTo>
                  <a:pt x="263303" y="33991"/>
                </a:lnTo>
                <a:lnTo>
                  <a:pt x="283712" y="34746"/>
                </a:lnTo>
                <a:lnTo>
                  <a:pt x="311936" y="35171"/>
                </a:lnTo>
                <a:lnTo>
                  <a:pt x="404276" y="35350"/>
                </a:lnTo>
                <a:lnTo>
                  <a:pt x="406440" y="34358"/>
                </a:lnTo>
                <a:lnTo>
                  <a:pt x="407882" y="32704"/>
                </a:lnTo>
                <a:lnTo>
                  <a:pt x="408843" y="30610"/>
                </a:lnTo>
                <a:lnTo>
                  <a:pt x="410476" y="29213"/>
                </a:lnTo>
                <a:lnTo>
                  <a:pt x="412557" y="28282"/>
                </a:lnTo>
                <a:lnTo>
                  <a:pt x="419696" y="26421"/>
                </a:lnTo>
              </a:path>
            </a:pathLst>
          </a:custGeom>
          <a:noFill/>
          <a:ln w="38160">
            <a:solidFill>
              <a:srgbClr val="000000"/>
            </a:solidFill>
            <a:roun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Constantia"/>
            </a:endParaRPr>
          </a:p>
        </p:txBody>
      </p:sp>
      <p:sp>
        <p:nvSpPr>
          <p:cNvPr id="262" name="SMARTInkAnnotation58"/>
          <p:cNvSpPr/>
          <p:nvPr/>
        </p:nvSpPr>
        <p:spPr>
          <a:xfrm>
            <a:off x="2714760" y="5081760"/>
            <a:ext cx="2732040" cy="61920"/>
          </a:xfrm>
          <a:custGeom>
            <a:avLst/>
            <a:gdLst>
              <a:gd name="textAreaLeft" fmla="*/ 0 w 2732040"/>
              <a:gd name="textAreaRight" fmla="*/ 2732400 w 2732040"/>
              <a:gd name="textAreaTop" fmla="*/ 0 h 61920"/>
              <a:gd name="textAreaBottom" fmla="*/ 62280 h 61920"/>
            </a:gdLst>
            <a:ahLst/>
            <a:rect l="textAreaLeft" t="textAreaTop" r="textAreaRight" b="textAreaBottom"/>
            <a:pathLst>
              <a:path w="2732485" h="62509">
                <a:moveTo>
                  <a:pt x="0" y="8929"/>
                </a:moveTo>
                <a:lnTo>
                  <a:pt x="13302" y="8929"/>
                </a:lnTo>
                <a:lnTo>
                  <a:pt x="16806" y="9922"/>
                </a:lnTo>
                <a:lnTo>
                  <a:pt x="21125" y="11575"/>
                </a:lnTo>
                <a:lnTo>
                  <a:pt x="25990" y="13670"/>
                </a:lnTo>
                <a:lnTo>
                  <a:pt x="30225" y="15066"/>
                </a:lnTo>
                <a:lnTo>
                  <a:pt x="37576" y="16618"/>
                </a:lnTo>
                <a:lnTo>
                  <a:pt x="42910" y="18024"/>
                </a:lnTo>
                <a:lnTo>
                  <a:pt x="56774" y="22232"/>
                </a:lnTo>
                <a:lnTo>
                  <a:pt x="63646" y="23751"/>
                </a:lnTo>
                <a:lnTo>
                  <a:pt x="76574" y="25439"/>
                </a:lnTo>
                <a:lnTo>
                  <a:pt x="99748" y="26389"/>
                </a:lnTo>
                <a:lnTo>
                  <a:pt x="108170" y="27514"/>
                </a:lnTo>
                <a:lnTo>
                  <a:pt x="116762" y="29257"/>
                </a:lnTo>
                <a:lnTo>
                  <a:pt x="125466" y="31411"/>
                </a:lnTo>
                <a:lnTo>
                  <a:pt x="134246" y="32847"/>
                </a:lnTo>
                <a:lnTo>
                  <a:pt x="151938" y="34442"/>
                </a:lnTo>
                <a:lnTo>
                  <a:pt x="236915" y="35685"/>
                </a:lnTo>
                <a:lnTo>
                  <a:pt x="748481" y="35718"/>
                </a:lnTo>
                <a:lnTo>
                  <a:pt x="761917" y="36711"/>
                </a:lnTo>
                <a:lnTo>
                  <a:pt x="774843" y="38364"/>
                </a:lnTo>
                <a:lnTo>
                  <a:pt x="787429" y="40458"/>
                </a:lnTo>
                <a:lnTo>
                  <a:pt x="800781" y="41855"/>
                </a:lnTo>
                <a:lnTo>
                  <a:pt x="828845" y="43408"/>
                </a:lnTo>
                <a:lnTo>
                  <a:pt x="909212" y="44539"/>
                </a:lnTo>
                <a:lnTo>
                  <a:pt x="992527" y="44638"/>
                </a:lnTo>
                <a:lnTo>
                  <a:pt x="1005973" y="45634"/>
                </a:lnTo>
                <a:lnTo>
                  <a:pt x="1019899" y="47289"/>
                </a:lnTo>
                <a:lnTo>
                  <a:pt x="1034143" y="49385"/>
                </a:lnTo>
                <a:lnTo>
                  <a:pt x="1048601" y="50783"/>
                </a:lnTo>
                <a:lnTo>
                  <a:pt x="1077893" y="52336"/>
                </a:lnTo>
                <a:lnTo>
                  <a:pt x="1162105" y="53469"/>
                </a:lnTo>
                <a:lnTo>
                  <a:pt x="1247550" y="53568"/>
                </a:lnTo>
                <a:lnTo>
                  <a:pt x="1261317" y="54564"/>
                </a:lnTo>
                <a:lnTo>
                  <a:pt x="1274464" y="56219"/>
                </a:lnTo>
                <a:lnTo>
                  <a:pt x="1287197" y="58315"/>
                </a:lnTo>
                <a:lnTo>
                  <a:pt x="1300647" y="59713"/>
                </a:lnTo>
                <a:lnTo>
                  <a:pt x="1328820" y="61265"/>
                </a:lnTo>
                <a:lnTo>
                  <a:pt x="1409267" y="62398"/>
                </a:lnTo>
                <a:lnTo>
                  <a:pt x="1793544" y="62508"/>
                </a:lnTo>
                <a:lnTo>
                  <a:pt x="1806884" y="61515"/>
                </a:lnTo>
                <a:lnTo>
                  <a:pt x="1819745" y="59862"/>
                </a:lnTo>
                <a:lnTo>
                  <a:pt x="1832288" y="57767"/>
                </a:lnTo>
                <a:lnTo>
                  <a:pt x="1844619" y="56371"/>
                </a:lnTo>
                <a:lnTo>
                  <a:pt x="1868904" y="54819"/>
                </a:lnTo>
                <a:lnTo>
                  <a:pt x="1904888" y="53946"/>
                </a:lnTo>
                <a:lnTo>
                  <a:pt x="1916831" y="52831"/>
                </a:lnTo>
                <a:lnTo>
                  <a:pt x="1928762" y="51095"/>
                </a:lnTo>
                <a:lnTo>
                  <a:pt x="1940685" y="48946"/>
                </a:lnTo>
                <a:lnTo>
                  <a:pt x="1952602" y="47513"/>
                </a:lnTo>
                <a:lnTo>
                  <a:pt x="1976427" y="45922"/>
                </a:lnTo>
                <a:lnTo>
                  <a:pt x="1988336" y="44505"/>
                </a:lnTo>
                <a:lnTo>
                  <a:pt x="2000245" y="42568"/>
                </a:lnTo>
                <a:lnTo>
                  <a:pt x="2012153" y="40286"/>
                </a:lnTo>
                <a:lnTo>
                  <a:pt x="2025053" y="38763"/>
                </a:lnTo>
                <a:lnTo>
                  <a:pt x="2052615" y="37071"/>
                </a:lnTo>
                <a:lnTo>
                  <a:pt x="2127874" y="35837"/>
                </a:lnTo>
                <a:lnTo>
                  <a:pt x="2287623" y="35719"/>
                </a:lnTo>
                <a:lnTo>
                  <a:pt x="2299981" y="34727"/>
                </a:lnTo>
                <a:lnTo>
                  <a:pt x="2312187" y="33074"/>
                </a:lnTo>
                <a:lnTo>
                  <a:pt x="2324294" y="30978"/>
                </a:lnTo>
                <a:lnTo>
                  <a:pt x="2337327" y="29582"/>
                </a:lnTo>
                <a:lnTo>
                  <a:pt x="2365035" y="28031"/>
                </a:lnTo>
                <a:lnTo>
                  <a:pt x="2440402" y="26898"/>
                </a:lnTo>
                <a:lnTo>
                  <a:pt x="2452435" y="25869"/>
                </a:lnTo>
                <a:lnTo>
                  <a:pt x="2464425" y="24192"/>
                </a:lnTo>
                <a:lnTo>
                  <a:pt x="2476387" y="22081"/>
                </a:lnTo>
                <a:lnTo>
                  <a:pt x="2488331" y="20674"/>
                </a:lnTo>
                <a:lnTo>
                  <a:pt x="2512185" y="19110"/>
                </a:lnTo>
                <a:lnTo>
                  <a:pt x="2578912" y="17968"/>
                </a:lnTo>
                <a:lnTo>
                  <a:pt x="2588431" y="16941"/>
                </a:lnTo>
                <a:lnTo>
                  <a:pt x="2597754" y="15262"/>
                </a:lnTo>
                <a:lnTo>
                  <a:pt x="2606944" y="13151"/>
                </a:lnTo>
                <a:lnTo>
                  <a:pt x="2616049" y="11744"/>
                </a:lnTo>
                <a:lnTo>
                  <a:pt x="2634102" y="10180"/>
                </a:lnTo>
                <a:lnTo>
                  <a:pt x="2680133" y="9039"/>
                </a:lnTo>
                <a:lnTo>
                  <a:pt x="2686670" y="8010"/>
                </a:lnTo>
                <a:lnTo>
                  <a:pt x="2692020" y="6332"/>
                </a:lnTo>
                <a:lnTo>
                  <a:pt x="2696578" y="4222"/>
                </a:lnTo>
                <a:lnTo>
                  <a:pt x="2701601" y="2814"/>
                </a:lnTo>
                <a:lnTo>
                  <a:pt x="2712475" y="1251"/>
                </a:lnTo>
                <a:lnTo>
                  <a:pt x="2732484" y="0"/>
                </a:lnTo>
              </a:path>
            </a:pathLst>
          </a:custGeom>
          <a:noFill/>
          <a:ln w="38160">
            <a:solidFill>
              <a:srgbClr val="000000"/>
            </a:solidFill>
            <a:round/>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Constantia"/>
            </a:endParaRPr>
          </a:p>
        </p:txBody>
      </p:sp>
      <p:sp>
        <p:nvSpPr>
          <p:cNvPr id="263" name="SMARTInkAnnotation59"/>
          <p:cNvSpPr/>
          <p:nvPr/>
        </p:nvSpPr>
        <p:spPr>
          <a:xfrm>
            <a:off x="3429000" y="5286240"/>
            <a:ext cx="36360" cy="455760"/>
          </a:xfrm>
          <a:custGeom>
            <a:avLst/>
            <a:gdLst>
              <a:gd name="textAreaLeft" fmla="*/ 0 w 36360"/>
              <a:gd name="textAreaRight" fmla="*/ 36720 w 36360"/>
              <a:gd name="textAreaTop" fmla="*/ 0 h 455760"/>
              <a:gd name="textAreaBottom" fmla="*/ 456120 h 455760"/>
            </a:gdLst>
            <a:ahLst/>
            <a:rect l="textAreaLeft" t="textAreaTop" r="textAreaRight" b="textAreaBottom"/>
            <a:pathLst>
              <a:path w="35709" h="455415">
                <a:moveTo>
                  <a:pt x="35708" y="0"/>
                </a:moveTo>
                <a:lnTo>
                  <a:pt x="35708" y="42240"/>
                </a:lnTo>
                <a:lnTo>
                  <a:pt x="34716" y="48004"/>
                </a:lnTo>
                <a:lnTo>
                  <a:pt x="33063" y="53830"/>
                </a:lnTo>
                <a:lnTo>
                  <a:pt x="30968" y="59699"/>
                </a:lnTo>
                <a:lnTo>
                  <a:pt x="29571" y="65596"/>
                </a:lnTo>
                <a:lnTo>
                  <a:pt x="28640" y="71512"/>
                </a:lnTo>
                <a:lnTo>
                  <a:pt x="27606" y="84369"/>
                </a:lnTo>
                <a:lnTo>
                  <a:pt x="27146" y="100005"/>
                </a:lnTo>
                <a:lnTo>
                  <a:pt x="26887" y="120802"/>
                </a:lnTo>
                <a:lnTo>
                  <a:pt x="25859" y="128160"/>
                </a:lnTo>
                <a:lnTo>
                  <a:pt x="24181" y="136041"/>
                </a:lnTo>
                <a:lnTo>
                  <a:pt x="22070" y="144272"/>
                </a:lnTo>
                <a:lnTo>
                  <a:pt x="20663" y="153728"/>
                </a:lnTo>
                <a:lnTo>
                  <a:pt x="19725" y="164001"/>
                </a:lnTo>
                <a:lnTo>
                  <a:pt x="19100" y="174818"/>
                </a:lnTo>
                <a:lnTo>
                  <a:pt x="18405" y="194775"/>
                </a:lnTo>
                <a:lnTo>
                  <a:pt x="18219" y="204264"/>
                </a:lnTo>
                <a:lnTo>
                  <a:pt x="17104" y="213567"/>
                </a:lnTo>
                <a:lnTo>
                  <a:pt x="15368" y="222745"/>
                </a:lnTo>
                <a:lnTo>
                  <a:pt x="13218" y="231840"/>
                </a:lnTo>
                <a:lnTo>
                  <a:pt x="11785" y="241872"/>
                </a:lnTo>
                <a:lnTo>
                  <a:pt x="10830" y="252529"/>
                </a:lnTo>
                <a:lnTo>
                  <a:pt x="10193" y="263602"/>
                </a:lnTo>
                <a:lnTo>
                  <a:pt x="8776" y="273962"/>
                </a:lnTo>
                <a:lnTo>
                  <a:pt x="6839" y="283845"/>
                </a:lnTo>
                <a:lnTo>
                  <a:pt x="4556" y="293409"/>
                </a:lnTo>
                <a:lnTo>
                  <a:pt x="3034" y="303755"/>
                </a:lnTo>
                <a:lnTo>
                  <a:pt x="2019" y="314620"/>
                </a:lnTo>
                <a:lnTo>
                  <a:pt x="1342" y="325832"/>
                </a:lnTo>
                <a:lnTo>
                  <a:pt x="591" y="346228"/>
                </a:lnTo>
                <a:lnTo>
                  <a:pt x="108" y="378835"/>
                </a:lnTo>
                <a:lnTo>
                  <a:pt x="0" y="419477"/>
                </a:lnTo>
                <a:lnTo>
                  <a:pt x="989" y="424510"/>
                </a:lnTo>
                <a:lnTo>
                  <a:pt x="2640" y="429851"/>
                </a:lnTo>
                <a:lnTo>
                  <a:pt x="4733" y="435395"/>
                </a:lnTo>
                <a:lnTo>
                  <a:pt x="6128" y="440083"/>
                </a:lnTo>
                <a:lnTo>
                  <a:pt x="7058" y="444201"/>
                </a:lnTo>
                <a:lnTo>
                  <a:pt x="7679" y="447939"/>
                </a:lnTo>
                <a:lnTo>
                  <a:pt x="9084" y="450431"/>
                </a:lnTo>
                <a:lnTo>
                  <a:pt x="11014" y="452092"/>
                </a:lnTo>
                <a:lnTo>
                  <a:pt x="17849" y="455414"/>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64" name="SMARTInkAnnotation60"/>
          <p:cNvSpPr/>
          <p:nvPr/>
        </p:nvSpPr>
        <p:spPr>
          <a:xfrm>
            <a:off x="3670200" y="5348160"/>
            <a:ext cx="249480" cy="357480"/>
          </a:xfrm>
          <a:custGeom>
            <a:avLst/>
            <a:gdLst>
              <a:gd name="textAreaLeft" fmla="*/ 0 w 249480"/>
              <a:gd name="textAreaRight" fmla="*/ 249840 w 249480"/>
              <a:gd name="textAreaTop" fmla="*/ 0 h 357480"/>
              <a:gd name="textAreaBottom" fmla="*/ 357480 h 357480"/>
            </a:gdLst>
            <a:ahLst/>
            <a:rect l="textAreaLeft" t="textAreaTop" r="textAreaRight" b="textAreaBottom"/>
            <a:pathLst>
              <a:path w="249331" h="356704">
                <a:moveTo>
                  <a:pt x="231748" y="26753"/>
                </a:moveTo>
                <a:lnTo>
                  <a:pt x="231748" y="22013"/>
                </a:lnTo>
                <a:lnTo>
                  <a:pt x="230756" y="20617"/>
                </a:lnTo>
                <a:lnTo>
                  <a:pt x="229102" y="19686"/>
                </a:lnTo>
                <a:lnTo>
                  <a:pt x="227008" y="19065"/>
                </a:lnTo>
                <a:lnTo>
                  <a:pt x="225611" y="17659"/>
                </a:lnTo>
                <a:lnTo>
                  <a:pt x="224680" y="15729"/>
                </a:lnTo>
                <a:lnTo>
                  <a:pt x="224060" y="13451"/>
                </a:lnTo>
                <a:lnTo>
                  <a:pt x="222654" y="11932"/>
                </a:lnTo>
                <a:lnTo>
                  <a:pt x="220725" y="10919"/>
                </a:lnTo>
                <a:lnTo>
                  <a:pt x="218446" y="10244"/>
                </a:lnTo>
                <a:lnTo>
                  <a:pt x="213268" y="6848"/>
                </a:lnTo>
                <a:lnTo>
                  <a:pt x="210498" y="4554"/>
                </a:lnTo>
                <a:lnTo>
                  <a:pt x="206668" y="3023"/>
                </a:lnTo>
                <a:lnTo>
                  <a:pt x="202130" y="2004"/>
                </a:lnTo>
                <a:lnTo>
                  <a:pt x="197119" y="1324"/>
                </a:lnTo>
                <a:lnTo>
                  <a:pt x="192788" y="871"/>
                </a:lnTo>
                <a:lnTo>
                  <a:pt x="185328" y="367"/>
                </a:lnTo>
                <a:lnTo>
                  <a:pt x="176059" y="143"/>
                </a:lnTo>
                <a:lnTo>
                  <a:pt x="153941" y="0"/>
                </a:lnTo>
                <a:lnTo>
                  <a:pt x="147134" y="980"/>
                </a:lnTo>
                <a:lnTo>
                  <a:pt x="139621" y="2626"/>
                </a:lnTo>
                <a:lnTo>
                  <a:pt x="131634" y="4715"/>
                </a:lnTo>
                <a:lnTo>
                  <a:pt x="124326" y="6109"/>
                </a:lnTo>
                <a:lnTo>
                  <a:pt x="117469" y="7037"/>
                </a:lnTo>
                <a:lnTo>
                  <a:pt x="110913" y="7656"/>
                </a:lnTo>
                <a:lnTo>
                  <a:pt x="104559" y="9061"/>
                </a:lnTo>
                <a:lnTo>
                  <a:pt x="98338" y="10990"/>
                </a:lnTo>
                <a:lnTo>
                  <a:pt x="92206" y="13268"/>
                </a:lnTo>
                <a:lnTo>
                  <a:pt x="86134" y="15779"/>
                </a:lnTo>
                <a:lnTo>
                  <a:pt x="80102" y="18445"/>
                </a:lnTo>
                <a:lnTo>
                  <a:pt x="74096" y="21215"/>
                </a:lnTo>
                <a:lnTo>
                  <a:pt x="68108" y="23061"/>
                </a:lnTo>
                <a:lnTo>
                  <a:pt x="62131" y="24292"/>
                </a:lnTo>
                <a:lnTo>
                  <a:pt x="56163" y="25112"/>
                </a:lnTo>
                <a:lnTo>
                  <a:pt x="51191" y="26651"/>
                </a:lnTo>
                <a:lnTo>
                  <a:pt x="46884" y="28670"/>
                </a:lnTo>
                <a:lnTo>
                  <a:pt x="43021" y="31008"/>
                </a:lnTo>
                <a:lnTo>
                  <a:pt x="38461" y="33558"/>
                </a:lnTo>
                <a:lnTo>
                  <a:pt x="28103" y="39038"/>
                </a:lnTo>
                <a:lnTo>
                  <a:pt x="23555" y="40896"/>
                </a:lnTo>
                <a:lnTo>
                  <a:pt x="15856" y="42961"/>
                </a:lnTo>
                <a:lnTo>
                  <a:pt x="13406" y="44504"/>
                </a:lnTo>
                <a:lnTo>
                  <a:pt x="11773" y="46525"/>
                </a:lnTo>
                <a:lnTo>
                  <a:pt x="10684" y="48864"/>
                </a:lnTo>
                <a:lnTo>
                  <a:pt x="8965" y="50424"/>
                </a:lnTo>
                <a:lnTo>
                  <a:pt x="6828" y="51463"/>
                </a:lnTo>
                <a:lnTo>
                  <a:pt x="0" y="53421"/>
                </a:lnTo>
                <a:lnTo>
                  <a:pt x="4442" y="53507"/>
                </a:lnTo>
                <a:lnTo>
                  <a:pt x="5797" y="54511"/>
                </a:lnTo>
                <a:lnTo>
                  <a:pt x="6700" y="56172"/>
                </a:lnTo>
                <a:lnTo>
                  <a:pt x="7302" y="58272"/>
                </a:lnTo>
                <a:lnTo>
                  <a:pt x="9687" y="59672"/>
                </a:lnTo>
                <a:lnTo>
                  <a:pt x="13262" y="60606"/>
                </a:lnTo>
                <a:lnTo>
                  <a:pt x="17630" y="61228"/>
                </a:lnTo>
                <a:lnTo>
                  <a:pt x="25128" y="61919"/>
                </a:lnTo>
                <a:lnTo>
                  <a:pt x="28517" y="62103"/>
                </a:lnTo>
                <a:lnTo>
                  <a:pt x="33753" y="63219"/>
                </a:lnTo>
                <a:lnTo>
                  <a:pt x="40220" y="64954"/>
                </a:lnTo>
                <a:lnTo>
                  <a:pt x="47508" y="67103"/>
                </a:lnTo>
                <a:lnTo>
                  <a:pt x="54351" y="68536"/>
                </a:lnTo>
                <a:lnTo>
                  <a:pt x="60897" y="69491"/>
                </a:lnTo>
                <a:lnTo>
                  <a:pt x="67246" y="70128"/>
                </a:lnTo>
                <a:lnTo>
                  <a:pt x="73463" y="71545"/>
                </a:lnTo>
                <a:lnTo>
                  <a:pt x="79592" y="73482"/>
                </a:lnTo>
                <a:lnTo>
                  <a:pt x="85662" y="75765"/>
                </a:lnTo>
                <a:lnTo>
                  <a:pt x="108427" y="83719"/>
                </a:lnTo>
                <a:lnTo>
                  <a:pt x="115799" y="86559"/>
                </a:lnTo>
                <a:lnTo>
                  <a:pt x="122699" y="89444"/>
                </a:lnTo>
                <a:lnTo>
                  <a:pt x="129283" y="92360"/>
                </a:lnTo>
                <a:lnTo>
                  <a:pt x="136649" y="96288"/>
                </a:lnTo>
                <a:lnTo>
                  <a:pt x="144536" y="100891"/>
                </a:lnTo>
                <a:lnTo>
                  <a:pt x="152771" y="105944"/>
                </a:lnTo>
                <a:lnTo>
                  <a:pt x="160245" y="110305"/>
                </a:lnTo>
                <a:lnTo>
                  <a:pt x="173841" y="117797"/>
                </a:lnTo>
                <a:lnTo>
                  <a:pt x="180245" y="123168"/>
                </a:lnTo>
                <a:lnTo>
                  <a:pt x="186499" y="129725"/>
                </a:lnTo>
                <a:lnTo>
                  <a:pt x="192652" y="137073"/>
                </a:lnTo>
                <a:lnTo>
                  <a:pt x="198739" y="143956"/>
                </a:lnTo>
                <a:lnTo>
                  <a:pt x="210793" y="156896"/>
                </a:lnTo>
                <a:lnTo>
                  <a:pt x="215794" y="164117"/>
                </a:lnTo>
                <a:lnTo>
                  <a:pt x="220120" y="171907"/>
                </a:lnTo>
                <a:lnTo>
                  <a:pt x="223996" y="180077"/>
                </a:lnTo>
                <a:lnTo>
                  <a:pt x="228564" y="188501"/>
                </a:lnTo>
                <a:lnTo>
                  <a:pt x="233595" y="197093"/>
                </a:lnTo>
                <a:lnTo>
                  <a:pt x="238932" y="205797"/>
                </a:lnTo>
                <a:lnTo>
                  <a:pt x="242491" y="213585"/>
                </a:lnTo>
                <a:lnTo>
                  <a:pt x="244863" y="220761"/>
                </a:lnTo>
                <a:lnTo>
                  <a:pt x="246444" y="227529"/>
                </a:lnTo>
                <a:lnTo>
                  <a:pt x="247499" y="235018"/>
                </a:lnTo>
                <a:lnTo>
                  <a:pt x="248202" y="242987"/>
                </a:lnTo>
                <a:lnTo>
                  <a:pt x="248671" y="251277"/>
                </a:lnTo>
                <a:lnTo>
                  <a:pt x="249191" y="265778"/>
                </a:lnTo>
                <a:lnTo>
                  <a:pt x="249330" y="272424"/>
                </a:lnTo>
                <a:lnTo>
                  <a:pt x="248430" y="278839"/>
                </a:lnTo>
                <a:lnTo>
                  <a:pt x="246838" y="285100"/>
                </a:lnTo>
                <a:lnTo>
                  <a:pt x="244785" y="291258"/>
                </a:lnTo>
                <a:lnTo>
                  <a:pt x="242424" y="297347"/>
                </a:lnTo>
                <a:lnTo>
                  <a:pt x="239857" y="303392"/>
                </a:lnTo>
                <a:lnTo>
                  <a:pt x="237154" y="309406"/>
                </a:lnTo>
                <a:lnTo>
                  <a:pt x="233368" y="314407"/>
                </a:lnTo>
                <a:lnTo>
                  <a:pt x="228859" y="318733"/>
                </a:lnTo>
                <a:lnTo>
                  <a:pt x="223869" y="322610"/>
                </a:lnTo>
                <a:lnTo>
                  <a:pt x="218558" y="327178"/>
                </a:lnTo>
                <a:lnTo>
                  <a:pt x="213033" y="332209"/>
                </a:lnTo>
                <a:lnTo>
                  <a:pt x="207365" y="337546"/>
                </a:lnTo>
                <a:lnTo>
                  <a:pt x="200610" y="341106"/>
                </a:lnTo>
                <a:lnTo>
                  <a:pt x="193130" y="343477"/>
                </a:lnTo>
                <a:lnTo>
                  <a:pt x="185167" y="345059"/>
                </a:lnTo>
                <a:lnTo>
                  <a:pt x="177873" y="347106"/>
                </a:lnTo>
                <a:lnTo>
                  <a:pt x="171027" y="349462"/>
                </a:lnTo>
                <a:lnTo>
                  <a:pt x="164478" y="352026"/>
                </a:lnTo>
                <a:lnTo>
                  <a:pt x="158128" y="353734"/>
                </a:lnTo>
                <a:lnTo>
                  <a:pt x="151910" y="354874"/>
                </a:lnTo>
                <a:lnTo>
                  <a:pt x="145780" y="355633"/>
                </a:lnTo>
                <a:lnTo>
                  <a:pt x="138718" y="356139"/>
                </a:lnTo>
                <a:lnTo>
                  <a:pt x="131033" y="356477"/>
                </a:lnTo>
                <a:lnTo>
                  <a:pt x="122932" y="356703"/>
                </a:lnTo>
                <a:lnTo>
                  <a:pt x="115548" y="355860"/>
                </a:lnTo>
                <a:lnTo>
                  <a:pt x="108641" y="354307"/>
                </a:lnTo>
                <a:lnTo>
                  <a:pt x="102052" y="352278"/>
                </a:lnTo>
                <a:lnTo>
                  <a:pt x="95674" y="350927"/>
                </a:lnTo>
                <a:lnTo>
                  <a:pt x="89439" y="350026"/>
                </a:lnTo>
                <a:lnTo>
                  <a:pt x="83297" y="349424"/>
                </a:lnTo>
                <a:lnTo>
                  <a:pt x="77218" y="348032"/>
                </a:lnTo>
                <a:lnTo>
                  <a:pt x="71181" y="346111"/>
                </a:lnTo>
                <a:lnTo>
                  <a:pt x="65172" y="343839"/>
                </a:lnTo>
                <a:lnTo>
                  <a:pt x="60174" y="342323"/>
                </a:lnTo>
                <a:lnTo>
                  <a:pt x="55850" y="341313"/>
                </a:lnTo>
                <a:lnTo>
                  <a:pt x="51975" y="340640"/>
                </a:lnTo>
                <a:lnTo>
                  <a:pt x="45023" y="337246"/>
                </a:lnTo>
                <a:lnTo>
                  <a:pt x="41780" y="334951"/>
                </a:lnTo>
                <a:lnTo>
                  <a:pt x="35531" y="332402"/>
                </a:lnTo>
                <a:lnTo>
                  <a:pt x="26436" y="330378"/>
                </a:lnTo>
                <a:lnTo>
                  <a:pt x="26365" y="330363"/>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65" name="Freeform 63"/>
          <p:cNvSpPr/>
          <p:nvPr/>
        </p:nvSpPr>
        <p:spPr>
          <a:xfrm>
            <a:off x="3946680" y="5724360"/>
            <a:ext cx="2880" cy="360"/>
          </a:xfrm>
          <a:custGeom>
            <a:avLst/>
            <a:gdLst>
              <a:gd name="textAreaLeft" fmla="*/ 0 w 2880"/>
              <a:gd name="textAreaRight" fmla="*/ 3240 w 2880"/>
              <a:gd name="textAreaTop" fmla="*/ 0 h 360"/>
              <a:gd name="textAreaBottom" fmla="*/ 720 h 360"/>
            </a:gdLst>
            <a:ahLst/>
            <a:rect l="textAreaLeft" t="textAreaTop" r="textAreaRight" b="textAreaBottom"/>
            <a:pathLst>
              <a:path w="2647" h="1">
                <a:moveTo>
                  <a:pt x="0" y="0"/>
                </a:moveTo>
                <a:lnTo>
                  <a:pt x="2646" y="0"/>
                </a:lnTo>
                <a:close/>
              </a:path>
            </a:pathLst>
          </a:custGeom>
          <a:solidFill>
            <a:srgbClr val="0f6fc6"/>
          </a:solidFill>
          <a:ln w="38160">
            <a:solidFill>
              <a:srgbClr val="000000"/>
            </a:solidFill>
            <a:round/>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Constantia"/>
            </a:endParaRPr>
          </a:p>
        </p:txBody>
      </p:sp>
      <p:sp>
        <p:nvSpPr>
          <p:cNvPr id="266" name="SMARTInkAnnotation62"/>
          <p:cNvSpPr/>
          <p:nvPr/>
        </p:nvSpPr>
        <p:spPr>
          <a:xfrm>
            <a:off x="4011480" y="5394240"/>
            <a:ext cx="292320" cy="452520"/>
          </a:xfrm>
          <a:custGeom>
            <a:avLst/>
            <a:gdLst>
              <a:gd name="textAreaLeft" fmla="*/ 0 w 292320"/>
              <a:gd name="textAreaRight" fmla="*/ 292680 w 292320"/>
              <a:gd name="textAreaTop" fmla="*/ 0 h 452520"/>
              <a:gd name="textAreaBottom" fmla="*/ 452880 h 452520"/>
            </a:gdLst>
            <a:ahLst/>
            <a:rect l="textAreaLeft" t="textAreaTop" r="textAreaRight" b="textAreaBottom"/>
            <a:pathLst>
              <a:path w="293234" h="452913">
                <a:moveTo>
                  <a:pt x="257561" y="44111"/>
                </a:moveTo>
                <a:lnTo>
                  <a:pt x="252821" y="39371"/>
                </a:lnTo>
                <a:lnTo>
                  <a:pt x="250432" y="37974"/>
                </a:lnTo>
                <a:lnTo>
                  <a:pt x="241338" y="35017"/>
                </a:lnTo>
                <a:lnTo>
                  <a:pt x="236823" y="33087"/>
                </a:lnTo>
                <a:lnTo>
                  <a:pt x="226517" y="28297"/>
                </a:lnTo>
                <a:lnTo>
                  <a:pt x="215321" y="22862"/>
                </a:lnTo>
                <a:lnTo>
                  <a:pt x="206376" y="19784"/>
                </a:lnTo>
                <a:lnTo>
                  <a:pt x="198101" y="18417"/>
                </a:lnTo>
                <a:lnTo>
                  <a:pt x="193116" y="18052"/>
                </a:lnTo>
                <a:lnTo>
                  <a:pt x="183278" y="17647"/>
                </a:lnTo>
                <a:lnTo>
                  <a:pt x="175599" y="17466"/>
                </a:lnTo>
                <a:lnTo>
                  <a:pt x="160957" y="17365"/>
                </a:lnTo>
                <a:lnTo>
                  <a:pt x="153471" y="19335"/>
                </a:lnTo>
                <a:lnTo>
                  <a:pt x="144511" y="22633"/>
                </a:lnTo>
                <a:lnTo>
                  <a:pt x="134570" y="26816"/>
                </a:lnTo>
                <a:lnTo>
                  <a:pt x="118232" y="34109"/>
                </a:lnTo>
                <a:lnTo>
                  <a:pt x="111097" y="37444"/>
                </a:lnTo>
                <a:lnTo>
                  <a:pt x="104356" y="41651"/>
                </a:lnTo>
                <a:lnTo>
                  <a:pt x="97877" y="46440"/>
                </a:lnTo>
                <a:lnTo>
                  <a:pt x="91574" y="51617"/>
                </a:lnTo>
                <a:lnTo>
                  <a:pt x="85388" y="57053"/>
                </a:lnTo>
                <a:lnTo>
                  <a:pt x="79279" y="62661"/>
                </a:lnTo>
                <a:lnTo>
                  <a:pt x="73222" y="68384"/>
                </a:lnTo>
                <a:lnTo>
                  <a:pt x="68192" y="74184"/>
                </a:lnTo>
                <a:lnTo>
                  <a:pt x="59957" y="85919"/>
                </a:lnTo>
                <a:lnTo>
                  <a:pt x="55380" y="91827"/>
                </a:lnTo>
                <a:lnTo>
                  <a:pt x="50344" y="97750"/>
                </a:lnTo>
                <a:lnTo>
                  <a:pt x="45002" y="103683"/>
                </a:lnTo>
                <a:lnTo>
                  <a:pt x="40449" y="110614"/>
                </a:lnTo>
                <a:lnTo>
                  <a:pt x="36422" y="118212"/>
                </a:lnTo>
                <a:lnTo>
                  <a:pt x="32744" y="126254"/>
                </a:lnTo>
                <a:lnTo>
                  <a:pt x="29300" y="134592"/>
                </a:lnTo>
                <a:lnTo>
                  <a:pt x="26012" y="143127"/>
                </a:lnTo>
                <a:lnTo>
                  <a:pt x="19713" y="160548"/>
                </a:lnTo>
                <a:lnTo>
                  <a:pt x="13606" y="178212"/>
                </a:lnTo>
                <a:lnTo>
                  <a:pt x="11581" y="187090"/>
                </a:lnTo>
                <a:lnTo>
                  <a:pt x="10230" y="195985"/>
                </a:lnTo>
                <a:lnTo>
                  <a:pt x="9331" y="204892"/>
                </a:lnTo>
                <a:lnTo>
                  <a:pt x="7738" y="213806"/>
                </a:lnTo>
                <a:lnTo>
                  <a:pt x="5685" y="222725"/>
                </a:lnTo>
                <a:lnTo>
                  <a:pt x="3323" y="231648"/>
                </a:lnTo>
                <a:lnTo>
                  <a:pt x="1749" y="240574"/>
                </a:lnTo>
                <a:lnTo>
                  <a:pt x="699" y="249500"/>
                </a:lnTo>
                <a:lnTo>
                  <a:pt x="0" y="258428"/>
                </a:lnTo>
                <a:lnTo>
                  <a:pt x="525" y="268348"/>
                </a:lnTo>
                <a:lnTo>
                  <a:pt x="1868" y="278931"/>
                </a:lnTo>
                <a:lnTo>
                  <a:pt x="3756" y="289955"/>
                </a:lnTo>
                <a:lnTo>
                  <a:pt x="6006" y="300280"/>
                </a:lnTo>
                <a:lnTo>
                  <a:pt x="8498" y="310141"/>
                </a:lnTo>
                <a:lnTo>
                  <a:pt x="11152" y="319690"/>
                </a:lnTo>
                <a:lnTo>
                  <a:pt x="16746" y="338239"/>
                </a:lnTo>
                <a:lnTo>
                  <a:pt x="19628" y="347353"/>
                </a:lnTo>
                <a:lnTo>
                  <a:pt x="23532" y="356405"/>
                </a:lnTo>
                <a:lnTo>
                  <a:pt x="28120" y="365416"/>
                </a:lnTo>
                <a:lnTo>
                  <a:pt x="33163" y="374401"/>
                </a:lnTo>
                <a:lnTo>
                  <a:pt x="38509" y="383367"/>
                </a:lnTo>
                <a:lnTo>
                  <a:pt x="49742" y="401267"/>
                </a:lnTo>
                <a:lnTo>
                  <a:pt x="55515" y="409214"/>
                </a:lnTo>
                <a:lnTo>
                  <a:pt x="61348" y="416498"/>
                </a:lnTo>
                <a:lnTo>
                  <a:pt x="67221" y="423338"/>
                </a:lnTo>
                <a:lnTo>
                  <a:pt x="73121" y="428890"/>
                </a:lnTo>
                <a:lnTo>
                  <a:pt x="79039" y="433584"/>
                </a:lnTo>
                <a:lnTo>
                  <a:pt x="84968" y="437705"/>
                </a:lnTo>
                <a:lnTo>
                  <a:pt x="91898" y="441444"/>
                </a:lnTo>
                <a:lnTo>
                  <a:pt x="99494" y="444930"/>
                </a:lnTo>
                <a:lnTo>
                  <a:pt x="107535" y="448246"/>
                </a:lnTo>
                <a:lnTo>
                  <a:pt x="114880" y="450457"/>
                </a:lnTo>
                <a:lnTo>
                  <a:pt x="121760" y="451930"/>
                </a:lnTo>
                <a:lnTo>
                  <a:pt x="128332" y="452912"/>
                </a:lnTo>
                <a:lnTo>
                  <a:pt x="135689" y="452575"/>
                </a:lnTo>
                <a:lnTo>
                  <a:pt x="143572" y="451358"/>
                </a:lnTo>
                <a:lnTo>
                  <a:pt x="151802" y="449554"/>
                </a:lnTo>
                <a:lnTo>
                  <a:pt x="160266" y="447360"/>
                </a:lnTo>
                <a:lnTo>
                  <a:pt x="168886" y="444905"/>
                </a:lnTo>
                <a:lnTo>
                  <a:pt x="177608" y="442275"/>
                </a:lnTo>
                <a:lnTo>
                  <a:pt x="185408" y="438539"/>
                </a:lnTo>
                <a:lnTo>
                  <a:pt x="192591" y="434063"/>
                </a:lnTo>
                <a:lnTo>
                  <a:pt x="199365" y="429095"/>
                </a:lnTo>
                <a:lnTo>
                  <a:pt x="205865" y="423798"/>
                </a:lnTo>
                <a:lnTo>
                  <a:pt x="212184" y="418283"/>
                </a:lnTo>
                <a:lnTo>
                  <a:pt x="218380" y="412622"/>
                </a:lnTo>
                <a:lnTo>
                  <a:pt x="230556" y="401039"/>
                </a:lnTo>
                <a:lnTo>
                  <a:pt x="236581" y="395173"/>
                </a:lnTo>
                <a:lnTo>
                  <a:pt x="242582" y="388285"/>
                </a:lnTo>
                <a:lnTo>
                  <a:pt x="248567" y="380717"/>
                </a:lnTo>
                <a:lnTo>
                  <a:pt x="254542" y="372695"/>
                </a:lnTo>
                <a:lnTo>
                  <a:pt x="259517" y="363378"/>
                </a:lnTo>
                <a:lnTo>
                  <a:pt x="263826" y="353198"/>
                </a:lnTo>
                <a:lnTo>
                  <a:pt x="274631" y="322555"/>
                </a:lnTo>
                <a:lnTo>
                  <a:pt x="287171" y="285534"/>
                </a:lnTo>
                <a:lnTo>
                  <a:pt x="289207" y="275505"/>
                </a:lnTo>
                <a:lnTo>
                  <a:pt x="290565" y="264850"/>
                </a:lnTo>
                <a:lnTo>
                  <a:pt x="291470" y="253779"/>
                </a:lnTo>
                <a:lnTo>
                  <a:pt x="292073" y="242429"/>
                </a:lnTo>
                <a:lnTo>
                  <a:pt x="292743" y="219234"/>
                </a:lnTo>
                <a:lnTo>
                  <a:pt x="293209" y="167200"/>
                </a:lnTo>
                <a:lnTo>
                  <a:pt x="293233" y="155937"/>
                </a:lnTo>
                <a:lnTo>
                  <a:pt x="292257" y="145451"/>
                </a:lnTo>
                <a:lnTo>
                  <a:pt x="290613" y="135483"/>
                </a:lnTo>
                <a:lnTo>
                  <a:pt x="288525" y="125862"/>
                </a:lnTo>
                <a:lnTo>
                  <a:pt x="287134" y="117463"/>
                </a:lnTo>
                <a:lnTo>
                  <a:pt x="286206" y="109880"/>
                </a:lnTo>
                <a:lnTo>
                  <a:pt x="285587" y="102839"/>
                </a:lnTo>
                <a:lnTo>
                  <a:pt x="284182" y="95170"/>
                </a:lnTo>
                <a:lnTo>
                  <a:pt x="282254" y="87080"/>
                </a:lnTo>
                <a:lnTo>
                  <a:pt x="279976" y="78710"/>
                </a:lnTo>
                <a:lnTo>
                  <a:pt x="277465" y="71146"/>
                </a:lnTo>
                <a:lnTo>
                  <a:pt x="272030" y="57450"/>
                </a:lnTo>
                <a:lnTo>
                  <a:pt x="266306" y="44748"/>
                </a:lnTo>
                <a:lnTo>
                  <a:pt x="260456" y="33480"/>
                </a:lnTo>
                <a:lnTo>
                  <a:pt x="251583" y="21559"/>
                </a:lnTo>
                <a:lnTo>
                  <a:pt x="242671" y="11742"/>
                </a:lnTo>
                <a:lnTo>
                  <a:pt x="236722" y="5582"/>
                </a:lnTo>
                <a:lnTo>
                  <a:pt x="232754" y="3542"/>
                </a:lnTo>
                <a:lnTo>
                  <a:pt x="228125" y="2182"/>
                </a:lnTo>
                <a:lnTo>
                  <a:pt x="223054" y="1276"/>
                </a:lnTo>
                <a:lnTo>
                  <a:pt x="214774" y="269"/>
                </a:lnTo>
                <a:lnTo>
                  <a:pt x="211177" y="0"/>
                </a:lnTo>
                <a:lnTo>
                  <a:pt x="208779" y="813"/>
                </a:lnTo>
                <a:lnTo>
                  <a:pt x="207180" y="2347"/>
                </a:lnTo>
                <a:lnTo>
                  <a:pt x="203983" y="8392"/>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67" name="SMARTInkAnnotation63"/>
          <p:cNvSpPr/>
          <p:nvPr/>
        </p:nvSpPr>
        <p:spPr>
          <a:xfrm>
            <a:off x="4424400" y="5581800"/>
            <a:ext cx="165240" cy="320400"/>
          </a:xfrm>
          <a:custGeom>
            <a:avLst/>
            <a:gdLst>
              <a:gd name="textAreaLeft" fmla="*/ 0 w 165240"/>
              <a:gd name="textAreaRight" fmla="*/ 165600 w 165240"/>
              <a:gd name="textAreaTop" fmla="*/ 0 h 320400"/>
              <a:gd name="textAreaBottom" fmla="*/ 320760 h 320400"/>
            </a:gdLst>
            <a:ahLst/>
            <a:rect l="textAreaLeft" t="textAreaTop" r="textAreaRight" b="textAreaBottom"/>
            <a:pathLst>
              <a:path w="165246" h="321062">
                <a:moveTo>
                  <a:pt x="147910" y="53575"/>
                </a:moveTo>
                <a:lnTo>
                  <a:pt x="140222" y="53575"/>
                </a:lnTo>
                <a:lnTo>
                  <a:pt x="139808" y="52583"/>
                </a:lnTo>
                <a:lnTo>
                  <a:pt x="139143" y="43861"/>
                </a:lnTo>
                <a:lnTo>
                  <a:pt x="139089" y="41146"/>
                </a:lnTo>
                <a:lnTo>
                  <a:pt x="138060" y="38343"/>
                </a:lnTo>
                <a:lnTo>
                  <a:pt x="134272" y="32584"/>
                </a:lnTo>
                <a:lnTo>
                  <a:pt x="129281" y="26717"/>
                </a:lnTo>
                <a:lnTo>
                  <a:pt x="126561" y="23763"/>
                </a:lnTo>
                <a:lnTo>
                  <a:pt x="123756" y="21794"/>
                </a:lnTo>
                <a:lnTo>
                  <a:pt x="120893" y="20481"/>
                </a:lnTo>
                <a:lnTo>
                  <a:pt x="117992" y="19606"/>
                </a:lnTo>
                <a:lnTo>
                  <a:pt x="115066" y="18030"/>
                </a:lnTo>
                <a:lnTo>
                  <a:pt x="112123" y="15987"/>
                </a:lnTo>
                <a:lnTo>
                  <a:pt x="109169" y="13634"/>
                </a:lnTo>
                <a:lnTo>
                  <a:pt x="105216" y="11072"/>
                </a:lnTo>
                <a:lnTo>
                  <a:pt x="100595" y="8372"/>
                </a:lnTo>
                <a:lnTo>
                  <a:pt x="95531" y="5580"/>
                </a:lnTo>
                <a:lnTo>
                  <a:pt x="91162" y="3719"/>
                </a:lnTo>
                <a:lnTo>
                  <a:pt x="87258" y="2479"/>
                </a:lnTo>
                <a:lnTo>
                  <a:pt x="83663" y="1651"/>
                </a:lnTo>
                <a:lnTo>
                  <a:pt x="79282" y="1100"/>
                </a:lnTo>
                <a:lnTo>
                  <a:pt x="74376" y="731"/>
                </a:lnTo>
                <a:lnTo>
                  <a:pt x="64627" y="323"/>
                </a:lnTo>
                <a:lnTo>
                  <a:pt x="53559" y="93"/>
                </a:lnTo>
                <a:lnTo>
                  <a:pt x="21194" y="0"/>
                </a:lnTo>
                <a:lnTo>
                  <a:pt x="17791" y="991"/>
                </a:lnTo>
                <a:lnTo>
                  <a:pt x="14532" y="2644"/>
                </a:lnTo>
                <a:lnTo>
                  <a:pt x="11366" y="4738"/>
                </a:lnTo>
                <a:lnTo>
                  <a:pt x="9256" y="7126"/>
                </a:lnTo>
                <a:lnTo>
                  <a:pt x="7848" y="9710"/>
                </a:lnTo>
                <a:lnTo>
                  <a:pt x="6285" y="15228"/>
                </a:lnTo>
                <a:lnTo>
                  <a:pt x="5590" y="20987"/>
                </a:lnTo>
                <a:lnTo>
                  <a:pt x="2636" y="29500"/>
                </a:lnTo>
                <a:lnTo>
                  <a:pt x="459" y="34549"/>
                </a:lnTo>
                <a:lnTo>
                  <a:pt x="0" y="38906"/>
                </a:lnTo>
                <a:lnTo>
                  <a:pt x="686" y="42803"/>
                </a:lnTo>
                <a:lnTo>
                  <a:pt x="2135" y="46394"/>
                </a:lnTo>
                <a:lnTo>
                  <a:pt x="3746" y="55675"/>
                </a:lnTo>
                <a:lnTo>
                  <a:pt x="4175" y="60928"/>
                </a:lnTo>
                <a:lnTo>
                  <a:pt x="5454" y="66415"/>
                </a:lnTo>
                <a:lnTo>
                  <a:pt x="7299" y="72056"/>
                </a:lnTo>
                <a:lnTo>
                  <a:pt x="9520" y="77802"/>
                </a:lnTo>
                <a:lnTo>
                  <a:pt x="14635" y="86832"/>
                </a:lnTo>
                <a:lnTo>
                  <a:pt x="17388" y="90629"/>
                </a:lnTo>
                <a:lnTo>
                  <a:pt x="20216" y="95145"/>
                </a:lnTo>
                <a:lnTo>
                  <a:pt x="23093" y="100139"/>
                </a:lnTo>
                <a:lnTo>
                  <a:pt x="26003" y="105454"/>
                </a:lnTo>
                <a:lnTo>
                  <a:pt x="29928" y="110981"/>
                </a:lnTo>
                <a:lnTo>
                  <a:pt x="34528" y="116650"/>
                </a:lnTo>
                <a:lnTo>
                  <a:pt x="39580" y="122414"/>
                </a:lnTo>
                <a:lnTo>
                  <a:pt x="43940" y="128241"/>
                </a:lnTo>
                <a:lnTo>
                  <a:pt x="47838" y="134109"/>
                </a:lnTo>
                <a:lnTo>
                  <a:pt x="51430" y="140007"/>
                </a:lnTo>
                <a:lnTo>
                  <a:pt x="55809" y="144931"/>
                </a:lnTo>
                <a:lnTo>
                  <a:pt x="60712" y="149205"/>
                </a:lnTo>
                <a:lnTo>
                  <a:pt x="65966" y="153047"/>
                </a:lnTo>
                <a:lnTo>
                  <a:pt x="71452" y="157592"/>
                </a:lnTo>
                <a:lnTo>
                  <a:pt x="77094" y="162607"/>
                </a:lnTo>
                <a:lnTo>
                  <a:pt x="82840" y="167935"/>
                </a:lnTo>
                <a:lnTo>
                  <a:pt x="87663" y="173470"/>
                </a:lnTo>
                <a:lnTo>
                  <a:pt x="91870" y="179146"/>
                </a:lnTo>
                <a:lnTo>
                  <a:pt x="95667" y="184914"/>
                </a:lnTo>
                <a:lnTo>
                  <a:pt x="100183" y="190744"/>
                </a:lnTo>
                <a:lnTo>
                  <a:pt x="105178" y="196614"/>
                </a:lnTo>
                <a:lnTo>
                  <a:pt x="110492" y="202512"/>
                </a:lnTo>
                <a:lnTo>
                  <a:pt x="115027" y="208429"/>
                </a:lnTo>
                <a:lnTo>
                  <a:pt x="119043" y="214358"/>
                </a:lnTo>
                <a:lnTo>
                  <a:pt x="122712" y="220295"/>
                </a:lnTo>
                <a:lnTo>
                  <a:pt x="126150" y="225245"/>
                </a:lnTo>
                <a:lnTo>
                  <a:pt x="129434" y="229537"/>
                </a:lnTo>
                <a:lnTo>
                  <a:pt x="132617" y="233391"/>
                </a:lnTo>
                <a:lnTo>
                  <a:pt x="135730" y="237944"/>
                </a:lnTo>
                <a:lnTo>
                  <a:pt x="138797" y="242964"/>
                </a:lnTo>
                <a:lnTo>
                  <a:pt x="141835" y="248295"/>
                </a:lnTo>
                <a:lnTo>
                  <a:pt x="144852" y="252842"/>
                </a:lnTo>
                <a:lnTo>
                  <a:pt x="147856" y="256865"/>
                </a:lnTo>
                <a:lnTo>
                  <a:pt x="150850" y="260538"/>
                </a:lnTo>
                <a:lnTo>
                  <a:pt x="153839" y="264972"/>
                </a:lnTo>
                <a:lnTo>
                  <a:pt x="156824" y="269912"/>
                </a:lnTo>
                <a:lnTo>
                  <a:pt x="161793" y="279702"/>
                </a:lnTo>
                <a:lnTo>
                  <a:pt x="164002" y="287359"/>
                </a:lnTo>
                <a:lnTo>
                  <a:pt x="165245" y="297249"/>
                </a:lnTo>
                <a:lnTo>
                  <a:pt x="164428" y="299368"/>
                </a:lnTo>
                <a:lnTo>
                  <a:pt x="162890" y="300781"/>
                </a:lnTo>
                <a:lnTo>
                  <a:pt x="160873" y="301722"/>
                </a:lnTo>
                <a:lnTo>
                  <a:pt x="155987" y="305414"/>
                </a:lnTo>
                <a:lnTo>
                  <a:pt x="153294" y="307788"/>
                </a:lnTo>
                <a:lnTo>
                  <a:pt x="150507" y="309370"/>
                </a:lnTo>
                <a:lnTo>
                  <a:pt x="147657" y="310426"/>
                </a:lnTo>
                <a:lnTo>
                  <a:pt x="144765" y="311129"/>
                </a:lnTo>
                <a:lnTo>
                  <a:pt x="141844" y="312590"/>
                </a:lnTo>
                <a:lnTo>
                  <a:pt x="138905" y="314556"/>
                </a:lnTo>
                <a:lnTo>
                  <a:pt x="135953" y="316859"/>
                </a:lnTo>
                <a:lnTo>
                  <a:pt x="132001" y="318394"/>
                </a:lnTo>
                <a:lnTo>
                  <a:pt x="127383" y="319418"/>
                </a:lnTo>
                <a:lnTo>
                  <a:pt x="122318" y="320100"/>
                </a:lnTo>
                <a:lnTo>
                  <a:pt x="117951" y="320556"/>
                </a:lnTo>
                <a:lnTo>
                  <a:pt x="114046" y="320859"/>
                </a:lnTo>
                <a:lnTo>
                  <a:pt x="110451" y="321061"/>
                </a:lnTo>
                <a:lnTo>
                  <a:pt x="107062" y="320203"/>
                </a:lnTo>
                <a:lnTo>
                  <a:pt x="103811" y="318640"/>
                </a:lnTo>
                <a:lnTo>
                  <a:pt x="100652" y="316605"/>
                </a:lnTo>
                <a:lnTo>
                  <a:pt x="96561" y="315249"/>
                </a:lnTo>
                <a:lnTo>
                  <a:pt x="91849" y="314344"/>
                </a:lnTo>
                <a:lnTo>
                  <a:pt x="86723" y="313741"/>
                </a:lnTo>
                <a:lnTo>
                  <a:pt x="82314" y="313339"/>
                </a:lnTo>
                <a:lnTo>
                  <a:pt x="78382" y="313071"/>
                </a:lnTo>
                <a:lnTo>
                  <a:pt x="74769" y="312892"/>
                </a:lnTo>
                <a:lnTo>
                  <a:pt x="71368" y="311781"/>
                </a:lnTo>
                <a:lnTo>
                  <a:pt x="68108" y="310048"/>
                </a:lnTo>
                <a:lnTo>
                  <a:pt x="60488" y="304878"/>
                </a:lnTo>
                <a:lnTo>
                  <a:pt x="56800" y="304171"/>
                </a:lnTo>
                <a:lnTo>
                  <a:pt x="49683" y="303606"/>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68" name="SMARTInkAnnotation64"/>
          <p:cNvSpPr/>
          <p:nvPr/>
        </p:nvSpPr>
        <p:spPr>
          <a:xfrm>
            <a:off x="5554800" y="4983120"/>
            <a:ext cx="374400" cy="79560"/>
          </a:xfrm>
          <a:custGeom>
            <a:avLst/>
            <a:gdLst>
              <a:gd name="textAreaLeft" fmla="*/ 0 w 374400"/>
              <a:gd name="textAreaRight" fmla="*/ 374760 w 374400"/>
              <a:gd name="textAreaTop" fmla="*/ 0 h 79560"/>
              <a:gd name="textAreaBottom" fmla="*/ 79560 h 79560"/>
            </a:gdLst>
            <a:ahLst/>
            <a:rect l="textAreaLeft" t="textAreaTop" r="textAreaRight" b="textAreaBottom"/>
            <a:pathLst>
              <a:path w="375048" h="80368">
                <a:moveTo>
                  <a:pt x="0" y="0"/>
                </a:moveTo>
                <a:lnTo>
                  <a:pt x="9481" y="4740"/>
                </a:lnTo>
                <a:lnTo>
                  <a:pt x="19427" y="7068"/>
                </a:lnTo>
                <a:lnTo>
                  <a:pt x="30463" y="9095"/>
                </a:lnTo>
                <a:lnTo>
                  <a:pt x="36184" y="11024"/>
                </a:lnTo>
                <a:lnTo>
                  <a:pt x="41982" y="13302"/>
                </a:lnTo>
                <a:lnTo>
                  <a:pt x="47832" y="14821"/>
                </a:lnTo>
                <a:lnTo>
                  <a:pt x="53715" y="15834"/>
                </a:lnTo>
                <a:lnTo>
                  <a:pt x="59624" y="16510"/>
                </a:lnTo>
                <a:lnTo>
                  <a:pt x="66538" y="17952"/>
                </a:lnTo>
                <a:lnTo>
                  <a:pt x="74124" y="19905"/>
                </a:lnTo>
                <a:lnTo>
                  <a:pt x="82159" y="22200"/>
                </a:lnTo>
                <a:lnTo>
                  <a:pt x="89499" y="23730"/>
                </a:lnTo>
                <a:lnTo>
                  <a:pt x="96377" y="24750"/>
                </a:lnTo>
                <a:lnTo>
                  <a:pt x="102947" y="25430"/>
                </a:lnTo>
                <a:lnTo>
                  <a:pt x="111296" y="26875"/>
                </a:lnTo>
                <a:lnTo>
                  <a:pt x="120830" y="28831"/>
                </a:lnTo>
                <a:lnTo>
                  <a:pt x="131155" y="31127"/>
                </a:lnTo>
                <a:lnTo>
                  <a:pt x="141015" y="33649"/>
                </a:lnTo>
                <a:lnTo>
                  <a:pt x="150565" y="36324"/>
                </a:lnTo>
                <a:lnTo>
                  <a:pt x="159908" y="39099"/>
                </a:lnTo>
                <a:lnTo>
                  <a:pt x="169113" y="40949"/>
                </a:lnTo>
                <a:lnTo>
                  <a:pt x="178226" y="42182"/>
                </a:lnTo>
                <a:lnTo>
                  <a:pt x="187278" y="43004"/>
                </a:lnTo>
                <a:lnTo>
                  <a:pt x="197283" y="44544"/>
                </a:lnTo>
                <a:lnTo>
                  <a:pt x="207920" y="46564"/>
                </a:lnTo>
                <a:lnTo>
                  <a:pt x="218981" y="48902"/>
                </a:lnTo>
                <a:lnTo>
                  <a:pt x="229331" y="50461"/>
                </a:lnTo>
                <a:lnTo>
                  <a:pt x="239207" y="51500"/>
                </a:lnTo>
                <a:lnTo>
                  <a:pt x="248769" y="52193"/>
                </a:lnTo>
                <a:lnTo>
                  <a:pt x="258119" y="53647"/>
                </a:lnTo>
                <a:lnTo>
                  <a:pt x="267330" y="55608"/>
                </a:lnTo>
                <a:lnTo>
                  <a:pt x="276446" y="57908"/>
                </a:lnTo>
                <a:lnTo>
                  <a:pt x="284509" y="59441"/>
                </a:lnTo>
                <a:lnTo>
                  <a:pt x="291868" y="60463"/>
                </a:lnTo>
                <a:lnTo>
                  <a:pt x="298758" y="61145"/>
                </a:lnTo>
                <a:lnTo>
                  <a:pt x="306328" y="62591"/>
                </a:lnTo>
                <a:lnTo>
                  <a:pt x="314352" y="64548"/>
                </a:lnTo>
                <a:lnTo>
                  <a:pt x="322677" y="66845"/>
                </a:lnTo>
                <a:lnTo>
                  <a:pt x="330212" y="68375"/>
                </a:lnTo>
                <a:lnTo>
                  <a:pt x="337220" y="69396"/>
                </a:lnTo>
                <a:lnTo>
                  <a:pt x="343876" y="70076"/>
                </a:lnTo>
                <a:lnTo>
                  <a:pt x="349305" y="71523"/>
                </a:lnTo>
                <a:lnTo>
                  <a:pt x="353917" y="73479"/>
                </a:lnTo>
                <a:lnTo>
                  <a:pt x="357984" y="75775"/>
                </a:lnTo>
                <a:lnTo>
                  <a:pt x="361688" y="77306"/>
                </a:lnTo>
                <a:lnTo>
                  <a:pt x="365148" y="78326"/>
                </a:lnTo>
                <a:lnTo>
                  <a:pt x="375047" y="80367"/>
                </a:lnTo>
              </a:path>
            </a:pathLst>
          </a:custGeom>
          <a:noFill/>
          <a:ln w="38160">
            <a:solidFill>
              <a:srgbClr val="000000"/>
            </a:solidFill>
            <a:round/>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Constantia"/>
            </a:endParaRPr>
          </a:p>
        </p:txBody>
      </p:sp>
      <p:sp>
        <p:nvSpPr>
          <p:cNvPr id="269" name="SMARTInkAnnotation65"/>
          <p:cNvSpPr/>
          <p:nvPr/>
        </p:nvSpPr>
        <p:spPr>
          <a:xfrm>
            <a:off x="5653080" y="5197320"/>
            <a:ext cx="285840" cy="7920"/>
          </a:xfrm>
          <a:custGeom>
            <a:avLst/>
            <a:gdLst>
              <a:gd name="textAreaLeft" fmla="*/ 0 w 285840"/>
              <a:gd name="textAreaRight" fmla="*/ 286200 w 285840"/>
              <a:gd name="textAreaTop" fmla="*/ 0 h 7920"/>
              <a:gd name="textAreaBottom" fmla="*/ 8280 h 7920"/>
            </a:gdLst>
            <a:ahLst/>
            <a:rect l="textAreaLeft" t="textAreaTop" r="textAreaRight" b="textAreaBottom"/>
            <a:pathLst>
              <a:path w="285751" h="8898">
                <a:moveTo>
                  <a:pt x="0" y="8897"/>
                </a:moveTo>
                <a:lnTo>
                  <a:pt x="94058" y="8897"/>
                </a:lnTo>
                <a:lnTo>
                  <a:pt x="102393" y="7906"/>
                </a:lnTo>
                <a:lnTo>
                  <a:pt x="111918" y="6252"/>
                </a:lnTo>
                <a:lnTo>
                  <a:pt x="122237" y="4157"/>
                </a:lnTo>
                <a:lnTo>
                  <a:pt x="132092" y="2760"/>
                </a:lnTo>
                <a:lnTo>
                  <a:pt x="141640" y="1830"/>
                </a:lnTo>
                <a:lnTo>
                  <a:pt x="150981" y="1209"/>
                </a:lnTo>
                <a:lnTo>
                  <a:pt x="160186" y="795"/>
                </a:lnTo>
                <a:lnTo>
                  <a:pt x="178350" y="335"/>
                </a:lnTo>
                <a:lnTo>
                  <a:pt x="224462" y="0"/>
                </a:lnTo>
                <a:lnTo>
                  <a:pt x="232985" y="982"/>
                </a:lnTo>
                <a:lnTo>
                  <a:pt x="241644" y="2628"/>
                </a:lnTo>
                <a:lnTo>
                  <a:pt x="250393" y="4717"/>
                </a:lnTo>
                <a:lnTo>
                  <a:pt x="257217" y="6111"/>
                </a:lnTo>
                <a:lnTo>
                  <a:pt x="262760" y="7040"/>
                </a:lnTo>
                <a:lnTo>
                  <a:pt x="267447" y="7659"/>
                </a:lnTo>
                <a:lnTo>
                  <a:pt x="271564" y="8072"/>
                </a:lnTo>
                <a:lnTo>
                  <a:pt x="275300" y="8347"/>
                </a:lnTo>
                <a:lnTo>
                  <a:pt x="285750" y="8897"/>
                </a:lnTo>
              </a:path>
            </a:pathLst>
          </a:custGeom>
          <a:noFill/>
          <a:ln w="38160">
            <a:solidFill>
              <a:srgbClr val="000000"/>
            </a:solidFill>
            <a:round/>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Constantia"/>
            </a:endParaRPr>
          </a:p>
        </p:txBody>
      </p:sp>
      <p:sp>
        <p:nvSpPr>
          <p:cNvPr id="270" name="SMARTInkAnnotation66"/>
          <p:cNvSpPr/>
          <p:nvPr/>
        </p:nvSpPr>
        <p:spPr>
          <a:xfrm>
            <a:off x="6224760" y="4727520"/>
            <a:ext cx="507960" cy="647640"/>
          </a:xfrm>
          <a:custGeom>
            <a:avLst/>
            <a:gdLst>
              <a:gd name="textAreaLeft" fmla="*/ 0 w 507960"/>
              <a:gd name="textAreaRight" fmla="*/ 508320 w 507960"/>
              <a:gd name="textAreaTop" fmla="*/ 0 h 647640"/>
              <a:gd name="textAreaBottom" fmla="*/ 648000 h 647640"/>
            </a:gdLst>
            <a:ahLst/>
            <a:rect l="textAreaLeft" t="textAreaTop" r="textAreaRight" b="textAreaBottom"/>
            <a:pathLst>
              <a:path w="508824" h="647808">
                <a:moveTo>
                  <a:pt x="0" y="67378"/>
                </a:moveTo>
                <a:lnTo>
                  <a:pt x="4740" y="67378"/>
                </a:lnTo>
                <a:lnTo>
                  <a:pt x="7128" y="66386"/>
                </a:lnTo>
                <a:lnTo>
                  <a:pt x="15231" y="61241"/>
                </a:lnTo>
                <a:lnTo>
                  <a:pt x="20990" y="59689"/>
                </a:lnTo>
                <a:lnTo>
                  <a:pt x="33764" y="57701"/>
                </a:lnTo>
                <a:lnTo>
                  <a:pt x="57014" y="48783"/>
                </a:lnTo>
                <a:lnTo>
                  <a:pt x="71972" y="44231"/>
                </a:lnTo>
                <a:lnTo>
                  <a:pt x="93535" y="40676"/>
                </a:lnTo>
                <a:lnTo>
                  <a:pt x="113339" y="36328"/>
                </a:lnTo>
                <a:lnTo>
                  <a:pt x="123184" y="33780"/>
                </a:lnTo>
                <a:lnTo>
                  <a:pt x="132724" y="31088"/>
                </a:lnTo>
                <a:lnTo>
                  <a:pt x="142062" y="28302"/>
                </a:lnTo>
                <a:lnTo>
                  <a:pt x="163019" y="22560"/>
                </a:lnTo>
                <a:lnTo>
                  <a:pt x="174163" y="19640"/>
                </a:lnTo>
                <a:lnTo>
                  <a:pt x="185562" y="17694"/>
                </a:lnTo>
                <a:lnTo>
                  <a:pt x="197130" y="16396"/>
                </a:lnTo>
                <a:lnTo>
                  <a:pt x="208810" y="15530"/>
                </a:lnTo>
                <a:lnTo>
                  <a:pt x="221558" y="13961"/>
                </a:lnTo>
                <a:lnTo>
                  <a:pt x="235018" y="11923"/>
                </a:lnTo>
                <a:lnTo>
                  <a:pt x="248952" y="9572"/>
                </a:lnTo>
                <a:lnTo>
                  <a:pt x="262210" y="8004"/>
                </a:lnTo>
                <a:lnTo>
                  <a:pt x="275017" y="6960"/>
                </a:lnTo>
                <a:lnTo>
                  <a:pt x="287525" y="6263"/>
                </a:lnTo>
                <a:lnTo>
                  <a:pt x="299831" y="4806"/>
                </a:lnTo>
                <a:lnTo>
                  <a:pt x="312005" y="2843"/>
                </a:lnTo>
                <a:lnTo>
                  <a:pt x="324089" y="543"/>
                </a:lnTo>
                <a:lnTo>
                  <a:pt x="335121" y="0"/>
                </a:lnTo>
                <a:lnTo>
                  <a:pt x="345453" y="631"/>
                </a:lnTo>
                <a:lnTo>
                  <a:pt x="355318" y="2044"/>
                </a:lnTo>
                <a:lnTo>
                  <a:pt x="365863" y="2986"/>
                </a:lnTo>
                <a:lnTo>
                  <a:pt x="376861" y="3614"/>
                </a:lnTo>
                <a:lnTo>
                  <a:pt x="388162" y="4033"/>
                </a:lnTo>
                <a:lnTo>
                  <a:pt x="398674" y="5304"/>
                </a:lnTo>
                <a:lnTo>
                  <a:pt x="408657" y="7144"/>
                </a:lnTo>
                <a:lnTo>
                  <a:pt x="418290" y="9362"/>
                </a:lnTo>
                <a:lnTo>
                  <a:pt x="426696" y="10841"/>
                </a:lnTo>
                <a:lnTo>
                  <a:pt x="441327" y="12485"/>
                </a:lnTo>
                <a:lnTo>
                  <a:pt x="454444" y="15861"/>
                </a:lnTo>
                <a:lnTo>
                  <a:pt x="466889" y="20669"/>
                </a:lnTo>
                <a:lnTo>
                  <a:pt x="479034" y="26113"/>
                </a:lnTo>
                <a:lnTo>
                  <a:pt x="492289" y="34756"/>
                </a:lnTo>
                <a:lnTo>
                  <a:pt x="499254" y="43288"/>
                </a:lnTo>
                <a:lnTo>
                  <a:pt x="504663" y="52702"/>
                </a:lnTo>
                <a:lnTo>
                  <a:pt x="507068" y="60194"/>
                </a:lnTo>
                <a:lnTo>
                  <a:pt x="508738" y="76145"/>
                </a:lnTo>
                <a:lnTo>
                  <a:pt x="508823" y="79176"/>
                </a:lnTo>
                <a:lnTo>
                  <a:pt x="506270" y="87835"/>
                </a:lnTo>
                <a:lnTo>
                  <a:pt x="504201" y="92922"/>
                </a:lnTo>
                <a:lnTo>
                  <a:pt x="491808" y="109562"/>
                </a:lnTo>
                <a:lnTo>
                  <a:pt x="480308" y="127061"/>
                </a:lnTo>
                <a:lnTo>
                  <a:pt x="468463" y="138883"/>
                </a:lnTo>
                <a:lnTo>
                  <a:pt x="454267" y="150752"/>
                </a:lnTo>
                <a:lnTo>
                  <a:pt x="441344" y="162641"/>
                </a:lnTo>
                <a:lnTo>
                  <a:pt x="410743" y="192580"/>
                </a:lnTo>
                <a:lnTo>
                  <a:pt x="347850" y="255315"/>
                </a:lnTo>
                <a:lnTo>
                  <a:pt x="332863" y="272945"/>
                </a:lnTo>
                <a:lnTo>
                  <a:pt x="319587" y="290702"/>
                </a:lnTo>
                <a:lnTo>
                  <a:pt x="307072" y="308516"/>
                </a:lnTo>
                <a:lnTo>
                  <a:pt x="300957" y="318426"/>
                </a:lnTo>
                <a:lnTo>
                  <a:pt x="294896" y="329000"/>
                </a:lnTo>
                <a:lnTo>
                  <a:pt x="288870" y="340020"/>
                </a:lnTo>
                <a:lnTo>
                  <a:pt x="276884" y="360201"/>
                </a:lnTo>
                <a:lnTo>
                  <a:pt x="264942" y="379092"/>
                </a:lnTo>
                <a:lnTo>
                  <a:pt x="217290" y="451322"/>
                </a:lnTo>
                <a:lnTo>
                  <a:pt x="208030" y="469199"/>
                </a:lnTo>
                <a:lnTo>
                  <a:pt x="200606" y="487066"/>
                </a:lnTo>
                <a:lnTo>
                  <a:pt x="193999" y="504930"/>
                </a:lnTo>
                <a:lnTo>
                  <a:pt x="178662" y="549580"/>
                </a:lnTo>
                <a:lnTo>
                  <a:pt x="172671" y="566448"/>
                </a:lnTo>
                <a:lnTo>
                  <a:pt x="166701" y="580559"/>
                </a:lnTo>
                <a:lnTo>
                  <a:pt x="157761" y="599660"/>
                </a:lnTo>
                <a:lnTo>
                  <a:pt x="144089" y="617887"/>
                </a:lnTo>
                <a:lnTo>
                  <a:pt x="138452" y="627234"/>
                </a:lnTo>
                <a:lnTo>
                  <a:pt x="134957" y="634695"/>
                </a:lnTo>
                <a:lnTo>
                  <a:pt x="125147" y="647638"/>
                </a:lnTo>
                <a:lnTo>
                  <a:pt x="116086" y="647807"/>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71" name="SMARTInkAnnotation67"/>
          <p:cNvSpPr/>
          <p:nvPr/>
        </p:nvSpPr>
        <p:spPr>
          <a:xfrm>
            <a:off x="6831000" y="4813200"/>
            <a:ext cx="258840" cy="660600"/>
          </a:xfrm>
          <a:custGeom>
            <a:avLst/>
            <a:gdLst>
              <a:gd name="textAreaLeft" fmla="*/ 0 w 258840"/>
              <a:gd name="textAreaRight" fmla="*/ 259200 w 258840"/>
              <a:gd name="textAreaTop" fmla="*/ 0 h 660600"/>
              <a:gd name="textAreaBottom" fmla="*/ 660960 h 660600"/>
            </a:gdLst>
            <a:ahLst/>
            <a:rect l="textAreaLeft" t="textAreaTop" r="textAreaRight" b="textAreaBottom"/>
            <a:pathLst>
              <a:path w="258794" h="660430">
                <a:moveTo>
                  <a:pt x="71438" y="8562"/>
                </a:moveTo>
                <a:lnTo>
                  <a:pt x="71438" y="0"/>
                </a:lnTo>
                <a:lnTo>
                  <a:pt x="79127" y="7353"/>
                </a:lnTo>
                <a:lnTo>
                  <a:pt x="85108" y="8025"/>
                </a:lnTo>
                <a:lnTo>
                  <a:pt x="89481" y="8204"/>
                </a:lnTo>
                <a:lnTo>
                  <a:pt x="94381" y="9315"/>
                </a:lnTo>
                <a:lnTo>
                  <a:pt x="99632" y="11049"/>
                </a:lnTo>
                <a:lnTo>
                  <a:pt x="105117" y="13196"/>
                </a:lnTo>
                <a:lnTo>
                  <a:pt x="110758" y="16612"/>
                </a:lnTo>
                <a:lnTo>
                  <a:pt x="116503" y="20874"/>
                </a:lnTo>
                <a:lnTo>
                  <a:pt x="122318" y="25700"/>
                </a:lnTo>
                <a:lnTo>
                  <a:pt x="128178" y="29909"/>
                </a:lnTo>
                <a:lnTo>
                  <a:pt x="134070" y="33707"/>
                </a:lnTo>
                <a:lnTo>
                  <a:pt x="139982" y="37232"/>
                </a:lnTo>
                <a:lnTo>
                  <a:pt x="145907" y="41566"/>
                </a:lnTo>
                <a:lnTo>
                  <a:pt x="151842" y="46440"/>
                </a:lnTo>
                <a:lnTo>
                  <a:pt x="157783" y="51673"/>
                </a:lnTo>
                <a:lnTo>
                  <a:pt x="163728" y="58139"/>
                </a:lnTo>
                <a:lnTo>
                  <a:pt x="169676" y="65426"/>
                </a:lnTo>
                <a:lnTo>
                  <a:pt x="175625" y="73260"/>
                </a:lnTo>
                <a:lnTo>
                  <a:pt x="181576" y="80467"/>
                </a:lnTo>
                <a:lnTo>
                  <a:pt x="187527" y="87257"/>
                </a:lnTo>
                <a:lnTo>
                  <a:pt x="193480" y="93768"/>
                </a:lnTo>
                <a:lnTo>
                  <a:pt x="199432" y="102076"/>
                </a:lnTo>
                <a:lnTo>
                  <a:pt x="205385" y="111585"/>
                </a:lnTo>
                <a:lnTo>
                  <a:pt x="211337" y="121892"/>
                </a:lnTo>
                <a:lnTo>
                  <a:pt x="223244" y="141282"/>
                </a:lnTo>
                <a:lnTo>
                  <a:pt x="229197" y="150621"/>
                </a:lnTo>
                <a:lnTo>
                  <a:pt x="234157" y="160815"/>
                </a:lnTo>
                <a:lnTo>
                  <a:pt x="238456" y="171579"/>
                </a:lnTo>
                <a:lnTo>
                  <a:pt x="242315" y="182725"/>
                </a:lnTo>
                <a:lnTo>
                  <a:pt x="245879" y="194124"/>
                </a:lnTo>
                <a:lnTo>
                  <a:pt x="252487" y="217373"/>
                </a:lnTo>
                <a:lnTo>
                  <a:pt x="254645" y="229129"/>
                </a:lnTo>
                <a:lnTo>
                  <a:pt x="256083" y="240934"/>
                </a:lnTo>
                <a:lnTo>
                  <a:pt x="257042" y="252774"/>
                </a:lnTo>
                <a:lnTo>
                  <a:pt x="257682" y="265628"/>
                </a:lnTo>
                <a:lnTo>
                  <a:pt x="258393" y="293139"/>
                </a:lnTo>
                <a:lnTo>
                  <a:pt x="258793" y="331778"/>
                </a:lnTo>
                <a:lnTo>
                  <a:pt x="256865" y="345086"/>
                </a:lnTo>
                <a:lnTo>
                  <a:pt x="253595" y="358919"/>
                </a:lnTo>
                <a:lnTo>
                  <a:pt x="245663" y="386526"/>
                </a:lnTo>
                <a:lnTo>
                  <a:pt x="238829" y="412025"/>
                </a:lnTo>
                <a:lnTo>
                  <a:pt x="234626" y="424381"/>
                </a:lnTo>
                <a:lnTo>
                  <a:pt x="229839" y="436588"/>
                </a:lnTo>
                <a:lnTo>
                  <a:pt x="224663" y="448693"/>
                </a:lnTo>
                <a:lnTo>
                  <a:pt x="218237" y="461725"/>
                </a:lnTo>
                <a:lnTo>
                  <a:pt x="210976" y="475374"/>
                </a:lnTo>
                <a:lnTo>
                  <a:pt x="203159" y="489434"/>
                </a:lnTo>
                <a:lnTo>
                  <a:pt x="195963" y="501784"/>
                </a:lnTo>
                <a:lnTo>
                  <a:pt x="182675" y="523444"/>
                </a:lnTo>
                <a:lnTo>
                  <a:pt x="174370" y="534379"/>
                </a:lnTo>
                <a:lnTo>
                  <a:pt x="164864" y="545638"/>
                </a:lnTo>
                <a:lnTo>
                  <a:pt x="154558" y="557112"/>
                </a:lnTo>
                <a:lnTo>
                  <a:pt x="135169" y="577799"/>
                </a:lnTo>
                <a:lnTo>
                  <a:pt x="125832" y="587483"/>
                </a:lnTo>
                <a:lnTo>
                  <a:pt x="115638" y="595924"/>
                </a:lnTo>
                <a:lnTo>
                  <a:pt x="104873" y="603535"/>
                </a:lnTo>
                <a:lnTo>
                  <a:pt x="73408" y="623728"/>
                </a:lnTo>
                <a:lnTo>
                  <a:pt x="63821" y="630009"/>
                </a:lnTo>
                <a:lnTo>
                  <a:pt x="54454" y="635188"/>
                </a:lnTo>
                <a:lnTo>
                  <a:pt x="45233" y="639633"/>
                </a:lnTo>
                <a:lnTo>
                  <a:pt x="28041" y="647218"/>
                </a:lnTo>
                <a:lnTo>
                  <a:pt x="0" y="660429"/>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72" name="SMARTInkAnnotation68"/>
          <p:cNvSpPr/>
          <p:nvPr/>
        </p:nvSpPr>
        <p:spPr>
          <a:xfrm>
            <a:off x="6688080" y="5241960"/>
            <a:ext cx="473040" cy="177840"/>
          </a:xfrm>
          <a:custGeom>
            <a:avLst/>
            <a:gdLst>
              <a:gd name="textAreaLeft" fmla="*/ 0 w 473040"/>
              <a:gd name="textAreaRight" fmla="*/ 473400 w 473040"/>
              <a:gd name="textAreaTop" fmla="*/ 0 h 177840"/>
              <a:gd name="textAreaBottom" fmla="*/ 178200 h 177840"/>
            </a:gdLst>
            <a:ahLst/>
            <a:rect l="textAreaLeft" t="textAreaTop" r="textAreaRight" b="textAreaBottom"/>
            <a:pathLst>
              <a:path w="473275" h="178461">
                <a:moveTo>
                  <a:pt x="0" y="124882"/>
                </a:moveTo>
                <a:lnTo>
                  <a:pt x="0" y="100025"/>
                </a:lnTo>
                <a:lnTo>
                  <a:pt x="993" y="94419"/>
                </a:lnTo>
                <a:lnTo>
                  <a:pt x="2647" y="88699"/>
                </a:lnTo>
                <a:lnTo>
                  <a:pt x="4740" y="82900"/>
                </a:lnTo>
                <a:lnTo>
                  <a:pt x="8122" y="77050"/>
                </a:lnTo>
                <a:lnTo>
                  <a:pt x="12359" y="71166"/>
                </a:lnTo>
                <a:lnTo>
                  <a:pt x="17171" y="65259"/>
                </a:lnTo>
                <a:lnTo>
                  <a:pt x="22361" y="59336"/>
                </a:lnTo>
                <a:lnTo>
                  <a:pt x="27806" y="53403"/>
                </a:lnTo>
                <a:lnTo>
                  <a:pt x="33420" y="47465"/>
                </a:lnTo>
                <a:lnTo>
                  <a:pt x="39148" y="42513"/>
                </a:lnTo>
                <a:lnTo>
                  <a:pt x="44950" y="38219"/>
                </a:lnTo>
                <a:lnTo>
                  <a:pt x="73261" y="19458"/>
                </a:lnTo>
                <a:lnTo>
                  <a:pt x="82576" y="15905"/>
                </a:lnTo>
                <a:lnTo>
                  <a:pt x="92754" y="13535"/>
                </a:lnTo>
                <a:lnTo>
                  <a:pt x="103508" y="11955"/>
                </a:lnTo>
                <a:lnTo>
                  <a:pt x="113655" y="9910"/>
                </a:lnTo>
                <a:lnTo>
                  <a:pt x="123394" y="7555"/>
                </a:lnTo>
                <a:lnTo>
                  <a:pt x="132864" y="4992"/>
                </a:lnTo>
                <a:lnTo>
                  <a:pt x="142155" y="3283"/>
                </a:lnTo>
                <a:lnTo>
                  <a:pt x="151325" y="2145"/>
                </a:lnTo>
                <a:lnTo>
                  <a:pt x="160415" y="1385"/>
                </a:lnTo>
                <a:lnTo>
                  <a:pt x="170444" y="879"/>
                </a:lnTo>
                <a:lnTo>
                  <a:pt x="192169" y="316"/>
                </a:lnTo>
                <a:lnTo>
                  <a:pt x="226715" y="0"/>
                </a:lnTo>
                <a:lnTo>
                  <a:pt x="237463" y="948"/>
                </a:lnTo>
                <a:lnTo>
                  <a:pt x="247605" y="2572"/>
                </a:lnTo>
                <a:lnTo>
                  <a:pt x="257344" y="4646"/>
                </a:lnTo>
                <a:lnTo>
                  <a:pt x="266813" y="7022"/>
                </a:lnTo>
                <a:lnTo>
                  <a:pt x="276102" y="9598"/>
                </a:lnTo>
                <a:lnTo>
                  <a:pt x="285272" y="12307"/>
                </a:lnTo>
                <a:lnTo>
                  <a:pt x="294361" y="16098"/>
                </a:lnTo>
                <a:lnTo>
                  <a:pt x="303397" y="20609"/>
                </a:lnTo>
                <a:lnTo>
                  <a:pt x="312398" y="25601"/>
                </a:lnTo>
                <a:lnTo>
                  <a:pt x="321375" y="29921"/>
                </a:lnTo>
                <a:lnTo>
                  <a:pt x="330336" y="33794"/>
                </a:lnTo>
                <a:lnTo>
                  <a:pt x="339287" y="37367"/>
                </a:lnTo>
                <a:lnTo>
                  <a:pt x="347238" y="40742"/>
                </a:lnTo>
                <a:lnTo>
                  <a:pt x="361364" y="47137"/>
                </a:lnTo>
                <a:lnTo>
                  <a:pt x="367910" y="51224"/>
                </a:lnTo>
                <a:lnTo>
                  <a:pt x="374257" y="55933"/>
                </a:lnTo>
                <a:lnTo>
                  <a:pt x="380474" y="61057"/>
                </a:lnTo>
                <a:lnTo>
                  <a:pt x="385611" y="65464"/>
                </a:lnTo>
                <a:lnTo>
                  <a:pt x="390028" y="69396"/>
                </a:lnTo>
                <a:lnTo>
                  <a:pt x="397580" y="76409"/>
                </a:lnTo>
                <a:lnTo>
                  <a:pt x="407410" y="85936"/>
                </a:lnTo>
                <a:lnTo>
                  <a:pt x="413574" y="92028"/>
                </a:lnTo>
                <a:lnTo>
                  <a:pt x="415615" y="95042"/>
                </a:lnTo>
                <a:lnTo>
                  <a:pt x="416976" y="98043"/>
                </a:lnTo>
                <a:lnTo>
                  <a:pt x="417882" y="101036"/>
                </a:lnTo>
                <a:lnTo>
                  <a:pt x="418486" y="104024"/>
                </a:lnTo>
                <a:lnTo>
                  <a:pt x="418890" y="107007"/>
                </a:lnTo>
                <a:lnTo>
                  <a:pt x="419159" y="109989"/>
                </a:lnTo>
                <a:lnTo>
                  <a:pt x="420330" y="111977"/>
                </a:lnTo>
                <a:lnTo>
                  <a:pt x="422103" y="113302"/>
                </a:lnTo>
                <a:lnTo>
                  <a:pt x="424277" y="114185"/>
                </a:lnTo>
                <a:lnTo>
                  <a:pt x="425726" y="115766"/>
                </a:lnTo>
                <a:lnTo>
                  <a:pt x="426693" y="117812"/>
                </a:lnTo>
                <a:lnTo>
                  <a:pt x="427767" y="122732"/>
                </a:lnTo>
                <a:lnTo>
                  <a:pt x="428245" y="128226"/>
                </a:lnTo>
                <a:lnTo>
                  <a:pt x="428513" y="132157"/>
                </a:lnTo>
                <a:lnTo>
                  <a:pt x="431221" y="135722"/>
                </a:lnTo>
                <a:lnTo>
                  <a:pt x="436304" y="141355"/>
                </a:lnTo>
                <a:lnTo>
                  <a:pt x="436999" y="144771"/>
                </a:lnTo>
                <a:lnTo>
                  <a:pt x="437446" y="150308"/>
                </a:lnTo>
                <a:lnTo>
                  <a:pt x="437506" y="153711"/>
                </a:lnTo>
                <a:lnTo>
                  <a:pt x="437523" y="156008"/>
                </a:lnTo>
                <a:lnTo>
                  <a:pt x="438526" y="157539"/>
                </a:lnTo>
                <a:lnTo>
                  <a:pt x="440187" y="158559"/>
                </a:lnTo>
                <a:lnTo>
                  <a:pt x="442286" y="159240"/>
                </a:lnTo>
                <a:lnTo>
                  <a:pt x="443686" y="160686"/>
                </a:lnTo>
                <a:lnTo>
                  <a:pt x="444619" y="162642"/>
                </a:lnTo>
                <a:lnTo>
                  <a:pt x="445241" y="164938"/>
                </a:lnTo>
                <a:lnTo>
                  <a:pt x="446648" y="166469"/>
                </a:lnTo>
                <a:lnTo>
                  <a:pt x="448578" y="167489"/>
                </a:lnTo>
                <a:lnTo>
                  <a:pt x="454064" y="169127"/>
                </a:lnTo>
                <a:lnTo>
                  <a:pt x="459755" y="174152"/>
                </a:lnTo>
                <a:lnTo>
                  <a:pt x="462984" y="177183"/>
                </a:lnTo>
                <a:lnTo>
                  <a:pt x="466386" y="177893"/>
                </a:lnTo>
                <a:lnTo>
                  <a:pt x="473274" y="17846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73" name="SMARTInkAnnotation69"/>
          <p:cNvSpPr/>
          <p:nvPr/>
        </p:nvSpPr>
        <p:spPr>
          <a:xfrm>
            <a:off x="7162920" y="4875120"/>
            <a:ext cx="365040" cy="596880"/>
          </a:xfrm>
          <a:custGeom>
            <a:avLst/>
            <a:gdLst>
              <a:gd name="textAreaLeft" fmla="*/ 0 w 365040"/>
              <a:gd name="textAreaRight" fmla="*/ 365400 w 365040"/>
              <a:gd name="textAreaTop" fmla="*/ 0 h 596880"/>
              <a:gd name="textAreaBottom" fmla="*/ 597240 h 596880"/>
            </a:gdLst>
            <a:ahLst/>
            <a:rect l="textAreaLeft" t="textAreaTop" r="textAreaRight" b="textAreaBottom"/>
            <a:pathLst>
              <a:path w="364555" h="595986">
                <a:moveTo>
                  <a:pt x="266484" y="8562"/>
                </a:moveTo>
                <a:lnTo>
                  <a:pt x="261743" y="3822"/>
                </a:lnTo>
                <a:lnTo>
                  <a:pt x="259355" y="2425"/>
                </a:lnTo>
                <a:lnTo>
                  <a:pt x="254055" y="873"/>
                </a:lnTo>
                <a:lnTo>
                  <a:pt x="245746" y="184"/>
                </a:lnTo>
                <a:lnTo>
                  <a:pt x="240753" y="0"/>
                </a:lnTo>
                <a:lnTo>
                  <a:pt x="236431" y="869"/>
                </a:lnTo>
                <a:lnTo>
                  <a:pt x="228983" y="4482"/>
                </a:lnTo>
                <a:lnTo>
                  <a:pt x="219720" y="9394"/>
                </a:lnTo>
                <a:lnTo>
                  <a:pt x="197605" y="20632"/>
                </a:lnTo>
                <a:lnTo>
                  <a:pt x="191791" y="24546"/>
                </a:lnTo>
                <a:lnTo>
                  <a:pt x="185931" y="29140"/>
                </a:lnTo>
                <a:lnTo>
                  <a:pt x="180040" y="34186"/>
                </a:lnTo>
                <a:lnTo>
                  <a:pt x="174128" y="39535"/>
                </a:lnTo>
                <a:lnTo>
                  <a:pt x="162267" y="50771"/>
                </a:lnTo>
                <a:lnTo>
                  <a:pt x="155334" y="56544"/>
                </a:lnTo>
                <a:lnTo>
                  <a:pt x="147736" y="62378"/>
                </a:lnTo>
                <a:lnTo>
                  <a:pt x="139694" y="68252"/>
                </a:lnTo>
                <a:lnTo>
                  <a:pt x="132348" y="74152"/>
                </a:lnTo>
                <a:lnTo>
                  <a:pt x="125466" y="80070"/>
                </a:lnTo>
                <a:lnTo>
                  <a:pt x="118893" y="85999"/>
                </a:lnTo>
                <a:lnTo>
                  <a:pt x="112528" y="92929"/>
                </a:lnTo>
                <a:lnTo>
                  <a:pt x="106300" y="100525"/>
                </a:lnTo>
                <a:lnTo>
                  <a:pt x="100163" y="108566"/>
                </a:lnTo>
                <a:lnTo>
                  <a:pt x="94088" y="116903"/>
                </a:lnTo>
                <a:lnTo>
                  <a:pt x="82046" y="134104"/>
                </a:lnTo>
                <a:lnTo>
                  <a:pt x="64110" y="160522"/>
                </a:lnTo>
                <a:lnTo>
                  <a:pt x="59138" y="170392"/>
                </a:lnTo>
                <a:lnTo>
                  <a:pt x="54831" y="180940"/>
                </a:lnTo>
                <a:lnTo>
                  <a:pt x="50968" y="191942"/>
                </a:lnTo>
                <a:lnTo>
                  <a:pt x="46408" y="203245"/>
                </a:lnTo>
                <a:lnTo>
                  <a:pt x="41384" y="214749"/>
                </a:lnTo>
                <a:lnTo>
                  <a:pt x="36050" y="226387"/>
                </a:lnTo>
                <a:lnTo>
                  <a:pt x="31502" y="238114"/>
                </a:lnTo>
                <a:lnTo>
                  <a:pt x="27477" y="249901"/>
                </a:lnTo>
                <a:lnTo>
                  <a:pt x="23802" y="261729"/>
                </a:lnTo>
                <a:lnTo>
                  <a:pt x="17073" y="285453"/>
                </a:lnTo>
                <a:lnTo>
                  <a:pt x="13890" y="297335"/>
                </a:lnTo>
                <a:lnTo>
                  <a:pt x="11767" y="309226"/>
                </a:lnTo>
                <a:lnTo>
                  <a:pt x="10352" y="321122"/>
                </a:lnTo>
                <a:lnTo>
                  <a:pt x="9409" y="333021"/>
                </a:lnTo>
                <a:lnTo>
                  <a:pt x="7788" y="344923"/>
                </a:lnTo>
                <a:lnTo>
                  <a:pt x="5715" y="356826"/>
                </a:lnTo>
                <a:lnTo>
                  <a:pt x="3341" y="368730"/>
                </a:lnTo>
                <a:lnTo>
                  <a:pt x="1759" y="379643"/>
                </a:lnTo>
                <a:lnTo>
                  <a:pt x="704" y="389894"/>
                </a:lnTo>
                <a:lnTo>
                  <a:pt x="0" y="399706"/>
                </a:lnTo>
                <a:lnTo>
                  <a:pt x="523" y="410215"/>
                </a:lnTo>
                <a:lnTo>
                  <a:pt x="1864" y="421189"/>
                </a:lnTo>
                <a:lnTo>
                  <a:pt x="3751" y="432475"/>
                </a:lnTo>
                <a:lnTo>
                  <a:pt x="6000" y="442976"/>
                </a:lnTo>
                <a:lnTo>
                  <a:pt x="8492" y="452952"/>
                </a:lnTo>
                <a:lnTo>
                  <a:pt x="11146" y="462580"/>
                </a:lnTo>
                <a:lnTo>
                  <a:pt x="14900" y="471975"/>
                </a:lnTo>
                <a:lnTo>
                  <a:pt x="28670" y="499419"/>
                </a:lnTo>
                <a:lnTo>
                  <a:pt x="36104" y="517431"/>
                </a:lnTo>
                <a:lnTo>
                  <a:pt x="45361" y="535359"/>
                </a:lnTo>
                <a:lnTo>
                  <a:pt x="50608" y="544307"/>
                </a:lnTo>
                <a:lnTo>
                  <a:pt x="63035" y="554241"/>
                </a:lnTo>
                <a:lnTo>
                  <a:pt x="80250" y="564832"/>
                </a:lnTo>
                <a:lnTo>
                  <a:pt x="100656" y="575862"/>
                </a:lnTo>
                <a:lnTo>
                  <a:pt x="117237" y="583215"/>
                </a:lnTo>
                <a:lnTo>
                  <a:pt x="131267" y="588117"/>
                </a:lnTo>
                <a:lnTo>
                  <a:pt x="143596" y="591385"/>
                </a:lnTo>
                <a:lnTo>
                  <a:pt x="154793" y="593563"/>
                </a:lnTo>
                <a:lnTo>
                  <a:pt x="165234" y="595016"/>
                </a:lnTo>
                <a:lnTo>
                  <a:pt x="175172" y="595985"/>
                </a:lnTo>
                <a:lnTo>
                  <a:pt x="184773" y="595638"/>
                </a:lnTo>
                <a:lnTo>
                  <a:pt x="194151" y="594414"/>
                </a:lnTo>
                <a:lnTo>
                  <a:pt x="203378" y="592607"/>
                </a:lnTo>
                <a:lnTo>
                  <a:pt x="212508" y="590409"/>
                </a:lnTo>
                <a:lnTo>
                  <a:pt x="221569" y="587952"/>
                </a:lnTo>
                <a:lnTo>
                  <a:pt x="230588" y="585322"/>
                </a:lnTo>
                <a:lnTo>
                  <a:pt x="238584" y="581584"/>
                </a:lnTo>
                <a:lnTo>
                  <a:pt x="245900" y="577107"/>
                </a:lnTo>
                <a:lnTo>
                  <a:pt x="252761" y="572140"/>
                </a:lnTo>
                <a:lnTo>
                  <a:pt x="260312" y="565851"/>
                </a:lnTo>
                <a:lnTo>
                  <a:pt x="268321" y="558681"/>
                </a:lnTo>
                <a:lnTo>
                  <a:pt x="276639" y="550925"/>
                </a:lnTo>
                <a:lnTo>
                  <a:pt x="284168" y="542779"/>
                </a:lnTo>
                <a:lnTo>
                  <a:pt x="291172" y="534370"/>
                </a:lnTo>
                <a:lnTo>
                  <a:pt x="297826" y="525788"/>
                </a:lnTo>
                <a:lnTo>
                  <a:pt x="304245" y="517090"/>
                </a:lnTo>
                <a:lnTo>
                  <a:pt x="316670" y="499489"/>
                </a:lnTo>
                <a:lnTo>
                  <a:pt x="321769" y="489636"/>
                </a:lnTo>
                <a:lnTo>
                  <a:pt x="326161" y="479098"/>
                </a:lnTo>
                <a:lnTo>
                  <a:pt x="330081" y="468104"/>
                </a:lnTo>
                <a:lnTo>
                  <a:pt x="333687" y="456806"/>
                </a:lnTo>
                <a:lnTo>
                  <a:pt x="337082" y="445306"/>
                </a:lnTo>
                <a:lnTo>
                  <a:pt x="343501" y="421944"/>
                </a:lnTo>
                <a:lnTo>
                  <a:pt x="349661" y="398331"/>
                </a:lnTo>
                <a:lnTo>
                  <a:pt x="355707" y="371962"/>
                </a:lnTo>
                <a:lnTo>
                  <a:pt x="358707" y="357985"/>
                </a:lnTo>
                <a:lnTo>
                  <a:pt x="360709" y="344698"/>
                </a:lnTo>
                <a:lnTo>
                  <a:pt x="362043" y="331872"/>
                </a:lnTo>
                <a:lnTo>
                  <a:pt x="362932" y="319352"/>
                </a:lnTo>
                <a:lnTo>
                  <a:pt x="363525" y="306044"/>
                </a:lnTo>
                <a:lnTo>
                  <a:pt x="364184" y="278028"/>
                </a:lnTo>
                <a:lnTo>
                  <a:pt x="364554" y="239106"/>
                </a:lnTo>
                <a:lnTo>
                  <a:pt x="363614" y="226750"/>
                </a:lnTo>
                <a:lnTo>
                  <a:pt x="361995" y="214544"/>
                </a:lnTo>
                <a:lnTo>
                  <a:pt x="359924" y="202438"/>
                </a:lnTo>
                <a:lnTo>
                  <a:pt x="358543" y="191391"/>
                </a:lnTo>
                <a:lnTo>
                  <a:pt x="357622" y="181049"/>
                </a:lnTo>
                <a:lnTo>
                  <a:pt x="357007" y="171178"/>
                </a:lnTo>
                <a:lnTo>
                  <a:pt x="355607" y="160629"/>
                </a:lnTo>
                <a:lnTo>
                  <a:pt x="353681" y="149627"/>
                </a:lnTo>
                <a:lnTo>
                  <a:pt x="351404" y="138324"/>
                </a:lnTo>
                <a:lnTo>
                  <a:pt x="346228" y="120473"/>
                </a:lnTo>
                <a:lnTo>
                  <a:pt x="340621" y="104933"/>
                </a:lnTo>
                <a:lnTo>
                  <a:pt x="334821" y="88104"/>
                </a:lnTo>
                <a:lnTo>
                  <a:pt x="326291" y="73349"/>
                </a:lnTo>
                <a:lnTo>
                  <a:pt x="316877" y="61169"/>
                </a:lnTo>
                <a:lnTo>
                  <a:pt x="306000" y="47741"/>
                </a:lnTo>
                <a:lnTo>
                  <a:pt x="299591" y="37220"/>
                </a:lnTo>
                <a:lnTo>
                  <a:pt x="295500" y="33620"/>
                </a:lnTo>
                <a:lnTo>
                  <a:pt x="290789" y="31220"/>
                </a:lnTo>
                <a:lnTo>
                  <a:pt x="281255" y="28554"/>
                </a:lnTo>
                <a:lnTo>
                  <a:pt x="270309" y="27053"/>
                </a:lnTo>
                <a:lnTo>
                  <a:pt x="260782" y="26609"/>
                </a:lnTo>
                <a:lnTo>
                  <a:pt x="254689" y="26505"/>
                </a:lnTo>
                <a:lnTo>
                  <a:pt x="251675" y="28461"/>
                </a:lnTo>
                <a:lnTo>
                  <a:pt x="242356" y="40567"/>
                </a:lnTo>
                <a:lnTo>
                  <a:pt x="239694" y="4428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74" name="SMARTInkAnnotation70"/>
          <p:cNvSpPr/>
          <p:nvPr/>
        </p:nvSpPr>
        <p:spPr>
          <a:xfrm>
            <a:off x="7537320" y="4956120"/>
            <a:ext cx="382680" cy="571680"/>
          </a:xfrm>
          <a:custGeom>
            <a:avLst/>
            <a:gdLst>
              <a:gd name="textAreaLeft" fmla="*/ 0 w 382680"/>
              <a:gd name="textAreaRight" fmla="*/ 383040 w 382680"/>
              <a:gd name="textAreaTop" fmla="*/ 0 h 571680"/>
              <a:gd name="textAreaBottom" fmla="*/ 572040 h 571680"/>
            </a:gdLst>
            <a:ahLst/>
            <a:rect l="textAreaLeft" t="textAreaTop" r="textAreaRight" b="textAreaBottom"/>
            <a:pathLst>
              <a:path w="383664" h="571331">
                <a:moveTo>
                  <a:pt x="232014" y="17859"/>
                </a:moveTo>
                <a:lnTo>
                  <a:pt x="219585" y="5431"/>
                </a:lnTo>
                <a:lnTo>
                  <a:pt x="216782" y="3621"/>
                </a:lnTo>
                <a:lnTo>
                  <a:pt x="211023" y="1609"/>
                </a:lnTo>
                <a:lnTo>
                  <a:pt x="199240" y="318"/>
                </a:lnTo>
                <a:lnTo>
                  <a:pt x="187360" y="63"/>
                </a:lnTo>
                <a:lnTo>
                  <a:pt x="184385" y="42"/>
                </a:lnTo>
                <a:lnTo>
                  <a:pt x="175788" y="2665"/>
                </a:lnTo>
                <a:lnTo>
                  <a:pt x="165353" y="7138"/>
                </a:lnTo>
                <a:lnTo>
                  <a:pt x="154101" y="12433"/>
                </a:lnTo>
                <a:lnTo>
                  <a:pt x="136609" y="20992"/>
                </a:lnTo>
                <a:lnTo>
                  <a:pt x="124788" y="29504"/>
                </a:lnTo>
                <a:lnTo>
                  <a:pt x="112921" y="39902"/>
                </a:lnTo>
                <a:lnTo>
                  <a:pt x="101031" y="51138"/>
                </a:lnTo>
                <a:lnTo>
                  <a:pt x="65325" y="86368"/>
                </a:lnTo>
                <a:lnTo>
                  <a:pt x="56065" y="100894"/>
                </a:lnTo>
                <a:lnTo>
                  <a:pt x="47650" y="117272"/>
                </a:lnTo>
                <a:lnTo>
                  <a:pt x="37295" y="134472"/>
                </a:lnTo>
                <a:lnTo>
                  <a:pt x="28725" y="152039"/>
                </a:lnTo>
                <a:lnTo>
                  <a:pt x="21608" y="169768"/>
                </a:lnTo>
                <a:lnTo>
                  <a:pt x="15138" y="187570"/>
                </a:lnTo>
                <a:lnTo>
                  <a:pt x="5918" y="214326"/>
                </a:lnTo>
                <a:lnTo>
                  <a:pt x="3893" y="224244"/>
                </a:lnTo>
                <a:lnTo>
                  <a:pt x="2542" y="234824"/>
                </a:lnTo>
                <a:lnTo>
                  <a:pt x="1642" y="245846"/>
                </a:lnTo>
                <a:lnTo>
                  <a:pt x="1042" y="256171"/>
                </a:lnTo>
                <a:lnTo>
                  <a:pt x="376" y="275581"/>
                </a:lnTo>
                <a:lnTo>
                  <a:pt x="0" y="307982"/>
                </a:lnTo>
                <a:lnTo>
                  <a:pt x="939" y="319424"/>
                </a:lnTo>
                <a:lnTo>
                  <a:pt x="2558" y="331019"/>
                </a:lnTo>
                <a:lnTo>
                  <a:pt x="4628" y="342719"/>
                </a:lnTo>
                <a:lnTo>
                  <a:pt x="7002" y="354487"/>
                </a:lnTo>
                <a:lnTo>
                  <a:pt x="12285" y="378147"/>
                </a:lnTo>
                <a:lnTo>
                  <a:pt x="15082" y="389019"/>
                </a:lnTo>
                <a:lnTo>
                  <a:pt x="17940" y="399245"/>
                </a:lnTo>
                <a:lnTo>
                  <a:pt x="20837" y="409038"/>
                </a:lnTo>
                <a:lnTo>
                  <a:pt x="26702" y="430503"/>
                </a:lnTo>
                <a:lnTo>
                  <a:pt x="29655" y="441783"/>
                </a:lnTo>
                <a:lnTo>
                  <a:pt x="33607" y="452280"/>
                </a:lnTo>
                <a:lnTo>
                  <a:pt x="38227" y="462254"/>
                </a:lnTo>
                <a:lnTo>
                  <a:pt x="43292" y="471881"/>
                </a:lnTo>
                <a:lnTo>
                  <a:pt x="47661" y="481275"/>
                </a:lnTo>
                <a:lnTo>
                  <a:pt x="51565" y="490514"/>
                </a:lnTo>
                <a:lnTo>
                  <a:pt x="55160" y="499650"/>
                </a:lnTo>
                <a:lnTo>
                  <a:pt x="67092" y="515093"/>
                </a:lnTo>
                <a:lnTo>
                  <a:pt x="81324" y="528571"/>
                </a:lnTo>
                <a:lnTo>
                  <a:pt x="94265" y="541176"/>
                </a:lnTo>
                <a:lnTo>
                  <a:pt x="100494" y="546323"/>
                </a:lnTo>
                <a:lnTo>
                  <a:pt x="106631" y="550747"/>
                </a:lnTo>
                <a:lnTo>
                  <a:pt x="112706" y="554688"/>
                </a:lnTo>
                <a:lnTo>
                  <a:pt x="118740" y="558308"/>
                </a:lnTo>
                <a:lnTo>
                  <a:pt x="124749" y="561713"/>
                </a:lnTo>
                <a:lnTo>
                  <a:pt x="130738" y="564975"/>
                </a:lnTo>
                <a:lnTo>
                  <a:pt x="142684" y="568600"/>
                </a:lnTo>
                <a:lnTo>
                  <a:pt x="148648" y="569567"/>
                </a:lnTo>
                <a:lnTo>
                  <a:pt x="155600" y="570211"/>
                </a:lnTo>
                <a:lnTo>
                  <a:pt x="163212" y="570641"/>
                </a:lnTo>
                <a:lnTo>
                  <a:pt x="178615" y="571118"/>
                </a:lnTo>
                <a:lnTo>
                  <a:pt x="192075" y="571330"/>
                </a:lnTo>
                <a:lnTo>
                  <a:pt x="198444" y="570395"/>
                </a:lnTo>
                <a:lnTo>
                  <a:pt x="204673" y="568779"/>
                </a:lnTo>
                <a:lnTo>
                  <a:pt x="210809" y="566709"/>
                </a:lnTo>
                <a:lnTo>
                  <a:pt x="217878" y="563346"/>
                </a:lnTo>
                <a:lnTo>
                  <a:pt x="225566" y="559118"/>
                </a:lnTo>
                <a:lnTo>
                  <a:pt x="233669" y="554316"/>
                </a:lnTo>
                <a:lnTo>
                  <a:pt x="241054" y="550122"/>
                </a:lnTo>
                <a:lnTo>
                  <a:pt x="254553" y="542817"/>
                </a:lnTo>
                <a:lnTo>
                  <a:pt x="260930" y="537495"/>
                </a:lnTo>
                <a:lnTo>
                  <a:pt x="267167" y="530970"/>
                </a:lnTo>
                <a:lnTo>
                  <a:pt x="273309" y="523645"/>
                </a:lnTo>
                <a:lnTo>
                  <a:pt x="279387" y="515784"/>
                </a:lnTo>
                <a:lnTo>
                  <a:pt x="285424" y="507568"/>
                </a:lnTo>
                <a:lnTo>
                  <a:pt x="297424" y="490500"/>
                </a:lnTo>
                <a:lnTo>
                  <a:pt x="309371" y="472992"/>
                </a:lnTo>
                <a:lnTo>
                  <a:pt x="318650" y="455289"/>
                </a:lnTo>
                <a:lnTo>
                  <a:pt x="322513" y="446401"/>
                </a:lnTo>
                <a:lnTo>
                  <a:pt x="332097" y="425942"/>
                </a:lnTo>
                <a:lnTo>
                  <a:pt x="337431" y="414931"/>
                </a:lnTo>
                <a:lnTo>
                  <a:pt x="341981" y="403620"/>
                </a:lnTo>
                <a:lnTo>
                  <a:pt x="346004" y="392111"/>
                </a:lnTo>
                <a:lnTo>
                  <a:pt x="349679" y="380470"/>
                </a:lnTo>
                <a:lnTo>
                  <a:pt x="356409" y="356952"/>
                </a:lnTo>
                <a:lnTo>
                  <a:pt x="368813" y="309516"/>
                </a:lnTo>
                <a:lnTo>
                  <a:pt x="377829" y="273830"/>
                </a:lnTo>
                <a:lnTo>
                  <a:pt x="379826" y="261928"/>
                </a:lnTo>
                <a:lnTo>
                  <a:pt x="381156" y="250025"/>
                </a:lnTo>
                <a:lnTo>
                  <a:pt x="382044" y="238121"/>
                </a:lnTo>
                <a:lnTo>
                  <a:pt x="382635" y="226216"/>
                </a:lnTo>
                <a:lnTo>
                  <a:pt x="383293" y="202405"/>
                </a:lnTo>
                <a:lnTo>
                  <a:pt x="383663" y="166687"/>
                </a:lnTo>
                <a:lnTo>
                  <a:pt x="382722" y="155774"/>
                </a:lnTo>
                <a:lnTo>
                  <a:pt x="381104" y="145521"/>
                </a:lnTo>
                <a:lnTo>
                  <a:pt x="379032" y="135709"/>
                </a:lnTo>
                <a:lnTo>
                  <a:pt x="376659" y="126191"/>
                </a:lnTo>
                <a:lnTo>
                  <a:pt x="374084" y="116870"/>
                </a:lnTo>
                <a:lnTo>
                  <a:pt x="371376" y="107679"/>
                </a:lnTo>
                <a:lnTo>
                  <a:pt x="363075" y="92175"/>
                </a:lnTo>
                <a:lnTo>
                  <a:pt x="352771" y="77677"/>
                </a:lnTo>
                <a:lnTo>
                  <a:pt x="341577" y="61313"/>
                </a:lnTo>
                <a:lnTo>
                  <a:pt x="329987" y="46763"/>
                </a:lnTo>
                <a:lnTo>
                  <a:pt x="318222" y="34675"/>
                </a:lnTo>
                <a:lnTo>
                  <a:pt x="306377" y="25995"/>
                </a:lnTo>
                <a:lnTo>
                  <a:pt x="294499" y="18829"/>
                </a:lnTo>
                <a:lnTo>
                  <a:pt x="282604" y="12337"/>
                </a:lnTo>
                <a:lnTo>
                  <a:pt x="270705" y="6145"/>
                </a:lnTo>
                <a:lnTo>
                  <a:pt x="258801" y="2731"/>
                </a:lnTo>
                <a:lnTo>
                  <a:pt x="247888" y="1214"/>
                </a:lnTo>
                <a:lnTo>
                  <a:pt x="243588" y="809"/>
                </a:lnTo>
                <a:lnTo>
                  <a:pt x="232014"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75" name="SMARTInkAnnotation71"/>
          <p:cNvSpPr/>
          <p:nvPr/>
        </p:nvSpPr>
        <p:spPr>
          <a:xfrm>
            <a:off x="6643800" y="5330880"/>
            <a:ext cx="223560" cy="179280"/>
          </a:xfrm>
          <a:custGeom>
            <a:avLst/>
            <a:gdLst>
              <a:gd name="textAreaLeft" fmla="*/ 0 w 223560"/>
              <a:gd name="textAreaRight" fmla="*/ 223920 w 223560"/>
              <a:gd name="textAreaTop" fmla="*/ 0 h 179280"/>
              <a:gd name="textAreaBottom" fmla="*/ 179640 h 179280"/>
            </a:gdLst>
            <a:ahLst/>
            <a:rect l="textAreaLeft" t="textAreaTop" r="textAreaRight" b="textAreaBottom"/>
            <a:pathLst>
              <a:path w="223240" h="178486">
                <a:moveTo>
                  <a:pt x="223239" y="125016"/>
                </a:moveTo>
                <a:lnTo>
                  <a:pt x="201017" y="147238"/>
                </a:lnTo>
                <a:lnTo>
                  <a:pt x="198502" y="148760"/>
                </a:lnTo>
                <a:lnTo>
                  <a:pt x="193063" y="150452"/>
                </a:lnTo>
                <a:lnTo>
                  <a:pt x="187338" y="153849"/>
                </a:lnTo>
                <a:lnTo>
                  <a:pt x="180319" y="159375"/>
                </a:lnTo>
                <a:lnTo>
                  <a:pt x="176713" y="162776"/>
                </a:lnTo>
                <a:lnTo>
                  <a:pt x="174362" y="165072"/>
                </a:lnTo>
                <a:lnTo>
                  <a:pt x="171803" y="166603"/>
                </a:lnTo>
                <a:lnTo>
                  <a:pt x="166314" y="168303"/>
                </a:lnTo>
                <a:lnTo>
                  <a:pt x="160567" y="169059"/>
                </a:lnTo>
                <a:lnTo>
                  <a:pt x="153534" y="169545"/>
                </a:lnTo>
                <a:lnTo>
                  <a:pt x="147575" y="169628"/>
                </a:lnTo>
                <a:lnTo>
                  <a:pt x="145015" y="170632"/>
                </a:lnTo>
                <a:lnTo>
                  <a:pt x="139525" y="174394"/>
                </a:lnTo>
                <a:lnTo>
                  <a:pt x="135679" y="175794"/>
                </a:lnTo>
                <a:lnTo>
                  <a:pt x="131132" y="176727"/>
                </a:lnTo>
                <a:lnTo>
                  <a:pt x="126116" y="177350"/>
                </a:lnTo>
                <a:lnTo>
                  <a:pt x="121779" y="177764"/>
                </a:lnTo>
                <a:lnTo>
                  <a:pt x="117897" y="178041"/>
                </a:lnTo>
                <a:lnTo>
                  <a:pt x="110936" y="178348"/>
                </a:lnTo>
                <a:lnTo>
                  <a:pt x="104535" y="178485"/>
                </a:lnTo>
                <a:lnTo>
                  <a:pt x="101439" y="177529"/>
                </a:lnTo>
                <a:lnTo>
                  <a:pt x="95354" y="173821"/>
                </a:lnTo>
                <a:lnTo>
                  <a:pt x="89341" y="171512"/>
                </a:lnTo>
                <a:lnTo>
                  <a:pt x="86348" y="170896"/>
                </a:lnTo>
                <a:lnTo>
                  <a:pt x="84355" y="169493"/>
                </a:lnTo>
                <a:lnTo>
                  <a:pt x="83024" y="167566"/>
                </a:lnTo>
                <a:lnTo>
                  <a:pt x="82137" y="165289"/>
                </a:lnTo>
                <a:lnTo>
                  <a:pt x="80555" y="163771"/>
                </a:lnTo>
                <a:lnTo>
                  <a:pt x="78507" y="162759"/>
                </a:lnTo>
                <a:lnTo>
                  <a:pt x="73586" y="161634"/>
                </a:lnTo>
                <a:lnTo>
                  <a:pt x="68091" y="161134"/>
                </a:lnTo>
                <a:lnTo>
                  <a:pt x="64161" y="160853"/>
                </a:lnTo>
                <a:lnTo>
                  <a:pt x="58255" y="156029"/>
                </a:lnTo>
                <a:lnTo>
                  <a:pt x="53508" y="151646"/>
                </a:lnTo>
                <a:lnTo>
                  <a:pt x="46009" y="144226"/>
                </a:lnTo>
                <a:lnTo>
                  <a:pt x="45555" y="142783"/>
                </a:lnTo>
                <a:lnTo>
                  <a:pt x="45049" y="138535"/>
                </a:lnTo>
                <a:lnTo>
                  <a:pt x="43923" y="137005"/>
                </a:lnTo>
                <a:lnTo>
                  <a:pt x="42180" y="135985"/>
                </a:lnTo>
                <a:lnTo>
                  <a:pt x="40025" y="135305"/>
                </a:lnTo>
                <a:lnTo>
                  <a:pt x="38588" y="133860"/>
                </a:lnTo>
                <a:lnTo>
                  <a:pt x="37631" y="131904"/>
                </a:lnTo>
                <a:lnTo>
                  <a:pt x="36568" y="127085"/>
                </a:lnTo>
                <a:lnTo>
                  <a:pt x="36094" y="121636"/>
                </a:lnTo>
                <a:lnTo>
                  <a:pt x="34976" y="118794"/>
                </a:lnTo>
                <a:lnTo>
                  <a:pt x="33238" y="115907"/>
                </a:lnTo>
                <a:lnTo>
                  <a:pt x="28060" y="108885"/>
                </a:lnTo>
                <a:lnTo>
                  <a:pt x="27353" y="105279"/>
                </a:lnTo>
                <a:lnTo>
                  <a:pt x="27164" y="102928"/>
                </a:lnTo>
                <a:lnTo>
                  <a:pt x="26046" y="100369"/>
                </a:lnTo>
                <a:lnTo>
                  <a:pt x="22158" y="94879"/>
                </a:lnTo>
                <a:lnTo>
                  <a:pt x="20724" y="92026"/>
                </a:lnTo>
                <a:lnTo>
                  <a:pt x="19769" y="89132"/>
                </a:lnTo>
                <a:lnTo>
                  <a:pt x="19131" y="86210"/>
                </a:lnTo>
                <a:lnTo>
                  <a:pt x="17714" y="84262"/>
                </a:lnTo>
                <a:lnTo>
                  <a:pt x="15777" y="82964"/>
                </a:lnTo>
                <a:lnTo>
                  <a:pt x="13494" y="82098"/>
                </a:lnTo>
                <a:lnTo>
                  <a:pt x="11972" y="80529"/>
                </a:lnTo>
                <a:lnTo>
                  <a:pt x="10957" y="78490"/>
                </a:lnTo>
                <a:lnTo>
                  <a:pt x="9328" y="72830"/>
                </a:lnTo>
                <a:lnTo>
                  <a:pt x="6459" y="69411"/>
                </a:lnTo>
                <a:lnTo>
                  <a:pt x="1274" y="63872"/>
                </a:lnTo>
                <a:lnTo>
                  <a:pt x="564" y="60468"/>
                </a:lnTo>
                <a:lnTo>
                  <a:pt x="30" y="53982"/>
                </a:lnTo>
                <a:lnTo>
                  <a:pt x="0" y="45925"/>
                </a:lnTo>
                <a:lnTo>
                  <a:pt x="992" y="45500"/>
                </a:lnTo>
                <a:lnTo>
                  <a:pt x="4739" y="45026"/>
                </a:lnTo>
                <a:lnTo>
                  <a:pt x="6135" y="43908"/>
                </a:lnTo>
                <a:lnTo>
                  <a:pt x="7066" y="42171"/>
                </a:lnTo>
                <a:lnTo>
                  <a:pt x="8818" y="36097"/>
                </a:lnTo>
                <a:lnTo>
                  <a:pt x="8895" y="31091"/>
                </a:lnTo>
                <a:lnTo>
                  <a:pt x="8926" y="26901"/>
                </a:lnTo>
                <a:lnTo>
                  <a:pt x="15064" y="26811"/>
                </a:lnTo>
                <a:lnTo>
                  <a:pt x="16615" y="26799"/>
                </a:lnTo>
                <a:lnTo>
                  <a:pt x="17029" y="25803"/>
                </a:lnTo>
                <a:lnTo>
                  <a:pt x="17489" y="22052"/>
                </a:lnTo>
                <a:lnTo>
                  <a:pt x="18603" y="20654"/>
                </a:lnTo>
                <a:lnTo>
                  <a:pt x="20340" y="19723"/>
                </a:lnTo>
                <a:lnTo>
                  <a:pt x="26409" y="17968"/>
                </a:lnTo>
                <a:lnTo>
                  <a:pt x="21934" y="17891"/>
                </a:lnTo>
                <a:lnTo>
                  <a:pt x="21568" y="16888"/>
                </a:lnTo>
                <a:lnTo>
                  <a:pt x="22315" y="15228"/>
                </a:lnTo>
                <a:lnTo>
                  <a:pt x="26709" y="9039"/>
                </a:lnTo>
                <a:lnTo>
                  <a:pt x="26764" y="4222"/>
                </a:lnTo>
                <a:lnTo>
                  <a:pt x="26785" y="370"/>
                </a:lnTo>
                <a:lnTo>
                  <a:pt x="32923" y="73"/>
                </a:lnTo>
                <a:lnTo>
                  <a:pt x="35716"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76" name="SMARTInkAnnotation72"/>
          <p:cNvSpPr/>
          <p:nvPr/>
        </p:nvSpPr>
        <p:spPr>
          <a:xfrm>
            <a:off x="8099280" y="4857840"/>
            <a:ext cx="561960" cy="723960"/>
          </a:xfrm>
          <a:custGeom>
            <a:avLst/>
            <a:gdLst>
              <a:gd name="textAreaLeft" fmla="*/ 0 w 561960"/>
              <a:gd name="textAreaRight" fmla="*/ 562320 w 561960"/>
              <a:gd name="textAreaTop" fmla="*/ 0 h 723960"/>
              <a:gd name="textAreaBottom" fmla="*/ 724320 h 723960"/>
            </a:gdLst>
            <a:ahLst/>
            <a:rect l="textAreaLeft" t="textAreaTop" r="textAreaRight" b="textAreaBottom"/>
            <a:pathLst>
              <a:path w="562571" h="723258">
                <a:moveTo>
                  <a:pt x="0" y="0"/>
                </a:moveTo>
                <a:lnTo>
                  <a:pt x="0" y="34551"/>
                </a:lnTo>
                <a:lnTo>
                  <a:pt x="2646" y="45453"/>
                </a:lnTo>
                <a:lnTo>
                  <a:pt x="6138" y="56912"/>
                </a:lnTo>
                <a:lnTo>
                  <a:pt x="8103" y="74520"/>
                </a:lnTo>
                <a:lnTo>
                  <a:pt x="8685" y="93297"/>
                </a:lnTo>
                <a:lnTo>
                  <a:pt x="8927" y="187569"/>
                </a:lnTo>
                <a:lnTo>
                  <a:pt x="11575" y="208049"/>
                </a:lnTo>
                <a:lnTo>
                  <a:pt x="15067" y="230380"/>
                </a:lnTo>
                <a:lnTo>
                  <a:pt x="15997" y="241892"/>
                </a:lnTo>
                <a:lnTo>
                  <a:pt x="16618" y="253534"/>
                </a:lnTo>
                <a:lnTo>
                  <a:pt x="18025" y="265265"/>
                </a:lnTo>
                <a:lnTo>
                  <a:pt x="19954" y="277054"/>
                </a:lnTo>
                <a:lnTo>
                  <a:pt x="22233" y="288883"/>
                </a:lnTo>
                <a:lnTo>
                  <a:pt x="23751" y="300736"/>
                </a:lnTo>
                <a:lnTo>
                  <a:pt x="24764" y="312608"/>
                </a:lnTo>
                <a:lnTo>
                  <a:pt x="25439" y="324491"/>
                </a:lnTo>
                <a:lnTo>
                  <a:pt x="26881" y="336382"/>
                </a:lnTo>
                <a:lnTo>
                  <a:pt x="28835" y="348277"/>
                </a:lnTo>
                <a:lnTo>
                  <a:pt x="31129" y="360177"/>
                </a:lnTo>
                <a:lnTo>
                  <a:pt x="36324" y="383982"/>
                </a:lnTo>
                <a:lnTo>
                  <a:pt x="39099" y="395886"/>
                </a:lnTo>
                <a:lnTo>
                  <a:pt x="40950" y="407791"/>
                </a:lnTo>
                <a:lnTo>
                  <a:pt x="42183" y="419697"/>
                </a:lnTo>
                <a:lnTo>
                  <a:pt x="43004" y="431603"/>
                </a:lnTo>
                <a:lnTo>
                  <a:pt x="44545" y="443508"/>
                </a:lnTo>
                <a:lnTo>
                  <a:pt x="46565" y="455414"/>
                </a:lnTo>
                <a:lnTo>
                  <a:pt x="48902" y="467320"/>
                </a:lnTo>
                <a:lnTo>
                  <a:pt x="54146" y="491132"/>
                </a:lnTo>
                <a:lnTo>
                  <a:pt x="56934" y="503038"/>
                </a:lnTo>
                <a:lnTo>
                  <a:pt x="60031" y="524205"/>
                </a:lnTo>
                <a:lnTo>
                  <a:pt x="62399" y="544527"/>
                </a:lnTo>
                <a:lnTo>
                  <a:pt x="66760" y="566788"/>
                </a:lnTo>
                <a:lnTo>
                  <a:pt x="72004" y="587264"/>
                </a:lnTo>
                <a:lnTo>
                  <a:pt x="77643" y="606288"/>
                </a:lnTo>
                <a:lnTo>
                  <a:pt x="83456" y="624664"/>
                </a:lnTo>
                <a:lnTo>
                  <a:pt x="92307" y="647003"/>
                </a:lnTo>
                <a:lnTo>
                  <a:pt x="103533" y="667895"/>
                </a:lnTo>
                <a:lnTo>
                  <a:pt x="115467" y="689748"/>
                </a:lnTo>
                <a:lnTo>
                  <a:pt x="123179" y="706637"/>
                </a:lnTo>
                <a:lnTo>
                  <a:pt x="125775" y="709216"/>
                </a:lnTo>
                <a:lnTo>
                  <a:pt x="132332" y="713356"/>
                </a:lnTo>
                <a:lnTo>
                  <a:pt x="135875" y="713921"/>
                </a:lnTo>
                <a:lnTo>
                  <a:pt x="138208" y="714073"/>
                </a:lnTo>
                <a:lnTo>
                  <a:pt x="139764" y="713181"/>
                </a:lnTo>
                <a:lnTo>
                  <a:pt x="140801" y="711595"/>
                </a:lnTo>
                <a:lnTo>
                  <a:pt x="141492" y="709544"/>
                </a:lnTo>
                <a:lnTo>
                  <a:pt x="144906" y="704622"/>
                </a:lnTo>
                <a:lnTo>
                  <a:pt x="160913" y="684867"/>
                </a:lnTo>
                <a:lnTo>
                  <a:pt x="169718" y="666275"/>
                </a:lnTo>
                <a:lnTo>
                  <a:pt x="178609" y="644561"/>
                </a:lnTo>
                <a:lnTo>
                  <a:pt x="181580" y="638066"/>
                </a:lnTo>
                <a:lnTo>
                  <a:pt x="184883" y="622913"/>
                </a:lnTo>
                <a:lnTo>
                  <a:pt x="187342" y="607248"/>
                </a:lnTo>
                <a:lnTo>
                  <a:pt x="197006" y="575731"/>
                </a:lnTo>
                <a:lnTo>
                  <a:pt x="202652" y="555521"/>
                </a:lnTo>
                <a:lnTo>
                  <a:pt x="208469" y="536617"/>
                </a:lnTo>
                <a:lnTo>
                  <a:pt x="211715" y="518293"/>
                </a:lnTo>
                <a:lnTo>
                  <a:pt x="214150" y="500227"/>
                </a:lnTo>
                <a:lnTo>
                  <a:pt x="218540" y="482276"/>
                </a:lnTo>
                <a:lnTo>
                  <a:pt x="223306" y="452636"/>
                </a:lnTo>
                <a:lnTo>
                  <a:pt x="227570" y="436320"/>
                </a:lnTo>
                <a:lnTo>
                  <a:pt x="232773" y="419146"/>
                </a:lnTo>
                <a:lnTo>
                  <a:pt x="237400" y="401592"/>
                </a:lnTo>
                <a:lnTo>
                  <a:pt x="239457" y="383868"/>
                </a:lnTo>
                <a:lnTo>
                  <a:pt x="240614" y="361895"/>
                </a:lnTo>
                <a:lnTo>
                  <a:pt x="243531" y="349027"/>
                </a:lnTo>
                <a:lnTo>
                  <a:pt x="247142" y="336693"/>
                </a:lnTo>
                <a:lnTo>
                  <a:pt x="249461" y="315252"/>
                </a:lnTo>
                <a:lnTo>
                  <a:pt x="250031" y="294717"/>
                </a:lnTo>
                <a:lnTo>
                  <a:pt x="250031" y="315671"/>
                </a:lnTo>
                <a:lnTo>
                  <a:pt x="256169" y="335574"/>
                </a:lnTo>
                <a:lnTo>
                  <a:pt x="258134" y="357728"/>
                </a:lnTo>
                <a:lnTo>
                  <a:pt x="259708" y="378294"/>
                </a:lnTo>
                <a:lnTo>
                  <a:pt x="263593" y="394349"/>
                </a:lnTo>
                <a:lnTo>
                  <a:pt x="265980" y="411407"/>
                </a:lnTo>
                <a:lnTo>
                  <a:pt x="268034" y="429902"/>
                </a:lnTo>
                <a:lnTo>
                  <a:pt x="272254" y="451351"/>
                </a:lnTo>
                <a:lnTo>
                  <a:pt x="277437" y="471467"/>
                </a:lnTo>
                <a:lnTo>
                  <a:pt x="282056" y="491322"/>
                </a:lnTo>
                <a:lnTo>
                  <a:pt x="284108" y="513375"/>
                </a:lnTo>
                <a:lnTo>
                  <a:pt x="287666" y="533760"/>
                </a:lnTo>
                <a:lnTo>
                  <a:pt x="292555" y="552743"/>
                </a:lnTo>
                <a:lnTo>
                  <a:pt x="298035" y="571100"/>
                </a:lnTo>
                <a:lnTo>
                  <a:pt x="301132" y="589181"/>
                </a:lnTo>
                <a:lnTo>
                  <a:pt x="303501" y="607139"/>
                </a:lnTo>
                <a:lnTo>
                  <a:pt x="307861" y="625043"/>
                </a:lnTo>
                <a:lnTo>
                  <a:pt x="315894" y="647117"/>
                </a:lnTo>
                <a:lnTo>
                  <a:pt x="324558" y="666224"/>
                </a:lnTo>
                <a:lnTo>
                  <a:pt x="333408" y="684453"/>
                </a:lnTo>
                <a:lnTo>
                  <a:pt x="344295" y="701261"/>
                </a:lnTo>
                <a:lnTo>
                  <a:pt x="346497" y="707885"/>
                </a:lnTo>
                <a:lnTo>
                  <a:pt x="349069" y="711041"/>
                </a:lnTo>
                <a:lnTo>
                  <a:pt x="363480" y="721493"/>
                </a:lnTo>
                <a:lnTo>
                  <a:pt x="367592" y="722500"/>
                </a:lnTo>
                <a:lnTo>
                  <a:pt x="384107" y="723233"/>
                </a:lnTo>
                <a:lnTo>
                  <a:pt x="387040" y="723257"/>
                </a:lnTo>
                <a:lnTo>
                  <a:pt x="389989" y="722281"/>
                </a:lnTo>
                <a:lnTo>
                  <a:pt x="395909" y="718549"/>
                </a:lnTo>
                <a:lnTo>
                  <a:pt x="410770" y="705211"/>
                </a:lnTo>
                <a:lnTo>
                  <a:pt x="413745" y="702312"/>
                </a:lnTo>
                <a:lnTo>
                  <a:pt x="426641" y="683402"/>
                </a:lnTo>
                <a:lnTo>
                  <a:pt x="440716" y="665400"/>
                </a:lnTo>
                <a:lnTo>
                  <a:pt x="448221" y="649944"/>
                </a:lnTo>
                <a:lnTo>
                  <a:pt x="454863" y="633153"/>
                </a:lnTo>
                <a:lnTo>
                  <a:pt x="462114" y="615768"/>
                </a:lnTo>
                <a:lnTo>
                  <a:pt x="471953" y="598120"/>
                </a:lnTo>
                <a:lnTo>
                  <a:pt x="480292" y="580354"/>
                </a:lnTo>
                <a:lnTo>
                  <a:pt x="487308" y="561544"/>
                </a:lnTo>
                <a:lnTo>
                  <a:pt x="493733" y="539955"/>
                </a:lnTo>
                <a:lnTo>
                  <a:pt x="502928" y="505488"/>
                </a:lnTo>
                <a:lnTo>
                  <a:pt x="511936" y="470140"/>
                </a:lnTo>
                <a:lnTo>
                  <a:pt x="517907" y="443769"/>
                </a:lnTo>
                <a:lnTo>
                  <a:pt x="523870" y="416504"/>
                </a:lnTo>
                <a:lnTo>
                  <a:pt x="529826" y="391157"/>
                </a:lnTo>
                <a:lnTo>
                  <a:pt x="531812" y="377850"/>
                </a:lnTo>
                <a:lnTo>
                  <a:pt x="533135" y="364017"/>
                </a:lnTo>
                <a:lnTo>
                  <a:pt x="534016" y="349834"/>
                </a:lnTo>
                <a:lnTo>
                  <a:pt x="535597" y="335418"/>
                </a:lnTo>
                <a:lnTo>
                  <a:pt x="537643" y="320846"/>
                </a:lnTo>
                <a:lnTo>
                  <a:pt x="539999" y="306171"/>
                </a:lnTo>
                <a:lnTo>
                  <a:pt x="542562" y="292418"/>
                </a:lnTo>
                <a:lnTo>
                  <a:pt x="548055" y="266555"/>
                </a:lnTo>
                <a:lnTo>
                  <a:pt x="549918" y="254102"/>
                </a:lnTo>
                <a:lnTo>
                  <a:pt x="551159" y="241830"/>
                </a:lnTo>
                <a:lnTo>
                  <a:pt x="551987" y="229681"/>
                </a:lnTo>
                <a:lnTo>
                  <a:pt x="552538" y="217613"/>
                </a:lnTo>
                <a:lnTo>
                  <a:pt x="553150" y="193621"/>
                </a:lnTo>
                <a:lnTo>
                  <a:pt x="556069" y="172373"/>
                </a:lnTo>
                <a:lnTo>
                  <a:pt x="559681" y="153009"/>
                </a:lnTo>
                <a:lnTo>
                  <a:pt x="561287" y="134480"/>
                </a:lnTo>
                <a:lnTo>
                  <a:pt x="562000" y="116323"/>
                </a:lnTo>
                <a:lnTo>
                  <a:pt x="562495" y="85727"/>
                </a:lnTo>
                <a:lnTo>
                  <a:pt x="562570" y="53578"/>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77" name="SMARTInkAnnotation73"/>
          <p:cNvSpPr/>
          <p:nvPr/>
        </p:nvSpPr>
        <p:spPr>
          <a:xfrm>
            <a:off x="1125360" y="5438880"/>
            <a:ext cx="330480" cy="382320"/>
          </a:xfrm>
          <a:custGeom>
            <a:avLst/>
            <a:gdLst>
              <a:gd name="textAreaLeft" fmla="*/ 0 w 330480"/>
              <a:gd name="textAreaRight" fmla="*/ 330840 w 330480"/>
              <a:gd name="textAreaTop" fmla="*/ 0 h 382320"/>
              <a:gd name="textAreaBottom" fmla="*/ 382680 h 382320"/>
            </a:gdLst>
            <a:ahLst/>
            <a:rect l="textAreaLeft" t="textAreaTop" r="textAreaRight" b="textAreaBottom"/>
            <a:pathLst>
              <a:path w="329866" h="383977">
                <a:moveTo>
                  <a:pt x="8930" y="0"/>
                </a:moveTo>
                <a:lnTo>
                  <a:pt x="8930" y="20990"/>
                </a:lnTo>
                <a:lnTo>
                  <a:pt x="9922" y="23916"/>
                </a:lnTo>
                <a:lnTo>
                  <a:pt x="13670" y="29812"/>
                </a:lnTo>
                <a:lnTo>
                  <a:pt x="15998" y="38385"/>
                </a:lnTo>
                <a:lnTo>
                  <a:pt x="17032" y="48810"/>
                </a:lnTo>
                <a:lnTo>
                  <a:pt x="17492" y="60058"/>
                </a:lnTo>
                <a:lnTo>
                  <a:pt x="17750" y="77547"/>
                </a:lnTo>
                <a:lnTo>
                  <a:pt x="17827" y="100037"/>
                </a:lnTo>
                <a:lnTo>
                  <a:pt x="16846" y="108363"/>
                </a:lnTo>
                <a:lnTo>
                  <a:pt x="15199" y="116890"/>
                </a:lnTo>
                <a:lnTo>
                  <a:pt x="13109" y="125552"/>
                </a:lnTo>
                <a:lnTo>
                  <a:pt x="11716" y="133311"/>
                </a:lnTo>
                <a:lnTo>
                  <a:pt x="10787" y="140468"/>
                </a:lnTo>
                <a:lnTo>
                  <a:pt x="10168" y="147223"/>
                </a:lnTo>
                <a:lnTo>
                  <a:pt x="9755" y="154704"/>
                </a:lnTo>
                <a:lnTo>
                  <a:pt x="9297" y="170953"/>
                </a:lnTo>
                <a:lnTo>
                  <a:pt x="9038" y="196835"/>
                </a:lnTo>
                <a:lnTo>
                  <a:pt x="8010" y="205637"/>
                </a:lnTo>
                <a:lnTo>
                  <a:pt x="6332" y="214482"/>
                </a:lnTo>
                <a:lnTo>
                  <a:pt x="4222" y="223355"/>
                </a:lnTo>
                <a:lnTo>
                  <a:pt x="2814" y="232247"/>
                </a:lnTo>
                <a:lnTo>
                  <a:pt x="1876" y="241152"/>
                </a:lnTo>
                <a:lnTo>
                  <a:pt x="1251" y="250065"/>
                </a:lnTo>
                <a:lnTo>
                  <a:pt x="834" y="258984"/>
                </a:lnTo>
                <a:lnTo>
                  <a:pt x="371" y="276830"/>
                </a:lnTo>
                <a:lnTo>
                  <a:pt x="15" y="327521"/>
                </a:lnTo>
                <a:lnTo>
                  <a:pt x="0" y="348257"/>
                </a:lnTo>
                <a:lnTo>
                  <a:pt x="0" y="304808"/>
                </a:lnTo>
                <a:lnTo>
                  <a:pt x="2646" y="293890"/>
                </a:lnTo>
                <a:lnTo>
                  <a:pt x="6137" y="283415"/>
                </a:lnTo>
                <a:lnTo>
                  <a:pt x="7689" y="275452"/>
                </a:lnTo>
                <a:lnTo>
                  <a:pt x="11024" y="265960"/>
                </a:lnTo>
                <a:lnTo>
                  <a:pt x="14821" y="255126"/>
                </a:lnTo>
                <a:lnTo>
                  <a:pt x="16509" y="243696"/>
                </a:lnTo>
                <a:lnTo>
                  <a:pt x="19905" y="232003"/>
                </a:lnTo>
                <a:lnTo>
                  <a:pt x="24722" y="221183"/>
                </a:lnTo>
                <a:lnTo>
                  <a:pt x="30170" y="213067"/>
                </a:lnTo>
                <a:lnTo>
                  <a:pt x="33253" y="203506"/>
                </a:lnTo>
                <a:lnTo>
                  <a:pt x="34075" y="198179"/>
                </a:lnTo>
                <a:lnTo>
                  <a:pt x="37634" y="189613"/>
                </a:lnTo>
                <a:lnTo>
                  <a:pt x="42523" y="181507"/>
                </a:lnTo>
                <a:lnTo>
                  <a:pt x="48003" y="171290"/>
                </a:lnTo>
                <a:lnTo>
                  <a:pt x="53746" y="162780"/>
                </a:lnTo>
                <a:lnTo>
                  <a:pt x="62558" y="152411"/>
                </a:lnTo>
                <a:lnTo>
                  <a:pt x="71452" y="143055"/>
                </a:lnTo>
                <a:lnTo>
                  <a:pt x="79382" y="136010"/>
                </a:lnTo>
                <a:lnTo>
                  <a:pt x="85663" y="131353"/>
                </a:lnTo>
                <a:lnTo>
                  <a:pt x="92828" y="126264"/>
                </a:lnTo>
                <a:lnTo>
                  <a:pt x="98596" y="122871"/>
                </a:lnTo>
                <a:lnTo>
                  <a:pt x="107651" y="119101"/>
                </a:lnTo>
                <a:lnTo>
                  <a:pt x="114983" y="117427"/>
                </a:lnTo>
                <a:lnTo>
                  <a:pt x="118327" y="116980"/>
                </a:lnTo>
                <a:lnTo>
                  <a:pt x="127335" y="119129"/>
                </a:lnTo>
                <a:lnTo>
                  <a:pt x="132515" y="121091"/>
                </a:lnTo>
                <a:lnTo>
                  <a:pt x="137953" y="123392"/>
                </a:lnTo>
                <a:lnTo>
                  <a:pt x="143562" y="125917"/>
                </a:lnTo>
                <a:lnTo>
                  <a:pt x="149286" y="128593"/>
                </a:lnTo>
                <a:lnTo>
                  <a:pt x="158292" y="131567"/>
                </a:lnTo>
                <a:lnTo>
                  <a:pt x="162083" y="132360"/>
                </a:lnTo>
                <a:lnTo>
                  <a:pt x="171586" y="138532"/>
                </a:lnTo>
                <a:lnTo>
                  <a:pt x="176899" y="142956"/>
                </a:lnTo>
                <a:lnTo>
                  <a:pt x="182425" y="146898"/>
                </a:lnTo>
                <a:lnTo>
                  <a:pt x="188093" y="150518"/>
                </a:lnTo>
                <a:lnTo>
                  <a:pt x="193856" y="153923"/>
                </a:lnTo>
                <a:lnTo>
                  <a:pt x="202906" y="162999"/>
                </a:lnTo>
                <a:lnTo>
                  <a:pt x="206708" y="168197"/>
                </a:lnTo>
                <a:lnTo>
                  <a:pt x="216224" y="176619"/>
                </a:lnTo>
                <a:lnTo>
                  <a:pt x="221540" y="180254"/>
                </a:lnTo>
                <a:lnTo>
                  <a:pt x="227068" y="184661"/>
                </a:lnTo>
                <a:lnTo>
                  <a:pt x="232738" y="189584"/>
                </a:lnTo>
                <a:lnTo>
                  <a:pt x="238503" y="194851"/>
                </a:lnTo>
                <a:lnTo>
                  <a:pt x="247553" y="205993"/>
                </a:lnTo>
                <a:lnTo>
                  <a:pt x="255875" y="217561"/>
                </a:lnTo>
                <a:lnTo>
                  <a:pt x="260873" y="223423"/>
                </a:lnTo>
                <a:lnTo>
                  <a:pt x="266189" y="229316"/>
                </a:lnTo>
                <a:lnTo>
                  <a:pt x="270725" y="236221"/>
                </a:lnTo>
                <a:lnTo>
                  <a:pt x="274741" y="243801"/>
                </a:lnTo>
                <a:lnTo>
                  <a:pt x="278411" y="251831"/>
                </a:lnTo>
                <a:lnTo>
                  <a:pt x="282842" y="258176"/>
                </a:lnTo>
                <a:lnTo>
                  <a:pt x="293056" y="267873"/>
                </a:lnTo>
                <a:lnTo>
                  <a:pt x="301565" y="278135"/>
                </a:lnTo>
                <a:lnTo>
                  <a:pt x="308654" y="289312"/>
                </a:lnTo>
                <a:lnTo>
                  <a:pt x="315112" y="300892"/>
                </a:lnTo>
                <a:lnTo>
                  <a:pt x="324326" y="318570"/>
                </a:lnTo>
                <a:lnTo>
                  <a:pt x="327700" y="327787"/>
                </a:lnTo>
                <a:lnTo>
                  <a:pt x="329599" y="338554"/>
                </a:lnTo>
                <a:lnTo>
                  <a:pt x="329865" y="341789"/>
                </a:lnTo>
                <a:lnTo>
                  <a:pt x="327516" y="350675"/>
                </a:lnTo>
                <a:lnTo>
                  <a:pt x="323164" y="360246"/>
                </a:lnTo>
                <a:lnTo>
                  <a:pt x="317923" y="367808"/>
                </a:lnTo>
                <a:lnTo>
                  <a:pt x="315136" y="370221"/>
                </a:lnTo>
                <a:lnTo>
                  <a:pt x="312286" y="371830"/>
                </a:lnTo>
                <a:lnTo>
                  <a:pt x="309394" y="372902"/>
                </a:lnTo>
                <a:lnTo>
                  <a:pt x="300889" y="374094"/>
                </a:lnTo>
                <a:lnTo>
                  <a:pt x="295842" y="374411"/>
                </a:lnTo>
                <a:lnTo>
                  <a:pt x="290494" y="375615"/>
                </a:lnTo>
                <a:lnTo>
                  <a:pt x="284944" y="377410"/>
                </a:lnTo>
                <a:lnTo>
                  <a:pt x="279260" y="379599"/>
                </a:lnTo>
                <a:lnTo>
                  <a:pt x="272493" y="381058"/>
                </a:lnTo>
                <a:lnTo>
                  <a:pt x="265006" y="382031"/>
                </a:lnTo>
                <a:lnTo>
                  <a:pt x="257038" y="382680"/>
                </a:lnTo>
                <a:lnTo>
                  <a:pt x="249741" y="383112"/>
                </a:lnTo>
                <a:lnTo>
                  <a:pt x="236343" y="383592"/>
                </a:lnTo>
                <a:lnTo>
                  <a:pt x="217643" y="383863"/>
                </a:lnTo>
                <a:lnTo>
                  <a:pt x="129345" y="383976"/>
                </a:lnTo>
                <a:lnTo>
                  <a:pt x="122941" y="382983"/>
                </a:lnTo>
                <a:lnTo>
                  <a:pt x="116687" y="381330"/>
                </a:lnTo>
                <a:lnTo>
                  <a:pt x="110534" y="379236"/>
                </a:lnTo>
                <a:lnTo>
                  <a:pt x="104447" y="377840"/>
                </a:lnTo>
                <a:lnTo>
                  <a:pt x="98405" y="376909"/>
                </a:lnTo>
                <a:lnTo>
                  <a:pt x="92392" y="376288"/>
                </a:lnTo>
                <a:lnTo>
                  <a:pt x="83066" y="375598"/>
                </a:lnTo>
                <a:lnTo>
                  <a:pt x="75614" y="375292"/>
                </a:lnTo>
                <a:lnTo>
                  <a:pt x="65840" y="375119"/>
                </a:lnTo>
                <a:lnTo>
                  <a:pt x="55389" y="375057"/>
                </a:lnTo>
                <a:lnTo>
                  <a:pt x="51737" y="372406"/>
                </a:lnTo>
                <a:lnTo>
                  <a:pt x="44652" y="366120"/>
                </a:lnTo>
                <a:lnTo>
                  <a:pt x="44649" y="375047"/>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78" name="SMARTInkAnnotation74"/>
          <p:cNvSpPr/>
          <p:nvPr/>
        </p:nvSpPr>
        <p:spPr>
          <a:xfrm>
            <a:off x="884160" y="5297400"/>
            <a:ext cx="811440" cy="711360"/>
          </a:xfrm>
          <a:custGeom>
            <a:avLst/>
            <a:gdLst>
              <a:gd name="textAreaLeft" fmla="*/ 0 w 811440"/>
              <a:gd name="textAreaRight" fmla="*/ 811800 w 811440"/>
              <a:gd name="textAreaTop" fmla="*/ 0 h 711360"/>
              <a:gd name="textAreaBottom" fmla="*/ 711720 h 711360"/>
            </a:gdLst>
            <a:ahLst/>
            <a:rect l="textAreaLeft" t="textAreaTop" r="textAreaRight" b="textAreaBottom"/>
            <a:pathLst>
              <a:path w="811738" h="712440">
                <a:moveTo>
                  <a:pt x="624873" y="132547"/>
                </a:moveTo>
                <a:lnTo>
                  <a:pt x="624873" y="127806"/>
                </a:lnTo>
                <a:lnTo>
                  <a:pt x="623880" y="125417"/>
                </a:lnTo>
                <a:lnTo>
                  <a:pt x="612444" y="106816"/>
                </a:lnTo>
                <a:lnTo>
                  <a:pt x="603882" y="90306"/>
                </a:lnTo>
                <a:lnTo>
                  <a:pt x="590321" y="72847"/>
                </a:lnTo>
                <a:lnTo>
                  <a:pt x="579420" y="63680"/>
                </a:lnTo>
                <a:lnTo>
                  <a:pt x="556253" y="44970"/>
                </a:lnTo>
                <a:lnTo>
                  <a:pt x="538505" y="32735"/>
                </a:lnTo>
                <a:lnTo>
                  <a:pt x="515939" y="22826"/>
                </a:lnTo>
                <a:lnTo>
                  <a:pt x="499067" y="16643"/>
                </a:lnTo>
                <a:lnTo>
                  <a:pt x="480654" y="11581"/>
                </a:lnTo>
                <a:lnTo>
                  <a:pt x="459242" y="9331"/>
                </a:lnTo>
                <a:lnTo>
                  <a:pt x="439142" y="5685"/>
                </a:lnTo>
                <a:lnTo>
                  <a:pt x="419294" y="1749"/>
                </a:lnTo>
                <a:lnTo>
                  <a:pt x="397244" y="0"/>
                </a:lnTo>
                <a:lnTo>
                  <a:pt x="374215" y="1869"/>
                </a:lnTo>
                <a:lnTo>
                  <a:pt x="350750" y="6006"/>
                </a:lnTo>
                <a:lnTo>
                  <a:pt x="327093" y="11153"/>
                </a:lnTo>
                <a:lnTo>
                  <a:pt x="291461" y="19628"/>
                </a:lnTo>
                <a:lnTo>
                  <a:pt x="267669" y="28121"/>
                </a:lnTo>
                <a:lnTo>
                  <a:pt x="243866" y="38510"/>
                </a:lnTo>
                <a:lnTo>
                  <a:pt x="220057" y="49742"/>
                </a:lnTo>
                <a:lnTo>
                  <a:pt x="196246" y="63994"/>
                </a:lnTo>
                <a:lnTo>
                  <a:pt x="153363" y="92657"/>
                </a:lnTo>
                <a:lnTo>
                  <a:pt x="131878" y="107873"/>
                </a:lnTo>
                <a:lnTo>
                  <a:pt x="110092" y="125549"/>
                </a:lnTo>
                <a:lnTo>
                  <a:pt x="90487" y="146634"/>
                </a:lnTo>
                <a:lnTo>
                  <a:pt x="71853" y="166589"/>
                </a:lnTo>
                <a:lnTo>
                  <a:pt x="54641" y="186372"/>
                </a:lnTo>
                <a:lnTo>
                  <a:pt x="40376" y="208393"/>
                </a:lnTo>
                <a:lnTo>
                  <a:pt x="33794" y="219822"/>
                </a:lnTo>
                <a:lnTo>
                  <a:pt x="21189" y="243103"/>
                </a:lnTo>
                <a:lnTo>
                  <a:pt x="11619" y="264035"/>
                </a:lnTo>
                <a:lnTo>
                  <a:pt x="5050" y="284251"/>
                </a:lnTo>
                <a:lnTo>
                  <a:pt x="2130" y="306466"/>
                </a:lnTo>
                <a:lnTo>
                  <a:pt x="1352" y="317946"/>
                </a:lnTo>
                <a:lnTo>
                  <a:pt x="832" y="329568"/>
                </a:lnTo>
                <a:lnTo>
                  <a:pt x="256" y="353064"/>
                </a:lnTo>
                <a:lnTo>
                  <a:pt x="0" y="376737"/>
                </a:lnTo>
                <a:lnTo>
                  <a:pt x="1916" y="388606"/>
                </a:lnTo>
                <a:lnTo>
                  <a:pt x="5177" y="400488"/>
                </a:lnTo>
                <a:lnTo>
                  <a:pt x="9336" y="412376"/>
                </a:lnTo>
                <a:lnTo>
                  <a:pt x="13101" y="424272"/>
                </a:lnTo>
                <a:lnTo>
                  <a:pt x="19930" y="448072"/>
                </a:lnTo>
                <a:lnTo>
                  <a:pt x="25124" y="459975"/>
                </a:lnTo>
                <a:lnTo>
                  <a:pt x="31564" y="471879"/>
                </a:lnTo>
                <a:lnTo>
                  <a:pt x="38833" y="483784"/>
                </a:lnTo>
                <a:lnTo>
                  <a:pt x="54848" y="504949"/>
                </a:lnTo>
                <a:lnTo>
                  <a:pt x="71888" y="525270"/>
                </a:lnTo>
                <a:lnTo>
                  <a:pt x="89383" y="547530"/>
                </a:lnTo>
                <a:lnTo>
                  <a:pt x="109726" y="568007"/>
                </a:lnTo>
                <a:lnTo>
                  <a:pt x="131997" y="587030"/>
                </a:lnTo>
                <a:lnTo>
                  <a:pt x="155124" y="605406"/>
                </a:lnTo>
                <a:lnTo>
                  <a:pt x="190457" y="632487"/>
                </a:lnTo>
                <a:lnTo>
                  <a:pt x="203301" y="640464"/>
                </a:lnTo>
                <a:lnTo>
                  <a:pt x="216825" y="647768"/>
                </a:lnTo>
                <a:lnTo>
                  <a:pt x="230802" y="654622"/>
                </a:lnTo>
                <a:lnTo>
                  <a:pt x="245081" y="661174"/>
                </a:lnTo>
                <a:lnTo>
                  <a:pt x="274175" y="673748"/>
                </a:lnTo>
                <a:lnTo>
                  <a:pt x="288879" y="678886"/>
                </a:lnTo>
                <a:lnTo>
                  <a:pt x="303643" y="683304"/>
                </a:lnTo>
                <a:lnTo>
                  <a:pt x="318446" y="687242"/>
                </a:lnTo>
                <a:lnTo>
                  <a:pt x="348123" y="694263"/>
                </a:lnTo>
                <a:lnTo>
                  <a:pt x="376857" y="700690"/>
                </a:lnTo>
                <a:lnTo>
                  <a:pt x="402857" y="706854"/>
                </a:lnTo>
                <a:lnTo>
                  <a:pt x="416339" y="708895"/>
                </a:lnTo>
                <a:lnTo>
                  <a:pt x="430288" y="710255"/>
                </a:lnTo>
                <a:lnTo>
                  <a:pt x="444548" y="711162"/>
                </a:lnTo>
                <a:lnTo>
                  <a:pt x="470976" y="712170"/>
                </a:lnTo>
                <a:lnTo>
                  <a:pt x="483579" y="712439"/>
                </a:lnTo>
                <a:lnTo>
                  <a:pt x="496943" y="711626"/>
                </a:lnTo>
                <a:lnTo>
                  <a:pt x="510812" y="710092"/>
                </a:lnTo>
                <a:lnTo>
                  <a:pt x="525020" y="708076"/>
                </a:lnTo>
                <a:lnTo>
                  <a:pt x="538461" y="705741"/>
                </a:lnTo>
                <a:lnTo>
                  <a:pt x="551390" y="703192"/>
                </a:lnTo>
                <a:lnTo>
                  <a:pt x="563978" y="700500"/>
                </a:lnTo>
                <a:lnTo>
                  <a:pt x="577331" y="696721"/>
                </a:lnTo>
                <a:lnTo>
                  <a:pt x="591194" y="692218"/>
                </a:lnTo>
                <a:lnTo>
                  <a:pt x="605397" y="687231"/>
                </a:lnTo>
                <a:lnTo>
                  <a:pt x="629115" y="676399"/>
                </a:lnTo>
                <a:lnTo>
                  <a:pt x="650571" y="664969"/>
                </a:lnTo>
                <a:lnTo>
                  <a:pt x="673336" y="653275"/>
                </a:lnTo>
                <a:lnTo>
                  <a:pt x="694037" y="636172"/>
                </a:lnTo>
                <a:lnTo>
                  <a:pt x="722426" y="606876"/>
                </a:lnTo>
                <a:lnTo>
                  <a:pt x="758685" y="570310"/>
                </a:lnTo>
                <a:lnTo>
                  <a:pt x="771327" y="549689"/>
                </a:lnTo>
                <a:lnTo>
                  <a:pt x="776087" y="538634"/>
                </a:lnTo>
                <a:lnTo>
                  <a:pt x="786667" y="515767"/>
                </a:lnTo>
                <a:lnTo>
                  <a:pt x="792267" y="504113"/>
                </a:lnTo>
                <a:lnTo>
                  <a:pt x="796992" y="492375"/>
                </a:lnTo>
                <a:lnTo>
                  <a:pt x="801135" y="480580"/>
                </a:lnTo>
                <a:lnTo>
                  <a:pt x="804889" y="468748"/>
                </a:lnTo>
                <a:lnTo>
                  <a:pt x="807391" y="456892"/>
                </a:lnTo>
                <a:lnTo>
                  <a:pt x="809060" y="445019"/>
                </a:lnTo>
                <a:lnTo>
                  <a:pt x="810172" y="433135"/>
                </a:lnTo>
                <a:lnTo>
                  <a:pt x="810913" y="421243"/>
                </a:lnTo>
                <a:lnTo>
                  <a:pt x="811737" y="397447"/>
                </a:lnTo>
                <a:lnTo>
                  <a:pt x="810964" y="384554"/>
                </a:lnTo>
                <a:lnTo>
                  <a:pt x="809457" y="370996"/>
                </a:lnTo>
                <a:lnTo>
                  <a:pt x="807461" y="356998"/>
                </a:lnTo>
                <a:lnTo>
                  <a:pt x="806129" y="344688"/>
                </a:lnTo>
                <a:lnTo>
                  <a:pt x="804650" y="323074"/>
                </a:lnTo>
                <a:lnTo>
                  <a:pt x="801347" y="300901"/>
                </a:lnTo>
                <a:lnTo>
                  <a:pt x="799077" y="289431"/>
                </a:lnTo>
                <a:lnTo>
                  <a:pt x="795579" y="277816"/>
                </a:lnTo>
                <a:lnTo>
                  <a:pt x="791263" y="266103"/>
                </a:lnTo>
                <a:lnTo>
                  <a:pt x="786401" y="254327"/>
                </a:lnTo>
                <a:lnTo>
                  <a:pt x="782168" y="242507"/>
                </a:lnTo>
                <a:lnTo>
                  <a:pt x="778353" y="230658"/>
                </a:lnTo>
                <a:lnTo>
                  <a:pt x="774818" y="218790"/>
                </a:lnTo>
                <a:lnTo>
                  <a:pt x="762952" y="197666"/>
                </a:lnTo>
                <a:lnTo>
                  <a:pt x="748749" y="178356"/>
                </a:lnTo>
                <a:lnTo>
                  <a:pt x="735822" y="159851"/>
                </a:lnTo>
                <a:lnTo>
                  <a:pt x="718171" y="144352"/>
                </a:lnTo>
                <a:lnTo>
                  <a:pt x="679241" y="118232"/>
                </a:lnTo>
                <a:lnTo>
                  <a:pt x="660943" y="108656"/>
                </a:lnTo>
                <a:lnTo>
                  <a:pt x="641896" y="101093"/>
                </a:lnTo>
                <a:lnTo>
                  <a:pt x="620202" y="94424"/>
                </a:lnTo>
                <a:lnTo>
                  <a:pt x="597331" y="90799"/>
                </a:lnTo>
                <a:lnTo>
                  <a:pt x="574929" y="89187"/>
                </a:lnTo>
                <a:lnTo>
                  <a:pt x="555050" y="88471"/>
                </a:lnTo>
                <a:lnTo>
                  <a:pt x="514291" y="87974"/>
                </a:lnTo>
                <a:lnTo>
                  <a:pt x="499857" y="87898"/>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79" name="SMARTInkAnnotation75"/>
          <p:cNvSpPr/>
          <p:nvPr/>
        </p:nvSpPr>
        <p:spPr>
          <a:xfrm>
            <a:off x="7912080" y="5500800"/>
            <a:ext cx="42840" cy="34920"/>
          </a:xfrm>
          <a:custGeom>
            <a:avLst/>
            <a:gdLst>
              <a:gd name="textAreaLeft" fmla="*/ 0 w 42840"/>
              <a:gd name="textAreaRight" fmla="*/ 43200 w 42840"/>
              <a:gd name="textAreaTop" fmla="*/ 0 h 34920"/>
              <a:gd name="textAreaBottom" fmla="*/ 35280 h 34920"/>
            </a:gdLst>
            <a:ahLst/>
            <a:rect l="textAreaLeft" t="textAreaTop" r="textAreaRight" b="textAreaBottom"/>
            <a:pathLst>
              <a:path w="43406" h="35710">
                <a:moveTo>
                  <a:pt x="0" y="17859"/>
                </a:moveTo>
                <a:lnTo>
                  <a:pt x="7688" y="10171"/>
                </a:lnTo>
                <a:lnTo>
                  <a:pt x="9094" y="9757"/>
                </a:lnTo>
                <a:lnTo>
                  <a:pt x="11024" y="9482"/>
                </a:lnTo>
                <a:lnTo>
                  <a:pt x="13303" y="9298"/>
                </a:lnTo>
                <a:lnTo>
                  <a:pt x="14822" y="8183"/>
                </a:lnTo>
                <a:lnTo>
                  <a:pt x="15834" y="6447"/>
                </a:lnTo>
                <a:lnTo>
                  <a:pt x="17459" y="1274"/>
                </a:lnTo>
                <a:lnTo>
                  <a:pt x="18585" y="849"/>
                </a:lnTo>
                <a:lnTo>
                  <a:pt x="20327" y="566"/>
                </a:lnTo>
                <a:lnTo>
                  <a:pt x="25513" y="112"/>
                </a:lnTo>
                <a:lnTo>
                  <a:pt x="28867" y="50"/>
                </a:lnTo>
                <a:lnTo>
                  <a:pt x="-22131" y="0"/>
                </a:lnTo>
                <a:lnTo>
                  <a:pt x="-22710" y="993"/>
                </a:lnTo>
                <a:lnTo>
                  <a:pt x="-24086" y="2646"/>
                </a:lnTo>
                <a:lnTo>
                  <a:pt x="-28685" y="7689"/>
                </a:lnTo>
                <a:lnTo>
                  <a:pt x="-29063" y="9095"/>
                </a:lnTo>
                <a:lnTo>
                  <a:pt x="-29313" y="11025"/>
                </a:lnTo>
                <a:lnTo>
                  <a:pt x="-29788" y="17460"/>
                </a:lnTo>
                <a:lnTo>
                  <a:pt x="-30790" y="17593"/>
                </a:lnTo>
                <a:lnTo>
                  <a:pt x="-32450" y="17682"/>
                </a:lnTo>
                <a:lnTo>
                  <a:pt x="26821" y="17858"/>
                </a:lnTo>
                <a:lnTo>
                  <a:pt x="26789" y="17859"/>
                </a:lnTo>
                <a:lnTo>
                  <a:pt x="26789" y="8940"/>
                </a:lnTo>
                <a:lnTo>
                  <a:pt x="26789" y="-29827"/>
                </a:lnTo>
                <a:lnTo>
                  <a:pt x="26789" y="17859"/>
                </a:lnTo>
              </a:path>
            </a:pathLst>
          </a:custGeom>
          <a:noFill/>
          <a:ln w="38160">
            <a:solidFill>
              <a:srgbClr val="000000"/>
            </a:solidFill>
            <a:round/>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Constantia"/>
            </a:endParaRPr>
          </a:p>
        </p:txBody>
      </p:sp>
      <p:sp>
        <p:nvSpPr>
          <p:cNvPr id="280" name="SMARTInkAnnotation76"/>
          <p:cNvSpPr/>
          <p:nvPr/>
        </p:nvSpPr>
        <p:spPr>
          <a:xfrm>
            <a:off x="6562800" y="5419800"/>
            <a:ext cx="1376280" cy="233280"/>
          </a:xfrm>
          <a:custGeom>
            <a:avLst/>
            <a:gdLst>
              <a:gd name="textAreaLeft" fmla="*/ 0 w 1376280"/>
              <a:gd name="textAreaRight" fmla="*/ 1376280 w 1376280"/>
              <a:gd name="textAreaTop" fmla="*/ 0 h 233280"/>
              <a:gd name="textAreaBottom" fmla="*/ 233640 h 233280"/>
            </a:gdLst>
            <a:ahLst/>
            <a:rect l="textAreaLeft" t="textAreaTop" r="textAreaRight" b="textAreaBottom"/>
            <a:pathLst>
              <a:path w="1375173" h="232170">
                <a:moveTo>
                  <a:pt x="1375172" y="98227"/>
                </a:moveTo>
                <a:lnTo>
                  <a:pt x="1370432" y="98227"/>
                </a:lnTo>
                <a:lnTo>
                  <a:pt x="1369035" y="99219"/>
                </a:lnTo>
                <a:lnTo>
                  <a:pt x="1368104" y="100872"/>
                </a:lnTo>
                <a:lnTo>
                  <a:pt x="1366351" y="106788"/>
                </a:lnTo>
                <a:lnTo>
                  <a:pt x="1366264" y="113221"/>
                </a:lnTo>
                <a:lnTo>
                  <a:pt x="1366245" y="120449"/>
                </a:lnTo>
                <a:lnTo>
                  <a:pt x="1365252" y="121971"/>
                </a:lnTo>
                <a:lnTo>
                  <a:pt x="1363597" y="122986"/>
                </a:lnTo>
                <a:lnTo>
                  <a:pt x="1358553" y="124615"/>
                </a:lnTo>
                <a:lnTo>
                  <a:pt x="1358140" y="125741"/>
                </a:lnTo>
                <a:lnTo>
                  <a:pt x="1357422" y="132669"/>
                </a:lnTo>
                <a:lnTo>
                  <a:pt x="1357345" y="138308"/>
                </a:lnTo>
                <a:lnTo>
                  <a:pt x="1356342" y="139830"/>
                </a:lnTo>
                <a:lnTo>
                  <a:pt x="1354681" y="140845"/>
                </a:lnTo>
                <a:lnTo>
                  <a:pt x="1352582" y="141522"/>
                </a:lnTo>
                <a:lnTo>
                  <a:pt x="1351182" y="142965"/>
                </a:lnTo>
                <a:lnTo>
                  <a:pt x="1350249" y="144920"/>
                </a:lnTo>
                <a:lnTo>
                  <a:pt x="1348752" y="150445"/>
                </a:lnTo>
                <a:lnTo>
                  <a:pt x="1348492" y="156143"/>
                </a:lnTo>
                <a:lnTo>
                  <a:pt x="1347463" y="157673"/>
                </a:lnTo>
                <a:lnTo>
                  <a:pt x="1345785" y="158694"/>
                </a:lnTo>
                <a:lnTo>
                  <a:pt x="1343675" y="159373"/>
                </a:lnTo>
                <a:lnTo>
                  <a:pt x="1342267" y="160819"/>
                </a:lnTo>
                <a:lnTo>
                  <a:pt x="1341330" y="162776"/>
                </a:lnTo>
                <a:lnTo>
                  <a:pt x="1340704" y="165072"/>
                </a:lnTo>
                <a:lnTo>
                  <a:pt x="1339296" y="166602"/>
                </a:lnTo>
                <a:lnTo>
                  <a:pt x="1337362" y="167623"/>
                </a:lnTo>
                <a:lnTo>
                  <a:pt x="1335083" y="168303"/>
                </a:lnTo>
                <a:lnTo>
                  <a:pt x="1333563" y="169749"/>
                </a:lnTo>
                <a:lnTo>
                  <a:pt x="1332549" y="171705"/>
                </a:lnTo>
                <a:lnTo>
                  <a:pt x="1331874" y="174002"/>
                </a:lnTo>
                <a:lnTo>
                  <a:pt x="1330432" y="175533"/>
                </a:lnTo>
                <a:lnTo>
                  <a:pt x="1328478" y="176553"/>
                </a:lnTo>
                <a:lnTo>
                  <a:pt x="1326183" y="177233"/>
                </a:lnTo>
                <a:lnTo>
                  <a:pt x="1324654" y="178679"/>
                </a:lnTo>
                <a:lnTo>
                  <a:pt x="1323633" y="180635"/>
                </a:lnTo>
                <a:lnTo>
                  <a:pt x="1322954" y="182931"/>
                </a:lnTo>
                <a:lnTo>
                  <a:pt x="1321508" y="184462"/>
                </a:lnTo>
                <a:lnTo>
                  <a:pt x="1319553" y="185483"/>
                </a:lnTo>
                <a:lnTo>
                  <a:pt x="1314025" y="187120"/>
                </a:lnTo>
                <a:lnTo>
                  <a:pt x="1313572" y="188247"/>
                </a:lnTo>
                <a:lnTo>
                  <a:pt x="1313067" y="192145"/>
                </a:lnTo>
                <a:lnTo>
                  <a:pt x="1311941" y="193581"/>
                </a:lnTo>
                <a:lnTo>
                  <a:pt x="1310197" y="194538"/>
                </a:lnTo>
                <a:lnTo>
                  <a:pt x="1305012" y="196075"/>
                </a:lnTo>
                <a:lnTo>
                  <a:pt x="1299372" y="196341"/>
                </a:lnTo>
                <a:lnTo>
                  <a:pt x="1297850" y="197371"/>
                </a:lnTo>
                <a:lnTo>
                  <a:pt x="1296835" y="199050"/>
                </a:lnTo>
                <a:lnTo>
                  <a:pt x="1296159" y="201160"/>
                </a:lnTo>
                <a:lnTo>
                  <a:pt x="1294715" y="202568"/>
                </a:lnTo>
                <a:lnTo>
                  <a:pt x="1292760" y="203506"/>
                </a:lnTo>
                <a:lnTo>
                  <a:pt x="1287235" y="205012"/>
                </a:lnTo>
                <a:lnTo>
                  <a:pt x="1278306" y="205350"/>
                </a:lnTo>
                <a:lnTo>
                  <a:pt x="1270057" y="212447"/>
                </a:lnTo>
                <a:lnTo>
                  <a:pt x="1269377" y="213068"/>
                </a:lnTo>
                <a:lnTo>
                  <a:pt x="1265974" y="213760"/>
                </a:lnTo>
                <a:lnTo>
                  <a:pt x="1223199" y="214313"/>
                </a:lnTo>
                <a:lnTo>
                  <a:pt x="1193491" y="214313"/>
                </a:lnTo>
                <a:lnTo>
                  <a:pt x="1190552" y="213321"/>
                </a:lnTo>
                <a:lnTo>
                  <a:pt x="1181673" y="208175"/>
                </a:lnTo>
                <a:lnTo>
                  <a:pt x="1175733" y="206624"/>
                </a:lnTo>
                <a:lnTo>
                  <a:pt x="1153693" y="205415"/>
                </a:lnTo>
                <a:lnTo>
                  <a:pt x="1150067" y="202752"/>
                </a:lnTo>
                <a:lnTo>
                  <a:pt x="1147712" y="200652"/>
                </a:lnTo>
                <a:lnTo>
                  <a:pt x="1145149" y="199253"/>
                </a:lnTo>
                <a:lnTo>
                  <a:pt x="1139656" y="197697"/>
                </a:lnTo>
                <a:lnTo>
                  <a:pt x="1130985" y="196822"/>
                </a:lnTo>
                <a:lnTo>
                  <a:pt x="1128045" y="195706"/>
                </a:lnTo>
                <a:lnTo>
                  <a:pt x="1119166" y="190389"/>
                </a:lnTo>
                <a:lnTo>
                  <a:pt x="1113225" y="188797"/>
                </a:lnTo>
                <a:lnTo>
                  <a:pt x="1111244" y="187380"/>
                </a:lnTo>
                <a:lnTo>
                  <a:pt x="1109923" y="185444"/>
                </a:lnTo>
                <a:lnTo>
                  <a:pt x="1109043" y="183161"/>
                </a:lnTo>
                <a:lnTo>
                  <a:pt x="1107463" y="181638"/>
                </a:lnTo>
                <a:lnTo>
                  <a:pt x="1105418" y="180624"/>
                </a:lnTo>
                <a:lnTo>
                  <a:pt x="1103063" y="179947"/>
                </a:lnTo>
                <a:lnTo>
                  <a:pt x="1097799" y="176549"/>
                </a:lnTo>
                <a:lnTo>
                  <a:pt x="1092153" y="171732"/>
                </a:lnTo>
                <a:lnTo>
                  <a:pt x="1086337" y="166284"/>
                </a:lnTo>
                <a:lnTo>
                  <a:pt x="1077483" y="157638"/>
                </a:lnTo>
                <a:lnTo>
                  <a:pt x="1074518" y="155694"/>
                </a:lnTo>
                <a:lnTo>
                  <a:pt x="1065603" y="151965"/>
                </a:lnTo>
                <a:lnTo>
                  <a:pt x="1056678" y="145017"/>
                </a:lnTo>
                <a:lnTo>
                  <a:pt x="1050726" y="139528"/>
                </a:lnTo>
                <a:lnTo>
                  <a:pt x="1048742" y="136675"/>
                </a:lnTo>
                <a:lnTo>
                  <a:pt x="1046537" y="130859"/>
                </a:lnTo>
                <a:lnTo>
                  <a:pt x="1044957" y="128911"/>
                </a:lnTo>
                <a:lnTo>
                  <a:pt x="1042911" y="127613"/>
                </a:lnTo>
                <a:lnTo>
                  <a:pt x="1040556" y="126748"/>
                </a:lnTo>
                <a:lnTo>
                  <a:pt x="1035292" y="123139"/>
                </a:lnTo>
                <a:lnTo>
                  <a:pt x="1029645" y="118228"/>
                </a:lnTo>
                <a:lnTo>
                  <a:pt x="1023829" y="112739"/>
                </a:lnTo>
                <a:lnTo>
                  <a:pt x="1014975" y="104070"/>
                </a:lnTo>
                <a:lnTo>
                  <a:pt x="1012010" y="102122"/>
                </a:lnTo>
                <a:lnTo>
                  <a:pt x="1006069" y="99958"/>
                </a:lnTo>
                <a:lnTo>
                  <a:pt x="1004087" y="98388"/>
                </a:lnTo>
                <a:lnTo>
                  <a:pt x="1002767" y="96350"/>
                </a:lnTo>
                <a:lnTo>
                  <a:pt x="1001887" y="94000"/>
                </a:lnTo>
                <a:lnTo>
                  <a:pt x="998261" y="88741"/>
                </a:lnTo>
                <a:lnTo>
                  <a:pt x="992592" y="82021"/>
                </a:lnTo>
                <a:lnTo>
                  <a:pt x="986868" y="76117"/>
                </a:lnTo>
                <a:lnTo>
                  <a:pt x="983630" y="72824"/>
                </a:lnTo>
                <a:lnTo>
                  <a:pt x="982182" y="72362"/>
                </a:lnTo>
                <a:lnTo>
                  <a:pt x="977929" y="71849"/>
                </a:lnTo>
                <a:lnTo>
                  <a:pt x="976399" y="70719"/>
                </a:lnTo>
                <a:lnTo>
                  <a:pt x="975377" y="68974"/>
                </a:lnTo>
                <a:lnTo>
                  <a:pt x="974697" y="66819"/>
                </a:lnTo>
                <a:lnTo>
                  <a:pt x="971295" y="61778"/>
                </a:lnTo>
                <a:lnTo>
                  <a:pt x="964809" y="54058"/>
                </a:lnTo>
                <a:lnTo>
                  <a:pt x="955476" y="44649"/>
                </a:lnTo>
                <a:lnTo>
                  <a:pt x="955476" y="123656"/>
                </a:lnTo>
                <a:lnTo>
                  <a:pt x="949340" y="130884"/>
                </a:lnTo>
                <a:lnTo>
                  <a:pt x="947788" y="132584"/>
                </a:lnTo>
                <a:lnTo>
                  <a:pt x="947099" y="135986"/>
                </a:lnTo>
                <a:lnTo>
                  <a:pt x="946656" y="141514"/>
                </a:lnTo>
                <a:lnTo>
                  <a:pt x="940432" y="148743"/>
                </a:lnTo>
                <a:lnTo>
                  <a:pt x="938868" y="150444"/>
                </a:lnTo>
                <a:lnTo>
                  <a:pt x="938174" y="153846"/>
                </a:lnTo>
                <a:lnTo>
                  <a:pt x="937988" y="156142"/>
                </a:lnTo>
                <a:lnTo>
                  <a:pt x="936872" y="157673"/>
                </a:lnTo>
                <a:lnTo>
                  <a:pt x="935136" y="158694"/>
                </a:lnTo>
                <a:lnTo>
                  <a:pt x="929961" y="160331"/>
                </a:lnTo>
                <a:lnTo>
                  <a:pt x="929537" y="161458"/>
                </a:lnTo>
                <a:lnTo>
                  <a:pt x="929065" y="165356"/>
                </a:lnTo>
                <a:lnTo>
                  <a:pt x="927947" y="166792"/>
                </a:lnTo>
                <a:lnTo>
                  <a:pt x="926209" y="167749"/>
                </a:lnTo>
                <a:lnTo>
                  <a:pt x="921032" y="169286"/>
                </a:lnTo>
                <a:lnTo>
                  <a:pt x="913872" y="175726"/>
                </a:lnTo>
                <a:lnTo>
                  <a:pt x="912182" y="177320"/>
                </a:lnTo>
                <a:lnTo>
                  <a:pt x="908784" y="178028"/>
                </a:lnTo>
                <a:lnTo>
                  <a:pt x="906488" y="178216"/>
                </a:lnTo>
                <a:lnTo>
                  <a:pt x="904959" y="179335"/>
                </a:lnTo>
                <a:lnTo>
                  <a:pt x="903939" y="181072"/>
                </a:lnTo>
                <a:lnTo>
                  <a:pt x="903259" y="183222"/>
                </a:lnTo>
                <a:lnTo>
                  <a:pt x="901813" y="184656"/>
                </a:lnTo>
                <a:lnTo>
                  <a:pt x="899857" y="185612"/>
                </a:lnTo>
                <a:lnTo>
                  <a:pt x="894330" y="187146"/>
                </a:lnTo>
                <a:lnTo>
                  <a:pt x="886109" y="193586"/>
                </a:lnTo>
                <a:lnTo>
                  <a:pt x="876753" y="196075"/>
                </a:lnTo>
                <a:lnTo>
                  <a:pt x="840776" y="196453"/>
                </a:lnTo>
                <a:lnTo>
                  <a:pt x="825437" y="189386"/>
                </a:lnTo>
                <a:lnTo>
                  <a:pt x="824136" y="188765"/>
                </a:lnTo>
                <a:lnTo>
                  <a:pt x="817562" y="187891"/>
                </a:lnTo>
                <a:lnTo>
                  <a:pt x="809330" y="187633"/>
                </a:lnTo>
                <a:lnTo>
                  <a:pt x="806453" y="186604"/>
                </a:lnTo>
                <a:lnTo>
                  <a:pt x="796480" y="179845"/>
                </a:lnTo>
                <a:lnTo>
                  <a:pt x="792869" y="179150"/>
                </a:lnTo>
                <a:lnTo>
                  <a:pt x="790517" y="178964"/>
                </a:lnTo>
                <a:lnTo>
                  <a:pt x="787957" y="177849"/>
                </a:lnTo>
                <a:lnTo>
                  <a:pt x="779613" y="172530"/>
                </a:lnTo>
                <a:lnTo>
                  <a:pt x="773796" y="170938"/>
                </a:lnTo>
                <a:lnTo>
                  <a:pt x="764944" y="170042"/>
                </a:lnTo>
                <a:lnTo>
                  <a:pt x="761977" y="168924"/>
                </a:lnTo>
                <a:lnTo>
                  <a:pt x="753064" y="163602"/>
                </a:lnTo>
                <a:lnTo>
                  <a:pt x="744139" y="160592"/>
                </a:lnTo>
                <a:lnTo>
                  <a:pt x="735210" y="154849"/>
                </a:lnTo>
                <a:lnTo>
                  <a:pt x="726280" y="151715"/>
                </a:lnTo>
                <a:lnTo>
                  <a:pt x="717351" y="145935"/>
                </a:lnTo>
                <a:lnTo>
                  <a:pt x="708421" y="142790"/>
                </a:lnTo>
                <a:lnTo>
                  <a:pt x="702469" y="138537"/>
                </a:lnTo>
                <a:lnTo>
                  <a:pt x="700485" y="136015"/>
                </a:lnTo>
                <a:lnTo>
                  <a:pt x="699162" y="133341"/>
                </a:lnTo>
                <a:lnTo>
                  <a:pt x="698279" y="130565"/>
                </a:lnTo>
                <a:lnTo>
                  <a:pt x="695708" y="128716"/>
                </a:lnTo>
                <a:lnTo>
                  <a:pt x="683598" y="125120"/>
                </a:lnTo>
                <a:lnTo>
                  <a:pt x="676553" y="120763"/>
                </a:lnTo>
                <a:lnTo>
                  <a:pt x="670115" y="115518"/>
                </a:lnTo>
                <a:lnTo>
                  <a:pt x="667009" y="112732"/>
                </a:lnTo>
                <a:lnTo>
                  <a:pt x="664938" y="109881"/>
                </a:lnTo>
                <a:lnTo>
                  <a:pt x="662638" y="104067"/>
                </a:lnTo>
                <a:lnTo>
                  <a:pt x="661032" y="102121"/>
                </a:lnTo>
                <a:lnTo>
                  <a:pt x="658970" y="100824"/>
                </a:lnTo>
                <a:lnTo>
                  <a:pt x="656602" y="99958"/>
                </a:lnTo>
                <a:lnTo>
                  <a:pt x="651325" y="96350"/>
                </a:lnTo>
                <a:lnTo>
                  <a:pt x="648530" y="94000"/>
                </a:lnTo>
                <a:lnTo>
                  <a:pt x="646666" y="91439"/>
                </a:lnTo>
                <a:lnTo>
                  <a:pt x="644595" y="85950"/>
                </a:lnTo>
                <a:lnTo>
                  <a:pt x="641029" y="80203"/>
                </a:lnTo>
                <a:lnTo>
                  <a:pt x="638689" y="77281"/>
                </a:lnTo>
                <a:lnTo>
                  <a:pt x="636135" y="75333"/>
                </a:lnTo>
                <a:lnTo>
                  <a:pt x="633443" y="74035"/>
                </a:lnTo>
                <a:lnTo>
                  <a:pt x="630654" y="73169"/>
                </a:lnTo>
                <a:lnTo>
                  <a:pt x="628796" y="71599"/>
                </a:lnTo>
                <a:lnTo>
                  <a:pt x="627557" y="69561"/>
                </a:lnTo>
                <a:lnTo>
                  <a:pt x="626730" y="67210"/>
                </a:lnTo>
                <a:lnTo>
                  <a:pt x="625187" y="65643"/>
                </a:lnTo>
                <a:lnTo>
                  <a:pt x="623166" y="64598"/>
                </a:lnTo>
                <a:lnTo>
                  <a:pt x="620827" y="63901"/>
                </a:lnTo>
                <a:lnTo>
                  <a:pt x="619267" y="62445"/>
                </a:lnTo>
                <a:lnTo>
                  <a:pt x="618228" y="60481"/>
                </a:lnTo>
                <a:lnTo>
                  <a:pt x="617534" y="58180"/>
                </a:lnTo>
                <a:lnTo>
                  <a:pt x="614118" y="52978"/>
                </a:lnTo>
                <a:lnTo>
                  <a:pt x="608582" y="46294"/>
                </a:lnTo>
                <a:lnTo>
                  <a:pt x="607824" y="42734"/>
                </a:lnTo>
                <a:lnTo>
                  <a:pt x="607338" y="37105"/>
                </a:lnTo>
                <a:lnTo>
                  <a:pt x="601105" y="29855"/>
                </a:lnTo>
                <a:lnTo>
                  <a:pt x="599541" y="28152"/>
                </a:lnTo>
                <a:lnTo>
                  <a:pt x="598845" y="24749"/>
                </a:lnTo>
                <a:lnTo>
                  <a:pt x="598322" y="18263"/>
                </a:lnTo>
                <a:lnTo>
                  <a:pt x="598292" y="10207"/>
                </a:lnTo>
                <a:lnTo>
                  <a:pt x="597299" y="9781"/>
                </a:lnTo>
                <a:lnTo>
                  <a:pt x="593550" y="9308"/>
                </a:lnTo>
                <a:lnTo>
                  <a:pt x="592153" y="8190"/>
                </a:lnTo>
                <a:lnTo>
                  <a:pt x="591222" y="6452"/>
                </a:lnTo>
                <a:lnTo>
                  <a:pt x="589359" y="0"/>
                </a:lnTo>
                <a:lnTo>
                  <a:pt x="589359" y="22490"/>
                </a:lnTo>
                <a:lnTo>
                  <a:pt x="590351" y="23923"/>
                </a:lnTo>
                <a:lnTo>
                  <a:pt x="592006" y="24878"/>
                </a:lnTo>
                <a:lnTo>
                  <a:pt x="594099" y="25515"/>
                </a:lnTo>
                <a:lnTo>
                  <a:pt x="595497" y="26932"/>
                </a:lnTo>
                <a:lnTo>
                  <a:pt x="596428" y="28869"/>
                </a:lnTo>
                <a:lnTo>
                  <a:pt x="597921" y="34366"/>
                </a:lnTo>
                <a:lnTo>
                  <a:pt x="598216" y="41588"/>
                </a:lnTo>
                <a:lnTo>
                  <a:pt x="598274" y="46690"/>
                </a:lnTo>
                <a:lnTo>
                  <a:pt x="598289" y="75666"/>
                </a:lnTo>
                <a:lnTo>
                  <a:pt x="597297" y="78225"/>
                </a:lnTo>
                <a:lnTo>
                  <a:pt x="593549" y="83715"/>
                </a:lnTo>
                <a:lnTo>
                  <a:pt x="591221" y="89462"/>
                </a:lnTo>
                <a:lnTo>
                  <a:pt x="589727" y="96495"/>
                </a:lnTo>
                <a:lnTo>
                  <a:pt x="589468" y="102454"/>
                </a:lnTo>
                <a:lnTo>
                  <a:pt x="589362" y="123285"/>
                </a:lnTo>
                <a:lnTo>
                  <a:pt x="586714" y="126892"/>
                </a:lnTo>
                <a:lnTo>
                  <a:pt x="584620" y="129243"/>
                </a:lnTo>
                <a:lnTo>
                  <a:pt x="583223" y="131803"/>
                </a:lnTo>
                <a:lnTo>
                  <a:pt x="581671" y="137293"/>
                </a:lnTo>
                <a:lnTo>
                  <a:pt x="580265" y="139154"/>
                </a:lnTo>
                <a:lnTo>
                  <a:pt x="578335" y="140394"/>
                </a:lnTo>
                <a:lnTo>
                  <a:pt x="576057" y="141221"/>
                </a:lnTo>
                <a:lnTo>
                  <a:pt x="574538" y="142764"/>
                </a:lnTo>
                <a:lnTo>
                  <a:pt x="573525" y="144786"/>
                </a:lnTo>
                <a:lnTo>
                  <a:pt x="572851" y="147126"/>
                </a:lnTo>
                <a:lnTo>
                  <a:pt x="569454" y="152371"/>
                </a:lnTo>
                <a:lnTo>
                  <a:pt x="563931" y="159082"/>
                </a:lnTo>
                <a:lnTo>
                  <a:pt x="558232" y="164985"/>
                </a:lnTo>
                <a:lnTo>
                  <a:pt x="532401" y="190903"/>
                </a:lnTo>
                <a:lnTo>
                  <a:pt x="529559" y="192753"/>
                </a:lnTo>
                <a:lnTo>
                  <a:pt x="520818" y="196349"/>
                </a:lnTo>
                <a:lnTo>
                  <a:pt x="511945" y="202265"/>
                </a:lnTo>
                <a:lnTo>
                  <a:pt x="506005" y="203997"/>
                </a:lnTo>
                <a:lnTo>
                  <a:pt x="504024" y="205452"/>
                </a:lnTo>
                <a:lnTo>
                  <a:pt x="502703" y="207413"/>
                </a:lnTo>
                <a:lnTo>
                  <a:pt x="501824" y="209713"/>
                </a:lnTo>
                <a:lnTo>
                  <a:pt x="500244" y="211247"/>
                </a:lnTo>
                <a:lnTo>
                  <a:pt x="498199" y="212268"/>
                </a:lnTo>
                <a:lnTo>
                  <a:pt x="495844" y="212950"/>
                </a:lnTo>
                <a:lnTo>
                  <a:pt x="490581" y="216352"/>
                </a:lnTo>
                <a:lnTo>
                  <a:pt x="487788" y="218650"/>
                </a:lnTo>
                <a:lnTo>
                  <a:pt x="484934" y="220180"/>
                </a:lnTo>
                <a:lnTo>
                  <a:pt x="479118" y="221882"/>
                </a:lnTo>
                <a:lnTo>
                  <a:pt x="443873" y="223207"/>
                </a:lnTo>
                <a:lnTo>
                  <a:pt x="440774" y="224211"/>
                </a:lnTo>
                <a:lnTo>
                  <a:pt x="431673" y="229372"/>
                </a:lnTo>
                <a:lnTo>
                  <a:pt x="425680" y="230928"/>
                </a:lnTo>
                <a:lnTo>
                  <a:pt x="385839" y="232157"/>
                </a:lnTo>
                <a:lnTo>
                  <a:pt x="372438" y="232169"/>
                </a:lnTo>
                <a:lnTo>
                  <a:pt x="369339" y="231178"/>
                </a:lnTo>
                <a:lnTo>
                  <a:pt x="360236" y="226035"/>
                </a:lnTo>
                <a:lnTo>
                  <a:pt x="354244" y="224483"/>
                </a:lnTo>
                <a:lnTo>
                  <a:pt x="327240" y="222323"/>
                </a:lnTo>
                <a:lnTo>
                  <a:pt x="313092" y="216189"/>
                </a:lnTo>
                <a:lnTo>
                  <a:pt x="309931" y="215564"/>
                </a:lnTo>
                <a:lnTo>
                  <a:pt x="303773" y="212223"/>
                </a:lnTo>
                <a:lnTo>
                  <a:pt x="300742" y="209942"/>
                </a:lnTo>
                <a:lnTo>
                  <a:pt x="294728" y="207409"/>
                </a:lnTo>
                <a:lnTo>
                  <a:pt x="287755" y="205292"/>
                </a:lnTo>
                <a:lnTo>
                  <a:pt x="269757" y="198493"/>
                </a:lnTo>
                <a:lnTo>
                  <a:pt x="266158" y="197813"/>
                </a:lnTo>
                <a:lnTo>
                  <a:pt x="259513" y="194412"/>
                </a:lnTo>
                <a:lnTo>
                  <a:pt x="252262" y="189593"/>
                </a:lnTo>
                <a:lnTo>
                  <a:pt x="242423" y="184144"/>
                </a:lnTo>
                <a:lnTo>
                  <a:pt x="234082" y="178415"/>
                </a:lnTo>
                <a:lnTo>
                  <a:pt x="230468" y="175498"/>
                </a:lnTo>
                <a:lnTo>
                  <a:pt x="226076" y="173554"/>
                </a:lnTo>
                <a:lnTo>
                  <a:pt x="211404" y="169825"/>
                </a:lnTo>
                <a:lnTo>
                  <a:pt x="199340" y="162876"/>
                </a:lnTo>
                <a:lnTo>
                  <a:pt x="189137" y="157387"/>
                </a:lnTo>
                <a:lnTo>
                  <a:pt x="180635" y="151640"/>
                </a:lnTo>
                <a:lnTo>
                  <a:pt x="172555" y="145779"/>
                </a:lnTo>
                <a:lnTo>
                  <a:pt x="162350" y="139866"/>
                </a:lnTo>
                <a:lnTo>
                  <a:pt x="153846" y="136577"/>
                </a:lnTo>
                <a:lnTo>
                  <a:pt x="150189" y="135699"/>
                </a:lnTo>
                <a:lnTo>
                  <a:pt x="143479" y="132079"/>
                </a:lnTo>
                <a:lnTo>
                  <a:pt x="136198" y="127163"/>
                </a:lnTo>
                <a:lnTo>
                  <a:pt x="126348" y="121671"/>
                </a:lnTo>
                <a:lnTo>
                  <a:pt x="118001" y="115923"/>
                </a:lnTo>
                <a:lnTo>
                  <a:pt x="114386" y="113000"/>
                </a:lnTo>
                <a:lnTo>
                  <a:pt x="109992" y="111052"/>
                </a:lnTo>
                <a:lnTo>
                  <a:pt x="95319" y="107318"/>
                </a:lnTo>
                <a:lnTo>
                  <a:pt x="83254" y="100369"/>
                </a:lnTo>
                <a:lnTo>
                  <a:pt x="73051" y="94879"/>
                </a:lnTo>
                <a:lnTo>
                  <a:pt x="64549" y="89132"/>
                </a:lnTo>
                <a:lnTo>
                  <a:pt x="60891" y="86210"/>
                </a:lnTo>
                <a:lnTo>
                  <a:pt x="54183" y="82964"/>
                </a:lnTo>
                <a:lnTo>
                  <a:pt x="51004" y="82099"/>
                </a:lnTo>
                <a:lnTo>
                  <a:pt x="44828" y="78491"/>
                </a:lnTo>
                <a:lnTo>
                  <a:pt x="38775" y="73580"/>
                </a:lnTo>
                <a:lnTo>
                  <a:pt x="32778" y="68090"/>
                </a:lnTo>
                <a:lnTo>
                  <a:pt x="30781" y="65237"/>
                </a:lnTo>
                <a:lnTo>
                  <a:pt x="28564" y="59421"/>
                </a:lnTo>
                <a:lnTo>
                  <a:pt x="26980" y="57473"/>
                </a:lnTo>
                <a:lnTo>
                  <a:pt x="24932" y="56175"/>
                </a:lnTo>
                <a:lnTo>
                  <a:pt x="19257" y="54091"/>
                </a:lnTo>
                <a:lnTo>
                  <a:pt x="18791" y="52928"/>
                </a:lnTo>
                <a:lnTo>
                  <a:pt x="18274" y="48989"/>
                </a:lnTo>
                <a:lnTo>
                  <a:pt x="17143" y="47543"/>
                </a:lnTo>
                <a:lnTo>
                  <a:pt x="15398" y="46578"/>
                </a:lnTo>
                <a:lnTo>
                  <a:pt x="10208" y="45030"/>
                </a:lnTo>
                <a:lnTo>
                  <a:pt x="9782" y="43911"/>
                </a:lnTo>
                <a:lnTo>
                  <a:pt x="9042" y="36994"/>
                </a:lnTo>
                <a:lnTo>
                  <a:pt x="8953" y="29834"/>
                </a:lnTo>
                <a:lnTo>
                  <a:pt x="8930" y="19219"/>
                </a:lnTo>
                <a:lnTo>
                  <a:pt x="2793" y="11991"/>
                </a:lnTo>
                <a:lnTo>
                  <a:pt x="368" y="9333"/>
                </a:lnTo>
                <a:lnTo>
                  <a:pt x="73" y="2873"/>
                </a:lnTo>
                <a:lnTo>
                  <a:pt x="0"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81" name="SMARTInkAnnotation77"/>
          <p:cNvSpPr/>
          <p:nvPr/>
        </p:nvSpPr>
        <p:spPr>
          <a:xfrm>
            <a:off x="1874880" y="5545080"/>
            <a:ext cx="433440" cy="517680"/>
          </a:xfrm>
          <a:custGeom>
            <a:avLst/>
            <a:gdLst>
              <a:gd name="textAreaLeft" fmla="*/ 0 w 433440"/>
              <a:gd name="textAreaRight" fmla="*/ 433800 w 433440"/>
              <a:gd name="textAreaTop" fmla="*/ 0 h 517680"/>
              <a:gd name="textAreaBottom" fmla="*/ 518040 h 517680"/>
            </a:gdLst>
            <a:ahLst/>
            <a:rect l="textAreaLeft" t="textAreaTop" r="textAreaRight" b="textAreaBottom"/>
            <a:pathLst>
              <a:path w="433389" h="517888">
                <a:moveTo>
                  <a:pt x="0" y="0"/>
                </a:moveTo>
                <a:lnTo>
                  <a:pt x="379570" y="0"/>
                </a:lnTo>
                <a:lnTo>
                  <a:pt x="392271" y="2646"/>
                </a:lnTo>
                <a:lnTo>
                  <a:pt x="403538" y="7129"/>
                </a:lnTo>
                <a:lnTo>
                  <a:pt x="415459" y="15232"/>
                </a:lnTo>
                <a:lnTo>
                  <a:pt x="426695" y="25072"/>
                </a:lnTo>
                <a:lnTo>
                  <a:pt x="432793" y="35761"/>
                </a:lnTo>
                <a:lnTo>
                  <a:pt x="433388" y="39716"/>
                </a:lnTo>
                <a:lnTo>
                  <a:pt x="432793" y="43345"/>
                </a:lnTo>
                <a:lnTo>
                  <a:pt x="430477" y="50023"/>
                </a:lnTo>
                <a:lnTo>
                  <a:pt x="428181" y="60352"/>
                </a:lnTo>
                <a:lnTo>
                  <a:pt x="424128" y="70149"/>
                </a:lnTo>
                <a:lnTo>
                  <a:pt x="416374" y="81118"/>
                </a:lnTo>
                <a:lnTo>
                  <a:pt x="407305" y="93599"/>
                </a:lnTo>
                <a:lnTo>
                  <a:pt x="399967" y="109069"/>
                </a:lnTo>
                <a:lnTo>
                  <a:pt x="388106" y="123220"/>
                </a:lnTo>
                <a:lnTo>
                  <a:pt x="380777" y="129772"/>
                </a:lnTo>
                <a:lnTo>
                  <a:pt x="367341" y="144989"/>
                </a:lnTo>
                <a:lnTo>
                  <a:pt x="360980" y="153214"/>
                </a:lnTo>
                <a:lnTo>
                  <a:pt x="353763" y="161674"/>
                </a:lnTo>
                <a:lnTo>
                  <a:pt x="345974" y="170291"/>
                </a:lnTo>
                <a:lnTo>
                  <a:pt x="329383" y="187803"/>
                </a:lnTo>
                <a:lnTo>
                  <a:pt x="285616" y="232209"/>
                </a:lnTo>
                <a:lnTo>
                  <a:pt x="277723" y="242119"/>
                </a:lnTo>
                <a:lnTo>
                  <a:pt x="270477" y="252694"/>
                </a:lnTo>
                <a:lnTo>
                  <a:pt x="263662" y="263713"/>
                </a:lnTo>
                <a:lnTo>
                  <a:pt x="256141" y="274036"/>
                </a:lnTo>
                <a:lnTo>
                  <a:pt x="248152" y="283894"/>
                </a:lnTo>
                <a:lnTo>
                  <a:pt x="239848" y="293442"/>
                </a:lnTo>
                <a:lnTo>
                  <a:pt x="231336" y="303777"/>
                </a:lnTo>
                <a:lnTo>
                  <a:pt x="213941" y="325843"/>
                </a:lnTo>
                <a:lnTo>
                  <a:pt x="205135" y="336292"/>
                </a:lnTo>
                <a:lnTo>
                  <a:pt x="196288" y="346233"/>
                </a:lnTo>
                <a:lnTo>
                  <a:pt x="187413" y="355838"/>
                </a:lnTo>
                <a:lnTo>
                  <a:pt x="179512" y="365218"/>
                </a:lnTo>
                <a:lnTo>
                  <a:pt x="172261" y="374447"/>
                </a:lnTo>
                <a:lnTo>
                  <a:pt x="165442" y="383577"/>
                </a:lnTo>
                <a:lnTo>
                  <a:pt x="152574" y="399014"/>
                </a:lnTo>
                <a:lnTo>
                  <a:pt x="140240" y="412488"/>
                </a:lnTo>
                <a:lnTo>
                  <a:pt x="128144" y="425091"/>
                </a:lnTo>
                <a:lnTo>
                  <a:pt x="118799" y="437307"/>
                </a:lnTo>
                <a:lnTo>
                  <a:pt x="111339" y="449351"/>
                </a:lnTo>
                <a:lnTo>
                  <a:pt x="104715" y="461319"/>
                </a:lnTo>
                <a:lnTo>
                  <a:pt x="95409" y="474473"/>
                </a:lnTo>
                <a:lnTo>
                  <a:pt x="86367" y="489394"/>
                </a:lnTo>
                <a:lnTo>
                  <a:pt x="80560" y="498948"/>
                </a:lnTo>
                <a:lnTo>
                  <a:pt x="72835" y="507474"/>
                </a:lnTo>
                <a:lnTo>
                  <a:pt x="72058" y="510963"/>
                </a:lnTo>
                <a:lnTo>
                  <a:pt x="71560" y="516548"/>
                </a:lnTo>
                <a:lnTo>
                  <a:pt x="70527" y="517006"/>
                </a:lnTo>
                <a:lnTo>
                  <a:pt x="62879" y="517887"/>
                </a:lnTo>
                <a:lnTo>
                  <a:pt x="62618" y="513172"/>
                </a:lnTo>
                <a:lnTo>
                  <a:pt x="63573" y="511779"/>
                </a:lnTo>
                <a:lnTo>
                  <a:pt x="65202" y="510850"/>
                </a:lnTo>
                <a:lnTo>
                  <a:pt x="71437" y="508993"/>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82" name="SMARTInkAnnotation78"/>
          <p:cNvSpPr/>
          <p:nvPr/>
        </p:nvSpPr>
        <p:spPr>
          <a:xfrm>
            <a:off x="2143080" y="6045120"/>
            <a:ext cx="17640" cy="9720"/>
          </a:xfrm>
          <a:custGeom>
            <a:avLst/>
            <a:gdLst>
              <a:gd name="textAreaLeft" fmla="*/ 0 w 17640"/>
              <a:gd name="textAreaRight" fmla="*/ 18000 w 17640"/>
              <a:gd name="textAreaTop" fmla="*/ 0 h 9720"/>
              <a:gd name="textAreaBottom" fmla="*/ 10080 h 9720"/>
            </a:gdLst>
            <a:ahLst/>
            <a:rect l="textAreaLeft" t="textAreaTop" r="textAreaRight" b="textAreaBottom"/>
            <a:pathLst>
              <a:path w="17860" h="8931">
                <a:moveTo>
                  <a:pt x="17859" y="0"/>
                </a:moveTo>
                <a:lnTo>
                  <a:pt x="9297" y="0"/>
                </a:lnTo>
                <a:lnTo>
                  <a:pt x="17501" y="0"/>
                </a:lnTo>
                <a:lnTo>
                  <a:pt x="17620" y="992"/>
                </a:lnTo>
                <a:lnTo>
                  <a:pt x="17700" y="2646"/>
                </a:lnTo>
                <a:lnTo>
                  <a:pt x="17859" y="8920"/>
                </a:lnTo>
                <a:lnTo>
                  <a:pt x="17859" y="8930"/>
                </a:lnTo>
                <a:lnTo>
                  <a:pt x="0" y="8930"/>
                </a:lnTo>
              </a:path>
            </a:pathLst>
          </a:custGeom>
          <a:noFill/>
          <a:ln w="38160">
            <a:solidFill>
              <a:srgbClr val="000000"/>
            </a:solidFill>
            <a:round/>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onstantia"/>
            </a:endParaRPr>
          </a:p>
        </p:txBody>
      </p:sp>
      <p:sp>
        <p:nvSpPr>
          <p:cNvPr id="283" name="SMARTInkAnnotation79"/>
          <p:cNvSpPr/>
          <p:nvPr/>
        </p:nvSpPr>
        <p:spPr>
          <a:xfrm>
            <a:off x="2322360" y="5626080"/>
            <a:ext cx="276480" cy="444600"/>
          </a:xfrm>
          <a:custGeom>
            <a:avLst/>
            <a:gdLst>
              <a:gd name="textAreaLeft" fmla="*/ 0 w 276480"/>
              <a:gd name="textAreaRight" fmla="*/ 276840 w 276480"/>
              <a:gd name="textAreaTop" fmla="*/ 0 h 444600"/>
              <a:gd name="textAreaBottom" fmla="*/ 444960 h 444600"/>
            </a:gdLst>
            <a:ahLst/>
            <a:rect l="textAreaLeft" t="textAreaTop" r="textAreaRight" b="textAreaBottom"/>
            <a:pathLst>
              <a:path w="276371" h="444672">
                <a:moveTo>
                  <a:pt x="88846" y="0"/>
                </a:moveTo>
                <a:lnTo>
                  <a:pt x="109837" y="0"/>
                </a:lnTo>
                <a:lnTo>
                  <a:pt x="112762" y="992"/>
                </a:lnTo>
                <a:lnTo>
                  <a:pt x="118657" y="4740"/>
                </a:lnTo>
                <a:lnTo>
                  <a:pt x="127231" y="7067"/>
                </a:lnTo>
                <a:lnTo>
                  <a:pt x="132296" y="7688"/>
                </a:lnTo>
                <a:lnTo>
                  <a:pt x="137656" y="9094"/>
                </a:lnTo>
                <a:lnTo>
                  <a:pt x="143214" y="11024"/>
                </a:lnTo>
                <a:lnTo>
                  <a:pt x="148904" y="13302"/>
                </a:lnTo>
                <a:lnTo>
                  <a:pt x="154682" y="15813"/>
                </a:lnTo>
                <a:lnTo>
                  <a:pt x="166393" y="21249"/>
                </a:lnTo>
                <a:lnTo>
                  <a:pt x="171302" y="25080"/>
                </a:lnTo>
                <a:lnTo>
                  <a:pt x="179402" y="34628"/>
                </a:lnTo>
                <a:lnTo>
                  <a:pt x="183943" y="38960"/>
                </a:lnTo>
                <a:lnTo>
                  <a:pt x="188955" y="42841"/>
                </a:lnTo>
                <a:lnTo>
                  <a:pt x="194281" y="46419"/>
                </a:lnTo>
                <a:lnTo>
                  <a:pt x="199816" y="50790"/>
                </a:lnTo>
                <a:lnTo>
                  <a:pt x="205490" y="55688"/>
                </a:lnTo>
                <a:lnTo>
                  <a:pt x="211257" y="60938"/>
                </a:lnTo>
                <a:lnTo>
                  <a:pt x="222957" y="72063"/>
                </a:lnTo>
                <a:lnTo>
                  <a:pt x="228854" y="77808"/>
                </a:lnTo>
                <a:lnTo>
                  <a:pt x="233779" y="83621"/>
                </a:lnTo>
                <a:lnTo>
                  <a:pt x="241896" y="95374"/>
                </a:lnTo>
                <a:lnTo>
                  <a:pt x="248811" y="107210"/>
                </a:lnTo>
                <a:lnTo>
                  <a:pt x="255191" y="119086"/>
                </a:lnTo>
                <a:lnTo>
                  <a:pt x="261335" y="130979"/>
                </a:lnTo>
                <a:lnTo>
                  <a:pt x="264362" y="137921"/>
                </a:lnTo>
                <a:lnTo>
                  <a:pt x="267372" y="145525"/>
                </a:lnTo>
                <a:lnTo>
                  <a:pt x="270371" y="153571"/>
                </a:lnTo>
                <a:lnTo>
                  <a:pt x="272371" y="161912"/>
                </a:lnTo>
                <a:lnTo>
                  <a:pt x="273704" y="170449"/>
                </a:lnTo>
                <a:lnTo>
                  <a:pt x="274593" y="179117"/>
                </a:lnTo>
                <a:lnTo>
                  <a:pt x="275185" y="187871"/>
                </a:lnTo>
                <a:lnTo>
                  <a:pt x="275580" y="196685"/>
                </a:lnTo>
                <a:lnTo>
                  <a:pt x="275843" y="205537"/>
                </a:lnTo>
                <a:lnTo>
                  <a:pt x="275026" y="214416"/>
                </a:lnTo>
                <a:lnTo>
                  <a:pt x="273490" y="223310"/>
                </a:lnTo>
                <a:lnTo>
                  <a:pt x="266586" y="252697"/>
                </a:lnTo>
                <a:lnTo>
                  <a:pt x="263895" y="263714"/>
                </a:lnTo>
                <a:lnTo>
                  <a:pt x="261108" y="274036"/>
                </a:lnTo>
                <a:lnTo>
                  <a:pt x="255365" y="293442"/>
                </a:lnTo>
                <a:lnTo>
                  <a:pt x="246554" y="321102"/>
                </a:lnTo>
                <a:lnTo>
                  <a:pt x="242602" y="329161"/>
                </a:lnTo>
                <a:lnTo>
                  <a:pt x="237983" y="336519"/>
                </a:lnTo>
                <a:lnTo>
                  <a:pt x="232919" y="343408"/>
                </a:lnTo>
                <a:lnTo>
                  <a:pt x="222001" y="359001"/>
                </a:lnTo>
                <a:lnTo>
                  <a:pt x="216311" y="367326"/>
                </a:lnTo>
                <a:lnTo>
                  <a:pt x="210534" y="374860"/>
                </a:lnTo>
                <a:lnTo>
                  <a:pt x="204698" y="381868"/>
                </a:lnTo>
                <a:lnTo>
                  <a:pt x="198823" y="388524"/>
                </a:lnTo>
                <a:lnTo>
                  <a:pt x="191930" y="394946"/>
                </a:lnTo>
                <a:lnTo>
                  <a:pt x="184357" y="401211"/>
                </a:lnTo>
                <a:lnTo>
                  <a:pt x="176333" y="407372"/>
                </a:lnTo>
                <a:lnTo>
                  <a:pt x="168999" y="412473"/>
                </a:lnTo>
                <a:lnTo>
                  <a:pt x="162125" y="416864"/>
                </a:lnTo>
                <a:lnTo>
                  <a:pt x="155558" y="420784"/>
                </a:lnTo>
                <a:lnTo>
                  <a:pt x="148204" y="424390"/>
                </a:lnTo>
                <a:lnTo>
                  <a:pt x="140324" y="427786"/>
                </a:lnTo>
                <a:lnTo>
                  <a:pt x="132095" y="431043"/>
                </a:lnTo>
                <a:lnTo>
                  <a:pt x="124624" y="434205"/>
                </a:lnTo>
                <a:lnTo>
                  <a:pt x="111031" y="440365"/>
                </a:lnTo>
                <a:lnTo>
                  <a:pt x="103636" y="442405"/>
                </a:lnTo>
                <a:lnTo>
                  <a:pt x="95730" y="443765"/>
                </a:lnTo>
                <a:lnTo>
                  <a:pt x="87482" y="444671"/>
                </a:lnTo>
                <a:lnTo>
                  <a:pt x="79999" y="444283"/>
                </a:lnTo>
                <a:lnTo>
                  <a:pt x="73026" y="443033"/>
                </a:lnTo>
                <a:lnTo>
                  <a:pt x="66393" y="441206"/>
                </a:lnTo>
                <a:lnTo>
                  <a:pt x="59987" y="439989"/>
                </a:lnTo>
                <a:lnTo>
                  <a:pt x="53732" y="439178"/>
                </a:lnTo>
                <a:lnTo>
                  <a:pt x="47577" y="438637"/>
                </a:lnTo>
                <a:lnTo>
                  <a:pt x="42482" y="437283"/>
                </a:lnTo>
                <a:lnTo>
                  <a:pt x="34175" y="433135"/>
                </a:lnTo>
                <a:lnTo>
                  <a:pt x="24530" y="427983"/>
                </a:lnTo>
                <a:lnTo>
                  <a:pt x="19179" y="425221"/>
                </a:lnTo>
                <a:lnTo>
                  <a:pt x="15613" y="422387"/>
                </a:lnTo>
                <a:lnTo>
                  <a:pt x="13235" y="419505"/>
                </a:lnTo>
                <a:lnTo>
                  <a:pt x="7242" y="408063"/>
                </a:lnTo>
                <a:lnTo>
                  <a:pt x="2968" y="398650"/>
                </a:lnTo>
                <a:lnTo>
                  <a:pt x="562" y="387773"/>
                </a:lnTo>
                <a:lnTo>
                  <a:pt x="0" y="381364"/>
                </a:lnTo>
                <a:lnTo>
                  <a:pt x="2396" y="372563"/>
                </a:lnTo>
                <a:lnTo>
                  <a:pt x="6767" y="363029"/>
                </a:lnTo>
                <a:lnTo>
                  <a:pt x="12018" y="355484"/>
                </a:lnTo>
                <a:lnTo>
                  <a:pt x="20305" y="348823"/>
                </a:lnTo>
                <a:lnTo>
                  <a:pt x="25292" y="345658"/>
                </a:lnTo>
                <a:lnTo>
                  <a:pt x="33480" y="342141"/>
                </a:lnTo>
                <a:lnTo>
                  <a:pt x="41419" y="339586"/>
                </a:lnTo>
                <a:lnTo>
                  <a:pt x="46314" y="337515"/>
                </a:lnTo>
                <a:lnTo>
                  <a:pt x="51561" y="335143"/>
                </a:lnTo>
                <a:lnTo>
                  <a:pt x="57045" y="333561"/>
                </a:lnTo>
                <a:lnTo>
                  <a:pt x="62684" y="332507"/>
                </a:lnTo>
                <a:lnTo>
                  <a:pt x="68428" y="331804"/>
                </a:lnTo>
                <a:lnTo>
                  <a:pt x="74242" y="331336"/>
                </a:lnTo>
                <a:lnTo>
                  <a:pt x="80102" y="331023"/>
                </a:lnTo>
                <a:lnTo>
                  <a:pt x="85994" y="330815"/>
                </a:lnTo>
                <a:lnTo>
                  <a:pt x="108506" y="330521"/>
                </a:lnTo>
                <a:lnTo>
                  <a:pt x="115843" y="331472"/>
                </a:lnTo>
                <a:lnTo>
                  <a:pt x="122719" y="333099"/>
                </a:lnTo>
                <a:lnTo>
                  <a:pt x="129288" y="335175"/>
                </a:lnTo>
                <a:lnTo>
                  <a:pt x="135651" y="337552"/>
                </a:lnTo>
                <a:lnTo>
                  <a:pt x="141878" y="340128"/>
                </a:lnTo>
                <a:lnTo>
                  <a:pt x="148013" y="342838"/>
                </a:lnTo>
                <a:lnTo>
                  <a:pt x="154088" y="344644"/>
                </a:lnTo>
                <a:lnTo>
                  <a:pt x="160121" y="345848"/>
                </a:lnTo>
                <a:lnTo>
                  <a:pt x="166129" y="346652"/>
                </a:lnTo>
                <a:lnTo>
                  <a:pt x="172118" y="349172"/>
                </a:lnTo>
                <a:lnTo>
                  <a:pt x="178095" y="352835"/>
                </a:lnTo>
                <a:lnTo>
                  <a:pt x="184064" y="357263"/>
                </a:lnTo>
                <a:lnTo>
                  <a:pt x="190028" y="361206"/>
                </a:lnTo>
                <a:lnTo>
                  <a:pt x="195988" y="364827"/>
                </a:lnTo>
                <a:lnTo>
                  <a:pt x="201946" y="368234"/>
                </a:lnTo>
                <a:lnTo>
                  <a:pt x="213857" y="374665"/>
                </a:lnTo>
                <a:lnTo>
                  <a:pt x="219812" y="377769"/>
                </a:lnTo>
                <a:lnTo>
                  <a:pt x="224774" y="380830"/>
                </a:lnTo>
                <a:lnTo>
                  <a:pt x="232933" y="386877"/>
                </a:lnTo>
                <a:lnTo>
                  <a:pt x="239867" y="390227"/>
                </a:lnTo>
                <a:lnTo>
                  <a:pt x="243105" y="391119"/>
                </a:lnTo>
                <a:lnTo>
                  <a:pt x="249348" y="394758"/>
                </a:lnTo>
                <a:lnTo>
                  <a:pt x="255430" y="399682"/>
                </a:lnTo>
                <a:lnTo>
                  <a:pt x="261441" y="405178"/>
                </a:lnTo>
                <a:lnTo>
                  <a:pt x="264433" y="407041"/>
                </a:lnTo>
                <a:lnTo>
                  <a:pt x="272392" y="409662"/>
                </a:lnTo>
                <a:lnTo>
                  <a:pt x="276370" y="410766"/>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84" name="SMARTInkAnnotation80"/>
          <p:cNvSpPr/>
          <p:nvPr/>
        </p:nvSpPr>
        <p:spPr>
          <a:xfrm>
            <a:off x="2741760" y="5562720"/>
            <a:ext cx="152280" cy="546120"/>
          </a:xfrm>
          <a:custGeom>
            <a:avLst/>
            <a:gdLst>
              <a:gd name="textAreaLeft" fmla="*/ 0 w 152280"/>
              <a:gd name="textAreaRight" fmla="*/ 152640 w 152280"/>
              <a:gd name="textAreaTop" fmla="*/ 0 h 546120"/>
              <a:gd name="textAreaBottom" fmla="*/ 546480 h 546120"/>
            </a:gdLst>
            <a:ahLst/>
            <a:rect l="textAreaLeft" t="textAreaTop" r="textAreaRight" b="textAreaBottom"/>
            <a:pathLst>
              <a:path w="151805" h="544712">
                <a:moveTo>
                  <a:pt x="151804" y="0"/>
                </a:moveTo>
                <a:lnTo>
                  <a:pt x="151804" y="12429"/>
                </a:lnTo>
                <a:lnTo>
                  <a:pt x="150812" y="15231"/>
                </a:lnTo>
                <a:lnTo>
                  <a:pt x="147064" y="20990"/>
                </a:lnTo>
                <a:lnTo>
                  <a:pt x="144736" y="29503"/>
                </a:lnTo>
                <a:lnTo>
                  <a:pt x="143426" y="45452"/>
                </a:lnTo>
                <a:lnTo>
                  <a:pt x="143120" y="57905"/>
                </a:lnTo>
                <a:lnTo>
                  <a:pt x="142884" y="117496"/>
                </a:lnTo>
                <a:lnTo>
                  <a:pt x="141889" y="125956"/>
                </a:lnTo>
                <a:lnTo>
                  <a:pt x="140233" y="134572"/>
                </a:lnTo>
                <a:lnTo>
                  <a:pt x="138137" y="143293"/>
                </a:lnTo>
                <a:lnTo>
                  <a:pt x="135747" y="152083"/>
                </a:lnTo>
                <a:lnTo>
                  <a:pt x="130447" y="169788"/>
                </a:lnTo>
                <a:lnTo>
                  <a:pt x="116017" y="214328"/>
                </a:lnTo>
                <a:lnTo>
                  <a:pt x="113063" y="223253"/>
                </a:lnTo>
                <a:lnTo>
                  <a:pt x="110102" y="233171"/>
                </a:lnTo>
                <a:lnTo>
                  <a:pt x="104166" y="254774"/>
                </a:lnTo>
                <a:lnTo>
                  <a:pt x="100202" y="265100"/>
                </a:lnTo>
                <a:lnTo>
                  <a:pt x="95574" y="274960"/>
                </a:lnTo>
                <a:lnTo>
                  <a:pt x="90505" y="284510"/>
                </a:lnTo>
                <a:lnTo>
                  <a:pt x="86133" y="294845"/>
                </a:lnTo>
                <a:lnTo>
                  <a:pt x="82227" y="305704"/>
                </a:lnTo>
                <a:lnTo>
                  <a:pt x="78631" y="316912"/>
                </a:lnTo>
                <a:lnTo>
                  <a:pt x="74248" y="328353"/>
                </a:lnTo>
                <a:lnTo>
                  <a:pt x="69343" y="339948"/>
                </a:lnTo>
                <a:lnTo>
                  <a:pt x="64088" y="351647"/>
                </a:lnTo>
                <a:lnTo>
                  <a:pt x="59592" y="362424"/>
                </a:lnTo>
                <a:lnTo>
                  <a:pt x="55603" y="372585"/>
                </a:lnTo>
                <a:lnTo>
                  <a:pt x="48525" y="391812"/>
                </a:lnTo>
                <a:lnTo>
                  <a:pt x="42071" y="410279"/>
                </a:lnTo>
                <a:lnTo>
                  <a:pt x="38962" y="420363"/>
                </a:lnTo>
                <a:lnTo>
                  <a:pt x="32860" y="442151"/>
                </a:lnTo>
                <a:lnTo>
                  <a:pt x="29845" y="451533"/>
                </a:lnTo>
                <a:lnTo>
                  <a:pt x="26841" y="459772"/>
                </a:lnTo>
                <a:lnTo>
                  <a:pt x="23847" y="467248"/>
                </a:lnTo>
                <a:lnTo>
                  <a:pt x="20859" y="474218"/>
                </a:lnTo>
                <a:lnTo>
                  <a:pt x="14893" y="487253"/>
                </a:lnTo>
                <a:lnTo>
                  <a:pt x="5956" y="505748"/>
                </a:lnTo>
                <a:lnTo>
                  <a:pt x="2647" y="515157"/>
                </a:lnTo>
                <a:lnTo>
                  <a:pt x="523" y="529282"/>
                </a:lnTo>
                <a:lnTo>
                  <a:pt x="0" y="544711"/>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85" name="SMARTInkAnnotation81"/>
          <p:cNvSpPr/>
          <p:nvPr/>
        </p:nvSpPr>
        <p:spPr>
          <a:xfrm>
            <a:off x="2830680" y="5796000"/>
            <a:ext cx="187200" cy="79200"/>
          </a:xfrm>
          <a:custGeom>
            <a:avLst/>
            <a:gdLst>
              <a:gd name="textAreaLeft" fmla="*/ 0 w 187200"/>
              <a:gd name="textAreaRight" fmla="*/ 187560 w 187200"/>
              <a:gd name="textAreaTop" fmla="*/ 0 h 79200"/>
              <a:gd name="textAreaBottom" fmla="*/ 79560 h 79200"/>
            </a:gdLst>
            <a:ahLst/>
            <a:rect l="textAreaLeft" t="textAreaTop" r="textAreaRight" b="textAreaBottom"/>
            <a:pathLst>
              <a:path w="187525" h="80368">
                <a:moveTo>
                  <a:pt x="0" y="80367"/>
                </a:moveTo>
                <a:lnTo>
                  <a:pt x="0" y="72678"/>
                </a:lnTo>
                <a:lnTo>
                  <a:pt x="993" y="72265"/>
                </a:lnTo>
                <a:lnTo>
                  <a:pt x="4741" y="71805"/>
                </a:lnTo>
                <a:lnTo>
                  <a:pt x="8121" y="70691"/>
                </a:lnTo>
                <a:lnTo>
                  <a:pt x="12360" y="68955"/>
                </a:lnTo>
                <a:lnTo>
                  <a:pt x="17170" y="66806"/>
                </a:lnTo>
                <a:lnTo>
                  <a:pt x="21368" y="64381"/>
                </a:lnTo>
                <a:lnTo>
                  <a:pt x="25160" y="61773"/>
                </a:lnTo>
                <a:lnTo>
                  <a:pt x="28680" y="59041"/>
                </a:lnTo>
                <a:lnTo>
                  <a:pt x="39956" y="54243"/>
                </a:lnTo>
                <a:lnTo>
                  <a:pt x="56403" y="48069"/>
                </a:lnTo>
                <a:lnTo>
                  <a:pt x="76297" y="40975"/>
                </a:lnTo>
                <a:lnTo>
                  <a:pt x="91545" y="35254"/>
                </a:lnTo>
                <a:lnTo>
                  <a:pt x="103694" y="30448"/>
                </a:lnTo>
                <a:lnTo>
                  <a:pt x="113778" y="26252"/>
                </a:lnTo>
                <a:lnTo>
                  <a:pt x="130274" y="18943"/>
                </a:lnTo>
                <a:lnTo>
                  <a:pt x="137451" y="15605"/>
                </a:lnTo>
                <a:lnTo>
                  <a:pt x="143228" y="13380"/>
                </a:lnTo>
                <a:lnTo>
                  <a:pt x="148072" y="11897"/>
                </a:lnTo>
                <a:lnTo>
                  <a:pt x="152292" y="10908"/>
                </a:lnTo>
                <a:lnTo>
                  <a:pt x="157091" y="9256"/>
                </a:lnTo>
                <a:lnTo>
                  <a:pt x="162274" y="7162"/>
                </a:lnTo>
                <a:lnTo>
                  <a:pt x="167715" y="4775"/>
                </a:lnTo>
                <a:lnTo>
                  <a:pt x="172333" y="3183"/>
                </a:lnTo>
                <a:lnTo>
                  <a:pt x="176404" y="2122"/>
                </a:lnTo>
                <a:lnTo>
                  <a:pt x="187524" y="0"/>
                </a:lnTo>
              </a:path>
            </a:pathLst>
          </a:custGeom>
          <a:noFill/>
          <a:ln w="38160">
            <a:solidFill>
              <a:srgbClr val="000000"/>
            </a:solidFill>
            <a:round/>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Constantia"/>
            </a:endParaRPr>
          </a:p>
        </p:txBody>
      </p:sp>
      <p:sp>
        <p:nvSpPr>
          <p:cNvPr id="286" name="SMARTInkAnnotation82"/>
          <p:cNvSpPr/>
          <p:nvPr/>
        </p:nvSpPr>
        <p:spPr>
          <a:xfrm>
            <a:off x="2874960" y="5884920"/>
            <a:ext cx="81000" cy="258840"/>
          </a:xfrm>
          <a:custGeom>
            <a:avLst/>
            <a:gdLst>
              <a:gd name="textAreaLeft" fmla="*/ 0 w 81000"/>
              <a:gd name="textAreaRight" fmla="*/ 81360 w 81000"/>
              <a:gd name="textAreaTop" fmla="*/ 0 h 258840"/>
              <a:gd name="textAreaBottom" fmla="*/ 259200 h 258840"/>
            </a:gdLst>
            <a:ahLst/>
            <a:rect l="textAreaLeft" t="textAreaTop" r="textAreaRight" b="textAreaBottom"/>
            <a:pathLst>
              <a:path w="80368" h="258962">
                <a:moveTo>
                  <a:pt x="0" y="0"/>
                </a:moveTo>
                <a:lnTo>
                  <a:pt x="0" y="7688"/>
                </a:lnTo>
                <a:lnTo>
                  <a:pt x="992" y="9094"/>
                </a:lnTo>
                <a:lnTo>
                  <a:pt x="2646" y="11024"/>
                </a:lnTo>
                <a:lnTo>
                  <a:pt x="4740" y="13302"/>
                </a:lnTo>
                <a:lnTo>
                  <a:pt x="7129" y="16806"/>
                </a:lnTo>
                <a:lnTo>
                  <a:pt x="9713" y="21125"/>
                </a:lnTo>
                <a:lnTo>
                  <a:pt x="12429" y="25990"/>
                </a:lnTo>
                <a:lnTo>
                  <a:pt x="18092" y="36686"/>
                </a:lnTo>
                <a:lnTo>
                  <a:pt x="29811" y="59722"/>
                </a:lnTo>
                <a:lnTo>
                  <a:pt x="31781" y="66604"/>
                </a:lnTo>
                <a:lnTo>
                  <a:pt x="33093" y="74169"/>
                </a:lnTo>
                <a:lnTo>
                  <a:pt x="33968" y="82187"/>
                </a:lnTo>
                <a:lnTo>
                  <a:pt x="35544" y="89519"/>
                </a:lnTo>
                <a:lnTo>
                  <a:pt x="37587" y="96389"/>
                </a:lnTo>
                <a:lnTo>
                  <a:pt x="42502" y="110308"/>
                </a:lnTo>
                <a:lnTo>
                  <a:pt x="47994" y="126417"/>
                </a:lnTo>
                <a:lnTo>
                  <a:pt x="49855" y="134879"/>
                </a:lnTo>
                <a:lnTo>
                  <a:pt x="51096" y="143497"/>
                </a:lnTo>
                <a:lnTo>
                  <a:pt x="51923" y="152219"/>
                </a:lnTo>
                <a:lnTo>
                  <a:pt x="52475" y="160018"/>
                </a:lnTo>
                <a:lnTo>
                  <a:pt x="52843" y="167203"/>
                </a:lnTo>
                <a:lnTo>
                  <a:pt x="53088" y="173976"/>
                </a:lnTo>
                <a:lnTo>
                  <a:pt x="54243" y="180476"/>
                </a:lnTo>
                <a:lnTo>
                  <a:pt x="56006" y="186794"/>
                </a:lnTo>
                <a:lnTo>
                  <a:pt x="58173" y="192990"/>
                </a:lnTo>
                <a:lnTo>
                  <a:pt x="59618" y="199105"/>
                </a:lnTo>
                <a:lnTo>
                  <a:pt x="60581" y="205167"/>
                </a:lnTo>
                <a:lnTo>
                  <a:pt x="61223" y="211192"/>
                </a:lnTo>
                <a:lnTo>
                  <a:pt x="61652" y="217193"/>
                </a:lnTo>
                <a:lnTo>
                  <a:pt x="61937" y="223179"/>
                </a:lnTo>
                <a:lnTo>
                  <a:pt x="62127" y="229152"/>
                </a:lnTo>
                <a:lnTo>
                  <a:pt x="63246" y="234128"/>
                </a:lnTo>
                <a:lnTo>
                  <a:pt x="64985" y="238437"/>
                </a:lnTo>
                <a:lnTo>
                  <a:pt x="67136" y="242302"/>
                </a:lnTo>
                <a:lnTo>
                  <a:pt x="69562" y="244878"/>
                </a:lnTo>
                <a:lnTo>
                  <a:pt x="72171" y="246596"/>
                </a:lnTo>
                <a:lnTo>
                  <a:pt x="74903" y="247741"/>
                </a:lnTo>
                <a:lnTo>
                  <a:pt x="76724" y="249496"/>
                </a:lnTo>
                <a:lnTo>
                  <a:pt x="77939" y="251659"/>
                </a:lnTo>
                <a:lnTo>
                  <a:pt x="80367" y="258961"/>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87" name="SMARTInkAnnotation83"/>
          <p:cNvSpPr/>
          <p:nvPr/>
        </p:nvSpPr>
        <p:spPr>
          <a:xfrm>
            <a:off x="3098880" y="5581800"/>
            <a:ext cx="345960" cy="623880"/>
          </a:xfrm>
          <a:custGeom>
            <a:avLst/>
            <a:gdLst>
              <a:gd name="textAreaLeft" fmla="*/ 0 w 345960"/>
              <a:gd name="textAreaRight" fmla="*/ 346320 w 345960"/>
              <a:gd name="textAreaTop" fmla="*/ 0 h 623880"/>
              <a:gd name="textAreaBottom" fmla="*/ 623880 h 623880"/>
            </a:gdLst>
            <a:ahLst/>
            <a:rect l="textAreaLeft" t="textAreaTop" r="textAreaRight" b="textAreaBottom"/>
            <a:pathLst>
              <a:path w="346981" h="624542">
                <a:moveTo>
                  <a:pt x="0" y="0"/>
                </a:moveTo>
                <a:lnTo>
                  <a:pt x="0" y="7688"/>
                </a:lnTo>
                <a:lnTo>
                  <a:pt x="4741" y="13302"/>
                </a:lnTo>
                <a:lnTo>
                  <a:pt x="6137" y="16806"/>
                </a:lnTo>
                <a:lnTo>
                  <a:pt x="9094" y="31217"/>
                </a:lnTo>
                <a:lnTo>
                  <a:pt x="14822" y="49047"/>
                </a:lnTo>
                <a:lnTo>
                  <a:pt x="16509" y="64462"/>
                </a:lnTo>
                <a:lnTo>
                  <a:pt x="19905" y="81235"/>
                </a:lnTo>
                <a:lnTo>
                  <a:pt x="24722" y="98612"/>
                </a:lnTo>
                <a:lnTo>
                  <a:pt x="30170" y="116257"/>
                </a:lnTo>
                <a:lnTo>
                  <a:pt x="33253" y="134021"/>
                </a:lnTo>
                <a:lnTo>
                  <a:pt x="35615" y="152830"/>
                </a:lnTo>
                <a:lnTo>
                  <a:pt x="37634" y="163402"/>
                </a:lnTo>
                <a:lnTo>
                  <a:pt x="42523" y="185732"/>
                </a:lnTo>
                <a:lnTo>
                  <a:pt x="48003" y="208886"/>
                </a:lnTo>
                <a:lnTo>
                  <a:pt x="49862" y="220616"/>
                </a:lnTo>
                <a:lnTo>
                  <a:pt x="51100" y="232406"/>
                </a:lnTo>
                <a:lnTo>
                  <a:pt x="51927" y="244234"/>
                </a:lnTo>
                <a:lnTo>
                  <a:pt x="53469" y="256088"/>
                </a:lnTo>
                <a:lnTo>
                  <a:pt x="55490" y="267959"/>
                </a:lnTo>
                <a:lnTo>
                  <a:pt x="57829" y="279842"/>
                </a:lnTo>
                <a:lnTo>
                  <a:pt x="59389" y="291733"/>
                </a:lnTo>
                <a:lnTo>
                  <a:pt x="60429" y="303629"/>
                </a:lnTo>
                <a:lnTo>
                  <a:pt x="61122" y="315529"/>
                </a:lnTo>
                <a:lnTo>
                  <a:pt x="61892" y="339334"/>
                </a:lnTo>
                <a:lnTo>
                  <a:pt x="62097" y="351237"/>
                </a:lnTo>
                <a:lnTo>
                  <a:pt x="63226" y="364135"/>
                </a:lnTo>
                <a:lnTo>
                  <a:pt x="64971" y="377694"/>
                </a:lnTo>
                <a:lnTo>
                  <a:pt x="67127" y="391694"/>
                </a:lnTo>
                <a:lnTo>
                  <a:pt x="68564" y="404004"/>
                </a:lnTo>
                <a:lnTo>
                  <a:pt x="69522" y="415188"/>
                </a:lnTo>
                <a:lnTo>
                  <a:pt x="70161" y="425620"/>
                </a:lnTo>
                <a:lnTo>
                  <a:pt x="71578" y="436543"/>
                </a:lnTo>
                <a:lnTo>
                  <a:pt x="73516" y="447794"/>
                </a:lnTo>
                <a:lnTo>
                  <a:pt x="75800" y="459263"/>
                </a:lnTo>
                <a:lnTo>
                  <a:pt x="80983" y="482590"/>
                </a:lnTo>
                <a:lnTo>
                  <a:pt x="83754" y="494367"/>
                </a:lnTo>
                <a:lnTo>
                  <a:pt x="86594" y="505195"/>
                </a:lnTo>
                <a:lnTo>
                  <a:pt x="89479" y="515390"/>
                </a:lnTo>
                <a:lnTo>
                  <a:pt x="95331" y="533664"/>
                </a:lnTo>
                <a:lnTo>
                  <a:pt x="101240" y="548399"/>
                </a:lnTo>
                <a:lnTo>
                  <a:pt x="110144" y="567852"/>
                </a:lnTo>
                <a:lnTo>
                  <a:pt x="119066" y="586184"/>
                </a:lnTo>
                <a:lnTo>
                  <a:pt x="127993" y="599442"/>
                </a:lnTo>
                <a:lnTo>
                  <a:pt x="136922" y="609655"/>
                </a:lnTo>
                <a:lnTo>
                  <a:pt x="138907" y="612811"/>
                </a:lnTo>
                <a:lnTo>
                  <a:pt x="141111" y="618965"/>
                </a:lnTo>
                <a:lnTo>
                  <a:pt x="142692" y="621003"/>
                </a:lnTo>
                <a:lnTo>
                  <a:pt x="144737" y="622360"/>
                </a:lnTo>
                <a:lnTo>
                  <a:pt x="150409" y="624541"/>
                </a:lnTo>
                <a:lnTo>
                  <a:pt x="151866" y="623728"/>
                </a:lnTo>
                <a:lnTo>
                  <a:pt x="161335" y="615293"/>
                </a:lnTo>
                <a:lnTo>
                  <a:pt x="164111" y="612601"/>
                </a:lnTo>
                <a:lnTo>
                  <a:pt x="165962" y="608823"/>
                </a:lnTo>
                <a:lnTo>
                  <a:pt x="168019" y="599332"/>
                </a:lnTo>
                <a:lnTo>
                  <a:pt x="169177" y="582833"/>
                </a:lnTo>
                <a:lnTo>
                  <a:pt x="172093" y="568599"/>
                </a:lnTo>
                <a:lnTo>
                  <a:pt x="175704" y="552351"/>
                </a:lnTo>
                <a:lnTo>
                  <a:pt x="177310" y="535208"/>
                </a:lnTo>
                <a:lnTo>
                  <a:pt x="177738" y="525477"/>
                </a:lnTo>
                <a:lnTo>
                  <a:pt x="178214" y="504082"/>
                </a:lnTo>
                <a:lnTo>
                  <a:pt x="178594" y="169679"/>
                </a:lnTo>
                <a:lnTo>
                  <a:pt x="178594" y="174409"/>
                </a:lnTo>
                <a:lnTo>
                  <a:pt x="179586" y="176796"/>
                </a:lnTo>
                <a:lnTo>
                  <a:pt x="183335" y="182094"/>
                </a:lnTo>
                <a:lnTo>
                  <a:pt x="184731" y="185888"/>
                </a:lnTo>
                <a:lnTo>
                  <a:pt x="186696" y="200709"/>
                </a:lnTo>
                <a:lnTo>
                  <a:pt x="187279" y="217668"/>
                </a:lnTo>
                <a:lnTo>
                  <a:pt x="188443" y="236253"/>
                </a:lnTo>
                <a:lnTo>
                  <a:pt x="192232" y="251845"/>
                </a:lnTo>
                <a:lnTo>
                  <a:pt x="194577" y="268696"/>
                </a:lnTo>
                <a:lnTo>
                  <a:pt x="196612" y="286108"/>
                </a:lnTo>
                <a:lnTo>
                  <a:pt x="200823" y="303768"/>
                </a:lnTo>
                <a:lnTo>
                  <a:pt x="206002" y="318893"/>
                </a:lnTo>
                <a:lnTo>
                  <a:pt x="208772" y="325705"/>
                </a:lnTo>
                <a:lnTo>
                  <a:pt x="211850" y="343856"/>
                </a:lnTo>
                <a:lnTo>
                  <a:pt x="214211" y="363169"/>
                </a:lnTo>
                <a:lnTo>
                  <a:pt x="218567" y="378366"/>
                </a:lnTo>
                <a:lnTo>
                  <a:pt x="235261" y="428916"/>
                </a:lnTo>
                <a:lnTo>
                  <a:pt x="241152" y="443967"/>
                </a:lnTo>
                <a:lnTo>
                  <a:pt x="247077" y="457272"/>
                </a:lnTo>
                <a:lnTo>
                  <a:pt x="255991" y="474926"/>
                </a:lnTo>
                <a:lnTo>
                  <a:pt x="264916" y="486881"/>
                </a:lnTo>
                <a:lnTo>
                  <a:pt x="270868" y="493543"/>
                </a:lnTo>
                <a:lnTo>
                  <a:pt x="279467" y="499811"/>
                </a:lnTo>
                <a:lnTo>
                  <a:pt x="288911" y="505904"/>
                </a:lnTo>
                <a:lnTo>
                  <a:pt x="296415" y="511918"/>
                </a:lnTo>
                <a:lnTo>
                  <a:pt x="303058" y="515253"/>
                </a:lnTo>
                <a:lnTo>
                  <a:pt x="312376" y="517130"/>
                </a:lnTo>
                <a:lnTo>
                  <a:pt x="321421" y="517687"/>
                </a:lnTo>
                <a:lnTo>
                  <a:pt x="324413" y="517765"/>
                </a:lnTo>
                <a:lnTo>
                  <a:pt x="326408" y="516825"/>
                </a:lnTo>
                <a:lnTo>
                  <a:pt x="327739" y="515206"/>
                </a:lnTo>
                <a:lnTo>
                  <a:pt x="328625" y="513135"/>
                </a:lnTo>
                <a:lnTo>
                  <a:pt x="330209" y="511754"/>
                </a:lnTo>
                <a:lnTo>
                  <a:pt x="332257" y="510833"/>
                </a:lnTo>
                <a:lnTo>
                  <a:pt x="334614" y="510219"/>
                </a:lnTo>
                <a:lnTo>
                  <a:pt x="336185" y="507826"/>
                </a:lnTo>
                <a:lnTo>
                  <a:pt x="337932" y="499874"/>
                </a:lnTo>
                <a:lnTo>
                  <a:pt x="338914" y="484242"/>
                </a:lnTo>
                <a:lnTo>
                  <a:pt x="341790" y="472856"/>
                </a:lnTo>
                <a:lnTo>
                  <a:pt x="345383" y="461182"/>
                </a:lnTo>
                <a:lnTo>
                  <a:pt x="346980" y="449378"/>
                </a:lnTo>
                <a:lnTo>
                  <a:pt x="345044" y="434871"/>
                </a:lnTo>
                <a:lnTo>
                  <a:pt x="341869" y="418503"/>
                </a:lnTo>
                <a:lnTo>
                  <a:pt x="340457" y="401306"/>
                </a:lnTo>
                <a:lnTo>
                  <a:pt x="339830" y="383740"/>
                </a:lnTo>
                <a:lnTo>
                  <a:pt x="339428" y="348211"/>
                </a:lnTo>
                <a:lnTo>
                  <a:pt x="336726" y="330377"/>
                </a:lnTo>
                <a:lnTo>
                  <a:pt x="333211" y="311537"/>
                </a:lnTo>
                <a:lnTo>
                  <a:pt x="332274" y="300957"/>
                </a:lnTo>
                <a:lnTo>
                  <a:pt x="331649" y="289935"/>
                </a:lnTo>
                <a:lnTo>
                  <a:pt x="330954" y="269750"/>
                </a:lnTo>
                <a:lnTo>
                  <a:pt x="330563" y="239006"/>
                </a:lnTo>
                <a:lnTo>
                  <a:pt x="330399" y="53578"/>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88" name="SMARTInkAnnotation84"/>
          <p:cNvSpPr/>
          <p:nvPr/>
        </p:nvSpPr>
        <p:spPr>
          <a:xfrm>
            <a:off x="3348000" y="5616720"/>
            <a:ext cx="98640" cy="500040"/>
          </a:xfrm>
          <a:custGeom>
            <a:avLst/>
            <a:gdLst>
              <a:gd name="textAreaLeft" fmla="*/ 0 w 98640"/>
              <a:gd name="textAreaRight" fmla="*/ 99000 w 98640"/>
              <a:gd name="textAreaTop" fmla="*/ 0 h 500040"/>
              <a:gd name="textAreaBottom" fmla="*/ 500400 h 500040"/>
            </a:gdLst>
            <a:ahLst/>
            <a:rect l="textAreaLeft" t="textAreaTop" r="textAreaRight" b="textAreaBottom"/>
            <a:pathLst>
              <a:path w="98228" h="500064">
                <a:moveTo>
                  <a:pt x="53578" y="8930"/>
                </a:moveTo>
                <a:lnTo>
                  <a:pt x="53578" y="1241"/>
                </a:lnTo>
                <a:lnTo>
                  <a:pt x="54571" y="827"/>
                </a:lnTo>
                <a:lnTo>
                  <a:pt x="56224" y="551"/>
                </a:lnTo>
                <a:lnTo>
                  <a:pt x="62476" y="3"/>
                </a:lnTo>
                <a:lnTo>
                  <a:pt x="62508" y="0"/>
                </a:lnTo>
                <a:lnTo>
                  <a:pt x="53687" y="0"/>
                </a:lnTo>
                <a:lnTo>
                  <a:pt x="62505" y="0"/>
                </a:lnTo>
                <a:lnTo>
                  <a:pt x="57767" y="0"/>
                </a:lnTo>
                <a:lnTo>
                  <a:pt x="56371" y="992"/>
                </a:lnTo>
                <a:lnTo>
                  <a:pt x="55440" y="2646"/>
                </a:lnTo>
                <a:lnTo>
                  <a:pt x="53687" y="8562"/>
                </a:lnTo>
                <a:lnTo>
                  <a:pt x="53582" y="22223"/>
                </a:lnTo>
                <a:lnTo>
                  <a:pt x="53578" y="114864"/>
                </a:lnTo>
                <a:lnTo>
                  <a:pt x="54571" y="119240"/>
                </a:lnTo>
                <a:lnTo>
                  <a:pt x="56224" y="123150"/>
                </a:lnTo>
                <a:lnTo>
                  <a:pt x="58319" y="126748"/>
                </a:lnTo>
                <a:lnTo>
                  <a:pt x="60647" y="133393"/>
                </a:lnTo>
                <a:lnTo>
                  <a:pt x="62141" y="145743"/>
                </a:lnTo>
                <a:lnTo>
                  <a:pt x="62400" y="159489"/>
                </a:lnTo>
                <a:lnTo>
                  <a:pt x="62499" y="181199"/>
                </a:lnTo>
                <a:lnTo>
                  <a:pt x="65150" y="190005"/>
                </a:lnTo>
                <a:lnTo>
                  <a:pt x="67246" y="195131"/>
                </a:lnTo>
                <a:lnTo>
                  <a:pt x="70196" y="207086"/>
                </a:lnTo>
                <a:lnTo>
                  <a:pt x="71070" y="221652"/>
                </a:lnTo>
                <a:lnTo>
                  <a:pt x="71365" y="237223"/>
                </a:lnTo>
                <a:lnTo>
                  <a:pt x="71429" y="257630"/>
                </a:lnTo>
                <a:lnTo>
                  <a:pt x="72424" y="262042"/>
                </a:lnTo>
                <a:lnTo>
                  <a:pt x="74080" y="265976"/>
                </a:lnTo>
                <a:lnTo>
                  <a:pt x="76176" y="269590"/>
                </a:lnTo>
                <a:lnTo>
                  <a:pt x="78504" y="276253"/>
                </a:lnTo>
                <a:lnTo>
                  <a:pt x="80000" y="288614"/>
                </a:lnTo>
                <a:lnTo>
                  <a:pt x="80295" y="301603"/>
                </a:lnTo>
                <a:lnTo>
                  <a:pt x="80358" y="323202"/>
                </a:lnTo>
                <a:lnTo>
                  <a:pt x="83009" y="332492"/>
                </a:lnTo>
                <a:lnTo>
                  <a:pt x="85105" y="337747"/>
                </a:lnTo>
                <a:lnTo>
                  <a:pt x="88055" y="349884"/>
                </a:lnTo>
                <a:lnTo>
                  <a:pt x="89052" y="363866"/>
                </a:lnTo>
                <a:lnTo>
                  <a:pt x="89275" y="389079"/>
                </a:lnTo>
                <a:lnTo>
                  <a:pt x="89296" y="413709"/>
                </a:lnTo>
                <a:lnTo>
                  <a:pt x="91943" y="422327"/>
                </a:lnTo>
                <a:lnTo>
                  <a:pt x="96986" y="434547"/>
                </a:lnTo>
                <a:lnTo>
                  <a:pt x="97859" y="446144"/>
                </a:lnTo>
                <a:lnTo>
                  <a:pt x="98154" y="460712"/>
                </a:lnTo>
                <a:lnTo>
                  <a:pt x="98227" y="500063"/>
                </a:lnTo>
                <a:lnTo>
                  <a:pt x="80476" y="500063"/>
                </a:lnTo>
                <a:lnTo>
                  <a:pt x="80377" y="492374"/>
                </a:lnTo>
                <a:lnTo>
                  <a:pt x="79382" y="491961"/>
                </a:lnTo>
                <a:lnTo>
                  <a:pt x="77726" y="491685"/>
                </a:lnTo>
                <a:lnTo>
                  <a:pt x="72680" y="491242"/>
                </a:lnTo>
                <a:lnTo>
                  <a:pt x="72266" y="490213"/>
                </a:lnTo>
                <a:lnTo>
                  <a:pt x="71806" y="486425"/>
                </a:lnTo>
                <a:lnTo>
                  <a:pt x="70691" y="485018"/>
                </a:lnTo>
                <a:lnTo>
                  <a:pt x="68956" y="484080"/>
                </a:lnTo>
                <a:lnTo>
                  <a:pt x="63782" y="482574"/>
                </a:lnTo>
                <a:lnTo>
                  <a:pt x="63357" y="481458"/>
                </a:lnTo>
                <a:lnTo>
                  <a:pt x="62620" y="474547"/>
                </a:lnTo>
                <a:lnTo>
                  <a:pt x="61590" y="474123"/>
                </a:lnTo>
                <a:lnTo>
                  <a:pt x="59912" y="473840"/>
                </a:lnTo>
                <a:lnTo>
                  <a:pt x="54830" y="473385"/>
                </a:lnTo>
                <a:lnTo>
                  <a:pt x="54413" y="472356"/>
                </a:lnTo>
                <a:lnTo>
                  <a:pt x="53688" y="465595"/>
                </a:lnTo>
                <a:lnTo>
                  <a:pt x="52660" y="465178"/>
                </a:lnTo>
                <a:lnTo>
                  <a:pt x="50981" y="464900"/>
                </a:lnTo>
                <a:lnTo>
                  <a:pt x="48871" y="464715"/>
                </a:lnTo>
                <a:lnTo>
                  <a:pt x="47464" y="463599"/>
                </a:lnTo>
                <a:lnTo>
                  <a:pt x="46525" y="461863"/>
                </a:lnTo>
                <a:lnTo>
                  <a:pt x="45483" y="457288"/>
                </a:lnTo>
                <a:lnTo>
                  <a:pt x="45020" y="451948"/>
                </a:lnTo>
                <a:lnTo>
                  <a:pt x="43904" y="450127"/>
                </a:lnTo>
                <a:lnTo>
                  <a:pt x="42168" y="448912"/>
                </a:lnTo>
                <a:lnTo>
                  <a:pt x="36993" y="446964"/>
                </a:lnTo>
                <a:lnTo>
                  <a:pt x="36568" y="445812"/>
                </a:lnTo>
                <a:lnTo>
                  <a:pt x="36097" y="441887"/>
                </a:lnTo>
                <a:lnTo>
                  <a:pt x="34978" y="440442"/>
                </a:lnTo>
                <a:lnTo>
                  <a:pt x="33241" y="439480"/>
                </a:lnTo>
                <a:lnTo>
                  <a:pt x="26902" y="437588"/>
                </a:lnTo>
                <a:lnTo>
                  <a:pt x="26823" y="432824"/>
                </a:lnTo>
                <a:lnTo>
                  <a:pt x="25819" y="431424"/>
                </a:lnTo>
                <a:lnTo>
                  <a:pt x="24159" y="430491"/>
                </a:lnTo>
                <a:lnTo>
                  <a:pt x="19104" y="428994"/>
                </a:lnTo>
                <a:lnTo>
                  <a:pt x="18689" y="427878"/>
                </a:lnTo>
                <a:lnTo>
                  <a:pt x="17869" y="419807"/>
                </a:lnTo>
                <a:lnTo>
                  <a:pt x="15218" y="419746"/>
                </a:lnTo>
                <a:lnTo>
                  <a:pt x="13122" y="419729"/>
                </a:lnTo>
                <a:lnTo>
                  <a:pt x="11725" y="418725"/>
                </a:lnTo>
                <a:lnTo>
                  <a:pt x="10793" y="417064"/>
                </a:lnTo>
                <a:lnTo>
                  <a:pt x="8940" y="410798"/>
                </a:lnTo>
                <a:lnTo>
                  <a:pt x="4192" y="410775"/>
                </a:lnTo>
                <a:lnTo>
                  <a:pt x="2795" y="409780"/>
                </a:lnTo>
                <a:lnTo>
                  <a:pt x="1863" y="408125"/>
                </a:lnTo>
                <a:lnTo>
                  <a:pt x="0" y="401836"/>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Tree>
  </p:cSld>
  <p:transition>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Example 2. </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wo Montreal Canadien fans, Mike and Jon are working out during the intermissions.  Mike lifts the 100-kg barbell over his head in 5.0s; Jon lifts the same barbell over his head in 2.9 s. (They both lift it a height of 2.3m)Which student does the most work?  Which student delivers the most power?  Explain your answ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Solution.</a:t>
            </a:r>
            <a:endParaRPr b="0" lang="en-US" sz="5000" spc="-1" strike="noStrike">
              <a:solidFill>
                <a:srgbClr val="04617b"/>
              </a:solidFill>
              <a:latin typeface="Calibri"/>
            </a:endParaRPr>
          </a:p>
        </p:txBody>
      </p:sp>
      <p:sp>
        <p:nvSpPr>
          <p:cNvPr id="292" name="SMARTInkAnnotation85"/>
          <p:cNvSpPr/>
          <p:nvPr/>
        </p:nvSpPr>
        <p:spPr>
          <a:xfrm>
            <a:off x="509760" y="1830240"/>
            <a:ext cx="44280" cy="660600"/>
          </a:xfrm>
          <a:custGeom>
            <a:avLst/>
            <a:gdLst>
              <a:gd name="textAreaLeft" fmla="*/ 0 w 44280"/>
              <a:gd name="textAreaRight" fmla="*/ 44640 w 44280"/>
              <a:gd name="textAreaTop" fmla="*/ 0 h 660600"/>
              <a:gd name="textAreaBottom" fmla="*/ 660960 h 660600"/>
            </a:gdLst>
            <a:ahLst/>
            <a:rect l="textAreaLeft" t="textAreaTop" r="textAreaRight" b="textAreaBottom"/>
            <a:pathLst>
              <a:path w="44649" h="660629">
                <a:moveTo>
                  <a:pt x="0" y="0"/>
                </a:moveTo>
                <a:lnTo>
                  <a:pt x="0" y="12429"/>
                </a:lnTo>
                <a:lnTo>
                  <a:pt x="992" y="16224"/>
                </a:lnTo>
                <a:lnTo>
                  <a:pt x="2646" y="20738"/>
                </a:lnTo>
                <a:lnTo>
                  <a:pt x="4740" y="25732"/>
                </a:lnTo>
                <a:lnTo>
                  <a:pt x="6137" y="31045"/>
                </a:lnTo>
                <a:lnTo>
                  <a:pt x="7068" y="36572"/>
                </a:lnTo>
                <a:lnTo>
                  <a:pt x="8378" y="56477"/>
                </a:lnTo>
                <a:lnTo>
                  <a:pt x="9676" y="72726"/>
                </a:lnTo>
                <a:lnTo>
                  <a:pt x="11412" y="81226"/>
                </a:lnTo>
                <a:lnTo>
                  <a:pt x="13561" y="89870"/>
                </a:lnTo>
                <a:lnTo>
                  <a:pt x="14994" y="98609"/>
                </a:lnTo>
                <a:lnTo>
                  <a:pt x="15949" y="107411"/>
                </a:lnTo>
                <a:lnTo>
                  <a:pt x="17010" y="126122"/>
                </a:lnTo>
                <a:lnTo>
                  <a:pt x="17482" y="147666"/>
                </a:lnTo>
                <a:lnTo>
                  <a:pt x="17859" y="570104"/>
                </a:lnTo>
                <a:lnTo>
                  <a:pt x="18851" y="578507"/>
                </a:lnTo>
                <a:lnTo>
                  <a:pt x="20505" y="586094"/>
                </a:lnTo>
                <a:lnTo>
                  <a:pt x="22599" y="593136"/>
                </a:lnTo>
                <a:lnTo>
                  <a:pt x="23996" y="599815"/>
                </a:lnTo>
                <a:lnTo>
                  <a:pt x="24927" y="606252"/>
                </a:lnTo>
                <a:lnTo>
                  <a:pt x="26237" y="624792"/>
                </a:lnTo>
                <a:lnTo>
                  <a:pt x="26680" y="644094"/>
                </a:lnTo>
                <a:lnTo>
                  <a:pt x="26756" y="654305"/>
                </a:lnTo>
                <a:lnTo>
                  <a:pt x="27760" y="656469"/>
                </a:lnTo>
                <a:lnTo>
                  <a:pt x="29420" y="657912"/>
                </a:lnTo>
                <a:lnTo>
                  <a:pt x="35350" y="660628"/>
                </a:lnTo>
                <a:lnTo>
                  <a:pt x="36465" y="659693"/>
                </a:lnTo>
                <a:lnTo>
                  <a:pt x="38200" y="658076"/>
                </a:lnTo>
                <a:lnTo>
                  <a:pt x="44648" y="65186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93" name="SMARTInkAnnotation86"/>
          <p:cNvSpPr/>
          <p:nvPr/>
        </p:nvSpPr>
        <p:spPr>
          <a:xfrm>
            <a:off x="500040" y="1857240"/>
            <a:ext cx="428760" cy="17640"/>
          </a:xfrm>
          <a:custGeom>
            <a:avLst/>
            <a:gdLst>
              <a:gd name="textAreaLeft" fmla="*/ 0 w 428760"/>
              <a:gd name="textAreaRight" fmla="*/ 429120 w 428760"/>
              <a:gd name="textAreaTop" fmla="*/ 0 h 17640"/>
              <a:gd name="textAreaBottom" fmla="*/ 18000 h 17640"/>
            </a:gdLst>
            <a:ahLst/>
            <a:rect l="textAreaLeft" t="textAreaTop" r="textAreaRight" b="textAreaBottom"/>
            <a:pathLst>
              <a:path w="428626" h="17860">
                <a:moveTo>
                  <a:pt x="0" y="8929"/>
                </a:moveTo>
                <a:lnTo>
                  <a:pt x="4740" y="8929"/>
                </a:lnTo>
                <a:lnTo>
                  <a:pt x="7129" y="7937"/>
                </a:lnTo>
                <a:lnTo>
                  <a:pt x="9714" y="6283"/>
                </a:lnTo>
                <a:lnTo>
                  <a:pt x="12429" y="4189"/>
                </a:lnTo>
                <a:lnTo>
                  <a:pt x="16223" y="2792"/>
                </a:lnTo>
                <a:lnTo>
                  <a:pt x="20737" y="1861"/>
                </a:lnTo>
                <a:lnTo>
                  <a:pt x="25731" y="1241"/>
                </a:lnTo>
                <a:lnTo>
                  <a:pt x="31045" y="827"/>
                </a:lnTo>
                <a:lnTo>
                  <a:pt x="42240" y="367"/>
                </a:lnTo>
                <a:lnTo>
                  <a:pt x="59700" y="108"/>
                </a:lnTo>
                <a:lnTo>
                  <a:pt x="208787" y="0"/>
                </a:lnTo>
                <a:lnTo>
                  <a:pt x="220551" y="992"/>
                </a:lnTo>
                <a:lnTo>
                  <a:pt x="232362" y="2645"/>
                </a:lnTo>
                <a:lnTo>
                  <a:pt x="244205" y="4740"/>
                </a:lnTo>
                <a:lnTo>
                  <a:pt x="256069" y="6136"/>
                </a:lnTo>
                <a:lnTo>
                  <a:pt x="267947" y="7067"/>
                </a:lnTo>
                <a:lnTo>
                  <a:pt x="279835" y="7688"/>
                </a:lnTo>
                <a:lnTo>
                  <a:pt x="300980" y="8377"/>
                </a:lnTo>
                <a:lnTo>
                  <a:pt x="343549" y="8820"/>
                </a:lnTo>
                <a:lnTo>
                  <a:pt x="373652" y="8897"/>
                </a:lnTo>
                <a:lnTo>
                  <a:pt x="383046" y="9900"/>
                </a:lnTo>
                <a:lnTo>
                  <a:pt x="392286" y="11561"/>
                </a:lnTo>
                <a:lnTo>
                  <a:pt x="401423" y="13660"/>
                </a:lnTo>
                <a:lnTo>
                  <a:pt x="408506" y="15060"/>
                </a:lnTo>
                <a:lnTo>
                  <a:pt x="414220" y="15993"/>
                </a:lnTo>
                <a:lnTo>
                  <a:pt x="428625" y="17859"/>
                </a:lnTo>
              </a:path>
            </a:pathLst>
          </a:custGeom>
          <a:noFill/>
          <a:ln w="38160">
            <a:solidFill>
              <a:srgbClr val="009300"/>
            </a:solidFill>
            <a:round/>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Constantia"/>
            </a:endParaRPr>
          </a:p>
        </p:txBody>
      </p:sp>
      <p:sp>
        <p:nvSpPr>
          <p:cNvPr id="294" name="SMARTInkAnnotation87"/>
          <p:cNvSpPr/>
          <p:nvPr/>
        </p:nvSpPr>
        <p:spPr>
          <a:xfrm>
            <a:off x="517680" y="2044800"/>
            <a:ext cx="268200" cy="17280"/>
          </a:xfrm>
          <a:custGeom>
            <a:avLst/>
            <a:gdLst>
              <a:gd name="textAreaLeft" fmla="*/ 0 w 268200"/>
              <a:gd name="textAreaRight" fmla="*/ 268560 w 268200"/>
              <a:gd name="textAreaTop" fmla="*/ 0 h 17280"/>
              <a:gd name="textAreaBottom" fmla="*/ 17640 h 17280"/>
            </a:gdLst>
            <a:ahLst/>
            <a:rect l="textAreaLeft" t="textAreaTop" r="textAreaRight" b="textAreaBottom"/>
            <a:pathLst>
              <a:path w="267892" h="17859">
                <a:moveTo>
                  <a:pt x="0" y="17858"/>
                </a:moveTo>
                <a:lnTo>
                  <a:pt x="17170" y="17858"/>
                </a:lnTo>
                <a:lnTo>
                  <a:pt x="21368" y="16866"/>
                </a:lnTo>
                <a:lnTo>
                  <a:pt x="25160" y="15212"/>
                </a:lnTo>
                <a:lnTo>
                  <a:pt x="28680" y="13118"/>
                </a:lnTo>
                <a:lnTo>
                  <a:pt x="33010" y="11722"/>
                </a:lnTo>
                <a:lnTo>
                  <a:pt x="37882" y="10790"/>
                </a:lnTo>
                <a:lnTo>
                  <a:pt x="43114" y="10170"/>
                </a:lnTo>
                <a:lnTo>
                  <a:pt x="49579" y="9756"/>
                </a:lnTo>
                <a:lnTo>
                  <a:pt x="56865" y="9480"/>
                </a:lnTo>
                <a:lnTo>
                  <a:pt x="64699" y="9296"/>
                </a:lnTo>
                <a:lnTo>
                  <a:pt x="71906" y="8182"/>
                </a:lnTo>
                <a:lnTo>
                  <a:pt x="78696" y="6446"/>
                </a:lnTo>
                <a:lnTo>
                  <a:pt x="85206" y="4297"/>
                </a:lnTo>
                <a:lnTo>
                  <a:pt x="92523" y="2864"/>
                </a:lnTo>
                <a:lnTo>
                  <a:pt x="100377" y="1909"/>
                </a:lnTo>
                <a:lnTo>
                  <a:pt x="108590" y="1273"/>
                </a:lnTo>
                <a:lnTo>
                  <a:pt x="117042" y="848"/>
                </a:lnTo>
                <a:lnTo>
                  <a:pt x="134370" y="376"/>
                </a:lnTo>
                <a:lnTo>
                  <a:pt x="228676" y="2"/>
                </a:lnTo>
                <a:lnTo>
                  <a:pt x="246901" y="0"/>
                </a:lnTo>
                <a:lnTo>
                  <a:pt x="251913" y="992"/>
                </a:lnTo>
                <a:lnTo>
                  <a:pt x="256247" y="2645"/>
                </a:lnTo>
                <a:lnTo>
                  <a:pt x="267891" y="8929"/>
                </a:lnTo>
              </a:path>
            </a:pathLst>
          </a:custGeom>
          <a:noFill/>
          <a:ln w="38160">
            <a:solidFill>
              <a:srgbClr val="0093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Constantia"/>
            </a:endParaRPr>
          </a:p>
        </p:txBody>
      </p:sp>
      <p:sp>
        <p:nvSpPr>
          <p:cNvPr id="295" name="SMARTInkAnnotation88"/>
          <p:cNvSpPr/>
          <p:nvPr/>
        </p:nvSpPr>
        <p:spPr>
          <a:xfrm>
            <a:off x="642960" y="2352600"/>
            <a:ext cx="258840" cy="330120"/>
          </a:xfrm>
          <a:custGeom>
            <a:avLst/>
            <a:gdLst>
              <a:gd name="textAreaLeft" fmla="*/ 0 w 258840"/>
              <a:gd name="textAreaRight" fmla="*/ 259200 w 258840"/>
              <a:gd name="textAreaTop" fmla="*/ 0 h 330120"/>
              <a:gd name="textAreaBottom" fmla="*/ 330480 h 330120"/>
            </a:gdLst>
            <a:ahLst/>
            <a:rect l="textAreaLeft" t="textAreaTop" r="textAreaRight" b="textAreaBottom"/>
            <a:pathLst>
              <a:path w="258437" h="331305">
                <a:moveTo>
                  <a:pt x="231648" y="14053"/>
                </a:moveTo>
                <a:lnTo>
                  <a:pt x="226908" y="9312"/>
                </a:lnTo>
                <a:lnTo>
                  <a:pt x="224519" y="7916"/>
                </a:lnTo>
                <a:lnTo>
                  <a:pt x="219219" y="6364"/>
                </a:lnTo>
                <a:lnTo>
                  <a:pt x="215425" y="5950"/>
                </a:lnTo>
                <a:lnTo>
                  <a:pt x="210910" y="5675"/>
                </a:lnTo>
                <a:lnTo>
                  <a:pt x="201595" y="5368"/>
                </a:lnTo>
                <a:lnTo>
                  <a:pt x="194148" y="5232"/>
                </a:lnTo>
                <a:lnTo>
                  <a:pt x="189781" y="4204"/>
                </a:lnTo>
                <a:lnTo>
                  <a:pt x="184885" y="2525"/>
                </a:lnTo>
                <a:lnTo>
                  <a:pt x="179637" y="415"/>
                </a:lnTo>
                <a:lnTo>
                  <a:pt x="176138" y="0"/>
                </a:lnTo>
                <a:lnTo>
                  <a:pt x="173805" y="715"/>
                </a:lnTo>
                <a:lnTo>
                  <a:pt x="172250" y="2185"/>
                </a:lnTo>
                <a:lnTo>
                  <a:pt x="169229" y="3164"/>
                </a:lnTo>
                <a:lnTo>
                  <a:pt x="165231" y="3817"/>
                </a:lnTo>
                <a:lnTo>
                  <a:pt x="160581" y="4253"/>
                </a:lnTo>
                <a:lnTo>
                  <a:pt x="156489" y="5535"/>
                </a:lnTo>
                <a:lnTo>
                  <a:pt x="149296" y="9606"/>
                </a:lnTo>
                <a:lnTo>
                  <a:pt x="144997" y="12080"/>
                </a:lnTo>
                <a:lnTo>
                  <a:pt x="134928" y="17476"/>
                </a:lnTo>
                <a:lnTo>
                  <a:pt x="130457" y="20303"/>
                </a:lnTo>
                <a:lnTo>
                  <a:pt x="122844" y="26091"/>
                </a:lnTo>
                <a:lnTo>
                  <a:pt x="116152" y="31971"/>
                </a:lnTo>
                <a:lnTo>
                  <a:pt x="109871" y="37891"/>
                </a:lnTo>
                <a:lnTo>
                  <a:pt x="103772" y="43830"/>
                </a:lnTo>
                <a:lnTo>
                  <a:pt x="97755" y="52422"/>
                </a:lnTo>
                <a:lnTo>
                  <a:pt x="92765" y="61864"/>
                </a:lnTo>
                <a:lnTo>
                  <a:pt x="90547" y="69367"/>
                </a:lnTo>
                <a:lnTo>
                  <a:pt x="90948" y="72757"/>
                </a:lnTo>
                <a:lnTo>
                  <a:pt x="92207" y="76009"/>
                </a:lnTo>
                <a:lnTo>
                  <a:pt x="94039" y="79170"/>
                </a:lnTo>
                <a:lnTo>
                  <a:pt x="96074" y="85327"/>
                </a:lnTo>
                <a:lnTo>
                  <a:pt x="96617" y="88358"/>
                </a:lnTo>
                <a:lnTo>
                  <a:pt x="97971" y="90378"/>
                </a:lnTo>
                <a:lnTo>
                  <a:pt x="99866" y="91726"/>
                </a:lnTo>
                <a:lnTo>
                  <a:pt x="104617" y="93222"/>
                </a:lnTo>
                <a:lnTo>
                  <a:pt x="110036" y="93888"/>
                </a:lnTo>
                <a:lnTo>
                  <a:pt x="113863" y="94065"/>
                </a:lnTo>
                <a:lnTo>
                  <a:pt x="123406" y="94262"/>
                </a:lnTo>
                <a:lnTo>
                  <a:pt x="139935" y="94373"/>
                </a:lnTo>
                <a:lnTo>
                  <a:pt x="145701" y="93397"/>
                </a:lnTo>
                <a:lnTo>
                  <a:pt x="151530" y="91754"/>
                </a:lnTo>
                <a:lnTo>
                  <a:pt x="157400" y="89666"/>
                </a:lnTo>
                <a:lnTo>
                  <a:pt x="163298" y="88274"/>
                </a:lnTo>
                <a:lnTo>
                  <a:pt x="169214" y="87346"/>
                </a:lnTo>
                <a:lnTo>
                  <a:pt x="175143" y="86728"/>
                </a:lnTo>
                <a:lnTo>
                  <a:pt x="182071" y="85323"/>
                </a:lnTo>
                <a:lnTo>
                  <a:pt x="189667" y="83394"/>
                </a:lnTo>
                <a:lnTo>
                  <a:pt x="197708" y="81116"/>
                </a:lnTo>
                <a:lnTo>
                  <a:pt x="204060" y="78606"/>
                </a:lnTo>
                <a:lnTo>
                  <a:pt x="209288" y="75940"/>
                </a:lnTo>
                <a:lnTo>
                  <a:pt x="213764" y="73170"/>
                </a:lnTo>
                <a:lnTo>
                  <a:pt x="218733" y="70332"/>
                </a:lnTo>
                <a:lnTo>
                  <a:pt x="229546" y="64532"/>
                </a:lnTo>
                <a:lnTo>
                  <a:pt x="234216" y="62588"/>
                </a:lnTo>
                <a:lnTo>
                  <a:pt x="242049" y="60429"/>
                </a:lnTo>
                <a:lnTo>
                  <a:pt x="248839" y="59469"/>
                </a:lnTo>
                <a:lnTo>
                  <a:pt x="258388" y="58705"/>
                </a:lnTo>
                <a:lnTo>
                  <a:pt x="258427" y="66823"/>
                </a:lnTo>
                <a:lnTo>
                  <a:pt x="258436" y="87380"/>
                </a:lnTo>
                <a:lnTo>
                  <a:pt x="255791" y="96583"/>
                </a:lnTo>
                <a:lnTo>
                  <a:pt x="253696" y="101815"/>
                </a:lnTo>
                <a:lnTo>
                  <a:pt x="248723" y="115566"/>
                </a:lnTo>
                <a:lnTo>
                  <a:pt x="246008" y="123400"/>
                </a:lnTo>
                <a:lnTo>
                  <a:pt x="243206" y="130607"/>
                </a:lnTo>
                <a:lnTo>
                  <a:pt x="240345" y="137396"/>
                </a:lnTo>
                <a:lnTo>
                  <a:pt x="237446" y="143907"/>
                </a:lnTo>
                <a:lnTo>
                  <a:pt x="233529" y="151224"/>
                </a:lnTo>
                <a:lnTo>
                  <a:pt x="228933" y="159078"/>
                </a:lnTo>
                <a:lnTo>
                  <a:pt x="223885" y="167291"/>
                </a:lnTo>
                <a:lnTo>
                  <a:pt x="219527" y="175743"/>
                </a:lnTo>
                <a:lnTo>
                  <a:pt x="215630" y="184354"/>
                </a:lnTo>
                <a:lnTo>
                  <a:pt x="212040" y="193071"/>
                </a:lnTo>
                <a:lnTo>
                  <a:pt x="207662" y="200867"/>
                </a:lnTo>
                <a:lnTo>
                  <a:pt x="202759" y="208049"/>
                </a:lnTo>
                <a:lnTo>
                  <a:pt x="197506" y="214821"/>
                </a:lnTo>
                <a:lnTo>
                  <a:pt x="193011" y="221320"/>
                </a:lnTo>
                <a:lnTo>
                  <a:pt x="189023" y="227637"/>
                </a:lnTo>
                <a:lnTo>
                  <a:pt x="185372" y="233833"/>
                </a:lnTo>
                <a:lnTo>
                  <a:pt x="176023" y="248654"/>
                </a:lnTo>
                <a:lnTo>
                  <a:pt x="170752" y="256774"/>
                </a:lnTo>
                <a:lnTo>
                  <a:pt x="165254" y="264172"/>
                </a:lnTo>
                <a:lnTo>
                  <a:pt x="159604" y="271088"/>
                </a:lnTo>
                <a:lnTo>
                  <a:pt x="149027" y="283072"/>
                </a:lnTo>
                <a:lnTo>
                  <a:pt x="141019" y="291705"/>
                </a:lnTo>
                <a:lnTo>
                  <a:pt x="135510" y="296389"/>
                </a:lnTo>
                <a:lnTo>
                  <a:pt x="128860" y="301495"/>
                </a:lnTo>
                <a:lnTo>
                  <a:pt x="121451" y="306884"/>
                </a:lnTo>
                <a:lnTo>
                  <a:pt x="114527" y="311469"/>
                </a:lnTo>
                <a:lnTo>
                  <a:pt x="107927" y="315518"/>
                </a:lnTo>
                <a:lnTo>
                  <a:pt x="101542" y="319209"/>
                </a:lnTo>
                <a:lnTo>
                  <a:pt x="96294" y="321670"/>
                </a:lnTo>
                <a:lnTo>
                  <a:pt x="91802" y="323311"/>
                </a:lnTo>
                <a:lnTo>
                  <a:pt x="87816" y="324404"/>
                </a:lnTo>
                <a:lnTo>
                  <a:pt x="83174" y="326126"/>
                </a:lnTo>
                <a:lnTo>
                  <a:pt x="78095" y="328265"/>
                </a:lnTo>
                <a:lnTo>
                  <a:pt x="72725" y="330684"/>
                </a:lnTo>
                <a:lnTo>
                  <a:pt x="67160" y="331304"/>
                </a:lnTo>
                <a:lnTo>
                  <a:pt x="61466" y="330726"/>
                </a:lnTo>
                <a:lnTo>
                  <a:pt x="55686" y="329348"/>
                </a:lnTo>
                <a:lnTo>
                  <a:pt x="50840" y="328429"/>
                </a:lnTo>
                <a:lnTo>
                  <a:pt x="42810" y="327409"/>
                </a:lnTo>
                <a:lnTo>
                  <a:pt x="39279" y="326144"/>
                </a:lnTo>
                <a:lnTo>
                  <a:pt x="32711" y="322093"/>
                </a:lnTo>
                <a:lnTo>
                  <a:pt x="26484" y="316986"/>
                </a:lnTo>
                <a:lnTo>
                  <a:pt x="20409" y="311409"/>
                </a:lnTo>
                <a:lnTo>
                  <a:pt x="14402" y="305622"/>
                </a:lnTo>
                <a:lnTo>
                  <a:pt x="11411" y="303682"/>
                </a:lnTo>
                <a:lnTo>
                  <a:pt x="5442" y="301527"/>
                </a:lnTo>
                <a:lnTo>
                  <a:pt x="3453" y="299960"/>
                </a:lnTo>
                <a:lnTo>
                  <a:pt x="2128" y="297923"/>
                </a:lnTo>
                <a:lnTo>
                  <a:pt x="655" y="293014"/>
                </a:lnTo>
                <a:lnTo>
                  <a:pt x="0" y="287525"/>
                </a:lnTo>
                <a:lnTo>
                  <a:pt x="817" y="284672"/>
                </a:lnTo>
                <a:lnTo>
                  <a:pt x="5716" y="275917"/>
                </a:lnTo>
                <a:lnTo>
                  <a:pt x="8601" y="267039"/>
                </a:lnTo>
                <a:lnTo>
                  <a:pt x="12792" y="261098"/>
                </a:lnTo>
                <a:lnTo>
                  <a:pt x="16291" y="259117"/>
                </a:lnTo>
                <a:lnTo>
                  <a:pt x="20608" y="257796"/>
                </a:lnTo>
                <a:lnTo>
                  <a:pt x="25470" y="256915"/>
                </a:lnTo>
                <a:lnTo>
                  <a:pt x="33519" y="253291"/>
                </a:lnTo>
                <a:lnTo>
                  <a:pt x="37054" y="250936"/>
                </a:lnTo>
                <a:lnTo>
                  <a:pt x="41395" y="249365"/>
                </a:lnTo>
                <a:lnTo>
                  <a:pt x="46274" y="248319"/>
                </a:lnTo>
                <a:lnTo>
                  <a:pt x="51510" y="247620"/>
                </a:lnTo>
                <a:lnTo>
                  <a:pt x="56986" y="247155"/>
                </a:lnTo>
                <a:lnTo>
                  <a:pt x="62621" y="246845"/>
                </a:lnTo>
                <a:lnTo>
                  <a:pt x="68362" y="246638"/>
                </a:lnTo>
                <a:lnTo>
                  <a:pt x="74173" y="247493"/>
                </a:lnTo>
                <a:lnTo>
                  <a:pt x="80032" y="249054"/>
                </a:lnTo>
                <a:lnTo>
                  <a:pt x="85922" y="251088"/>
                </a:lnTo>
                <a:lnTo>
                  <a:pt x="91833" y="252443"/>
                </a:lnTo>
                <a:lnTo>
                  <a:pt x="97759" y="253347"/>
                </a:lnTo>
                <a:lnTo>
                  <a:pt x="103693" y="253949"/>
                </a:lnTo>
                <a:lnTo>
                  <a:pt x="109634" y="254351"/>
                </a:lnTo>
                <a:lnTo>
                  <a:pt x="115579" y="254619"/>
                </a:lnTo>
                <a:lnTo>
                  <a:pt x="121526" y="254797"/>
                </a:lnTo>
                <a:lnTo>
                  <a:pt x="127476" y="255908"/>
                </a:lnTo>
                <a:lnTo>
                  <a:pt x="133426" y="257642"/>
                </a:lnTo>
                <a:lnTo>
                  <a:pt x="139378" y="259789"/>
                </a:lnTo>
                <a:lnTo>
                  <a:pt x="145330" y="261221"/>
                </a:lnTo>
                <a:lnTo>
                  <a:pt x="151282" y="262175"/>
                </a:lnTo>
                <a:lnTo>
                  <a:pt x="157235" y="262811"/>
                </a:lnTo>
                <a:lnTo>
                  <a:pt x="164180" y="263236"/>
                </a:lnTo>
                <a:lnTo>
                  <a:pt x="179834" y="263707"/>
                </a:lnTo>
                <a:lnTo>
                  <a:pt x="213237" y="264035"/>
                </a:lnTo>
                <a:lnTo>
                  <a:pt x="240578" y="26408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96" name="SMARTInkAnnotation89"/>
          <p:cNvSpPr/>
          <p:nvPr/>
        </p:nvSpPr>
        <p:spPr>
          <a:xfrm>
            <a:off x="1111320" y="2241720"/>
            <a:ext cx="272880" cy="17280"/>
          </a:xfrm>
          <a:custGeom>
            <a:avLst/>
            <a:gdLst>
              <a:gd name="textAreaLeft" fmla="*/ 0 w 272880"/>
              <a:gd name="textAreaRight" fmla="*/ 273240 w 272880"/>
              <a:gd name="textAreaTop" fmla="*/ 0 h 17280"/>
              <a:gd name="textAreaBottom" fmla="*/ 17640 h 17280"/>
            </a:gdLst>
            <a:ahLst/>
            <a:rect l="textAreaLeft" t="textAreaTop" r="textAreaRight" b="textAreaBottom"/>
            <a:pathLst>
              <a:path w="273036" h="17860">
                <a:moveTo>
                  <a:pt x="5144" y="8930"/>
                </a:moveTo>
                <a:lnTo>
                  <a:pt x="0" y="8930"/>
                </a:lnTo>
                <a:lnTo>
                  <a:pt x="2196" y="8930"/>
                </a:lnTo>
                <a:lnTo>
                  <a:pt x="3179" y="7938"/>
                </a:lnTo>
                <a:lnTo>
                  <a:pt x="3834" y="6284"/>
                </a:lnTo>
                <a:lnTo>
                  <a:pt x="4271" y="4189"/>
                </a:lnTo>
                <a:lnTo>
                  <a:pt x="5554" y="2793"/>
                </a:lnTo>
                <a:lnTo>
                  <a:pt x="7402" y="1862"/>
                </a:lnTo>
                <a:lnTo>
                  <a:pt x="9626" y="1241"/>
                </a:lnTo>
                <a:lnTo>
                  <a:pt x="12101" y="828"/>
                </a:lnTo>
                <a:lnTo>
                  <a:pt x="17497" y="368"/>
                </a:lnTo>
                <a:lnTo>
                  <a:pt x="23202" y="164"/>
                </a:lnTo>
                <a:lnTo>
                  <a:pt x="34638" y="49"/>
                </a:lnTo>
                <a:lnTo>
                  <a:pt x="131928" y="0"/>
                </a:lnTo>
                <a:lnTo>
                  <a:pt x="139276" y="992"/>
                </a:lnTo>
                <a:lnTo>
                  <a:pt x="146159" y="2646"/>
                </a:lnTo>
                <a:lnTo>
                  <a:pt x="152733" y="4741"/>
                </a:lnTo>
                <a:lnTo>
                  <a:pt x="160091" y="6137"/>
                </a:lnTo>
                <a:lnTo>
                  <a:pt x="167973" y="7068"/>
                </a:lnTo>
                <a:lnTo>
                  <a:pt x="176205" y="7689"/>
                </a:lnTo>
                <a:lnTo>
                  <a:pt x="183677" y="8102"/>
                </a:lnTo>
                <a:lnTo>
                  <a:pt x="197271" y="8562"/>
                </a:lnTo>
                <a:lnTo>
                  <a:pt x="241910" y="8898"/>
                </a:lnTo>
                <a:lnTo>
                  <a:pt x="255985" y="8920"/>
                </a:lnTo>
                <a:lnTo>
                  <a:pt x="259684" y="9916"/>
                </a:lnTo>
                <a:lnTo>
                  <a:pt x="263142" y="11571"/>
                </a:lnTo>
                <a:lnTo>
                  <a:pt x="273035" y="17859"/>
                </a:lnTo>
              </a:path>
            </a:pathLst>
          </a:custGeom>
          <a:noFill/>
          <a:ln w="38160">
            <a:solidFill>
              <a:srgbClr val="0093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Constantia"/>
            </a:endParaRPr>
          </a:p>
        </p:txBody>
      </p:sp>
      <p:sp>
        <p:nvSpPr>
          <p:cNvPr id="297" name="SMARTInkAnnotation90"/>
          <p:cNvSpPr/>
          <p:nvPr/>
        </p:nvSpPr>
        <p:spPr>
          <a:xfrm>
            <a:off x="1098720" y="2367000"/>
            <a:ext cx="295200" cy="7920"/>
          </a:xfrm>
          <a:custGeom>
            <a:avLst/>
            <a:gdLst>
              <a:gd name="textAreaLeft" fmla="*/ 0 w 295200"/>
              <a:gd name="textAreaRight" fmla="*/ 295560 w 295200"/>
              <a:gd name="textAreaTop" fmla="*/ 0 h 7920"/>
              <a:gd name="textAreaBottom" fmla="*/ 8280 h 7920"/>
            </a:gdLst>
            <a:ahLst/>
            <a:rect l="textAreaLeft" t="textAreaTop" r="textAreaRight" b="textAreaBottom"/>
            <a:pathLst>
              <a:path w="294681" h="8931">
                <a:moveTo>
                  <a:pt x="0" y="8930"/>
                </a:moveTo>
                <a:lnTo>
                  <a:pt x="141694" y="8930"/>
                </a:lnTo>
                <a:lnTo>
                  <a:pt x="151017" y="7937"/>
                </a:lnTo>
                <a:lnTo>
                  <a:pt x="160209" y="6284"/>
                </a:lnTo>
                <a:lnTo>
                  <a:pt x="169314" y="4189"/>
                </a:lnTo>
                <a:lnTo>
                  <a:pt x="178360" y="2793"/>
                </a:lnTo>
                <a:lnTo>
                  <a:pt x="187368" y="1862"/>
                </a:lnTo>
                <a:lnTo>
                  <a:pt x="196350" y="1241"/>
                </a:lnTo>
                <a:lnTo>
                  <a:pt x="205314" y="827"/>
                </a:lnTo>
                <a:lnTo>
                  <a:pt x="223212" y="367"/>
                </a:lnTo>
                <a:lnTo>
                  <a:pt x="294680" y="0"/>
                </a:lnTo>
              </a:path>
            </a:pathLst>
          </a:custGeom>
          <a:noFill/>
          <a:ln w="38160">
            <a:solidFill>
              <a:srgbClr val="009300"/>
            </a:solidFill>
            <a:round/>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Constantia"/>
            </a:endParaRPr>
          </a:p>
        </p:txBody>
      </p:sp>
      <p:sp>
        <p:nvSpPr>
          <p:cNvPr id="298" name="SMARTInkAnnotation91"/>
          <p:cNvSpPr/>
          <p:nvPr/>
        </p:nvSpPr>
        <p:spPr>
          <a:xfrm>
            <a:off x="1704960" y="2071800"/>
            <a:ext cx="9720" cy="54000"/>
          </a:xfrm>
          <a:custGeom>
            <a:avLst/>
            <a:gdLst>
              <a:gd name="textAreaLeft" fmla="*/ 0 w 9720"/>
              <a:gd name="textAreaRight" fmla="*/ 10080 w 9720"/>
              <a:gd name="textAreaTop" fmla="*/ 0 h 54000"/>
              <a:gd name="textAreaBottom" fmla="*/ 54360 h 54000"/>
            </a:gdLst>
            <a:ahLst/>
            <a:rect l="textAreaLeft" t="textAreaTop" r="textAreaRight" b="textAreaBottom"/>
            <a:pathLst>
              <a:path w="8931" h="53579">
                <a:moveTo>
                  <a:pt x="0" y="0"/>
                </a:moveTo>
                <a:lnTo>
                  <a:pt x="0" y="30170"/>
                </a:lnTo>
                <a:lnTo>
                  <a:pt x="992" y="32020"/>
                </a:lnTo>
                <a:lnTo>
                  <a:pt x="2646" y="-32283"/>
                </a:lnTo>
                <a:lnTo>
                  <a:pt x="4740" y="-31461"/>
                </a:lnTo>
                <a:lnTo>
                  <a:pt x="6137" y="-29921"/>
                </a:lnTo>
                <a:lnTo>
                  <a:pt x="7068" y="-27902"/>
                </a:lnTo>
                <a:lnTo>
                  <a:pt x="8821" y="-21298"/>
                </a:lnTo>
                <a:lnTo>
                  <a:pt x="8857" y="-20169"/>
                </a:lnTo>
                <a:lnTo>
                  <a:pt x="8929" y="-11968"/>
                </a:lnTo>
                <a:lnTo>
                  <a:pt x="8930" y="-11958"/>
                </a:lnTo>
              </a:path>
            </a:pathLst>
          </a:custGeom>
          <a:noFill/>
          <a:ln w="38160">
            <a:solidFill>
              <a:srgbClr val="009300"/>
            </a:solidFill>
            <a:round/>
          </a:ln>
        </p:spPr>
        <p:style>
          <a:lnRef idx="0"/>
          <a:fillRef idx="0"/>
          <a:effectRef idx="0"/>
          <a:fontRef idx="minor"/>
        </p:style>
        <p:txBody>
          <a:bodyPr lIns="90000" rIns="90000" tIns="7560" bIns="7560" anchor="ctr">
            <a:noAutofit/>
          </a:bodyPr>
          <a:p>
            <a:endParaRPr b="0" lang="en-US" sz="1800" spc="-1" strike="noStrike">
              <a:solidFill>
                <a:srgbClr val="000000"/>
              </a:solidFill>
              <a:latin typeface="Constantia"/>
            </a:endParaRPr>
          </a:p>
        </p:txBody>
      </p:sp>
      <p:sp>
        <p:nvSpPr>
          <p:cNvPr id="299" name="SMARTInkAnnotation92"/>
          <p:cNvSpPr/>
          <p:nvPr/>
        </p:nvSpPr>
        <p:spPr>
          <a:xfrm>
            <a:off x="1660680" y="2071800"/>
            <a:ext cx="320400" cy="392040"/>
          </a:xfrm>
          <a:custGeom>
            <a:avLst/>
            <a:gdLst>
              <a:gd name="textAreaLeft" fmla="*/ 0 w 320400"/>
              <a:gd name="textAreaRight" fmla="*/ 320760 w 320400"/>
              <a:gd name="textAreaTop" fmla="*/ 0 h 392040"/>
              <a:gd name="textAreaBottom" fmla="*/ 392400 h 392040"/>
            </a:gdLst>
            <a:ahLst/>
            <a:rect l="textAreaLeft" t="textAreaTop" r="textAreaRight" b="textAreaBottom"/>
            <a:pathLst>
              <a:path w="320071" h="392738">
                <a:moveTo>
                  <a:pt x="44649" y="0"/>
                </a:moveTo>
                <a:lnTo>
                  <a:pt x="36961" y="7688"/>
                </a:lnTo>
                <a:lnTo>
                  <a:pt x="36271" y="11024"/>
                </a:lnTo>
                <a:lnTo>
                  <a:pt x="35883" y="21126"/>
                </a:lnTo>
                <a:lnTo>
                  <a:pt x="35719" y="169713"/>
                </a:lnTo>
                <a:lnTo>
                  <a:pt x="34727" y="179619"/>
                </a:lnTo>
                <a:lnTo>
                  <a:pt x="33073" y="190191"/>
                </a:lnTo>
                <a:lnTo>
                  <a:pt x="30979" y="201208"/>
                </a:lnTo>
                <a:lnTo>
                  <a:pt x="29582" y="211530"/>
                </a:lnTo>
                <a:lnTo>
                  <a:pt x="28651" y="221387"/>
                </a:lnTo>
                <a:lnTo>
                  <a:pt x="28031" y="230935"/>
                </a:lnTo>
                <a:lnTo>
                  <a:pt x="26625" y="241269"/>
                </a:lnTo>
                <a:lnTo>
                  <a:pt x="24695" y="252128"/>
                </a:lnTo>
                <a:lnTo>
                  <a:pt x="22417" y="263335"/>
                </a:lnTo>
                <a:lnTo>
                  <a:pt x="20898" y="273783"/>
                </a:lnTo>
                <a:lnTo>
                  <a:pt x="19885" y="283725"/>
                </a:lnTo>
                <a:lnTo>
                  <a:pt x="19210" y="293330"/>
                </a:lnTo>
                <a:lnTo>
                  <a:pt x="17768" y="302710"/>
                </a:lnTo>
                <a:lnTo>
                  <a:pt x="15814" y="311939"/>
                </a:lnTo>
                <a:lnTo>
                  <a:pt x="13519" y="321069"/>
                </a:lnTo>
                <a:lnTo>
                  <a:pt x="11990" y="329140"/>
                </a:lnTo>
                <a:lnTo>
                  <a:pt x="10970" y="336505"/>
                </a:lnTo>
                <a:lnTo>
                  <a:pt x="10290" y="343399"/>
                </a:lnTo>
                <a:lnTo>
                  <a:pt x="8845" y="349979"/>
                </a:lnTo>
                <a:lnTo>
                  <a:pt x="6889" y="356351"/>
                </a:lnTo>
                <a:lnTo>
                  <a:pt x="3062" y="367730"/>
                </a:lnTo>
                <a:lnTo>
                  <a:pt x="907" y="379714"/>
                </a:lnTo>
                <a:lnTo>
                  <a:pt x="80" y="391617"/>
                </a:lnTo>
                <a:lnTo>
                  <a:pt x="11" y="392737"/>
                </a:lnTo>
                <a:lnTo>
                  <a:pt x="0" y="311957"/>
                </a:lnTo>
                <a:lnTo>
                  <a:pt x="993" y="303221"/>
                </a:lnTo>
                <a:lnTo>
                  <a:pt x="2646" y="294421"/>
                </a:lnTo>
                <a:lnTo>
                  <a:pt x="4741" y="285578"/>
                </a:lnTo>
                <a:lnTo>
                  <a:pt x="6137" y="276705"/>
                </a:lnTo>
                <a:lnTo>
                  <a:pt x="7068" y="267814"/>
                </a:lnTo>
                <a:lnTo>
                  <a:pt x="7689" y="258910"/>
                </a:lnTo>
                <a:lnTo>
                  <a:pt x="9095" y="249997"/>
                </a:lnTo>
                <a:lnTo>
                  <a:pt x="11024" y="241079"/>
                </a:lnTo>
                <a:lnTo>
                  <a:pt x="13303" y="232157"/>
                </a:lnTo>
                <a:lnTo>
                  <a:pt x="14822" y="223232"/>
                </a:lnTo>
                <a:lnTo>
                  <a:pt x="15834" y="214306"/>
                </a:lnTo>
                <a:lnTo>
                  <a:pt x="16510" y="205379"/>
                </a:lnTo>
                <a:lnTo>
                  <a:pt x="17952" y="196450"/>
                </a:lnTo>
                <a:lnTo>
                  <a:pt x="19906" y="187522"/>
                </a:lnTo>
                <a:lnTo>
                  <a:pt x="22200" y="178593"/>
                </a:lnTo>
                <a:lnTo>
                  <a:pt x="24722" y="169663"/>
                </a:lnTo>
                <a:lnTo>
                  <a:pt x="30170" y="151804"/>
                </a:lnTo>
                <a:lnTo>
                  <a:pt x="33012" y="143867"/>
                </a:lnTo>
                <a:lnTo>
                  <a:pt x="35899" y="136591"/>
                </a:lnTo>
                <a:lnTo>
                  <a:pt x="38815" y="129756"/>
                </a:lnTo>
                <a:lnTo>
                  <a:pt x="44702" y="116870"/>
                </a:lnTo>
                <a:lnTo>
                  <a:pt x="56566" y="92428"/>
                </a:lnTo>
                <a:lnTo>
                  <a:pt x="62513" y="83082"/>
                </a:lnTo>
                <a:lnTo>
                  <a:pt x="71439" y="72242"/>
                </a:lnTo>
                <a:lnTo>
                  <a:pt x="80368" y="62746"/>
                </a:lnTo>
                <a:lnTo>
                  <a:pt x="83345" y="59690"/>
                </a:lnTo>
                <a:lnTo>
                  <a:pt x="86321" y="57653"/>
                </a:lnTo>
                <a:lnTo>
                  <a:pt x="95581" y="54383"/>
                </a:lnTo>
                <a:lnTo>
                  <a:pt x="96463" y="54115"/>
                </a:lnTo>
                <a:lnTo>
                  <a:pt x="98043" y="54928"/>
                </a:lnTo>
                <a:lnTo>
                  <a:pt x="107708" y="63363"/>
                </a:lnTo>
                <a:lnTo>
                  <a:pt x="110501" y="66054"/>
                </a:lnTo>
                <a:lnTo>
                  <a:pt x="112363" y="69833"/>
                </a:lnTo>
                <a:lnTo>
                  <a:pt x="115975" y="84632"/>
                </a:lnTo>
                <a:lnTo>
                  <a:pt x="120336" y="95823"/>
                </a:lnTo>
                <a:lnTo>
                  <a:pt x="121896" y="102577"/>
                </a:lnTo>
                <a:lnTo>
                  <a:pt x="122936" y="110057"/>
                </a:lnTo>
                <a:lnTo>
                  <a:pt x="123629" y="118020"/>
                </a:lnTo>
                <a:lnTo>
                  <a:pt x="124092" y="126305"/>
                </a:lnTo>
                <a:lnTo>
                  <a:pt x="124605" y="143448"/>
                </a:lnTo>
                <a:lnTo>
                  <a:pt x="124980" y="196504"/>
                </a:lnTo>
                <a:lnTo>
                  <a:pt x="125013" y="252984"/>
                </a:lnTo>
                <a:lnTo>
                  <a:pt x="124022" y="260929"/>
                </a:lnTo>
                <a:lnTo>
                  <a:pt x="122369" y="269203"/>
                </a:lnTo>
                <a:lnTo>
                  <a:pt x="120275" y="277695"/>
                </a:lnTo>
                <a:lnTo>
                  <a:pt x="118879" y="285341"/>
                </a:lnTo>
                <a:lnTo>
                  <a:pt x="117948" y="292423"/>
                </a:lnTo>
                <a:lnTo>
                  <a:pt x="116914" y="304591"/>
                </a:lnTo>
                <a:lnTo>
                  <a:pt x="116332" y="316027"/>
                </a:lnTo>
                <a:lnTo>
                  <a:pt x="116195" y="319050"/>
                </a:lnTo>
                <a:lnTo>
                  <a:pt x="113489" y="323040"/>
                </a:lnTo>
                <a:lnTo>
                  <a:pt x="108408" y="328945"/>
                </a:lnTo>
                <a:lnTo>
                  <a:pt x="107990" y="327445"/>
                </a:lnTo>
                <a:lnTo>
                  <a:pt x="107527" y="320487"/>
                </a:lnTo>
                <a:lnTo>
                  <a:pt x="108396" y="316845"/>
                </a:lnTo>
                <a:lnTo>
                  <a:pt x="113367" y="305988"/>
                </a:lnTo>
                <a:lnTo>
                  <a:pt x="114878" y="296068"/>
                </a:lnTo>
                <a:lnTo>
                  <a:pt x="120469" y="260365"/>
                </a:lnTo>
                <a:lnTo>
                  <a:pt x="122977" y="247990"/>
                </a:lnTo>
                <a:lnTo>
                  <a:pt x="125641" y="236764"/>
                </a:lnTo>
                <a:lnTo>
                  <a:pt x="128409" y="226304"/>
                </a:lnTo>
                <a:lnTo>
                  <a:pt x="134131" y="206744"/>
                </a:lnTo>
                <a:lnTo>
                  <a:pt x="137046" y="197360"/>
                </a:lnTo>
                <a:lnTo>
                  <a:pt x="140973" y="188128"/>
                </a:lnTo>
                <a:lnTo>
                  <a:pt x="145576" y="178997"/>
                </a:lnTo>
                <a:lnTo>
                  <a:pt x="150629" y="169933"/>
                </a:lnTo>
                <a:lnTo>
                  <a:pt x="154990" y="160914"/>
                </a:lnTo>
                <a:lnTo>
                  <a:pt x="158889" y="151924"/>
                </a:lnTo>
                <a:lnTo>
                  <a:pt x="162481" y="142955"/>
                </a:lnTo>
                <a:lnTo>
                  <a:pt x="169118" y="125051"/>
                </a:lnTo>
                <a:lnTo>
                  <a:pt x="172276" y="116110"/>
                </a:lnTo>
                <a:lnTo>
                  <a:pt x="176367" y="108164"/>
                </a:lnTo>
                <a:lnTo>
                  <a:pt x="181078" y="100883"/>
                </a:lnTo>
                <a:lnTo>
                  <a:pt x="186203" y="94044"/>
                </a:lnTo>
                <a:lnTo>
                  <a:pt x="191604" y="88493"/>
                </a:lnTo>
                <a:lnTo>
                  <a:pt x="197190" y="83800"/>
                </a:lnTo>
                <a:lnTo>
                  <a:pt x="202897" y="79679"/>
                </a:lnTo>
                <a:lnTo>
                  <a:pt x="211885" y="69809"/>
                </a:lnTo>
                <a:lnTo>
                  <a:pt x="215671" y="64399"/>
                </a:lnTo>
                <a:lnTo>
                  <a:pt x="225169" y="55742"/>
                </a:lnTo>
                <a:lnTo>
                  <a:pt x="230480" y="52044"/>
                </a:lnTo>
                <a:lnTo>
                  <a:pt x="236005" y="49579"/>
                </a:lnTo>
                <a:lnTo>
                  <a:pt x="241673" y="47935"/>
                </a:lnTo>
                <a:lnTo>
                  <a:pt x="247436" y="46840"/>
                </a:lnTo>
                <a:lnTo>
                  <a:pt x="256485" y="45622"/>
                </a:lnTo>
                <a:lnTo>
                  <a:pt x="260287" y="45298"/>
                </a:lnTo>
                <a:lnTo>
                  <a:pt x="269803" y="47583"/>
                </a:lnTo>
                <a:lnTo>
                  <a:pt x="279655" y="51906"/>
                </a:lnTo>
                <a:lnTo>
                  <a:pt x="287341" y="57134"/>
                </a:lnTo>
                <a:lnTo>
                  <a:pt x="297246" y="65656"/>
                </a:lnTo>
                <a:lnTo>
                  <a:pt x="303427" y="74160"/>
                </a:lnTo>
                <a:lnTo>
                  <a:pt x="306465" y="79205"/>
                </a:lnTo>
                <a:lnTo>
                  <a:pt x="308490" y="85546"/>
                </a:lnTo>
                <a:lnTo>
                  <a:pt x="309840" y="92749"/>
                </a:lnTo>
                <a:lnTo>
                  <a:pt x="310740" y="100528"/>
                </a:lnTo>
                <a:lnTo>
                  <a:pt x="312332" y="107698"/>
                </a:lnTo>
                <a:lnTo>
                  <a:pt x="314385" y="114463"/>
                </a:lnTo>
                <a:lnTo>
                  <a:pt x="316747" y="120957"/>
                </a:lnTo>
                <a:lnTo>
                  <a:pt x="318321" y="128263"/>
                </a:lnTo>
                <a:lnTo>
                  <a:pt x="319370" y="136110"/>
                </a:lnTo>
                <a:lnTo>
                  <a:pt x="320070" y="144319"/>
                </a:lnTo>
                <a:lnTo>
                  <a:pt x="319544" y="153759"/>
                </a:lnTo>
                <a:lnTo>
                  <a:pt x="318201" y="164022"/>
                </a:lnTo>
                <a:lnTo>
                  <a:pt x="316314" y="174832"/>
                </a:lnTo>
                <a:lnTo>
                  <a:pt x="315056" y="185016"/>
                </a:lnTo>
                <a:lnTo>
                  <a:pt x="314217" y="194781"/>
                </a:lnTo>
                <a:lnTo>
                  <a:pt x="313658" y="204268"/>
                </a:lnTo>
                <a:lnTo>
                  <a:pt x="312293" y="213570"/>
                </a:lnTo>
                <a:lnTo>
                  <a:pt x="310391" y="222747"/>
                </a:lnTo>
                <a:lnTo>
                  <a:pt x="308130" y="231842"/>
                </a:lnTo>
                <a:lnTo>
                  <a:pt x="306624" y="239889"/>
                </a:lnTo>
                <a:lnTo>
                  <a:pt x="305619" y="247239"/>
                </a:lnTo>
                <a:lnTo>
                  <a:pt x="304950" y="254123"/>
                </a:lnTo>
                <a:lnTo>
                  <a:pt x="304503" y="261688"/>
                </a:lnTo>
                <a:lnTo>
                  <a:pt x="304007" y="278033"/>
                </a:lnTo>
                <a:lnTo>
                  <a:pt x="302882" y="285566"/>
                </a:lnTo>
                <a:lnTo>
                  <a:pt x="301141" y="292573"/>
                </a:lnTo>
                <a:lnTo>
                  <a:pt x="297551" y="304658"/>
                </a:lnTo>
                <a:lnTo>
                  <a:pt x="295956" y="313336"/>
                </a:lnTo>
                <a:lnTo>
                  <a:pt x="295058" y="323799"/>
                </a:lnTo>
                <a:lnTo>
                  <a:pt x="294755" y="335232"/>
                </a:lnTo>
                <a:lnTo>
                  <a:pt x="294680" y="33932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00" name="SMARTInkAnnotation93"/>
          <p:cNvSpPr/>
          <p:nvPr/>
        </p:nvSpPr>
        <p:spPr>
          <a:xfrm>
            <a:off x="2089080" y="2179800"/>
            <a:ext cx="330120" cy="506160"/>
          </a:xfrm>
          <a:custGeom>
            <a:avLst/>
            <a:gdLst>
              <a:gd name="textAreaLeft" fmla="*/ 0 w 330120"/>
              <a:gd name="textAreaRight" fmla="*/ 330480 w 330120"/>
              <a:gd name="textAreaTop" fmla="*/ 0 h 506160"/>
              <a:gd name="textAreaBottom" fmla="*/ 506520 h 506160"/>
            </a:gdLst>
            <a:ahLst/>
            <a:rect l="textAreaLeft" t="textAreaTop" r="textAreaRight" b="textAreaBottom"/>
            <a:pathLst>
              <a:path w="330205" h="506319">
                <a:moveTo>
                  <a:pt x="285558" y="7689"/>
                </a:moveTo>
                <a:lnTo>
                  <a:pt x="276078" y="7689"/>
                </a:lnTo>
                <a:lnTo>
                  <a:pt x="272293" y="6697"/>
                </a:lnTo>
                <a:lnTo>
                  <a:pt x="265441" y="2948"/>
                </a:lnTo>
                <a:lnTo>
                  <a:pt x="256443" y="621"/>
                </a:lnTo>
                <a:lnTo>
                  <a:pt x="251265" y="0"/>
                </a:lnTo>
                <a:lnTo>
                  <a:pt x="246822" y="579"/>
                </a:lnTo>
                <a:lnTo>
                  <a:pt x="242867" y="1957"/>
                </a:lnTo>
                <a:lnTo>
                  <a:pt x="239238" y="3867"/>
                </a:lnTo>
                <a:lnTo>
                  <a:pt x="229914" y="5990"/>
                </a:lnTo>
                <a:lnTo>
                  <a:pt x="224650" y="6556"/>
                </a:lnTo>
                <a:lnTo>
                  <a:pt x="219156" y="7926"/>
                </a:lnTo>
                <a:lnTo>
                  <a:pt x="213509" y="9831"/>
                </a:lnTo>
                <a:lnTo>
                  <a:pt x="207760" y="12094"/>
                </a:lnTo>
                <a:lnTo>
                  <a:pt x="201943" y="15587"/>
                </a:lnTo>
                <a:lnTo>
                  <a:pt x="196080" y="19899"/>
                </a:lnTo>
                <a:lnTo>
                  <a:pt x="190188" y="24759"/>
                </a:lnTo>
                <a:lnTo>
                  <a:pt x="180995" y="32804"/>
                </a:lnTo>
                <a:lnTo>
                  <a:pt x="172609" y="40679"/>
                </a:lnTo>
                <a:lnTo>
                  <a:pt x="150030" y="62904"/>
                </a:lnTo>
                <a:lnTo>
                  <a:pt x="140657" y="74893"/>
                </a:lnTo>
                <a:lnTo>
                  <a:pt x="130869" y="89151"/>
                </a:lnTo>
                <a:lnTo>
                  <a:pt x="123211" y="102103"/>
                </a:lnTo>
                <a:lnTo>
                  <a:pt x="116501" y="114474"/>
                </a:lnTo>
                <a:lnTo>
                  <a:pt x="111203" y="126586"/>
                </a:lnTo>
                <a:lnTo>
                  <a:pt x="108849" y="138584"/>
                </a:lnTo>
                <a:lnTo>
                  <a:pt x="107802" y="150531"/>
                </a:lnTo>
                <a:lnTo>
                  <a:pt x="107337" y="162456"/>
                </a:lnTo>
                <a:lnTo>
                  <a:pt x="107075" y="180325"/>
                </a:lnTo>
                <a:lnTo>
                  <a:pt x="107014" y="192234"/>
                </a:lnTo>
                <a:lnTo>
                  <a:pt x="109632" y="204141"/>
                </a:lnTo>
                <a:lnTo>
                  <a:pt x="114104" y="215056"/>
                </a:lnTo>
                <a:lnTo>
                  <a:pt x="119398" y="223214"/>
                </a:lnTo>
                <a:lnTo>
                  <a:pt x="122199" y="225786"/>
                </a:lnTo>
                <a:lnTo>
                  <a:pt x="125058" y="227501"/>
                </a:lnTo>
                <a:lnTo>
                  <a:pt x="127957" y="228644"/>
                </a:lnTo>
                <a:lnTo>
                  <a:pt x="136469" y="229915"/>
                </a:lnTo>
                <a:lnTo>
                  <a:pt x="141517" y="230254"/>
                </a:lnTo>
                <a:lnTo>
                  <a:pt x="146867" y="230480"/>
                </a:lnTo>
                <a:lnTo>
                  <a:pt x="158103" y="230730"/>
                </a:lnTo>
                <a:lnTo>
                  <a:pt x="163877" y="229805"/>
                </a:lnTo>
                <a:lnTo>
                  <a:pt x="169711" y="228196"/>
                </a:lnTo>
                <a:lnTo>
                  <a:pt x="175585" y="226131"/>
                </a:lnTo>
                <a:lnTo>
                  <a:pt x="181485" y="223762"/>
                </a:lnTo>
                <a:lnTo>
                  <a:pt x="187403" y="221191"/>
                </a:lnTo>
                <a:lnTo>
                  <a:pt x="193332" y="218485"/>
                </a:lnTo>
                <a:lnTo>
                  <a:pt x="200262" y="214696"/>
                </a:lnTo>
                <a:lnTo>
                  <a:pt x="207858" y="210186"/>
                </a:lnTo>
                <a:lnTo>
                  <a:pt x="215899" y="205195"/>
                </a:lnTo>
                <a:lnTo>
                  <a:pt x="223244" y="199883"/>
                </a:lnTo>
                <a:lnTo>
                  <a:pt x="230124" y="194357"/>
                </a:lnTo>
                <a:lnTo>
                  <a:pt x="236696" y="188689"/>
                </a:lnTo>
                <a:lnTo>
                  <a:pt x="246644" y="177100"/>
                </a:lnTo>
                <a:lnTo>
                  <a:pt x="255365" y="165334"/>
                </a:lnTo>
                <a:lnTo>
                  <a:pt x="260469" y="159418"/>
                </a:lnTo>
                <a:lnTo>
                  <a:pt x="270439" y="147554"/>
                </a:lnTo>
                <a:lnTo>
                  <a:pt x="278177" y="135666"/>
                </a:lnTo>
                <a:lnTo>
                  <a:pt x="287569" y="123768"/>
                </a:lnTo>
                <a:lnTo>
                  <a:pt x="292853" y="117817"/>
                </a:lnTo>
                <a:lnTo>
                  <a:pt x="296374" y="111866"/>
                </a:lnTo>
                <a:lnTo>
                  <a:pt x="300288" y="99961"/>
                </a:lnTo>
                <a:lnTo>
                  <a:pt x="304673" y="88056"/>
                </a:lnTo>
                <a:lnTo>
                  <a:pt x="309929" y="76150"/>
                </a:lnTo>
                <a:lnTo>
                  <a:pt x="315572" y="64244"/>
                </a:lnTo>
                <a:lnTo>
                  <a:pt x="318742" y="54983"/>
                </a:lnTo>
                <a:lnTo>
                  <a:pt x="320776" y="40954"/>
                </a:lnTo>
                <a:lnTo>
                  <a:pt x="321129" y="36397"/>
                </a:lnTo>
                <a:lnTo>
                  <a:pt x="323857" y="32685"/>
                </a:lnTo>
                <a:lnTo>
                  <a:pt x="328953" y="26958"/>
                </a:lnTo>
                <a:lnTo>
                  <a:pt x="329371" y="27480"/>
                </a:lnTo>
                <a:lnTo>
                  <a:pt x="330097" y="33361"/>
                </a:lnTo>
                <a:lnTo>
                  <a:pt x="330193" y="46690"/>
                </a:lnTo>
                <a:lnTo>
                  <a:pt x="330204" y="72609"/>
                </a:lnTo>
                <a:lnTo>
                  <a:pt x="329213" y="80735"/>
                </a:lnTo>
                <a:lnTo>
                  <a:pt x="327560" y="89128"/>
                </a:lnTo>
                <a:lnTo>
                  <a:pt x="325466" y="97700"/>
                </a:lnTo>
                <a:lnTo>
                  <a:pt x="324070" y="106392"/>
                </a:lnTo>
                <a:lnTo>
                  <a:pt x="323139" y="115163"/>
                </a:lnTo>
                <a:lnTo>
                  <a:pt x="322518" y="123987"/>
                </a:lnTo>
                <a:lnTo>
                  <a:pt x="321113" y="132846"/>
                </a:lnTo>
                <a:lnTo>
                  <a:pt x="319183" y="141728"/>
                </a:lnTo>
                <a:lnTo>
                  <a:pt x="316905" y="150627"/>
                </a:lnTo>
                <a:lnTo>
                  <a:pt x="315386" y="160528"/>
                </a:lnTo>
                <a:lnTo>
                  <a:pt x="314373" y="171097"/>
                </a:lnTo>
                <a:lnTo>
                  <a:pt x="313698" y="182112"/>
                </a:lnTo>
                <a:lnTo>
                  <a:pt x="312256" y="193424"/>
                </a:lnTo>
                <a:lnTo>
                  <a:pt x="310302" y="204935"/>
                </a:lnTo>
                <a:lnTo>
                  <a:pt x="308008" y="216577"/>
                </a:lnTo>
                <a:lnTo>
                  <a:pt x="302812" y="240095"/>
                </a:lnTo>
                <a:lnTo>
                  <a:pt x="300038" y="251924"/>
                </a:lnTo>
                <a:lnTo>
                  <a:pt x="296203" y="263778"/>
                </a:lnTo>
                <a:lnTo>
                  <a:pt x="291663" y="275649"/>
                </a:lnTo>
                <a:lnTo>
                  <a:pt x="286652" y="287532"/>
                </a:lnTo>
                <a:lnTo>
                  <a:pt x="282319" y="298431"/>
                </a:lnTo>
                <a:lnTo>
                  <a:pt x="274858" y="318478"/>
                </a:lnTo>
                <a:lnTo>
                  <a:pt x="270488" y="327991"/>
                </a:lnTo>
                <a:lnTo>
                  <a:pt x="265590" y="337310"/>
                </a:lnTo>
                <a:lnTo>
                  <a:pt x="260340" y="346499"/>
                </a:lnTo>
                <a:lnTo>
                  <a:pt x="249214" y="367292"/>
                </a:lnTo>
                <a:lnTo>
                  <a:pt x="243470" y="378393"/>
                </a:lnTo>
                <a:lnTo>
                  <a:pt x="236664" y="387778"/>
                </a:lnTo>
                <a:lnTo>
                  <a:pt x="229150" y="396019"/>
                </a:lnTo>
                <a:lnTo>
                  <a:pt x="221163" y="403498"/>
                </a:lnTo>
                <a:lnTo>
                  <a:pt x="213855" y="411460"/>
                </a:lnTo>
                <a:lnTo>
                  <a:pt x="206998" y="419745"/>
                </a:lnTo>
                <a:lnTo>
                  <a:pt x="200443" y="428244"/>
                </a:lnTo>
                <a:lnTo>
                  <a:pt x="193096" y="435895"/>
                </a:lnTo>
                <a:lnTo>
                  <a:pt x="185221" y="442980"/>
                </a:lnTo>
                <a:lnTo>
                  <a:pt x="176996" y="449688"/>
                </a:lnTo>
                <a:lnTo>
                  <a:pt x="169527" y="455152"/>
                </a:lnTo>
                <a:lnTo>
                  <a:pt x="162563" y="459786"/>
                </a:lnTo>
                <a:lnTo>
                  <a:pt x="155937" y="463868"/>
                </a:lnTo>
                <a:lnTo>
                  <a:pt x="132389" y="479095"/>
                </a:lnTo>
                <a:lnTo>
                  <a:pt x="124906" y="483686"/>
                </a:lnTo>
                <a:lnTo>
                  <a:pt x="117934" y="487739"/>
                </a:lnTo>
                <a:lnTo>
                  <a:pt x="111301" y="491433"/>
                </a:lnTo>
                <a:lnTo>
                  <a:pt x="103902" y="493896"/>
                </a:lnTo>
                <a:lnTo>
                  <a:pt x="95994" y="495538"/>
                </a:lnTo>
                <a:lnTo>
                  <a:pt x="87744" y="496633"/>
                </a:lnTo>
                <a:lnTo>
                  <a:pt x="80261" y="498355"/>
                </a:lnTo>
                <a:lnTo>
                  <a:pt x="73287" y="500495"/>
                </a:lnTo>
                <a:lnTo>
                  <a:pt x="66653" y="502914"/>
                </a:lnTo>
                <a:lnTo>
                  <a:pt x="60247" y="504526"/>
                </a:lnTo>
                <a:lnTo>
                  <a:pt x="53991" y="505601"/>
                </a:lnTo>
                <a:lnTo>
                  <a:pt x="47837" y="506318"/>
                </a:lnTo>
                <a:lnTo>
                  <a:pt x="42741" y="505804"/>
                </a:lnTo>
                <a:lnTo>
                  <a:pt x="38352" y="504468"/>
                </a:lnTo>
                <a:lnTo>
                  <a:pt x="34434" y="502586"/>
                </a:lnTo>
                <a:lnTo>
                  <a:pt x="24789" y="500495"/>
                </a:lnTo>
                <a:lnTo>
                  <a:pt x="14880" y="499566"/>
                </a:lnTo>
                <a:lnTo>
                  <a:pt x="4715" y="499042"/>
                </a:lnTo>
                <a:lnTo>
                  <a:pt x="1989" y="498920"/>
                </a:lnTo>
                <a:lnTo>
                  <a:pt x="1262" y="497895"/>
                </a:lnTo>
                <a:lnTo>
                  <a:pt x="0" y="491142"/>
                </a:lnTo>
                <a:lnTo>
                  <a:pt x="2539" y="487802"/>
                </a:lnTo>
                <a:lnTo>
                  <a:pt x="10840" y="478917"/>
                </a:lnTo>
                <a:lnTo>
                  <a:pt x="13116" y="476622"/>
                </a:lnTo>
                <a:lnTo>
                  <a:pt x="16618" y="475093"/>
                </a:lnTo>
                <a:lnTo>
                  <a:pt x="25800" y="473392"/>
                </a:lnTo>
                <a:lnTo>
                  <a:pt x="31027" y="472939"/>
                </a:lnTo>
                <a:lnTo>
                  <a:pt x="36496" y="472637"/>
                </a:lnTo>
                <a:lnTo>
                  <a:pt x="42126" y="472436"/>
                </a:lnTo>
                <a:lnTo>
                  <a:pt x="46872" y="471309"/>
                </a:lnTo>
                <a:lnTo>
                  <a:pt x="54791" y="467412"/>
                </a:lnTo>
                <a:lnTo>
                  <a:pt x="59284" y="466968"/>
                </a:lnTo>
                <a:lnTo>
                  <a:pt x="69567" y="469120"/>
                </a:lnTo>
                <a:lnTo>
                  <a:pt x="75088" y="470091"/>
                </a:lnTo>
                <a:lnTo>
                  <a:pt x="80753" y="470738"/>
                </a:lnTo>
                <a:lnTo>
                  <a:pt x="86513" y="471170"/>
                </a:lnTo>
                <a:lnTo>
                  <a:pt x="92339" y="471458"/>
                </a:lnTo>
                <a:lnTo>
                  <a:pt x="104102" y="471777"/>
                </a:lnTo>
                <a:lnTo>
                  <a:pt x="110017" y="472855"/>
                </a:lnTo>
                <a:lnTo>
                  <a:pt x="115945" y="474565"/>
                </a:lnTo>
                <a:lnTo>
                  <a:pt x="121881" y="476698"/>
                </a:lnTo>
                <a:lnTo>
                  <a:pt x="128815" y="478119"/>
                </a:lnTo>
                <a:lnTo>
                  <a:pt x="136415" y="479067"/>
                </a:lnTo>
                <a:lnTo>
                  <a:pt x="144457" y="479699"/>
                </a:lnTo>
                <a:lnTo>
                  <a:pt x="151804" y="481112"/>
                </a:lnTo>
                <a:lnTo>
                  <a:pt x="158685" y="483047"/>
                </a:lnTo>
                <a:lnTo>
                  <a:pt x="165258" y="485328"/>
                </a:lnTo>
                <a:lnTo>
                  <a:pt x="172616" y="486850"/>
                </a:lnTo>
                <a:lnTo>
                  <a:pt x="180498" y="487864"/>
                </a:lnTo>
                <a:lnTo>
                  <a:pt x="188729" y="488540"/>
                </a:lnTo>
                <a:lnTo>
                  <a:pt x="196201" y="488991"/>
                </a:lnTo>
                <a:lnTo>
                  <a:pt x="209795" y="489492"/>
                </a:lnTo>
                <a:lnTo>
                  <a:pt x="216198" y="490617"/>
                </a:lnTo>
                <a:lnTo>
                  <a:pt x="222451" y="492360"/>
                </a:lnTo>
                <a:lnTo>
                  <a:pt x="228604" y="494514"/>
                </a:lnTo>
                <a:lnTo>
                  <a:pt x="234690" y="495950"/>
                </a:lnTo>
                <a:lnTo>
                  <a:pt x="240733" y="496907"/>
                </a:lnTo>
                <a:lnTo>
                  <a:pt x="246745" y="497545"/>
                </a:lnTo>
                <a:lnTo>
                  <a:pt x="256071" y="498254"/>
                </a:lnTo>
                <a:lnTo>
                  <a:pt x="267699" y="498822"/>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01" name="SMARTInkAnnotation94"/>
          <p:cNvSpPr/>
          <p:nvPr/>
        </p:nvSpPr>
        <p:spPr>
          <a:xfrm>
            <a:off x="2562120" y="2197080"/>
            <a:ext cx="260280" cy="27000"/>
          </a:xfrm>
          <a:custGeom>
            <a:avLst/>
            <a:gdLst>
              <a:gd name="textAreaLeft" fmla="*/ 0 w 260280"/>
              <a:gd name="textAreaRight" fmla="*/ 260640 w 260280"/>
              <a:gd name="textAreaTop" fmla="*/ 0 h 27000"/>
              <a:gd name="textAreaBottom" fmla="*/ 27360 h 27000"/>
            </a:gdLst>
            <a:ahLst/>
            <a:rect l="textAreaLeft" t="textAreaTop" r="textAreaRight" b="textAreaBottom"/>
            <a:pathLst>
              <a:path w="258962" h="26790">
                <a:moveTo>
                  <a:pt x="0" y="26789"/>
                </a:moveTo>
                <a:lnTo>
                  <a:pt x="0" y="19100"/>
                </a:lnTo>
                <a:lnTo>
                  <a:pt x="992" y="17694"/>
                </a:lnTo>
                <a:lnTo>
                  <a:pt x="2646" y="15765"/>
                </a:lnTo>
                <a:lnTo>
                  <a:pt x="7688" y="10280"/>
                </a:lnTo>
                <a:lnTo>
                  <a:pt x="13670" y="9529"/>
                </a:lnTo>
                <a:lnTo>
                  <a:pt x="18043" y="9329"/>
                </a:lnTo>
                <a:lnTo>
                  <a:pt x="21950" y="8204"/>
                </a:lnTo>
                <a:lnTo>
                  <a:pt x="25547" y="6461"/>
                </a:lnTo>
                <a:lnTo>
                  <a:pt x="28938" y="4308"/>
                </a:lnTo>
                <a:lnTo>
                  <a:pt x="33183" y="2872"/>
                </a:lnTo>
                <a:lnTo>
                  <a:pt x="37997" y="1914"/>
                </a:lnTo>
                <a:lnTo>
                  <a:pt x="43190" y="1276"/>
                </a:lnTo>
                <a:lnTo>
                  <a:pt x="48637" y="851"/>
                </a:lnTo>
                <a:lnTo>
                  <a:pt x="54253" y="567"/>
                </a:lnTo>
                <a:lnTo>
                  <a:pt x="59981" y="378"/>
                </a:lnTo>
                <a:lnTo>
                  <a:pt x="89569" y="74"/>
                </a:lnTo>
                <a:lnTo>
                  <a:pt x="192117" y="0"/>
                </a:lnTo>
                <a:lnTo>
                  <a:pt x="198523" y="992"/>
                </a:lnTo>
                <a:lnTo>
                  <a:pt x="204779" y="2646"/>
                </a:lnTo>
                <a:lnTo>
                  <a:pt x="210933" y="4740"/>
                </a:lnTo>
                <a:lnTo>
                  <a:pt x="217020" y="6137"/>
                </a:lnTo>
                <a:lnTo>
                  <a:pt x="223063" y="7067"/>
                </a:lnTo>
                <a:lnTo>
                  <a:pt x="229076" y="7688"/>
                </a:lnTo>
                <a:lnTo>
                  <a:pt x="234076" y="8102"/>
                </a:lnTo>
                <a:lnTo>
                  <a:pt x="238403" y="8378"/>
                </a:lnTo>
                <a:lnTo>
                  <a:pt x="245855" y="8684"/>
                </a:lnTo>
                <a:lnTo>
                  <a:pt x="258961" y="8929"/>
                </a:lnTo>
              </a:path>
            </a:pathLst>
          </a:custGeom>
          <a:noFill/>
          <a:ln w="38160">
            <a:solidFill>
              <a:srgbClr val="009300"/>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Constantia"/>
            </a:endParaRPr>
          </a:p>
        </p:txBody>
      </p:sp>
      <p:sp>
        <p:nvSpPr>
          <p:cNvPr id="302" name="SMARTInkAnnotation95"/>
          <p:cNvSpPr/>
          <p:nvPr/>
        </p:nvSpPr>
        <p:spPr>
          <a:xfrm>
            <a:off x="2571840" y="2340000"/>
            <a:ext cx="214200" cy="34920"/>
          </a:xfrm>
          <a:custGeom>
            <a:avLst/>
            <a:gdLst>
              <a:gd name="textAreaLeft" fmla="*/ 0 w 214200"/>
              <a:gd name="textAreaRight" fmla="*/ 214560 w 214200"/>
              <a:gd name="textAreaTop" fmla="*/ 0 h 34920"/>
              <a:gd name="textAreaBottom" fmla="*/ 35280 h 34920"/>
            </a:gdLst>
            <a:ahLst/>
            <a:rect l="textAreaLeft" t="textAreaTop" r="textAreaRight" b="textAreaBottom"/>
            <a:pathLst>
              <a:path w="214313" h="35719">
                <a:moveTo>
                  <a:pt x="0" y="35718"/>
                </a:moveTo>
                <a:lnTo>
                  <a:pt x="4740" y="35718"/>
                </a:lnTo>
                <a:lnTo>
                  <a:pt x="6136" y="34726"/>
                </a:lnTo>
                <a:lnTo>
                  <a:pt x="7068" y="33073"/>
                </a:lnTo>
                <a:lnTo>
                  <a:pt x="7688" y="30978"/>
                </a:lnTo>
                <a:lnTo>
                  <a:pt x="9094" y="29581"/>
                </a:lnTo>
                <a:lnTo>
                  <a:pt x="11023" y="28650"/>
                </a:lnTo>
                <a:lnTo>
                  <a:pt x="13302" y="28030"/>
                </a:lnTo>
                <a:lnTo>
                  <a:pt x="16806" y="27616"/>
                </a:lnTo>
                <a:lnTo>
                  <a:pt x="21125" y="27340"/>
                </a:lnTo>
                <a:lnTo>
                  <a:pt x="25990" y="27156"/>
                </a:lnTo>
                <a:lnTo>
                  <a:pt x="30225" y="26042"/>
                </a:lnTo>
                <a:lnTo>
                  <a:pt x="34041" y="24306"/>
                </a:lnTo>
                <a:lnTo>
                  <a:pt x="37576" y="22157"/>
                </a:lnTo>
                <a:lnTo>
                  <a:pt x="42910" y="20725"/>
                </a:lnTo>
                <a:lnTo>
                  <a:pt x="49443" y="19769"/>
                </a:lnTo>
                <a:lnTo>
                  <a:pt x="56774" y="19132"/>
                </a:lnTo>
                <a:lnTo>
                  <a:pt x="63646" y="18708"/>
                </a:lnTo>
                <a:lnTo>
                  <a:pt x="76574" y="18236"/>
                </a:lnTo>
                <a:lnTo>
                  <a:pt x="83791" y="17118"/>
                </a:lnTo>
                <a:lnTo>
                  <a:pt x="91580" y="15381"/>
                </a:lnTo>
                <a:lnTo>
                  <a:pt x="99748" y="13231"/>
                </a:lnTo>
                <a:lnTo>
                  <a:pt x="108170" y="11797"/>
                </a:lnTo>
                <a:lnTo>
                  <a:pt x="116762" y="10841"/>
                </a:lnTo>
                <a:lnTo>
                  <a:pt x="125466" y="10204"/>
                </a:lnTo>
                <a:lnTo>
                  <a:pt x="134246" y="9779"/>
                </a:lnTo>
                <a:lnTo>
                  <a:pt x="151938" y="9307"/>
                </a:lnTo>
                <a:lnTo>
                  <a:pt x="173893" y="9042"/>
                </a:lnTo>
                <a:lnTo>
                  <a:pt x="180420" y="8012"/>
                </a:lnTo>
                <a:lnTo>
                  <a:pt x="186757" y="6333"/>
                </a:lnTo>
                <a:lnTo>
                  <a:pt x="192965" y="4222"/>
                </a:lnTo>
                <a:lnTo>
                  <a:pt x="198096" y="2815"/>
                </a:lnTo>
                <a:lnTo>
                  <a:pt x="202510" y="1876"/>
                </a:lnTo>
                <a:lnTo>
                  <a:pt x="214312" y="0"/>
                </a:lnTo>
              </a:path>
            </a:pathLst>
          </a:custGeom>
          <a:noFill/>
          <a:ln w="38160">
            <a:solidFill>
              <a:srgbClr val="009300"/>
            </a:solidFill>
            <a:round/>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Constantia"/>
            </a:endParaRPr>
          </a:p>
        </p:txBody>
      </p:sp>
      <p:sp>
        <p:nvSpPr>
          <p:cNvPr id="303" name="SMARTInkAnnotation96"/>
          <p:cNvSpPr/>
          <p:nvPr/>
        </p:nvSpPr>
        <p:spPr>
          <a:xfrm>
            <a:off x="3017880" y="1973160"/>
            <a:ext cx="44280" cy="527040"/>
          </a:xfrm>
          <a:custGeom>
            <a:avLst/>
            <a:gdLst>
              <a:gd name="textAreaLeft" fmla="*/ 0 w 44280"/>
              <a:gd name="textAreaRight" fmla="*/ 44280 w 44280"/>
              <a:gd name="textAreaTop" fmla="*/ 0 h 527040"/>
              <a:gd name="textAreaBottom" fmla="*/ 527400 h 527040"/>
            </a:gdLst>
            <a:ahLst/>
            <a:rect l="textAreaLeft" t="textAreaTop" r="textAreaRight" b="textAreaBottom"/>
            <a:pathLst>
              <a:path w="44650" h="526852">
                <a:moveTo>
                  <a:pt x="44649" y="0"/>
                </a:moveTo>
                <a:lnTo>
                  <a:pt x="44649" y="46980"/>
                </a:lnTo>
                <a:lnTo>
                  <a:pt x="43656" y="54140"/>
                </a:lnTo>
                <a:lnTo>
                  <a:pt x="42003" y="60898"/>
                </a:lnTo>
                <a:lnTo>
                  <a:pt x="39908" y="67388"/>
                </a:lnTo>
                <a:lnTo>
                  <a:pt x="38512" y="75683"/>
                </a:lnTo>
                <a:lnTo>
                  <a:pt x="37580" y="85182"/>
                </a:lnTo>
                <a:lnTo>
                  <a:pt x="36960" y="95483"/>
                </a:lnTo>
                <a:lnTo>
                  <a:pt x="36270" y="114866"/>
                </a:lnTo>
                <a:lnTo>
                  <a:pt x="35882" y="145159"/>
                </a:lnTo>
                <a:lnTo>
                  <a:pt x="35751" y="190951"/>
                </a:lnTo>
                <a:lnTo>
                  <a:pt x="34748" y="202707"/>
                </a:lnTo>
                <a:lnTo>
                  <a:pt x="33087" y="214513"/>
                </a:lnTo>
                <a:lnTo>
                  <a:pt x="30988" y="226352"/>
                </a:lnTo>
                <a:lnTo>
                  <a:pt x="29588" y="238214"/>
                </a:lnTo>
                <a:lnTo>
                  <a:pt x="28655" y="250090"/>
                </a:lnTo>
                <a:lnTo>
                  <a:pt x="28033" y="261977"/>
                </a:lnTo>
                <a:lnTo>
                  <a:pt x="26626" y="273870"/>
                </a:lnTo>
                <a:lnTo>
                  <a:pt x="24696" y="285767"/>
                </a:lnTo>
                <a:lnTo>
                  <a:pt x="22417" y="297668"/>
                </a:lnTo>
                <a:lnTo>
                  <a:pt x="20898" y="308578"/>
                </a:lnTo>
                <a:lnTo>
                  <a:pt x="19885" y="318828"/>
                </a:lnTo>
                <a:lnTo>
                  <a:pt x="19210" y="328638"/>
                </a:lnTo>
                <a:lnTo>
                  <a:pt x="17768" y="339146"/>
                </a:lnTo>
                <a:lnTo>
                  <a:pt x="15814" y="350121"/>
                </a:lnTo>
                <a:lnTo>
                  <a:pt x="13519" y="361406"/>
                </a:lnTo>
                <a:lnTo>
                  <a:pt x="11989" y="371906"/>
                </a:lnTo>
                <a:lnTo>
                  <a:pt x="10969" y="381882"/>
                </a:lnTo>
                <a:lnTo>
                  <a:pt x="10289" y="391510"/>
                </a:lnTo>
                <a:lnTo>
                  <a:pt x="8844" y="400905"/>
                </a:lnTo>
                <a:lnTo>
                  <a:pt x="6888" y="410145"/>
                </a:lnTo>
                <a:lnTo>
                  <a:pt x="4592" y="419281"/>
                </a:lnTo>
                <a:lnTo>
                  <a:pt x="3062" y="428349"/>
                </a:lnTo>
                <a:lnTo>
                  <a:pt x="2041" y="437370"/>
                </a:lnTo>
                <a:lnTo>
                  <a:pt x="1361" y="446361"/>
                </a:lnTo>
                <a:lnTo>
                  <a:pt x="605" y="461643"/>
                </a:lnTo>
                <a:lnTo>
                  <a:pt x="269" y="475050"/>
                </a:lnTo>
                <a:lnTo>
                  <a:pt x="0" y="526851"/>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04" name="SMARTInkAnnotation97"/>
          <p:cNvSpPr/>
          <p:nvPr/>
        </p:nvSpPr>
        <p:spPr>
          <a:xfrm>
            <a:off x="3125880" y="2044800"/>
            <a:ext cx="285480" cy="426960"/>
          </a:xfrm>
          <a:custGeom>
            <a:avLst/>
            <a:gdLst>
              <a:gd name="textAreaLeft" fmla="*/ 0 w 285480"/>
              <a:gd name="textAreaRight" fmla="*/ 285840 w 285480"/>
              <a:gd name="textAreaTop" fmla="*/ 0 h 426960"/>
              <a:gd name="textAreaBottom" fmla="*/ 427320 h 426960"/>
            </a:gdLst>
            <a:ahLst/>
            <a:rect l="textAreaLeft" t="textAreaTop" r="textAreaRight" b="textAreaBottom"/>
            <a:pathLst>
              <a:path w="285507" h="426693">
                <a:moveTo>
                  <a:pt x="124966" y="0"/>
                </a:moveTo>
                <a:lnTo>
                  <a:pt x="112537" y="12429"/>
                </a:lnTo>
                <a:lnTo>
                  <a:pt x="104228" y="18092"/>
                </a:lnTo>
                <a:lnTo>
                  <a:pt x="99235" y="20991"/>
                </a:lnTo>
                <a:lnTo>
                  <a:pt x="91040" y="26858"/>
                </a:lnTo>
                <a:lnTo>
                  <a:pt x="83099" y="33765"/>
                </a:lnTo>
                <a:lnTo>
                  <a:pt x="72955" y="43449"/>
                </a:lnTo>
                <a:lnTo>
                  <a:pt x="68464" y="49802"/>
                </a:lnTo>
                <a:lnTo>
                  <a:pt x="64478" y="57014"/>
                </a:lnTo>
                <a:lnTo>
                  <a:pt x="60828" y="64799"/>
                </a:lnTo>
                <a:lnTo>
                  <a:pt x="56410" y="72965"/>
                </a:lnTo>
                <a:lnTo>
                  <a:pt x="51481" y="81385"/>
                </a:lnTo>
                <a:lnTo>
                  <a:pt x="46210" y="89976"/>
                </a:lnTo>
                <a:lnTo>
                  <a:pt x="40712" y="101656"/>
                </a:lnTo>
                <a:lnTo>
                  <a:pt x="35062" y="115395"/>
                </a:lnTo>
                <a:lnTo>
                  <a:pt x="29311" y="130508"/>
                </a:lnTo>
                <a:lnTo>
                  <a:pt x="24486" y="144553"/>
                </a:lnTo>
                <a:lnTo>
                  <a:pt x="20276" y="157884"/>
                </a:lnTo>
                <a:lnTo>
                  <a:pt x="12952" y="182288"/>
                </a:lnTo>
                <a:lnTo>
                  <a:pt x="6391" y="203056"/>
                </a:lnTo>
                <a:lnTo>
                  <a:pt x="4244" y="213753"/>
                </a:lnTo>
                <a:lnTo>
                  <a:pt x="2813" y="224854"/>
                </a:lnTo>
                <a:lnTo>
                  <a:pt x="1858" y="236223"/>
                </a:lnTo>
                <a:lnTo>
                  <a:pt x="1223" y="246779"/>
                </a:lnTo>
                <a:lnTo>
                  <a:pt x="516" y="266445"/>
                </a:lnTo>
                <a:lnTo>
                  <a:pt x="62" y="309461"/>
                </a:lnTo>
                <a:lnTo>
                  <a:pt x="0" y="329030"/>
                </a:lnTo>
                <a:lnTo>
                  <a:pt x="976" y="338416"/>
                </a:lnTo>
                <a:lnTo>
                  <a:pt x="2618" y="347650"/>
                </a:lnTo>
                <a:lnTo>
                  <a:pt x="4705" y="356782"/>
                </a:lnTo>
                <a:lnTo>
                  <a:pt x="7089" y="364855"/>
                </a:lnTo>
                <a:lnTo>
                  <a:pt x="9670" y="372221"/>
                </a:lnTo>
                <a:lnTo>
                  <a:pt x="12383" y="379116"/>
                </a:lnTo>
                <a:lnTo>
                  <a:pt x="20690" y="392069"/>
                </a:lnTo>
                <a:lnTo>
                  <a:pt x="25683" y="398301"/>
                </a:lnTo>
                <a:lnTo>
                  <a:pt x="30996" y="403448"/>
                </a:lnTo>
                <a:lnTo>
                  <a:pt x="36523" y="407872"/>
                </a:lnTo>
                <a:lnTo>
                  <a:pt x="42191" y="411813"/>
                </a:lnTo>
                <a:lnTo>
                  <a:pt x="47954" y="415433"/>
                </a:lnTo>
                <a:lnTo>
                  <a:pt x="53781" y="418838"/>
                </a:lnTo>
                <a:lnTo>
                  <a:pt x="59650" y="422100"/>
                </a:lnTo>
                <a:lnTo>
                  <a:pt x="66539" y="424275"/>
                </a:lnTo>
                <a:lnTo>
                  <a:pt x="74109" y="425725"/>
                </a:lnTo>
                <a:lnTo>
                  <a:pt x="82131" y="426692"/>
                </a:lnTo>
                <a:lnTo>
                  <a:pt x="90456" y="426344"/>
                </a:lnTo>
                <a:lnTo>
                  <a:pt x="98983" y="425120"/>
                </a:lnTo>
                <a:lnTo>
                  <a:pt x="107644" y="423312"/>
                </a:lnTo>
                <a:lnTo>
                  <a:pt x="116395" y="421114"/>
                </a:lnTo>
                <a:lnTo>
                  <a:pt x="125205" y="418657"/>
                </a:lnTo>
                <a:lnTo>
                  <a:pt x="134054" y="416026"/>
                </a:lnTo>
                <a:lnTo>
                  <a:pt x="142932" y="412288"/>
                </a:lnTo>
                <a:lnTo>
                  <a:pt x="151826" y="407812"/>
                </a:lnTo>
                <a:lnTo>
                  <a:pt x="160732" y="402843"/>
                </a:lnTo>
                <a:lnTo>
                  <a:pt x="169646" y="397547"/>
                </a:lnTo>
                <a:lnTo>
                  <a:pt x="187488" y="386370"/>
                </a:lnTo>
                <a:lnTo>
                  <a:pt x="195420" y="379619"/>
                </a:lnTo>
                <a:lnTo>
                  <a:pt x="202694" y="372142"/>
                </a:lnTo>
                <a:lnTo>
                  <a:pt x="209526" y="364181"/>
                </a:lnTo>
                <a:lnTo>
                  <a:pt x="217059" y="355896"/>
                </a:lnTo>
                <a:lnTo>
                  <a:pt x="233365" y="338754"/>
                </a:lnTo>
                <a:lnTo>
                  <a:pt x="239896" y="330016"/>
                </a:lnTo>
                <a:lnTo>
                  <a:pt x="245242" y="321214"/>
                </a:lnTo>
                <a:lnTo>
                  <a:pt x="265692" y="280959"/>
                </a:lnTo>
                <a:lnTo>
                  <a:pt x="270377" y="270650"/>
                </a:lnTo>
                <a:lnTo>
                  <a:pt x="274493" y="260800"/>
                </a:lnTo>
                <a:lnTo>
                  <a:pt x="278228" y="251257"/>
                </a:lnTo>
                <a:lnTo>
                  <a:pt x="280719" y="241919"/>
                </a:lnTo>
                <a:lnTo>
                  <a:pt x="282379" y="232717"/>
                </a:lnTo>
                <a:lnTo>
                  <a:pt x="283486" y="223605"/>
                </a:lnTo>
                <a:lnTo>
                  <a:pt x="284224" y="214555"/>
                </a:lnTo>
                <a:lnTo>
                  <a:pt x="284716" y="205544"/>
                </a:lnTo>
                <a:lnTo>
                  <a:pt x="285044" y="196561"/>
                </a:lnTo>
                <a:lnTo>
                  <a:pt x="285506" y="164956"/>
                </a:lnTo>
                <a:lnTo>
                  <a:pt x="284578" y="154619"/>
                </a:lnTo>
                <a:lnTo>
                  <a:pt x="282968" y="144751"/>
                </a:lnTo>
                <a:lnTo>
                  <a:pt x="280902" y="135196"/>
                </a:lnTo>
                <a:lnTo>
                  <a:pt x="279525" y="126841"/>
                </a:lnTo>
                <a:lnTo>
                  <a:pt x="278607" y="119287"/>
                </a:lnTo>
                <a:lnTo>
                  <a:pt x="277995" y="112267"/>
                </a:lnTo>
                <a:lnTo>
                  <a:pt x="274669" y="99175"/>
                </a:lnTo>
                <a:lnTo>
                  <a:pt x="272393" y="92906"/>
                </a:lnTo>
                <a:lnTo>
                  <a:pt x="264572" y="80648"/>
                </a:lnTo>
                <a:lnTo>
                  <a:pt x="259709" y="74601"/>
                </a:lnTo>
                <a:lnTo>
                  <a:pt x="251659" y="62591"/>
                </a:lnTo>
                <a:lnTo>
                  <a:pt x="248123" y="56610"/>
                </a:lnTo>
                <a:lnTo>
                  <a:pt x="243782" y="51631"/>
                </a:lnTo>
                <a:lnTo>
                  <a:pt x="238903" y="47319"/>
                </a:lnTo>
                <a:lnTo>
                  <a:pt x="233666" y="43452"/>
                </a:lnTo>
                <a:lnTo>
                  <a:pt x="225201" y="39156"/>
                </a:lnTo>
                <a:lnTo>
                  <a:pt x="221555" y="38010"/>
                </a:lnTo>
                <a:lnTo>
                  <a:pt x="214858" y="34091"/>
                </a:lnTo>
                <a:lnTo>
                  <a:pt x="211683" y="31657"/>
                </a:lnTo>
                <a:lnTo>
                  <a:pt x="205509" y="28953"/>
                </a:lnTo>
                <a:lnTo>
                  <a:pt x="196403" y="2678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05" name="SMARTInkAnnotation98"/>
          <p:cNvSpPr/>
          <p:nvPr/>
        </p:nvSpPr>
        <p:spPr>
          <a:xfrm>
            <a:off x="3451320" y="2116080"/>
            <a:ext cx="261720" cy="347760"/>
          </a:xfrm>
          <a:custGeom>
            <a:avLst/>
            <a:gdLst>
              <a:gd name="textAreaLeft" fmla="*/ 0 w 261720"/>
              <a:gd name="textAreaRight" fmla="*/ 262080 w 261720"/>
              <a:gd name="textAreaTop" fmla="*/ 0 h 347760"/>
              <a:gd name="textAreaBottom" fmla="*/ 348120 h 347760"/>
            </a:gdLst>
            <a:ahLst/>
            <a:rect l="textAreaLeft" t="textAreaTop" r="textAreaRight" b="textAreaBottom"/>
            <a:pathLst>
              <a:path w="261943" h="347968">
                <a:moveTo>
                  <a:pt x="165528" y="0"/>
                </a:moveTo>
                <a:lnTo>
                  <a:pt x="126896" y="0"/>
                </a:lnTo>
                <a:lnTo>
                  <a:pt x="122906" y="993"/>
                </a:lnTo>
                <a:lnTo>
                  <a:pt x="118262" y="2646"/>
                </a:lnTo>
                <a:lnTo>
                  <a:pt x="113182" y="4741"/>
                </a:lnTo>
                <a:lnTo>
                  <a:pt x="107810" y="7129"/>
                </a:lnTo>
                <a:lnTo>
                  <a:pt x="96550" y="12429"/>
                </a:lnTo>
                <a:lnTo>
                  <a:pt x="79054" y="20991"/>
                </a:lnTo>
                <a:lnTo>
                  <a:pt x="74144" y="23916"/>
                </a:lnTo>
                <a:lnTo>
                  <a:pt x="66043" y="29812"/>
                </a:lnTo>
                <a:lnTo>
                  <a:pt x="61502" y="33765"/>
                </a:lnTo>
                <a:lnTo>
                  <a:pt x="56489" y="38385"/>
                </a:lnTo>
                <a:lnTo>
                  <a:pt x="51164" y="43450"/>
                </a:lnTo>
                <a:lnTo>
                  <a:pt x="46621" y="49803"/>
                </a:lnTo>
                <a:lnTo>
                  <a:pt x="42601" y="57014"/>
                </a:lnTo>
                <a:lnTo>
                  <a:pt x="32201" y="78740"/>
                </a:lnTo>
                <a:lnTo>
                  <a:pt x="29019" y="85236"/>
                </a:lnTo>
                <a:lnTo>
                  <a:pt x="25905" y="92542"/>
                </a:lnTo>
                <a:lnTo>
                  <a:pt x="22837" y="100391"/>
                </a:lnTo>
                <a:lnTo>
                  <a:pt x="16782" y="117048"/>
                </a:lnTo>
                <a:lnTo>
                  <a:pt x="10783" y="134373"/>
                </a:lnTo>
                <a:lnTo>
                  <a:pt x="8786" y="143160"/>
                </a:lnTo>
                <a:lnTo>
                  <a:pt x="7455" y="151995"/>
                </a:lnTo>
                <a:lnTo>
                  <a:pt x="6568" y="160861"/>
                </a:lnTo>
                <a:lnTo>
                  <a:pt x="4984" y="170741"/>
                </a:lnTo>
                <a:lnTo>
                  <a:pt x="2936" y="181296"/>
                </a:lnTo>
                <a:lnTo>
                  <a:pt x="579" y="192302"/>
                </a:lnTo>
                <a:lnTo>
                  <a:pt x="0" y="202615"/>
                </a:lnTo>
                <a:lnTo>
                  <a:pt x="605" y="212468"/>
                </a:lnTo>
                <a:lnTo>
                  <a:pt x="2002" y="222012"/>
                </a:lnTo>
                <a:lnTo>
                  <a:pt x="2932" y="231352"/>
                </a:lnTo>
                <a:lnTo>
                  <a:pt x="3553" y="240555"/>
                </a:lnTo>
                <a:lnTo>
                  <a:pt x="3966" y="249667"/>
                </a:lnTo>
                <a:lnTo>
                  <a:pt x="5235" y="258718"/>
                </a:lnTo>
                <a:lnTo>
                  <a:pt x="7072" y="267729"/>
                </a:lnTo>
                <a:lnTo>
                  <a:pt x="9289" y="276713"/>
                </a:lnTo>
                <a:lnTo>
                  <a:pt x="11759" y="285679"/>
                </a:lnTo>
                <a:lnTo>
                  <a:pt x="17150" y="303578"/>
                </a:lnTo>
                <a:lnTo>
                  <a:pt x="19976" y="310534"/>
                </a:lnTo>
                <a:lnTo>
                  <a:pt x="25763" y="320909"/>
                </a:lnTo>
                <a:lnTo>
                  <a:pt x="29687" y="326056"/>
                </a:lnTo>
                <a:lnTo>
                  <a:pt x="34287" y="331472"/>
                </a:lnTo>
                <a:lnTo>
                  <a:pt x="39340" y="337068"/>
                </a:lnTo>
                <a:lnTo>
                  <a:pt x="44691" y="340798"/>
                </a:lnTo>
                <a:lnTo>
                  <a:pt x="50244" y="343285"/>
                </a:lnTo>
                <a:lnTo>
                  <a:pt x="55929" y="344943"/>
                </a:lnTo>
                <a:lnTo>
                  <a:pt x="61705" y="346048"/>
                </a:lnTo>
                <a:lnTo>
                  <a:pt x="67539" y="346785"/>
                </a:lnTo>
                <a:lnTo>
                  <a:pt x="73413" y="347276"/>
                </a:lnTo>
                <a:lnTo>
                  <a:pt x="80305" y="347603"/>
                </a:lnTo>
                <a:lnTo>
                  <a:pt x="95902" y="347967"/>
                </a:lnTo>
                <a:lnTo>
                  <a:pt x="103235" y="346080"/>
                </a:lnTo>
                <a:lnTo>
                  <a:pt x="110109" y="342837"/>
                </a:lnTo>
                <a:lnTo>
                  <a:pt x="124030" y="333943"/>
                </a:lnTo>
                <a:lnTo>
                  <a:pt x="140139" y="323375"/>
                </a:lnTo>
                <a:lnTo>
                  <a:pt x="147610" y="316787"/>
                </a:lnTo>
                <a:lnTo>
                  <a:pt x="154575" y="309418"/>
                </a:lnTo>
                <a:lnTo>
                  <a:pt x="161202" y="301529"/>
                </a:lnTo>
                <a:lnTo>
                  <a:pt x="168598" y="294285"/>
                </a:lnTo>
                <a:lnTo>
                  <a:pt x="176504" y="287471"/>
                </a:lnTo>
                <a:lnTo>
                  <a:pt x="184752" y="280945"/>
                </a:lnTo>
                <a:lnTo>
                  <a:pt x="192234" y="272625"/>
                </a:lnTo>
                <a:lnTo>
                  <a:pt x="199207" y="263109"/>
                </a:lnTo>
                <a:lnTo>
                  <a:pt x="224656" y="224062"/>
                </a:lnTo>
                <a:lnTo>
                  <a:pt x="229751" y="213867"/>
                </a:lnTo>
                <a:lnTo>
                  <a:pt x="234140" y="203102"/>
                </a:lnTo>
                <a:lnTo>
                  <a:pt x="254577" y="143459"/>
                </a:lnTo>
                <a:lnTo>
                  <a:pt x="257636" y="134335"/>
                </a:lnTo>
                <a:lnTo>
                  <a:pt x="259676" y="125275"/>
                </a:lnTo>
                <a:lnTo>
                  <a:pt x="261035" y="116259"/>
                </a:lnTo>
                <a:lnTo>
                  <a:pt x="261942" y="107272"/>
                </a:lnTo>
                <a:lnTo>
                  <a:pt x="261554" y="99296"/>
                </a:lnTo>
                <a:lnTo>
                  <a:pt x="260303" y="91994"/>
                </a:lnTo>
                <a:lnTo>
                  <a:pt x="258477" y="85142"/>
                </a:lnTo>
                <a:lnTo>
                  <a:pt x="256448" y="74883"/>
                </a:lnTo>
                <a:lnTo>
                  <a:pt x="255907" y="70758"/>
                </a:lnTo>
                <a:lnTo>
                  <a:pt x="254554" y="67016"/>
                </a:lnTo>
                <a:lnTo>
                  <a:pt x="250405" y="60212"/>
                </a:lnTo>
                <a:lnTo>
                  <a:pt x="242491" y="50804"/>
                </a:lnTo>
                <a:lnTo>
                  <a:pt x="236776" y="44739"/>
                </a:lnTo>
                <a:lnTo>
                  <a:pt x="225022" y="32760"/>
                </a:lnTo>
                <a:lnTo>
                  <a:pt x="222057" y="30770"/>
                </a:lnTo>
                <a:lnTo>
                  <a:pt x="214138" y="27969"/>
                </a:lnTo>
                <a:lnTo>
                  <a:pt x="210176" y="2679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06" name="SMARTInkAnnotation99"/>
          <p:cNvSpPr/>
          <p:nvPr/>
        </p:nvSpPr>
        <p:spPr>
          <a:xfrm>
            <a:off x="3724200" y="2009880"/>
            <a:ext cx="123840" cy="455400"/>
          </a:xfrm>
          <a:custGeom>
            <a:avLst/>
            <a:gdLst>
              <a:gd name="textAreaLeft" fmla="*/ 0 w 123840"/>
              <a:gd name="textAreaRight" fmla="*/ 124200 w 123840"/>
              <a:gd name="textAreaTop" fmla="*/ 0 h 455400"/>
              <a:gd name="textAreaBottom" fmla="*/ 455760 h 455400"/>
            </a:gdLst>
            <a:ahLst/>
            <a:rect l="textAreaLeft" t="textAreaTop" r="textAreaRight" b="textAreaBottom"/>
            <a:pathLst>
              <a:path w="125017" h="455415">
                <a:moveTo>
                  <a:pt x="125016" y="0"/>
                </a:moveTo>
                <a:lnTo>
                  <a:pt x="125016" y="4741"/>
                </a:lnTo>
                <a:lnTo>
                  <a:pt x="122370" y="12360"/>
                </a:lnTo>
                <a:lnTo>
                  <a:pt x="120275" y="17169"/>
                </a:lnTo>
                <a:lnTo>
                  <a:pt x="117948" y="27805"/>
                </a:lnTo>
                <a:lnTo>
                  <a:pt x="115922" y="40139"/>
                </a:lnTo>
                <a:lnTo>
                  <a:pt x="113992" y="47596"/>
                </a:lnTo>
                <a:lnTo>
                  <a:pt x="111714" y="55543"/>
                </a:lnTo>
                <a:lnTo>
                  <a:pt x="110195" y="63818"/>
                </a:lnTo>
                <a:lnTo>
                  <a:pt x="109182" y="72311"/>
                </a:lnTo>
                <a:lnTo>
                  <a:pt x="108507" y="80950"/>
                </a:lnTo>
                <a:lnTo>
                  <a:pt x="107064" y="90677"/>
                </a:lnTo>
                <a:lnTo>
                  <a:pt x="105111" y="101131"/>
                </a:lnTo>
                <a:lnTo>
                  <a:pt x="100294" y="123330"/>
                </a:lnTo>
                <a:lnTo>
                  <a:pt x="86201" y="181740"/>
                </a:lnTo>
                <a:lnTo>
                  <a:pt x="82272" y="193590"/>
                </a:lnTo>
                <a:lnTo>
                  <a:pt x="77669" y="205459"/>
                </a:lnTo>
                <a:lnTo>
                  <a:pt x="72615" y="217340"/>
                </a:lnTo>
                <a:lnTo>
                  <a:pt x="68254" y="228237"/>
                </a:lnTo>
                <a:lnTo>
                  <a:pt x="60762" y="248283"/>
                </a:lnTo>
                <a:lnTo>
                  <a:pt x="57375" y="258787"/>
                </a:lnTo>
                <a:lnTo>
                  <a:pt x="54125" y="269759"/>
                </a:lnTo>
                <a:lnTo>
                  <a:pt x="47868" y="292534"/>
                </a:lnTo>
                <a:lnTo>
                  <a:pt x="41780" y="315885"/>
                </a:lnTo>
                <a:lnTo>
                  <a:pt x="38768" y="326676"/>
                </a:lnTo>
                <a:lnTo>
                  <a:pt x="32774" y="346603"/>
                </a:lnTo>
                <a:lnTo>
                  <a:pt x="28795" y="356085"/>
                </a:lnTo>
                <a:lnTo>
                  <a:pt x="24158" y="365382"/>
                </a:lnTo>
                <a:lnTo>
                  <a:pt x="19082" y="374557"/>
                </a:lnTo>
                <a:lnTo>
                  <a:pt x="15698" y="382658"/>
                </a:lnTo>
                <a:lnTo>
                  <a:pt x="13442" y="390043"/>
                </a:lnTo>
                <a:lnTo>
                  <a:pt x="9943" y="403540"/>
                </a:lnTo>
                <a:lnTo>
                  <a:pt x="7621" y="409917"/>
                </a:lnTo>
                <a:lnTo>
                  <a:pt x="5081" y="416153"/>
                </a:lnTo>
                <a:lnTo>
                  <a:pt x="2258" y="428374"/>
                </a:lnTo>
                <a:lnTo>
                  <a:pt x="1004" y="439427"/>
                </a:lnTo>
                <a:lnTo>
                  <a:pt x="132" y="453113"/>
                </a:lnTo>
                <a:lnTo>
                  <a:pt x="0" y="45541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07" name="SMARTInkAnnotation100"/>
          <p:cNvSpPr/>
          <p:nvPr/>
        </p:nvSpPr>
        <p:spPr>
          <a:xfrm>
            <a:off x="3830760" y="2133720"/>
            <a:ext cx="152280" cy="98280"/>
          </a:xfrm>
          <a:custGeom>
            <a:avLst/>
            <a:gdLst>
              <a:gd name="textAreaLeft" fmla="*/ 0 w 152280"/>
              <a:gd name="textAreaRight" fmla="*/ 152640 w 152280"/>
              <a:gd name="textAreaTop" fmla="*/ 0 h 98280"/>
              <a:gd name="textAreaBottom" fmla="*/ 98640 h 98280"/>
            </a:gdLst>
            <a:ahLst/>
            <a:rect l="textAreaLeft" t="textAreaTop" r="textAreaRight" b="textAreaBottom"/>
            <a:pathLst>
              <a:path w="151806" h="98227">
                <a:moveTo>
                  <a:pt x="0" y="98226"/>
                </a:moveTo>
                <a:lnTo>
                  <a:pt x="0" y="93486"/>
                </a:lnTo>
                <a:lnTo>
                  <a:pt x="1985" y="91097"/>
                </a:lnTo>
                <a:lnTo>
                  <a:pt x="5292" y="88513"/>
                </a:lnTo>
                <a:lnTo>
                  <a:pt x="9482" y="85797"/>
                </a:lnTo>
                <a:lnTo>
                  <a:pt x="13266" y="82995"/>
                </a:lnTo>
                <a:lnTo>
                  <a:pt x="16782" y="80135"/>
                </a:lnTo>
                <a:lnTo>
                  <a:pt x="20118" y="77236"/>
                </a:lnTo>
                <a:lnTo>
                  <a:pt x="24326" y="73319"/>
                </a:lnTo>
                <a:lnTo>
                  <a:pt x="34294" y="63675"/>
                </a:lnTo>
                <a:lnTo>
                  <a:pt x="40722" y="58325"/>
                </a:lnTo>
                <a:lnTo>
                  <a:pt x="47984" y="52774"/>
                </a:lnTo>
                <a:lnTo>
                  <a:pt x="55802" y="47089"/>
                </a:lnTo>
                <a:lnTo>
                  <a:pt x="63991" y="42307"/>
                </a:lnTo>
                <a:lnTo>
                  <a:pt x="72426" y="38126"/>
                </a:lnTo>
                <a:lnTo>
                  <a:pt x="81026" y="34347"/>
                </a:lnTo>
                <a:lnTo>
                  <a:pt x="89736" y="30836"/>
                </a:lnTo>
                <a:lnTo>
                  <a:pt x="107352" y="24288"/>
                </a:lnTo>
                <a:lnTo>
                  <a:pt x="115225" y="21153"/>
                </a:lnTo>
                <a:lnTo>
                  <a:pt x="122457" y="18071"/>
                </a:lnTo>
                <a:lnTo>
                  <a:pt x="129263" y="15024"/>
                </a:lnTo>
                <a:lnTo>
                  <a:pt x="134793" y="12000"/>
                </a:lnTo>
                <a:lnTo>
                  <a:pt x="139471" y="8992"/>
                </a:lnTo>
                <a:lnTo>
                  <a:pt x="151805" y="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08" name="SMARTInkAnnotation101"/>
          <p:cNvSpPr/>
          <p:nvPr/>
        </p:nvSpPr>
        <p:spPr>
          <a:xfrm>
            <a:off x="3840120" y="2241720"/>
            <a:ext cx="106560" cy="196560"/>
          </a:xfrm>
          <a:custGeom>
            <a:avLst/>
            <a:gdLst>
              <a:gd name="textAreaLeft" fmla="*/ 0 w 106560"/>
              <a:gd name="textAreaRight" fmla="*/ 106920 w 106560"/>
              <a:gd name="textAreaTop" fmla="*/ 0 h 196560"/>
              <a:gd name="textAreaBottom" fmla="*/ 196920 h 196560"/>
            </a:gdLst>
            <a:ahLst/>
            <a:rect l="textAreaLeft" t="textAreaTop" r="textAreaRight" b="textAreaBottom"/>
            <a:pathLst>
              <a:path w="107157" h="196454">
                <a:moveTo>
                  <a:pt x="0" y="0"/>
                </a:moveTo>
                <a:lnTo>
                  <a:pt x="0" y="25731"/>
                </a:lnTo>
                <a:lnTo>
                  <a:pt x="993" y="30053"/>
                </a:lnTo>
                <a:lnTo>
                  <a:pt x="2646" y="33926"/>
                </a:lnTo>
                <a:lnTo>
                  <a:pt x="4741" y="37500"/>
                </a:lnTo>
                <a:lnTo>
                  <a:pt x="7129" y="41867"/>
                </a:lnTo>
                <a:lnTo>
                  <a:pt x="12429" y="52011"/>
                </a:lnTo>
                <a:lnTo>
                  <a:pt x="17216" y="59479"/>
                </a:lnTo>
                <a:lnTo>
                  <a:pt x="23384" y="68426"/>
                </a:lnTo>
                <a:lnTo>
                  <a:pt x="30472" y="78360"/>
                </a:lnTo>
                <a:lnTo>
                  <a:pt x="36190" y="86966"/>
                </a:lnTo>
                <a:lnTo>
                  <a:pt x="40994" y="94689"/>
                </a:lnTo>
                <a:lnTo>
                  <a:pt x="45188" y="101821"/>
                </a:lnTo>
                <a:lnTo>
                  <a:pt x="48977" y="108560"/>
                </a:lnTo>
                <a:lnTo>
                  <a:pt x="55833" y="121340"/>
                </a:lnTo>
                <a:lnTo>
                  <a:pt x="60043" y="127526"/>
                </a:lnTo>
                <a:lnTo>
                  <a:pt x="64833" y="133635"/>
                </a:lnTo>
                <a:lnTo>
                  <a:pt x="70011" y="139692"/>
                </a:lnTo>
                <a:lnTo>
                  <a:pt x="74456" y="145714"/>
                </a:lnTo>
                <a:lnTo>
                  <a:pt x="78411" y="151713"/>
                </a:lnTo>
                <a:lnTo>
                  <a:pt x="82039" y="157697"/>
                </a:lnTo>
                <a:lnTo>
                  <a:pt x="91363" y="172283"/>
                </a:lnTo>
                <a:lnTo>
                  <a:pt x="107156" y="196453"/>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09" name="SMARTInkAnnotation102"/>
          <p:cNvSpPr/>
          <p:nvPr/>
        </p:nvSpPr>
        <p:spPr>
          <a:xfrm>
            <a:off x="3894120" y="2303640"/>
            <a:ext cx="230040" cy="365040"/>
          </a:xfrm>
          <a:custGeom>
            <a:avLst/>
            <a:gdLst>
              <a:gd name="textAreaLeft" fmla="*/ 0 w 230040"/>
              <a:gd name="textAreaRight" fmla="*/ 230400 w 230040"/>
              <a:gd name="textAreaTop" fmla="*/ 0 h 365040"/>
              <a:gd name="textAreaBottom" fmla="*/ 365400 h 365040"/>
            </a:gdLst>
            <a:ahLst/>
            <a:rect l="textAreaLeft" t="textAreaTop" r="textAreaRight" b="textAreaBottom"/>
            <a:pathLst>
              <a:path w="230121" h="364305">
                <a:moveTo>
                  <a:pt x="195689" y="0"/>
                </a:moveTo>
                <a:lnTo>
                  <a:pt x="183261" y="0"/>
                </a:lnTo>
                <a:lnTo>
                  <a:pt x="179466" y="992"/>
                </a:lnTo>
                <a:lnTo>
                  <a:pt x="174951" y="2646"/>
                </a:lnTo>
                <a:lnTo>
                  <a:pt x="169958" y="4740"/>
                </a:lnTo>
                <a:lnTo>
                  <a:pt x="165637" y="6137"/>
                </a:lnTo>
                <a:lnTo>
                  <a:pt x="161764" y="7068"/>
                </a:lnTo>
                <a:lnTo>
                  <a:pt x="158190" y="7688"/>
                </a:lnTo>
                <a:lnTo>
                  <a:pt x="154814" y="10086"/>
                </a:lnTo>
                <a:lnTo>
                  <a:pt x="148419" y="18043"/>
                </a:lnTo>
                <a:lnTo>
                  <a:pt x="142269" y="25547"/>
                </a:lnTo>
                <a:lnTo>
                  <a:pt x="136228" y="33183"/>
                </a:lnTo>
                <a:lnTo>
                  <a:pt x="130236" y="43190"/>
                </a:lnTo>
                <a:lnTo>
                  <a:pt x="126911" y="51607"/>
                </a:lnTo>
                <a:lnTo>
                  <a:pt x="124442" y="59647"/>
                </a:lnTo>
                <a:lnTo>
                  <a:pt x="120037" y="69835"/>
                </a:lnTo>
                <a:lnTo>
                  <a:pt x="117417" y="78332"/>
                </a:lnTo>
                <a:lnTo>
                  <a:pt x="115943" y="88694"/>
                </a:lnTo>
                <a:lnTo>
                  <a:pt x="115736" y="91872"/>
                </a:lnTo>
                <a:lnTo>
                  <a:pt x="116590" y="94982"/>
                </a:lnTo>
                <a:lnTo>
                  <a:pt x="120185" y="101084"/>
                </a:lnTo>
                <a:lnTo>
                  <a:pt x="122533" y="103108"/>
                </a:lnTo>
                <a:lnTo>
                  <a:pt x="125090" y="104457"/>
                </a:lnTo>
                <a:lnTo>
                  <a:pt x="130577" y="105957"/>
                </a:lnTo>
                <a:lnTo>
                  <a:pt x="136324" y="106623"/>
                </a:lnTo>
                <a:lnTo>
                  <a:pt x="142185" y="106920"/>
                </a:lnTo>
                <a:lnTo>
                  <a:pt x="145137" y="106998"/>
                </a:lnTo>
                <a:lnTo>
                  <a:pt x="149089" y="106059"/>
                </a:lnTo>
                <a:lnTo>
                  <a:pt x="153709" y="104440"/>
                </a:lnTo>
                <a:lnTo>
                  <a:pt x="158773" y="102369"/>
                </a:lnTo>
                <a:lnTo>
                  <a:pt x="163141" y="99996"/>
                </a:lnTo>
                <a:lnTo>
                  <a:pt x="167045" y="97422"/>
                </a:lnTo>
                <a:lnTo>
                  <a:pt x="170640" y="94713"/>
                </a:lnTo>
                <a:lnTo>
                  <a:pt x="175021" y="91916"/>
                </a:lnTo>
                <a:lnTo>
                  <a:pt x="179926" y="89058"/>
                </a:lnTo>
                <a:lnTo>
                  <a:pt x="185181" y="86161"/>
                </a:lnTo>
                <a:lnTo>
                  <a:pt x="189676" y="82245"/>
                </a:lnTo>
                <a:lnTo>
                  <a:pt x="193665" y="77651"/>
                </a:lnTo>
                <a:lnTo>
                  <a:pt x="200743" y="67254"/>
                </a:lnTo>
                <a:lnTo>
                  <a:pt x="207196" y="56018"/>
                </a:lnTo>
                <a:lnTo>
                  <a:pt x="213371" y="47056"/>
                </a:lnTo>
                <a:lnTo>
                  <a:pt x="216407" y="43277"/>
                </a:lnTo>
                <a:lnTo>
                  <a:pt x="219780" y="36432"/>
                </a:lnTo>
                <a:lnTo>
                  <a:pt x="221679" y="27000"/>
                </a:lnTo>
                <a:lnTo>
                  <a:pt x="221946" y="23953"/>
                </a:lnTo>
                <a:lnTo>
                  <a:pt x="223115" y="21922"/>
                </a:lnTo>
                <a:lnTo>
                  <a:pt x="224887" y="20568"/>
                </a:lnTo>
                <a:lnTo>
                  <a:pt x="230120" y="18394"/>
                </a:lnTo>
                <a:lnTo>
                  <a:pt x="229557" y="18216"/>
                </a:lnTo>
                <a:lnTo>
                  <a:pt x="226286" y="18018"/>
                </a:lnTo>
                <a:lnTo>
                  <a:pt x="225017" y="18957"/>
                </a:lnTo>
                <a:lnTo>
                  <a:pt x="224171" y="20576"/>
                </a:lnTo>
                <a:lnTo>
                  <a:pt x="223607" y="22647"/>
                </a:lnTo>
                <a:lnTo>
                  <a:pt x="222980" y="30240"/>
                </a:lnTo>
                <a:lnTo>
                  <a:pt x="222701" y="40229"/>
                </a:lnTo>
                <a:lnTo>
                  <a:pt x="222487" y="91120"/>
                </a:lnTo>
                <a:lnTo>
                  <a:pt x="221492" y="99442"/>
                </a:lnTo>
                <a:lnTo>
                  <a:pt x="219837" y="107967"/>
                </a:lnTo>
                <a:lnTo>
                  <a:pt x="217741" y="116626"/>
                </a:lnTo>
                <a:lnTo>
                  <a:pt x="216343" y="126368"/>
                </a:lnTo>
                <a:lnTo>
                  <a:pt x="215412" y="136831"/>
                </a:lnTo>
                <a:lnTo>
                  <a:pt x="214791" y="147776"/>
                </a:lnTo>
                <a:lnTo>
                  <a:pt x="213385" y="158048"/>
                </a:lnTo>
                <a:lnTo>
                  <a:pt x="211455" y="167873"/>
                </a:lnTo>
                <a:lnTo>
                  <a:pt x="201229" y="209769"/>
                </a:lnTo>
                <a:lnTo>
                  <a:pt x="197398" y="220214"/>
                </a:lnTo>
                <a:lnTo>
                  <a:pt x="192860" y="230153"/>
                </a:lnTo>
                <a:lnTo>
                  <a:pt x="176058" y="262751"/>
                </a:lnTo>
                <a:lnTo>
                  <a:pt x="170696" y="270417"/>
                </a:lnTo>
                <a:lnTo>
                  <a:pt x="164144" y="278505"/>
                </a:lnTo>
                <a:lnTo>
                  <a:pt x="156800" y="286873"/>
                </a:lnTo>
                <a:lnTo>
                  <a:pt x="143348" y="301463"/>
                </a:lnTo>
                <a:lnTo>
                  <a:pt x="124619" y="320833"/>
                </a:lnTo>
                <a:lnTo>
                  <a:pt x="118543" y="326998"/>
                </a:lnTo>
                <a:lnTo>
                  <a:pt x="112509" y="332100"/>
                </a:lnTo>
                <a:lnTo>
                  <a:pt x="106501" y="336494"/>
                </a:lnTo>
                <a:lnTo>
                  <a:pt x="100512" y="340415"/>
                </a:lnTo>
                <a:lnTo>
                  <a:pt x="94534" y="344022"/>
                </a:lnTo>
                <a:lnTo>
                  <a:pt x="88565" y="347418"/>
                </a:lnTo>
                <a:lnTo>
                  <a:pt x="82601" y="350674"/>
                </a:lnTo>
                <a:lnTo>
                  <a:pt x="75649" y="353838"/>
                </a:lnTo>
                <a:lnTo>
                  <a:pt x="68037" y="356939"/>
                </a:lnTo>
                <a:lnTo>
                  <a:pt x="59987" y="359998"/>
                </a:lnTo>
                <a:lnTo>
                  <a:pt x="53627" y="362038"/>
                </a:lnTo>
                <a:lnTo>
                  <a:pt x="48395" y="363398"/>
                </a:lnTo>
                <a:lnTo>
                  <a:pt x="43915" y="364304"/>
                </a:lnTo>
                <a:lnTo>
                  <a:pt x="37952" y="363916"/>
                </a:lnTo>
                <a:lnTo>
                  <a:pt x="31000" y="362666"/>
                </a:lnTo>
                <a:lnTo>
                  <a:pt x="23389" y="360840"/>
                </a:lnTo>
                <a:lnTo>
                  <a:pt x="17322" y="358630"/>
                </a:lnTo>
                <a:lnTo>
                  <a:pt x="12285" y="356165"/>
                </a:lnTo>
                <a:lnTo>
                  <a:pt x="1814" y="349820"/>
                </a:lnTo>
                <a:lnTo>
                  <a:pt x="955" y="348307"/>
                </a:lnTo>
                <a:lnTo>
                  <a:pt x="0" y="343980"/>
                </a:lnTo>
                <a:lnTo>
                  <a:pt x="738" y="341437"/>
                </a:lnTo>
                <a:lnTo>
                  <a:pt x="4203" y="335966"/>
                </a:lnTo>
                <a:lnTo>
                  <a:pt x="9050" y="330227"/>
                </a:lnTo>
                <a:lnTo>
                  <a:pt x="14512" y="324369"/>
                </a:lnTo>
                <a:lnTo>
                  <a:pt x="20247" y="318458"/>
                </a:lnTo>
                <a:lnTo>
                  <a:pt x="23165" y="316485"/>
                </a:lnTo>
                <a:lnTo>
                  <a:pt x="29054" y="314293"/>
                </a:lnTo>
                <a:lnTo>
                  <a:pt x="33005" y="312716"/>
                </a:lnTo>
                <a:lnTo>
                  <a:pt x="37624" y="310673"/>
                </a:lnTo>
                <a:lnTo>
                  <a:pt x="42687" y="308318"/>
                </a:lnTo>
                <a:lnTo>
                  <a:pt x="49039" y="306749"/>
                </a:lnTo>
                <a:lnTo>
                  <a:pt x="56251" y="305702"/>
                </a:lnTo>
                <a:lnTo>
                  <a:pt x="64035" y="305005"/>
                </a:lnTo>
                <a:lnTo>
                  <a:pt x="71209" y="304540"/>
                </a:lnTo>
                <a:lnTo>
                  <a:pt x="84471" y="304023"/>
                </a:lnTo>
                <a:lnTo>
                  <a:pt x="115292" y="303691"/>
                </a:lnTo>
                <a:lnTo>
                  <a:pt x="168900" y="30360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10" name="SMARTInkAnnotation103"/>
          <p:cNvSpPr/>
          <p:nvPr/>
        </p:nvSpPr>
        <p:spPr>
          <a:xfrm>
            <a:off x="4116240" y="1973160"/>
            <a:ext cx="150840" cy="679680"/>
          </a:xfrm>
          <a:custGeom>
            <a:avLst/>
            <a:gdLst>
              <a:gd name="textAreaLeft" fmla="*/ 0 w 150840"/>
              <a:gd name="textAreaRight" fmla="*/ 151200 w 150840"/>
              <a:gd name="textAreaTop" fmla="*/ 0 h 679680"/>
              <a:gd name="textAreaBottom" fmla="*/ 680040 h 679680"/>
            </a:gdLst>
            <a:ahLst/>
            <a:rect l="textAreaLeft" t="textAreaTop" r="textAreaRight" b="textAreaBottom"/>
            <a:pathLst>
              <a:path w="151393" h="678657">
                <a:moveTo>
                  <a:pt x="53579" y="0"/>
                </a:moveTo>
                <a:lnTo>
                  <a:pt x="48434" y="0"/>
                </a:lnTo>
                <a:lnTo>
                  <a:pt x="52705" y="0"/>
                </a:lnTo>
                <a:lnTo>
                  <a:pt x="55836" y="2645"/>
                </a:lnTo>
                <a:lnTo>
                  <a:pt x="60535" y="7129"/>
                </a:lnTo>
                <a:lnTo>
                  <a:pt x="65931" y="12429"/>
                </a:lnTo>
                <a:lnTo>
                  <a:pt x="69751" y="18207"/>
                </a:lnTo>
                <a:lnTo>
                  <a:pt x="74282" y="26029"/>
                </a:lnTo>
                <a:lnTo>
                  <a:pt x="83616" y="43318"/>
                </a:lnTo>
                <a:lnTo>
                  <a:pt x="91072" y="57617"/>
                </a:lnTo>
                <a:lnTo>
                  <a:pt x="94449" y="65200"/>
                </a:lnTo>
                <a:lnTo>
                  <a:pt x="97693" y="73232"/>
                </a:lnTo>
                <a:lnTo>
                  <a:pt x="100847" y="81563"/>
                </a:lnTo>
                <a:lnTo>
                  <a:pt x="103943" y="91086"/>
                </a:lnTo>
                <a:lnTo>
                  <a:pt x="106999" y="101404"/>
                </a:lnTo>
                <a:lnTo>
                  <a:pt x="110028" y="112251"/>
                </a:lnTo>
                <a:lnTo>
                  <a:pt x="116040" y="132241"/>
                </a:lnTo>
                <a:lnTo>
                  <a:pt x="119032" y="141738"/>
                </a:lnTo>
                <a:lnTo>
                  <a:pt x="125002" y="162875"/>
                </a:lnTo>
                <a:lnTo>
                  <a:pt x="127983" y="174067"/>
                </a:lnTo>
                <a:lnTo>
                  <a:pt x="133941" y="194441"/>
                </a:lnTo>
                <a:lnTo>
                  <a:pt x="136920" y="204041"/>
                </a:lnTo>
                <a:lnTo>
                  <a:pt x="138904" y="214410"/>
                </a:lnTo>
                <a:lnTo>
                  <a:pt x="140228" y="225291"/>
                </a:lnTo>
                <a:lnTo>
                  <a:pt x="141110" y="236514"/>
                </a:lnTo>
                <a:lnTo>
                  <a:pt x="142691" y="247965"/>
                </a:lnTo>
                <a:lnTo>
                  <a:pt x="144737" y="259568"/>
                </a:lnTo>
                <a:lnTo>
                  <a:pt x="147093" y="271272"/>
                </a:lnTo>
                <a:lnTo>
                  <a:pt x="148664" y="283043"/>
                </a:lnTo>
                <a:lnTo>
                  <a:pt x="149711" y="294859"/>
                </a:lnTo>
                <a:lnTo>
                  <a:pt x="150409" y="306705"/>
                </a:lnTo>
                <a:lnTo>
                  <a:pt x="151185" y="333097"/>
                </a:lnTo>
                <a:lnTo>
                  <a:pt x="151392" y="347080"/>
                </a:lnTo>
                <a:lnTo>
                  <a:pt x="150537" y="360371"/>
                </a:lnTo>
                <a:lnTo>
                  <a:pt x="148975" y="373200"/>
                </a:lnTo>
                <a:lnTo>
                  <a:pt x="146942" y="385722"/>
                </a:lnTo>
                <a:lnTo>
                  <a:pt x="143602" y="402007"/>
                </a:lnTo>
                <a:lnTo>
                  <a:pt x="134600" y="441268"/>
                </a:lnTo>
                <a:lnTo>
                  <a:pt x="130413" y="457890"/>
                </a:lnTo>
                <a:lnTo>
                  <a:pt x="126630" y="471947"/>
                </a:lnTo>
                <a:lnTo>
                  <a:pt x="119780" y="496496"/>
                </a:lnTo>
                <a:lnTo>
                  <a:pt x="113428" y="520636"/>
                </a:lnTo>
                <a:lnTo>
                  <a:pt x="110346" y="530645"/>
                </a:lnTo>
                <a:lnTo>
                  <a:pt x="107298" y="539302"/>
                </a:lnTo>
                <a:lnTo>
                  <a:pt x="104275" y="547058"/>
                </a:lnTo>
                <a:lnTo>
                  <a:pt x="98269" y="563613"/>
                </a:lnTo>
                <a:lnTo>
                  <a:pt x="95279" y="572195"/>
                </a:lnTo>
                <a:lnTo>
                  <a:pt x="91300" y="580893"/>
                </a:lnTo>
                <a:lnTo>
                  <a:pt x="86664" y="589668"/>
                </a:lnTo>
                <a:lnTo>
                  <a:pt x="81588" y="598494"/>
                </a:lnTo>
                <a:lnTo>
                  <a:pt x="76221" y="606363"/>
                </a:lnTo>
                <a:lnTo>
                  <a:pt x="70658" y="613594"/>
                </a:lnTo>
                <a:lnTo>
                  <a:pt x="64965" y="620398"/>
                </a:lnTo>
                <a:lnTo>
                  <a:pt x="59185" y="625927"/>
                </a:lnTo>
                <a:lnTo>
                  <a:pt x="53348" y="630605"/>
                </a:lnTo>
                <a:lnTo>
                  <a:pt x="47471" y="634716"/>
                </a:lnTo>
                <a:lnTo>
                  <a:pt x="42562" y="639440"/>
                </a:lnTo>
                <a:lnTo>
                  <a:pt x="38297" y="644575"/>
                </a:lnTo>
                <a:lnTo>
                  <a:pt x="34461" y="649982"/>
                </a:lnTo>
                <a:lnTo>
                  <a:pt x="28927" y="655571"/>
                </a:lnTo>
                <a:lnTo>
                  <a:pt x="22262" y="661281"/>
                </a:lnTo>
                <a:lnTo>
                  <a:pt x="0" y="678656"/>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11" name="SMARTInkAnnotation104"/>
          <p:cNvSpPr/>
          <p:nvPr/>
        </p:nvSpPr>
        <p:spPr>
          <a:xfrm>
            <a:off x="2921040" y="1749600"/>
            <a:ext cx="239760" cy="893520"/>
          </a:xfrm>
          <a:custGeom>
            <a:avLst/>
            <a:gdLst>
              <a:gd name="textAreaLeft" fmla="*/ 0 w 239760"/>
              <a:gd name="textAreaRight" fmla="*/ 240120 w 239760"/>
              <a:gd name="textAreaTop" fmla="*/ 0 h 893520"/>
              <a:gd name="textAreaBottom" fmla="*/ 893880 h 893520"/>
            </a:gdLst>
            <a:ahLst/>
            <a:rect l="textAreaLeft" t="textAreaTop" r="textAreaRight" b="textAreaBottom"/>
            <a:pathLst>
              <a:path w="240678" h="892970">
                <a:moveTo>
                  <a:pt x="240677" y="0"/>
                </a:moveTo>
                <a:lnTo>
                  <a:pt x="228248" y="0"/>
                </a:lnTo>
                <a:lnTo>
                  <a:pt x="225446" y="993"/>
                </a:lnTo>
                <a:lnTo>
                  <a:pt x="219686" y="4741"/>
                </a:lnTo>
                <a:lnTo>
                  <a:pt x="201385" y="17170"/>
                </a:lnTo>
                <a:lnTo>
                  <a:pt x="195630" y="21368"/>
                </a:lnTo>
                <a:lnTo>
                  <a:pt x="190802" y="25160"/>
                </a:lnTo>
                <a:lnTo>
                  <a:pt x="186591" y="28680"/>
                </a:lnTo>
                <a:lnTo>
                  <a:pt x="181800" y="33010"/>
                </a:lnTo>
                <a:lnTo>
                  <a:pt x="171183" y="43114"/>
                </a:lnTo>
                <a:lnTo>
                  <a:pt x="154051" y="59959"/>
                </a:lnTo>
                <a:lnTo>
                  <a:pt x="149192" y="66762"/>
                </a:lnTo>
                <a:lnTo>
                  <a:pt x="144960" y="74274"/>
                </a:lnTo>
                <a:lnTo>
                  <a:pt x="141147" y="82258"/>
                </a:lnTo>
                <a:lnTo>
                  <a:pt x="136621" y="90558"/>
                </a:lnTo>
                <a:lnTo>
                  <a:pt x="131618" y="99067"/>
                </a:lnTo>
                <a:lnTo>
                  <a:pt x="126299" y="107717"/>
                </a:lnTo>
                <a:lnTo>
                  <a:pt x="121761" y="116460"/>
                </a:lnTo>
                <a:lnTo>
                  <a:pt x="117743" y="125265"/>
                </a:lnTo>
                <a:lnTo>
                  <a:pt x="114073" y="134112"/>
                </a:lnTo>
                <a:lnTo>
                  <a:pt x="109641" y="142986"/>
                </a:lnTo>
                <a:lnTo>
                  <a:pt x="104703" y="151879"/>
                </a:lnTo>
                <a:lnTo>
                  <a:pt x="99426" y="160784"/>
                </a:lnTo>
                <a:lnTo>
                  <a:pt x="93924" y="170689"/>
                </a:lnTo>
                <a:lnTo>
                  <a:pt x="82518" y="192279"/>
                </a:lnTo>
                <a:lnTo>
                  <a:pt x="77691" y="203592"/>
                </a:lnTo>
                <a:lnTo>
                  <a:pt x="73480" y="215103"/>
                </a:lnTo>
                <a:lnTo>
                  <a:pt x="69681" y="226746"/>
                </a:lnTo>
                <a:lnTo>
                  <a:pt x="65164" y="238477"/>
                </a:lnTo>
                <a:lnTo>
                  <a:pt x="60169" y="250266"/>
                </a:lnTo>
                <a:lnTo>
                  <a:pt x="54854" y="262094"/>
                </a:lnTo>
                <a:lnTo>
                  <a:pt x="50318" y="273948"/>
                </a:lnTo>
                <a:lnTo>
                  <a:pt x="46302" y="285820"/>
                </a:lnTo>
                <a:lnTo>
                  <a:pt x="42633" y="297703"/>
                </a:lnTo>
                <a:lnTo>
                  <a:pt x="38202" y="310586"/>
                </a:lnTo>
                <a:lnTo>
                  <a:pt x="27988" y="338130"/>
                </a:lnTo>
                <a:lnTo>
                  <a:pt x="23478" y="351428"/>
                </a:lnTo>
                <a:lnTo>
                  <a:pt x="19479" y="364262"/>
                </a:lnTo>
                <a:lnTo>
                  <a:pt x="13382" y="389105"/>
                </a:lnTo>
                <a:lnTo>
                  <a:pt x="8958" y="426397"/>
                </a:lnTo>
                <a:lnTo>
                  <a:pt x="4407" y="454093"/>
                </a:lnTo>
                <a:lnTo>
                  <a:pt x="1723" y="480293"/>
                </a:lnTo>
                <a:lnTo>
                  <a:pt x="530" y="505167"/>
                </a:lnTo>
                <a:lnTo>
                  <a:pt x="0" y="529451"/>
                </a:lnTo>
                <a:lnTo>
                  <a:pt x="2410" y="553473"/>
                </a:lnTo>
                <a:lnTo>
                  <a:pt x="6788" y="580356"/>
                </a:lnTo>
                <a:lnTo>
                  <a:pt x="12041" y="615454"/>
                </a:lnTo>
                <a:lnTo>
                  <a:pt x="14832" y="631561"/>
                </a:lnTo>
                <a:lnTo>
                  <a:pt x="17684" y="646267"/>
                </a:lnTo>
                <a:lnTo>
                  <a:pt x="23498" y="672199"/>
                </a:lnTo>
                <a:lnTo>
                  <a:pt x="41257" y="737805"/>
                </a:lnTo>
                <a:lnTo>
                  <a:pt x="47205" y="757530"/>
                </a:lnTo>
                <a:lnTo>
                  <a:pt x="53155" y="773573"/>
                </a:lnTo>
                <a:lnTo>
                  <a:pt x="60100" y="788311"/>
                </a:lnTo>
                <a:lnTo>
                  <a:pt x="64729" y="796408"/>
                </a:lnTo>
                <a:lnTo>
                  <a:pt x="69801" y="804782"/>
                </a:lnTo>
                <a:lnTo>
                  <a:pt x="74173" y="812350"/>
                </a:lnTo>
                <a:lnTo>
                  <a:pt x="81678" y="826050"/>
                </a:lnTo>
                <a:lnTo>
                  <a:pt x="91481" y="844919"/>
                </a:lnTo>
                <a:lnTo>
                  <a:pt x="100670" y="863078"/>
                </a:lnTo>
                <a:lnTo>
                  <a:pt x="106683" y="872408"/>
                </a:lnTo>
                <a:lnTo>
                  <a:pt x="112663" y="879862"/>
                </a:lnTo>
                <a:lnTo>
                  <a:pt x="118628" y="886482"/>
                </a:lnTo>
                <a:lnTo>
                  <a:pt x="121608" y="888645"/>
                </a:lnTo>
                <a:lnTo>
                  <a:pt x="124587" y="890086"/>
                </a:lnTo>
                <a:lnTo>
                  <a:pt x="133521" y="89296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12" name="SMARTInkAnnotation105"/>
          <p:cNvSpPr/>
          <p:nvPr/>
        </p:nvSpPr>
        <p:spPr>
          <a:xfrm>
            <a:off x="4375080" y="1946160"/>
            <a:ext cx="125640" cy="768600"/>
          </a:xfrm>
          <a:custGeom>
            <a:avLst/>
            <a:gdLst>
              <a:gd name="textAreaLeft" fmla="*/ 0 w 125640"/>
              <a:gd name="textAreaRight" fmla="*/ 126000 w 125640"/>
              <a:gd name="textAreaTop" fmla="*/ 0 h 768600"/>
              <a:gd name="textAreaBottom" fmla="*/ 768960 h 768600"/>
            </a:gdLst>
            <a:ahLst/>
            <a:rect l="textAreaLeft" t="textAreaTop" r="textAreaRight" b="textAreaBottom"/>
            <a:pathLst>
              <a:path w="124980" h="767954">
                <a:moveTo>
                  <a:pt x="124979" y="0"/>
                </a:moveTo>
                <a:lnTo>
                  <a:pt x="120239" y="4740"/>
                </a:lnTo>
                <a:lnTo>
                  <a:pt x="117850" y="8121"/>
                </a:lnTo>
                <a:lnTo>
                  <a:pt x="115266" y="12359"/>
                </a:lnTo>
                <a:lnTo>
                  <a:pt x="112550" y="17169"/>
                </a:lnTo>
                <a:lnTo>
                  <a:pt x="109748" y="21368"/>
                </a:lnTo>
                <a:lnTo>
                  <a:pt x="106887" y="25159"/>
                </a:lnTo>
                <a:lnTo>
                  <a:pt x="103989" y="28679"/>
                </a:lnTo>
                <a:lnTo>
                  <a:pt x="101063" y="34002"/>
                </a:lnTo>
                <a:lnTo>
                  <a:pt x="98121" y="40527"/>
                </a:lnTo>
                <a:lnTo>
                  <a:pt x="95168" y="47854"/>
                </a:lnTo>
                <a:lnTo>
                  <a:pt x="92207" y="54723"/>
                </a:lnTo>
                <a:lnTo>
                  <a:pt x="86270" y="67647"/>
                </a:lnTo>
                <a:lnTo>
                  <a:pt x="83298" y="74863"/>
                </a:lnTo>
                <a:lnTo>
                  <a:pt x="80325" y="82651"/>
                </a:lnTo>
                <a:lnTo>
                  <a:pt x="77351" y="90819"/>
                </a:lnTo>
                <a:lnTo>
                  <a:pt x="73383" y="99241"/>
                </a:lnTo>
                <a:lnTo>
                  <a:pt x="68753" y="107833"/>
                </a:lnTo>
                <a:lnTo>
                  <a:pt x="63683" y="116536"/>
                </a:lnTo>
                <a:lnTo>
                  <a:pt x="59311" y="125316"/>
                </a:lnTo>
                <a:lnTo>
                  <a:pt x="55403" y="134145"/>
                </a:lnTo>
                <a:lnTo>
                  <a:pt x="51806" y="143008"/>
                </a:lnTo>
                <a:lnTo>
                  <a:pt x="48415" y="152886"/>
                </a:lnTo>
                <a:lnTo>
                  <a:pt x="45163" y="163439"/>
                </a:lnTo>
                <a:lnTo>
                  <a:pt x="42003" y="174444"/>
                </a:lnTo>
                <a:lnTo>
                  <a:pt x="38492" y="197254"/>
                </a:lnTo>
                <a:lnTo>
                  <a:pt x="35939" y="220621"/>
                </a:lnTo>
                <a:lnTo>
                  <a:pt x="33869" y="232409"/>
                </a:lnTo>
                <a:lnTo>
                  <a:pt x="31497" y="244236"/>
                </a:lnTo>
                <a:lnTo>
                  <a:pt x="26215" y="267961"/>
                </a:lnTo>
                <a:lnTo>
                  <a:pt x="20561" y="292726"/>
                </a:lnTo>
                <a:lnTo>
                  <a:pt x="14740" y="320270"/>
                </a:lnTo>
                <a:lnTo>
                  <a:pt x="12791" y="333568"/>
                </a:lnTo>
                <a:lnTo>
                  <a:pt x="11492" y="346402"/>
                </a:lnTo>
                <a:lnTo>
                  <a:pt x="10626" y="358926"/>
                </a:lnTo>
                <a:lnTo>
                  <a:pt x="9056" y="372237"/>
                </a:lnTo>
                <a:lnTo>
                  <a:pt x="7018" y="386072"/>
                </a:lnTo>
                <a:lnTo>
                  <a:pt x="4666" y="400256"/>
                </a:lnTo>
                <a:lnTo>
                  <a:pt x="3099" y="413681"/>
                </a:lnTo>
                <a:lnTo>
                  <a:pt x="2054" y="426600"/>
                </a:lnTo>
                <a:lnTo>
                  <a:pt x="1357" y="439181"/>
                </a:lnTo>
                <a:lnTo>
                  <a:pt x="583" y="463743"/>
                </a:lnTo>
                <a:lnTo>
                  <a:pt x="45" y="528940"/>
                </a:lnTo>
                <a:lnTo>
                  <a:pt x="0" y="550600"/>
                </a:lnTo>
                <a:lnTo>
                  <a:pt x="2626" y="572794"/>
                </a:lnTo>
                <a:lnTo>
                  <a:pt x="4715" y="584269"/>
                </a:lnTo>
                <a:lnTo>
                  <a:pt x="7100" y="595887"/>
                </a:lnTo>
                <a:lnTo>
                  <a:pt x="12396" y="619380"/>
                </a:lnTo>
                <a:lnTo>
                  <a:pt x="15197" y="630209"/>
                </a:lnTo>
                <a:lnTo>
                  <a:pt x="18056" y="640405"/>
                </a:lnTo>
                <a:lnTo>
                  <a:pt x="20956" y="650179"/>
                </a:lnTo>
                <a:lnTo>
                  <a:pt x="24872" y="659671"/>
                </a:lnTo>
                <a:lnTo>
                  <a:pt x="29468" y="668976"/>
                </a:lnTo>
                <a:lnTo>
                  <a:pt x="34516" y="678156"/>
                </a:lnTo>
                <a:lnTo>
                  <a:pt x="38873" y="687252"/>
                </a:lnTo>
                <a:lnTo>
                  <a:pt x="42771" y="696293"/>
                </a:lnTo>
                <a:lnTo>
                  <a:pt x="46361" y="705297"/>
                </a:lnTo>
                <a:lnTo>
                  <a:pt x="50739" y="713283"/>
                </a:lnTo>
                <a:lnTo>
                  <a:pt x="55642" y="720592"/>
                </a:lnTo>
                <a:lnTo>
                  <a:pt x="60895" y="727449"/>
                </a:lnTo>
                <a:lnTo>
                  <a:pt x="66381" y="734005"/>
                </a:lnTo>
                <a:lnTo>
                  <a:pt x="72023" y="740360"/>
                </a:lnTo>
                <a:lnTo>
                  <a:pt x="82592" y="751720"/>
                </a:lnTo>
                <a:lnTo>
                  <a:pt x="90596" y="760077"/>
                </a:lnTo>
                <a:lnTo>
                  <a:pt x="94120" y="762702"/>
                </a:lnTo>
                <a:lnTo>
                  <a:pt x="97461" y="764453"/>
                </a:lnTo>
                <a:lnTo>
                  <a:pt x="107120" y="767953"/>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13" name="SMARTInkAnnotation106"/>
          <p:cNvSpPr/>
          <p:nvPr/>
        </p:nvSpPr>
        <p:spPr>
          <a:xfrm>
            <a:off x="4583160" y="2022480"/>
            <a:ext cx="176040" cy="514440"/>
          </a:xfrm>
          <a:custGeom>
            <a:avLst/>
            <a:gdLst>
              <a:gd name="textAreaLeft" fmla="*/ 0 w 176040"/>
              <a:gd name="textAreaRight" fmla="*/ 176400 w 176040"/>
              <a:gd name="textAreaTop" fmla="*/ 0 h 514440"/>
              <a:gd name="textAreaBottom" fmla="*/ 514800 h 514440"/>
            </a:gdLst>
            <a:ahLst/>
            <a:rect l="textAreaLeft" t="textAreaTop" r="textAreaRight" b="textAreaBottom"/>
            <a:pathLst>
              <a:path w="176378" h="514138">
                <a:moveTo>
                  <a:pt x="158935" y="5145"/>
                </a:moveTo>
                <a:lnTo>
                  <a:pt x="135232" y="404"/>
                </a:lnTo>
                <a:lnTo>
                  <a:pt x="127258" y="0"/>
                </a:lnTo>
                <a:lnTo>
                  <a:pt x="120950" y="723"/>
                </a:lnTo>
                <a:lnTo>
                  <a:pt x="115752" y="2197"/>
                </a:lnTo>
                <a:lnTo>
                  <a:pt x="110302" y="4172"/>
                </a:lnTo>
                <a:lnTo>
                  <a:pt x="104685" y="6481"/>
                </a:lnTo>
                <a:lnTo>
                  <a:pt x="98956" y="9012"/>
                </a:lnTo>
                <a:lnTo>
                  <a:pt x="93152" y="12684"/>
                </a:lnTo>
                <a:lnTo>
                  <a:pt x="87298" y="17116"/>
                </a:lnTo>
                <a:lnTo>
                  <a:pt x="81411" y="22055"/>
                </a:lnTo>
                <a:lnTo>
                  <a:pt x="75502" y="26340"/>
                </a:lnTo>
                <a:lnTo>
                  <a:pt x="69579" y="30189"/>
                </a:lnTo>
                <a:lnTo>
                  <a:pt x="63645" y="33747"/>
                </a:lnTo>
                <a:lnTo>
                  <a:pt x="58698" y="39096"/>
                </a:lnTo>
                <a:lnTo>
                  <a:pt x="54406" y="45638"/>
                </a:lnTo>
                <a:lnTo>
                  <a:pt x="50554" y="52976"/>
                </a:lnTo>
                <a:lnTo>
                  <a:pt x="46001" y="59853"/>
                </a:lnTo>
                <a:lnTo>
                  <a:pt x="40981" y="66421"/>
                </a:lnTo>
                <a:lnTo>
                  <a:pt x="35651" y="72785"/>
                </a:lnTo>
                <a:lnTo>
                  <a:pt x="31105" y="79012"/>
                </a:lnTo>
                <a:lnTo>
                  <a:pt x="27082" y="85147"/>
                </a:lnTo>
                <a:lnTo>
                  <a:pt x="23408" y="91222"/>
                </a:lnTo>
                <a:lnTo>
                  <a:pt x="19966" y="97256"/>
                </a:lnTo>
                <a:lnTo>
                  <a:pt x="13496" y="109252"/>
                </a:lnTo>
                <a:lnTo>
                  <a:pt x="4276" y="127162"/>
                </a:lnTo>
                <a:lnTo>
                  <a:pt x="901" y="136435"/>
                </a:lnTo>
                <a:lnTo>
                  <a:pt x="0" y="140296"/>
                </a:lnTo>
                <a:lnTo>
                  <a:pt x="393" y="143863"/>
                </a:lnTo>
                <a:lnTo>
                  <a:pt x="1646" y="147233"/>
                </a:lnTo>
                <a:lnTo>
                  <a:pt x="5685" y="153623"/>
                </a:lnTo>
                <a:lnTo>
                  <a:pt x="10787" y="159770"/>
                </a:lnTo>
                <a:lnTo>
                  <a:pt x="13537" y="161807"/>
                </a:lnTo>
                <a:lnTo>
                  <a:pt x="16362" y="163164"/>
                </a:lnTo>
                <a:lnTo>
                  <a:pt x="19238" y="164069"/>
                </a:lnTo>
                <a:lnTo>
                  <a:pt x="22147" y="163680"/>
                </a:lnTo>
                <a:lnTo>
                  <a:pt x="25079" y="162429"/>
                </a:lnTo>
                <a:lnTo>
                  <a:pt x="28025" y="160602"/>
                </a:lnTo>
                <a:lnTo>
                  <a:pt x="31974" y="158393"/>
                </a:lnTo>
                <a:lnTo>
                  <a:pt x="41654" y="153291"/>
                </a:lnTo>
                <a:lnTo>
                  <a:pt x="48005" y="150542"/>
                </a:lnTo>
                <a:lnTo>
                  <a:pt x="55216" y="147717"/>
                </a:lnTo>
                <a:lnTo>
                  <a:pt x="63000" y="144841"/>
                </a:lnTo>
                <a:lnTo>
                  <a:pt x="70174" y="140940"/>
                </a:lnTo>
                <a:lnTo>
                  <a:pt x="76940" y="136355"/>
                </a:lnTo>
                <a:lnTo>
                  <a:pt x="83435" y="131313"/>
                </a:lnTo>
                <a:lnTo>
                  <a:pt x="89750" y="125968"/>
                </a:lnTo>
                <a:lnTo>
                  <a:pt x="95945" y="120420"/>
                </a:lnTo>
                <a:lnTo>
                  <a:pt x="108119" y="108964"/>
                </a:lnTo>
                <a:lnTo>
                  <a:pt x="138071" y="79511"/>
                </a:lnTo>
                <a:lnTo>
                  <a:pt x="143041" y="73574"/>
                </a:lnTo>
                <a:lnTo>
                  <a:pt x="147347" y="67631"/>
                </a:lnTo>
                <a:lnTo>
                  <a:pt x="151209" y="61685"/>
                </a:lnTo>
                <a:lnTo>
                  <a:pt x="154776" y="56729"/>
                </a:lnTo>
                <a:lnTo>
                  <a:pt x="158147" y="52433"/>
                </a:lnTo>
                <a:lnTo>
                  <a:pt x="161386" y="48576"/>
                </a:lnTo>
                <a:lnTo>
                  <a:pt x="164985" y="41646"/>
                </a:lnTo>
                <a:lnTo>
                  <a:pt x="165945" y="38408"/>
                </a:lnTo>
                <a:lnTo>
                  <a:pt x="167577" y="36250"/>
                </a:lnTo>
                <a:lnTo>
                  <a:pt x="169657" y="34811"/>
                </a:lnTo>
                <a:lnTo>
                  <a:pt x="176377" y="32102"/>
                </a:lnTo>
                <a:lnTo>
                  <a:pt x="171930" y="36724"/>
                </a:lnTo>
                <a:lnTo>
                  <a:pt x="170575" y="39096"/>
                </a:lnTo>
                <a:lnTo>
                  <a:pt x="165754" y="52678"/>
                </a:lnTo>
                <a:lnTo>
                  <a:pt x="160973" y="62982"/>
                </a:lnTo>
                <a:lnTo>
                  <a:pt x="155541" y="74176"/>
                </a:lnTo>
                <a:lnTo>
                  <a:pt x="152703" y="81923"/>
                </a:lnTo>
                <a:lnTo>
                  <a:pt x="149820" y="91057"/>
                </a:lnTo>
                <a:lnTo>
                  <a:pt x="143970" y="110797"/>
                </a:lnTo>
                <a:lnTo>
                  <a:pt x="138063" y="129492"/>
                </a:lnTo>
                <a:lnTo>
                  <a:pt x="135098" y="140629"/>
                </a:lnTo>
                <a:lnTo>
                  <a:pt x="117260" y="216955"/>
                </a:lnTo>
                <a:lnTo>
                  <a:pt x="96427" y="315240"/>
                </a:lnTo>
                <a:lnTo>
                  <a:pt x="75591" y="400885"/>
                </a:lnTo>
                <a:lnTo>
                  <a:pt x="72614" y="411846"/>
                </a:lnTo>
                <a:lnTo>
                  <a:pt x="66662" y="431964"/>
                </a:lnTo>
                <a:lnTo>
                  <a:pt x="64677" y="441495"/>
                </a:lnTo>
                <a:lnTo>
                  <a:pt x="63354" y="450826"/>
                </a:lnTo>
                <a:lnTo>
                  <a:pt x="62472" y="460024"/>
                </a:lnTo>
                <a:lnTo>
                  <a:pt x="58846" y="475534"/>
                </a:lnTo>
                <a:lnTo>
                  <a:pt x="54920" y="488051"/>
                </a:lnTo>
                <a:lnTo>
                  <a:pt x="52709" y="500675"/>
                </a:lnTo>
                <a:lnTo>
                  <a:pt x="51778" y="514137"/>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14" name="SMARTInkAnnotation107"/>
          <p:cNvSpPr/>
          <p:nvPr/>
        </p:nvSpPr>
        <p:spPr>
          <a:xfrm>
            <a:off x="4724280" y="2490840"/>
            <a:ext cx="360" cy="9360"/>
          </a:xfrm>
          <a:custGeom>
            <a:avLst/>
            <a:gdLst>
              <a:gd name="textAreaLeft" fmla="*/ 0 w 360"/>
              <a:gd name="textAreaRight" fmla="*/ 720 w 360"/>
              <a:gd name="textAreaTop" fmla="*/ 0 h 9360"/>
              <a:gd name="textAreaBottom" fmla="*/ 9720 h 9360"/>
            </a:gdLst>
            <a:ahLst/>
            <a:rect l="textAreaLeft" t="textAreaTop" r="textAreaRight" b="textAreaBottom"/>
            <a:pathLst>
              <a:path w="1" h="8931">
                <a:moveTo>
                  <a:pt x="0" y="0"/>
                </a:moveTo>
                <a:lnTo>
                  <a:pt x="0" y="8930"/>
                </a:lnTo>
              </a:path>
            </a:pathLst>
          </a:custGeom>
          <a:noFill/>
          <a:ln w="38160">
            <a:solidFill>
              <a:srgbClr val="009300"/>
            </a:solidFill>
            <a:roun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Constantia"/>
            </a:endParaRPr>
          </a:p>
        </p:txBody>
      </p:sp>
      <p:sp>
        <p:nvSpPr>
          <p:cNvPr id="315" name="SMARTInkAnnotation108"/>
          <p:cNvSpPr/>
          <p:nvPr/>
        </p:nvSpPr>
        <p:spPr>
          <a:xfrm>
            <a:off x="4849920" y="2071800"/>
            <a:ext cx="274680" cy="534960"/>
          </a:xfrm>
          <a:custGeom>
            <a:avLst/>
            <a:gdLst>
              <a:gd name="textAreaLeft" fmla="*/ 0 w 274680"/>
              <a:gd name="textAreaRight" fmla="*/ 275040 w 274680"/>
              <a:gd name="textAreaTop" fmla="*/ 0 h 534960"/>
              <a:gd name="textAreaBottom" fmla="*/ 535320 h 534960"/>
            </a:gdLst>
            <a:ahLst/>
            <a:rect l="textAreaLeft" t="textAreaTop" r="textAreaRight" b="textAreaBottom"/>
            <a:pathLst>
              <a:path w="274872" h="535255">
                <a:moveTo>
                  <a:pt x="257552" y="0"/>
                </a:moveTo>
                <a:lnTo>
                  <a:pt x="223259" y="0"/>
                </a:lnTo>
                <a:lnTo>
                  <a:pt x="217823" y="992"/>
                </a:lnTo>
                <a:lnTo>
                  <a:pt x="212214" y="2646"/>
                </a:lnTo>
                <a:lnTo>
                  <a:pt x="206491" y="4740"/>
                </a:lnTo>
                <a:lnTo>
                  <a:pt x="200690" y="7129"/>
                </a:lnTo>
                <a:lnTo>
                  <a:pt x="194840" y="9714"/>
                </a:lnTo>
                <a:lnTo>
                  <a:pt x="188955" y="12429"/>
                </a:lnTo>
                <a:lnTo>
                  <a:pt x="182055" y="15231"/>
                </a:lnTo>
                <a:lnTo>
                  <a:pt x="174479" y="18092"/>
                </a:lnTo>
                <a:lnTo>
                  <a:pt x="166451" y="20991"/>
                </a:lnTo>
                <a:lnTo>
                  <a:pt x="159115" y="24908"/>
                </a:lnTo>
                <a:lnTo>
                  <a:pt x="152239" y="29504"/>
                </a:lnTo>
                <a:lnTo>
                  <a:pt x="145672" y="34552"/>
                </a:lnTo>
                <a:lnTo>
                  <a:pt x="139309" y="39902"/>
                </a:lnTo>
                <a:lnTo>
                  <a:pt x="133083" y="45453"/>
                </a:lnTo>
                <a:lnTo>
                  <a:pt x="120873" y="56912"/>
                </a:lnTo>
                <a:lnTo>
                  <a:pt x="108831" y="68620"/>
                </a:lnTo>
                <a:lnTo>
                  <a:pt x="102843" y="75512"/>
                </a:lnTo>
                <a:lnTo>
                  <a:pt x="96866" y="83084"/>
                </a:lnTo>
                <a:lnTo>
                  <a:pt x="90896" y="91108"/>
                </a:lnTo>
                <a:lnTo>
                  <a:pt x="78972" y="107961"/>
                </a:lnTo>
                <a:lnTo>
                  <a:pt x="55149" y="143034"/>
                </a:lnTo>
                <a:lnTo>
                  <a:pt x="50187" y="151911"/>
                </a:lnTo>
                <a:lnTo>
                  <a:pt x="45887" y="160805"/>
                </a:lnTo>
                <a:lnTo>
                  <a:pt x="42028" y="169711"/>
                </a:lnTo>
                <a:lnTo>
                  <a:pt x="39455" y="178625"/>
                </a:lnTo>
                <a:lnTo>
                  <a:pt x="37740" y="187545"/>
                </a:lnTo>
                <a:lnTo>
                  <a:pt x="36597" y="196467"/>
                </a:lnTo>
                <a:lnTo>
                  <a:pt x="35834" y="205392"/>
                </a:lnTo>
                <a:lnTo>
                  <a:pt x="35326" y="214319"/>
                </a:lnTo>
                <a:lnTo>
                  <a:pt x="34761" y="232175"/>
                </a:lnTo>
                <a:lnTo>
                  <a:pt x="34369" y="276821"/>
                </a:lnTo>
                <a:lnTo>
                  <a:pt x="35342" y="285750"/>
                </a:lnTo>
                <a:lnTo>
                  <a:pt x="36982" y="294680"/>
                </a:lnTo>
                <a:lnTo>
                  <a:pt x="39068" y="303610"/>
                </a:lnTo>
                <a:lnTo>
                  <a:pt x="42442" y="312539"/>
                </a:lnTo>
                <a:lnTo>
                  <a:pt x="46677" y="321469"/>
                </a:lnTo>
                <a:lnTo>
                  <a:pt x="51485" y="330399"/>
                </a:lnTo>
                <a:lnTo>
                  <a:pt x="56674" y="339328"/>
                </a:lnTo>
                <a:lnTo>
                  <a:pt x="67731" y="357188"/>
                </a:lnTo>
                <a:lnTo>
                  <a:pt x="72466" y="366117"/>
                </a:lnTo>
                <a:lnTo>
                  <a:pt x="76615" y="375047"/>
                </a:lnTo>
                <a:lnTo>
                  <a:pt x="80372" y="383977"/>
                </a:lnTo>
                <a:lnTo>
                  <a:pt x="85854" y="394891"/>
                </a:lnTo>
                <a:lnTo>
                  <a:pt x="92485" y="407128"/>
                </a:lnTo>
                <a:lnTo>
                  <a:pt x="105806" y="430977"/>
                </a:lnTo>
                <a:lnTo>
                  <a:pt x="115034" y="448191"/>
                </a:lnTo>
                <a:lnTo>
                  <a:pt x="132192" y="481644"/>
                </a:lnTo>
                <a:lnTo>
                  <a:pt x="137344" y="492869"/>
                </a:lnTo>
                <a:lnTo>
                  <a:pt x="139634" y="501165"/>
                </a:lnTo>
                <a:lnTo>
                  <a:pt x="139252" y="504766"/>
                </a:lnTo>
                <a:lnTo>
                  <a:pt x="138006" y="508159"/>
                </a:lnTo>
                <a:lnTo>
                  <a:pt x="133975" y="514575"/>
                </a:lnTo>
                <a:lnTo>
                  <a:pt x="126128" y="523766"/>
                </a:lnTo>
                <a:lnTo>
                  <a:pt x="120427" y="529779"/>
                </a:lnTo>
                <a:lnTo>
                  <a:pt x="117518" y="531780"/>
                </a:lnTo>
                <a:lnTo>
                  <a:pt x="111640" y="534003"/>
                </a:lnTo>
                <a:lnTo>
                  <a:pt x="103075" y="534991"/>
                </a:lnTo>
                <a:lnTo>
                  <a:pt x="98013" y="535254"/>
                </a:lnTo>
                <a:lnTo>
                  <a:pt x="92654" y="534438"/>
                </a:lnTo>
                <a:lnTo>
                  <a:pt x="87097" y="532902"/>
                </a:lnTo>
                <a:lnTo>
                  <a:pt x="81407" y="530885"/>
                </a:lnTo>
                <a:lnTo>
                  <a:pt x="76622" y="528548"/>
                </a:lnTo>
                <a:lnTo>
                  <a:pt x="64155" y="520519"/>
                </a:lnTo>
                <a:lnTo>
                  <a:pt x="59167" y="517669"/>
                </a:lnTo>
                <a:lnTo>
                  <a:pt x="48334" y="511856"/>
                </a:lnTo>
                <a:lnTo>
                  <a:pt x="36904" y="505966"/>
                </a:lnTo>
                <a:lnTo>
                  <a:pt x="32071" y="501022"/>
                </a:lnTo>
                <a:lnTo>
                  <a:pt x="24054" y="487590"/>
                </a:lnTo>
                <a:lnTo>
                  <a:pt x="17184" y="476990"/>
                </a:lnTo>
                <a:lnTo>
                  <a:pt x="13963" y="472775"/>
                </a:lnTo>
                <a:lnTo>
                  <a:pt x="11816" y="467980"/>
                </a:lnTo>
                <a:lnTo>
                  <a:pt x="9430" y="457361"/>
                </a:lnTo>
                <a:lnTo>
                  <a:pt x="5723" y="443381"/>
                </a:lnTo>
                <a:lnTo>
                  <a:pt x="1761" y="428238"/>
                </a:lnTo>
                <a:lnTo>
                  <a:pt x="0" y="414893"/>
                </a:lnTo>
                <a:lnTo>
                  <a:pt x="1863" y="402347"/>
                </a:lnTo>
                <a:lnTo>
                  <a:pt x="5006" y="390157"/>
                </a:lnTo>
                <a:lnTo>
                  <a:pt x="6404" y="378125"/>
                </a:lnTo>
                <a:lnTo>
                  <a:pt x="9670" y="363516"/>
                </a:lnTo>
                <a:lnTo>
                  <a:pt x="11930" y="355453"/>
                </a:lnTo>
                <a:lnTo>
                  <a:pt x="19733" y="341203"/>
                </a:lnTo>
                <a:lnTo>
                  <a:pt x="24592" y="334625"/>
                </a:lnTo>
                <a:lnTo>
                  <a:pt x="29816" y="328256"/>
                </a:lnTo>
                <a:lnTo>
                  <a:pt x="35283" y="322024"/>
                </a:lnTo>
                <a:lnTo>
                  <a:pt x="40911" y="315886"/>
                </a:lnTo>
                <a:lnTo>
                  <a:pt x="52458" y="303774"/>
                </a:lnTo>
                <a:lnTo>
                  <a:pt x="58314" y="297766"/>
                </a:lnTo>
                <a:lnTo>
                  <a:pt x="65196" y="291776"/>
                </a:lnTo>
                <a:lnTo>
                  <a:pt x="72760" y="285799"/>
                </a:lnTo>
                <a:lnTo>
                  <a:pt x="80779" y="279829"/>
                </a:lnTo>
                <a:lnTo>
                  <a:pt x="97627" y="267905"/>
                </a:lnTo>
                <a:lnTo>
                  <a:pt x="132696" y="244081"/>
                </a:lnTo>
                <a:lnTo>
                  <a:pt x="141573" y="239119"/>
                </a:lnTo>
                <a:lnTo>
                  <a:pt x="150467" y="234819"/>
                </a:lnTo>
                <a:lnTo>
                  <a:pt x="159372" y="230960"/>
                </a:lnTo>
                <a:lnTo>
                  <a:pt x="168287" y="226403"/>
                </a:lnTo>
                <a:lnTo>
                  <a:pt x="177206" y="221381"/>
                </a:lnTo>
                <a:lnTo>
                  <a:pt x="186129" y="216048"/>
                </a:lnTo>
                <a:lnTo>
                  <a:pt x="195054" y="209517"/>
                </a:lnTo>
                <a:lnTo>
                  <a:pt x="203981" y="202185"/>
                </a:lnTo>
                <a:lnTo>
                  <a:pt x="212908" y="194322"/>
                </a:lnTo>
                <a:lnTo>
                  <a:pt x="228119" y="180292"/>
                </a:lnTo>
                <a:lnTo>
                  <a:pt x="234954" y="173773"/>
                </a:lnTo>
                <a:lnTo>
                  <a:pt x="240502" y="167442"/>
                </a:lnTo>
                <a:lnTo>
                  <a:pt x="245193" y="161238"/>
                </a:lnTo>
                <a:lnTo>
                  <a:pt x="253051" y="149052"/>
                </a:lnTo>
                <a:lnTo>
                  <a:pt x="259852" y="137021"/>
                </a:lnTo>
                <a:lnTo>
                  <a:pt x="266181" y="125060"/>
                </a:lnTo>
                <a:lnTo>
                  <a:pt x="271309" y="113129"/>
                </a:lnTo>
                <a:lnTo>
                  <a:pt x="273588" y="101212"/>
                </a:lnTo>
                <a:lnTo>
                  <a:pt x="274601" y="89301"/>
                </a:lnTo>
                <a:lnTo>
                  <a:pt x="274871" y="83346"/>
                </a:lnTo>
                <a:lnTo>
                  <a:pt x="274059" y="78385"/>
                </a:lnTo>
                <a:lnTo>
                  <a:pt x="270511" y="70226"/>
                </a:lnTo>
                <a:lnTo>
                  <a:pt x="262935" y="60054"/>
                </a:lnTo>
                <a:lnTo>
                  <a:pt x="254407" y="50757"/>
                </a:lnTo>
                <a:lnTo>
                  <a:pt x="252478" y="47728"/>
                </a:lnTo>
                <a:lnTo>
                  <a:pt x="248772" y="38726"/>
                </a:lnTo>
                <a:lnTo>
                  <a:pt x="246738" y="35739"/>
                </a:lnTo>
                <a:lnTo>
                  <a:pt x="239692" y="2678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16" name="SMARTInkAnnotation109"/>
          <p:cNvSpPr/>
          <p:nvPr/>
        </p:nvSpPr>
        <p:spPr>
          <a:xfrm>
            <a:off x="5133960" y="2081160"/>
            <a:ext cx="81000" cy="455760"/>
          </a:xfrm>
          <a:custGeom>
            <a:avLst/>
            <a:gdLst>
              <a:gd name="textAreaLeft" fmla="*/ 0 w 81000"/>
              <a:gd name="textAreaRight" fmla="*/ 81360 w 81000"/>
              <a:gd name="textAreaTop" fmla="*/ 0 h 455760"/>
              <a:gd name="textAreaBottom" fmla="*/ 456120 h 455760"/>
            </a:gdLst>
            <a:ahLst/>
            <a:rect l="textAreaLeft" t="textAreaTop" r="textAreaRight" b="textAreaBottom"/>
            <a:pathLst>
              <a:path w="80368" h="455415">
                <a:moveTo>
                  <a:pt x="80367" y="0"/>
                </a:moveTo>
                <a:lnTo>
                  <a:pt x="75627" y="4740"/>
                </a:lnTo>
                <a:lnTo>
                  <a:pt x="74231" y="8121"/>
                </a:lnTo>
                <a:lnTo>
                  <a:pt x="72679" y="17169"/>
                </a:lnTo>
                <a:lnTo>
                  <a:pt x="71989" y="30451"/>
                </a:lnTo>
                <a:lnTo>
                  <a:pt x="71601" y="54663"/>
                </a:lnTo>
                <a:lnTo>
                  <a:pt x="71546" y="63231"/>
                </a:lnTo>
                <a:lnTo>
                  <a:pt x="70518" y="71920"/>
                </a:lnTo>
                <a:lnTo>
                  <a:pt x="68841" y="80689"/>
                </a:lnTo>
                <a:lnTo>
                  <a:pt x="66729" y="89511"/>
                </a:lnTo>
                <a:lnTo>
                  <a:pt x="65323" y="99361"/>
                </a:lnTo>
                <a:lnTo>
                  <a:pt x="64385" y="109897"/>
                </a:lnTo>
                <a:lnTo>
                  <a:pt x="63759" y="120890"/>
                </a:lnTo>
                <a:lnTo>
                  <a:pt x="62350" y="132187"/>
                </a:lnTo>
                <a:lnTo>
                  <a:pt x="60418" y="143687"/>
                </a:lnTo>
                <a:lnTo>
                  <a:pt x="58138" y="155322"/>
                </a:lnTo>
                <a:lnTo>
                  <a:pt x="56618" y="167048"/>
                </a:lnTo>
                <a:lnTo>
                  <a:pt x="55604" y="178834"/>
                </a:lnTo>
                <a:lnTo>
                  <a:pt x="54929" y="190660"/>
                </a:lnTo>
                <a:lnTo>
                  <a:pt x="53486" y="202513"/>
                </a:lnTo>
                <a:lnTo>
                  <a:pt x="51532" y="214384"/>
                </a:lnTo>
                <a:lnTo>
                  <a:pt x="49238" y="226266"/>
                </a:lnTo>
                <a:lnTo>
                  <a:pt x="46716" y="237164"/>
                </a:lnTo>
                <a:lnTo>
                  <a:pt x="44042" y="247406"/>
                </a:lnTo>
                <a:lnTo>
                  <a:pt x="38426" y="267716"/>
                </a:lnTo>
                <a:lnTo>
                  <a:pt x="32623" y="289972"/>
                </a:lnTo>
                <a:lnTo>
                  <a:pt x="29686" y="300471"/>
                </a:lnTo>
                <a:lnTo>
                  <a:pt x="23777" y="320074"/>
                </a:lnTo>
                <a:lnTo>
                  <a:pt x="14872" y="347845"/>
                </a:lnTo>
                <a:lnTo>
                  <a:pt x="12891" y="356912"/>
                </a:lnTo>
                <a:lnTo>
                  <a:pt x="11571" y="365933"/>
                </a:lnTo>
                <a:lnTo>
                  <a:pt x="10691" y="374924"/>
                </a:lnTo>
                <a:lnTo>
                  <a:pt x="9111" y="382903"/>
                </a:lnTo>
                <a:lnTo>
                  <a:pt x="7066" y="390206"/>
                </a:lnTo>
                <a:lnTo>
                  <a:pt x="4711" y="397059"/>
                </a:lnTo>
                <a:lnTo>
                  <a:pt x="3140" y="403612"/>
                </a:lnTo>
                <a:lnTo>
                  <a:pt x="1396" y="416185"/>
                </a:lnTo>
                <a:lnTo>
                  <a:pt x="621" y="428388"/>
                </a:lnTo>
                <a:lnTo>
                  <a:pt x="184" y="443768"/>
                </a:lnTo>
                <a:lnTo>
                  <a:pt x="0" y="45541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17" name="SMARTInkAnnotation110"/>
          <p:cNvSpPr/>
          <p:nvPr/>
        </p:nvSpPr>
        <p:spPr>
          <a:xfrm>
            <a:off x="5205240" y="2341440"/>
            <a:ext cx="206640" cy="219240"/>
          </a:xfrm>
          <a:custGeom>
            <a:avLst/>
            <a:gdLst>
              <a:gd name="textAreaLeft" fmla="*/ 0 w 206640"/>
              <a:gd name="textAreaRight" fmla="*/ 207000 w 206640"/>
              <a:gd name="textAreaTop" fmla="*/ 0 h 219240"/>
              <a:gd name="textAreaBottom" fmla="*/ 219600 h 219240"/>
            </a:gdLst>
            <a:ahLst/>
            <a:rect l="textAreaLeft" t="textAreaTop" r="textAreaRight" b="textAreaBottom"/>
            <a:pathLst>
              <a:path w="205275" h="219468">
                <a:moveTo>
                  <a:pt x="8821" y="123195"/>
                </a:moveTo>
                <a:lnTo>
                  <a:pt x="8821" y="148926"/>
                </a:lnTo>
                <a:lnTo>
                  <a:pt x="7829" y="153248"/>
                </a:lnTo>
                <a:lnTo>
                  <a:pt x="6175" y="157121"/>
                </a:lnTo>
                <a:lnTo>
                  <a:pt x="0" y="167658"/>
                </a:lnTo>
                <a:lnTo>
                  <a:pt x="4664" y="163048"/>
                </a:lnTo>
                <a:lnTo>
                  <a:pt x="6049" y="160678"/>
                </a:lnTo>
                <a:lnTo>
                  <a:pt x="7589" y="155399"/>
                </a:lnTo>
                <a:lnTo>
                  <a:pt x="8000" y="151609"/>
                </a:lnTo>
                <a:lnTo>
                  <a:pt x="8274" y="147099"/>
                </a:lnTo>
                <a:lnTo>
                  <a:pt x="8578" y="136796"/>
                </a:lnTo>
                <a:lnTo>
                  <a:pt x="8712" y="125602"/>
                </a:lnTo>
                <a:lnTo>
                  <a:pt x="9741" y="118847"/>
                </a:lnTo>
                <a:lnTo>
                  <a:pt x="11419" y="111367"/>
                </a:lnTo>
                <a:lnTo>
                  <a:pt x="13530" y="103403"/>
                </a:lnTo>
                <a:lnTo>
                  <a:pt x="14937" y="96110"/>
                </a:lnTo>
                <a:lnTo>
                  <a:pt x="15874" y="89263"/>
                </a:lnTo>
                <a:lnTo>
                  <a:pt x="16500" y="82715"/>
                </a:lnTo>
                <a:lnTo>
                  <a:pt x="17909" y="75372"/>
                </a:lnTo>
                <a:lnTo>
                  <a:pt x="19841" y="67501"/>
                </a:lnTo>
                <a:lnTo>
                  <a:pt x="22121" y="59277"/>
                </a:lnTo>
                <a:lnTo>
                  <a:pt x="24632" y="51809"/>
                </a:lnTo>
                <a:lnTo>
                  <a:pt x="27300" y="44847"/>
                </a:lnTo>
                <a:lnTo>
                  <a:pt x="30070" y="38221"/>
                </a:lnTo>
                <a:lnTo>
                  <a:pt x="31916" y="32811"/>
                </a:lnTo>
                <a:lnTo>
                  <a:pt x="33147" y="28213"/>
                </a:lnTo>
                <a:lnTo>
                  <a:pt x="33969" y="24155"/>
                </a:lnTo>
                <a:lnTo>
                  <a:pt x="35508" y="20457"/>
                </a:lnTo>
                <a:lnTo>
                  <a:pt x="39864" y="13703"/>
                </a:lnTo>
                <a:lnTo>
                  <a:pt x="45108" y="7394"/>
                </a:lnTo>
                <a:lnTo>
                  <a:pt x="47895" y="4322"/>
                </a:lnTo>
                <a:lnTo>
                  <a:pt x="50745" y="2275"/>
                </a:lnTo>
                <a:lnTo>
                  <a:pt x="56558" y="0"/>
                </a:lnTo>
                <a:lnTo>
                  <a:pt x="59498" y="385"/>
                </a:lnTo>
                <a:lnTo>
                  <a:pt x="62450" y="1634"/>
                </a:lnTo>
                <a:lnTo>
                  <a:pt x="68374" y="5668"/>
                </a:lnTo>
                <a:lnTo>
                  <a:pt x="74316" y="10768"/>
                </a:lnTo>
                <a:lnTo>
                  <a:pt x="76296" y="13517"/>
                </a:lnTo>
                <a:lnTo>
                  <a:pt x="78497" y="19218"/>
                </a:lnTo>
                <a:lnTo>
                  <a:pt x="80077" y="23119"/>
                </a:lnTo>
                <a:lnTo>
                  <a:pt x="82122" y="27704"/>
                </a:lnTo>
                <a:lnTo>
                  <a:pt x="84477" y="32746"/>
                </a:lnTo>
                <a:lnTo>
                  <a:pt x="86048" y="38091"/>
                </a:lnTo>
                <a:lnTo>
                  <a:pt x="87094" y="43638"/>
                </a:lnTo>
                <a:lnTo>
                  <a:pt x="87793" y="49321"/>
                </a:lnTo>
                <a:lnTo>
                  <a:pt x="88258" y="56087"/>
                </a:lnTo>
                <a:lnTo>
                  <a:pt x="88567" y="63574"/>
                </a:lnTo>
                <a:lnTo>
                  <a:pt x="89065" y="87495"/>
                </a:lnTo>
                <a:lnTo>
                  <a:pt x="89188" y="140521"/>
                </a:lnTo>
                <a:lnTo>
                  <a:pt x="89188" y="136156"/>
                </a:lnTo>
                <a:lnTo>
                  <a:pt x="90180" y="133820"/>
                </a:lnTo>
                <a:lnTo>
                  <a:pt x="96317" y="124800"/>
                </a:lnTo>
                <a:lnTo>
                  <a:pt x="98902" y="120296"/>
                </a:lnTo>
                <a:lnTo>
                  <a:pt x="101617" y="115309"/>
                </a:lnTo>
                <a:lnTo>
                  <a:pt x="103427" y="110001"/>
                </a:lnTo>
                <a:lnTo>
                  <a:pt x="104634" y="104477"/>
                </a:lnTo>
                <a:lnTo>
                  <a:pt x="105439" y="98810"/>
                </a:lnTo>
                <a:lnTo>
                  <a:pt x="106967" y="93048"/>
                </a:lnTo>
                <a:lnTo>
                  <a:pt x="108978" y="87222"/>
                </a:lnTo>
                <a:lnTo>
                  <a:pt x="111312" y="81354"/>
                </a:lnTo>
                <a:lnTo>
                  <a:pt x="113859" y="75457"/>
                </a:lnTo>
                <a:lnTo>
                  <a:pt x="119335" y="63614"/>
                </a:lnTo>
                <a:lnTo>
                  <a:pt x="122185" y="58670"/>
                </a:lnTo>
                <a:lnTo>
                  <a:pt x="125076" y="54381"/>
                </a:lnTo>
                <a:lnTo>
                  <a:pt x="127997" y="50530"/>
                </a:lnTo>
                <a:lnTo>
                  <a:pt x="130936" y="47963"/>
                </a:lnTo>
                <a:lnTo>
                  <a:pt x="133887" y="46251"/>
                </a:lnTo>
                <a:lnTo>
                  <a:pt x="136847" y="45110"/>
                </a:lnTo>
                <a:lnTo>
                  <a:pt x="138820" y="43357"/>
                </a:lnTo>
                <a:lnTo>
                  <a:pt x="140135" y="41197"/>
                </a:lnTo>
                <a:lnTo>
                  <a:pt x="141013" y="38764"/>
                </a:lnTo>
                <a:lnTo>
                  <a:pt x="142589" y="37142"/>
                </a:lnTo>
                <a:lnTo>
                  <a:pt x="144633" y="36061"/>
                </a:lnTo>
                <a:lnTo>
                  <a:pt x="146987" y="35340"/>
                </a:lnTo>
                <a:lnTo>
                  <a:pt x="149549" y="35852"/>
                </a:lnTo>
                <a:lnTo>
                  <a:pt x="155041" y="39066"/>
                </a:lnTo>
                <a:lnTo>
                  <a:pt x="156903" y="41312"/>
                </a:lnTo>
                <a:lnTo>
                  <a:pt x="158144" y="43802"/>
                </a:lnTo>
                <a:lnTo>
                  <a:pt x="160515" y="50206"/>
                </a:lnTo>
                <a:lnTo>
                  <a:pt x="162536" y="54692"/>
                </a:lnTo>
                <a:lnTo>
                  <a:pt x="164876" y="59667"/>
                </a:lnTo>
                <a:lnTo>
                  <a:pt x="166436" y="64968"/>
                </a:lnTo>
                <a:lnTo>
                  <a:pt x="167476" y="70486"/>
                </a:lnTo>
                <a:lnTo>
                  <a:pt x="168169" y="76150"/>
                </a:lnTo>
                <a:lnTo>
                  <a:pt x="169623" y="82902"/>
                </a:lnTo>
                <a:lnTo>
                  <a:pt x="171585" y="90380"/>
                </a:lnTo>
                <a:lnTo>
                  <a:pt x="173885" y="98342"/>
                </a:lnTo>
                <a:lnTo>
                  <a:pt x="175419" y="106626"/>
                </a:lnTo>
                <a:lnTo>
                  <a:pt x="176441" y="115126"/>
                </a:lnTo>
                <a:lnTo>
                  <a:pt x="177122" y="123769"/>
                </a:lnTo>
                <a:lnTo>
                  <a:pt x="177577" y="131515"/>
                </a:lnTo>
                <a:lnTo>
                  <a:pt x="178081" y="145414"/>
                </a:lnTo>
                <a:lnTo>
                  <a:pt x="179208" y="152891"/>
                </a:lnTo>
                <a:lnTo>
                  <a:pt x="180951" y="160851"/>
                </a:lnTo>
                <a:lnTo>
                  <a:pt x="183106" y="169135"/>
                </a:lnTo>
                <a:lnTo>
                  <a:pt x="184542" y="176643"/>
                </a:lnTo>
                <a:lnTo>
                  <a:pt x="185500" y="183631"/>
                </a:lnTo>
                <a:lnTo>
                  <a:pt x="186138" y="190275"/>
                </a:lnTo>
                <a:lnTo>
                  <a:pt x="186564" y="195697"/>
                </a:lnTo>
                <a:lnTo>
                  <a:pt x="186847" y="200303"/>
                </a:lnTo>
                <a:lnTo>
                  <a:pt x="187036" y="204366"/>
                </a:lnTo>
                <a:lnTo>
                  <a:pt x="188155" y="208067"/>
                </a:lnTo>
                <a:lnTo>
                  <a:pt x="192044" y="214825"/>
                </a:lnTo>
                <a:lnTo>
                  <a:pt x="195070" y="219467"/>
                </a:lnTo>
                <a:lnTo>
                  <a:pt x="195495" y="219127"/>
                </a:lnTo>
                <a:lnTo>
                  <a:pt x="195967" y="216102"/>
                </a:lnTo>
                <a:lnTo>
                  <a:pt x="197085" y="214899"/>
                </a:lnTo>
                <a:lnTo>
                  <a:pt x="198823" y="214097"/>
                </a:lnTo>
                <a:lnTo>
                  <a:pt x="205274" y="212492"/>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18" name="SMARTInkAnnotation111"/>
          <p:cNvSpPr/>
          <p:nvPr/>
        </p:nvSpPr>
        <p:spPr>
          <a:xfrm>
            <a:off x="5384880" y="2081160"/>
            <a:ext cx="204840" cy="623880"/>
          </a:xfrm>
          <a:custGeom>
            <a:avLst/>
            <a:gdLst>
              <a:gd name="textAreaLeft" fmla="*/ 0 w 204840"/>
              <a:gd name="textAreaRight" fmla="*/ 205200 w 204840"/>
              <a:gd name="textAreaTop" fmla="*/ 0 h 623880"/>
              <a:gd name="textAreaBottom" fmla="*/ 624240 h 623880"/>
            </a:gdLst>
            <a:ahLst/>
            <a:rect l="textAreaLeft" t="textAreaTop" r="textAreaRight" b="textAreaBottom"/>
            <a:pathLst>
              <a:path w="205384" h="625079">
                <a:moveTo>
                  <a:pt x="205383" y="0"/>
                </a:moveTo>
                <a:lnTo>
                  <a:pt x="205383" y="7688"/>
                </a:lnTo>
                <a:lnTo>
                  <a:pt x="199246" y="22942"/>
                </a:lnTo>
                <a:lnTo>
                  <a:pt x="196289" y="40311"/>
                </a:lnTo>
                <a:lnTo>
                  <a:pt x="192081" y="55619"/>
                </a:lnTo>
                <a:lnTo>
                  <a:pt x="186903" y="72344"/>
                </a:lnTo>
                <a:lnTo>
                  <a:pt x="181295" y="90692"/>
                </a:lnTo>
                <a:lnTo>
                  <a:pt x="175495" y="112076"/>
                </a:lnTo>
                <a:lnTo>
                  <a:pt x="157747" y="181741"/>
                </a:lnTo>
                <a:lnTo>
                  <a:pt x="153783" y="194582"/>
                </a:lnTo>
                <a:lnTo>
                  <a:pt x="149155" y="208104"/>
                </a:lnTo>
                <a:lnTo>
                  <a:pt x="144085" y="222080"/>
                </a:lnTo>
                <a:lnTo>
                  <a:pt x="139713" y="235366"/>
                </a:lnTo>
                <a:lnTo>
                  <a:pt x="135806" y="248192"/>
                </a:lnTo>
                <a:lnTo>
                  <a:pt x="132209" y="260711"/>
                </a:lnTo>
                <a:lnTo>
                  <a:pt x="127827" y="274018"/>
                </a:lnTo>
                <a:lnTo>
                  <a:pt x="117667" y="302033"/>
                </a:lnTo>
                <a:lnTo>
                  <a:pt x="113171" y="315457"/>
                </a:lnTo>
                <a:lnTo>
                  <a:pt x="109182" y="328375"/>
                </a:lnTo>
                <a:lnTo>
                  <a:pt x="105530" y="340956"/>
                </a:lnTo>
                <a:lnTo>
                  <a:pt x="101111" y="353311"/>
                </a:lnTo>
                <a:lnTo>
                  <a:pt x="96181" y="365517"/>
                </a:lnTo>
                <a:lnTo>
                  <a:pt x="90910" y="377623"/>
                </a:lnTo>
                <a:lnTo>
                  <a:pt x="86403" y="389663"/>
                </a:lnTo>
                <a:lnTo>
                  <a:pt x="82407" y="401658"/>
                </a:lnTo>
                <a:lnTo>
                  <a:pt x="78750" y="413623"/>
                </a:lnTo>
                <a:lnTo>
                  <a:pt x="72042" y="437502"/>
                </a:lnTo>
                <a:lnTo>
                  <a:pt x="68864" y="449426"/>
                </a:lnTo>
                <a:lnTo>
                  <a:pt x="64761" y="461344"/>
                </a:lnTo>
                <a:lnTo>
                  <a:pt x="60041" y="473258"/>
                </a:lnTo>
                <a:lnTo>
                  <a:pt x="54910" y="485169"/>
                </a:lnTo>
                <a:lnTo>
                  <a:pt x="50497" y="496086"/>
                </a:lnTo>
                <a:lnTo>
                  <a:pt x="42949" y="516155"/>
                </a:lnTo>
                <a:lnTo>
                  <a:pt x="33121" y="544187"/>
                </a:lnTo>
                <a:lnTo>
                  <a:pt x="26957" y="559691"/>
                </a:lnTo>
                <a:lnTo>
                  <a:pt x="21903" y="573197"/>
                </a:lnTo>
                <a:lnTo>
                  <a:pt x="18066" y="591957"/>
                </a:lnTo>
                <a:lnTo>
                  <a:pt x="13652" y="604073"/>
                </a:lnTo>
                <a:lnTo>
                  <a:pt x="11086" y="608098"/>
                </a:lnTo>
                <a:lnTo>
                  <a:pt x="8383" y="610782"/>
                </a:lnTo>
                <a:lnTo>
                  <a:pt x="5588" y="612570"/>
                </a:lnTo>
                <a:lnTo>
                  <a:pt x="3725" y="614755"/>
                </a:lnTo>
                <a:lnTo>
                  <a:pt x="2484" y="617204"/>
                </a:lnTo>
                <a:lnTo>
                  <a:pt x="0" y="62507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19" name="SMARTInkAnnotation112"/>
          <p:cNvSpPr/>
          <p:nvPr/>
        </p:nvSpPr>
        <p:spPr>
          <a:xfrm>
            <a:off x="5572080" y="2376360"/>
            <a:ext cx="98640" cy="247680"/>
          </a:xfrm>
          <a:custGeom>
            <a:avLst/>
            <a:gdLst>
              <a:gd name="textAreaLeft" fmla="*/ 0 w 98640"/>
              <a:gd name="textAreaRight" fmla="*/ 99000 w 98640"/>
              <a:gd name="textAreaTop" fmla="*/ 0 h 247680"/>
              <a:gd name="textAreaBottom" fmla="*/ 248040 h 247680"/>
            </a:gdLst>
            <a:ahLst/>
            <a:rect l="textAreaLeft" t="textAreaTop" r="textAreaRight" b="textAreaBottom"/>
            <a:pathLst>
              <a:path w="98227" h="248377">
                <a:moveTo>
                  <a:pt x="98226" y="7688"/>
                </a:moveTo>
                <a:lnTo>
                  <a:pt x="93486" y="7688"/>
                </a:lnTo>
                <a:lnTo>
                  <a:pt x="92090" y="6696"/>
                </a:lnTo>
                <a:lnTo>
                  <a:pt x="91158" y="5042"/>
                </a:lnTo>
                <a:lnTo>
                  <a:pt x="90538" y="2948"/>
                </a:lnTo>
                <a:lnTo>
                  <a:pt x="89132" y="1551"/>
                </a:lnTo>
                <a:lnTo>
                  <a:pt x="87202" y="620"/>
                </a:lnTo>
                <a:lnTo>
                  <a:pt x="84924" y="0"/>
                </a:lnTo>
                <a:lnTo>
                  <a:pt x="81420" y="578"/>
                </a:lnTo>
                <a:lnTo>
                  <a:pt x="77101" y="1956"/>
                </a:lnTo>
                <a:lnTo>
                  <a:pt x="72236" y="3867"/>
                </a:lnTo>
                <a:lnTo>
                  <a:pt x="68002" y="5140"/>
                </a:lnTo>
                <a:lnTo>
                  <a:pt x="64186" y="5990"/>
                </a:lnTo>
                <a:lnTo>
                  <a:pt x="60650" y="6556"/>
                </a:lnTo>
                <a:lnTo>
                  <a:pt x="57301" y="7926"/>
                </a:lnTo>
                <a:lnTo>
                  <a:pt x="54075" y="9831"/>
                </a:lnTo>
                <a:lnTo>
                  <a:pt x="50933" y="12093"/>
                </a:lnTo>
                <a:lnTo>
                  <a:pt x="47846" y="14594"/>
                </a:lnTo>
                <a:lnTo>
                  <a:pt x="44795" y="17253"/>
                </a:lnTo>
                <a:lnTo>
                  <a:pt x="41769" y="20018"/>
                </a:lnTo>
                <a:lnTo>
                  <a:pt x="35762" y="25736"/>
                </a:lnTo>
                <a:lnTo>
                  <a:pt x="32771" y="28650"/>
                </a:lnTo>
                <a:lnTo>
                  <a:pt x="30777" y="31584"/>
                </a:lnTo>
                <a:lnTo>
                  <a:pt x="28561" y="37491"/>
                </a:lnTo>
                <a:lnTo>
                  <a:pt x="26978" y="41447"/>
                </a:lnTo>
                <a:lnTo>
                  <a:pt x="24931" y="46069"/>
                </a:lnTo>
                <a:lnTo>
                  <a:pt x="22574" y="51135"/>
                </a:lnTo>
                <a:lnTo>
                  <a:pt x="21002" y="55504"/>
                </a:lnTo>
                <a:lnTo>
                  <a:pt x="19256" y="63005"/>
                </a:lnTo>
                <a:lnTo>
                  <a:pt x="19783" y="67386"/>
                </a:lnTo>
                <a:lnTo>
                  <a:pt x="21126" y="72292"/>
                </a:lnTo>
                <a:lnTo>
                  <a:pt x="23014" y="77546"/>
                </a:lnTo>
                <a:lnTo>
                  <a:pt x="25264" y="83033"/>
                </a:lnTo>
                <a:lnTo>
                  <a:pt x="27757" y="88676"/>
                </a:lnTo>
                <a:lnTo>
                  <a:pt x="33172" y="100237"/>
                </a:lnTo>
                <a:lnTo>
                  <a:pt x="47681" y="129764"/>
                </a:lnTo>
                <a:lnTo>
                  <a:pt x="49646" y="135705"/>
                </a:lnTo>
                <a:lnTo>
                  <a:pt x="50958" y="141650"/>
                </a:lnTo>
                <a:lnTo>
                  <a:pt x="51831" y="147597"/>
                </a:lnTo>
                <a:lnTo>
                  <a:pt x="53406" y="153547"/>
                </a:lnTo>
                <a:lnTo>
                  <a:pt x="55447" y="159498"/>
                </a:lnTo>
                <a:lnTo>
                  <a:pt x="57801" y="165449"/>
                </a:lnTo>
                <a:lnTo>
                  <a:pt x="60362" y="170409"/>
                </a:lnTo>
                <a:lnTo>
                  <a:pt x="63061" y="174708"/>
                </a:lnTo>
                <a:lnTo>
                  <a:pt x="65853" y="178566"/>
                </a:lnTo>
                <a:lnTo>
                  <a:pt x="67715" y="183122"/>
                </a:lnTo>
                <a:lnTo>
                  <a:pt x="68955" y="188144"/>
                </a:lnTo>
                <a:lnTo>
                  <a:pt x="69782" y="193477"/>
                </a:lnTo>
                <a:lnTo>
                  <a:pt x="70334" y="198024"/>
                </a:lnTo>
                <a:lnTo>
                  <a:pt x="70947" y="205722"/>
                </a:lnTo>
                <a:lnTo>
                  <a:pt x="71219" y="212451"/>
                </a:lnTo>
                <a:lnTo>
                  <a:pt x="71292" y="215634"/>
                </a:lnTo>
                <a:lnTo>
                  <a:pt x="70348" y="218748"/>
                </a:lnTo>
                <a:lnTo>
                  <a:pt x="68727" y="221817"/>
                </a:lnTo>
                <a:lnTo>
                  <a:pt x="66654" y="224855"/>
                </a:lnTo>
                <a:lnTo>
                  <a:pt x="64279" y="227872"/>
                </a:lnTo>
                <a:lnTo>
                  <a:pt x="61704" y="230876"/>
                </a:lnTo>
                <a:lnTo>
                  <a:pt x="55183" y="238085"/>
                </a:lnTo>
                <a:lnTo>
                  <a:pt x="52664" y="239669"/>
                </a:lnTo>
                <a:lnTo>
                  <a:pt x="49000" y="241717"/>
                </a:lnTo>
                <a:lnTo>
                  <a:pt x="44572" y="244075"/>
                </a:lnTo>
                <a:lnTo>
                  <a:pt x="40629" y="245646"/>
                </a:lnTo>
                <a:lnTo>
                  <a:pt x="37007" y="246694"/>
                </a:lnTo>
                <a:lnTo>
                  <a:pt x="33601" y="247393"/>
                </a:lnTo>
                <a:lnTo>
                  <a:pt x="30338" y="247858"/>
                </a:lnTo>
                <a:lnTo>
                  <a:pt x="27170" y="248169"/>
                </a:lnTo>
                <a:lnTo>
                  <a:pt x="24067" y="248376"/>
                </a:lnTo>
                <a:lnTo>
                  <a:pt x="21005" y="247522"/>
                </a:lnTo>
                <a:lnTo>
                  <a:pt x="17972" y="245960"/>
                </a:lnTo>
                <a:lnTo>
                  <a:pt x="14958" y="243927"/>
                </a:lnTo>
                <a:lnTo>
                  <a:pt x="11956" y="242571"/>
                </a:lnTo>
                <a:lnTo>
                  <a:pt x="8963" y="241667"/>
                </a:lnTo>
                <a:lnTo>
                  <a:pt x="0" y="23986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20" name="SMARTInkAnnotation113"/>
          <p:cNvSpPr/>
          <p:nvPr/>
        </p:nvSpPr>
        <p:spPr>
          <a:xfrm>
            <a:off x="5697360" y="2224080"/>
            <a:ext cx="79560" cy="123840"/>
          </a:xfrm>
          <a:custGeom>
            <a:avLst/>
            <a:gdLst>
              <a:gd name="textAreaLeft" fmla="*/ 0 w 79560"/>
              <a:gd name="textAreaRight" fmla="*/ 79920 w 79560"/>
              <a:gd name="textAreaTop" fmla="*/ 0 h 123840"/>
              <a:gd name="textAreaBottom" fmla="*/ 124200 h 123840"/>
            </a:gdLst>
            <a:ahLst/>
            <a:rect l="textAreaLeft" t="textAreaTop" r="textAreaRight" b="textAreaBottom"/>
            <a:pathLst>
              <a:path w="79964" h="124970">
                <a:moveTo>
                  <a:pt x="26385" y="0"/>
                </a:moveTo>
                <a:lnTo>
                  <a:pt x="31126" y="0"/>
                </a:lnTo>
                <a:lnTo>
                  <a:pt x="32522" y="992"/>
                </a:lnTo>
                <a:lnTo>
                  <a:pt x="33453" y="2646"/>
                </a:lnTo>
                <a:lnTo>
                  <a:pt x="34074" y="4740"/>
                </a:lnTo>
                <a:lnTo>
                  <a:pt x="35480" y="8121"/>
                </a:lnTo>
                <a:lnTo>
                  <a:pt x="37410" y="12359"/>
                </a:lnTo>
                <a:lnTo>
                  <a:pt x="39688" y="17169"/>
                </a:lnTo>
                <a:lnTo>
                  <a:pt x="42199" y="21368"/>
                </a:lnTo>
                <a:lnTo>
                  <a:pt x="44866" y="25159"/>
                </a:lnTo>
                <a:lnTo>
                  <a:pt x="47635" y="28679"/>
                </a:lnTo>
                <a:lnTo>
                  <a:pt x="49481" y="33010"/>
                </a:lnTo>
                <a:lnTo>
                  <a:pt x="50713" y="37881"/>
                </a:lnTo>
                <a:lnTo>
                  <a:pt x="51533" y="43114"/>
                </a:lnTo>
                <a:lnTo>
                  <a:pt x="52080" y="48586"/>
                </a:lnTo>
                <a:lnTo>
                  <a:pt x="52444" y="54219"/>
                </a:lnTo>
                <a:lnTo>
                  <a:pt x="52688" y="59958"/>
                </a:lnTo>
                <a:lnTo>
                  <a:pt x="52959" y="71627"/>
                </a:lnTo>
                <a:lnTo>
                  <a:pt x="53132" y="90547"/>
                </a:lnTo>
                <a:lnTo>
                  <a:pt x="52154" y="94099"/>
                </a:lnTo>
                <a:lnTo>
                  <a:pt x="50510" y="97459"/>
                </a:lnTo>
                <a:lnTo>
                  <a:pt x="48421" y="100692"/>
                </a:lnTo>
                <a:lnTo>
                  <a:pt x="47029" y="103839"/>
                </a:lnTo>
                <a:lnTo>
                  <a:pt x="46101" y="106929"/>
                </a:lnTo>
                <a:lnTo>
                  <a:pt x="45482" y="109981"/>
                </a:lnTo>
                <a:lnTo>
                  <a:pt x="44077" y="113008"/>
                </a:lnTo>
                <a:lnTo>
                  <a:pt x="42149" y="116018"/>
                </a:lnTo>
                <a:lnTo>
                  <a:pt x="39871" y="119017"/>
                </a:lnTo>
                <a:lnTo>
                  <a:pt x="37360" y="121017"/>
                </a:lnTo>
                <a:lnTo>
                  <a:pt x="34694" y="122350"/>
                </a:lnTo>
                <a:lnTo>
                  <a:pt x="31924" y="123238"/>
                </a:lnTo>
                <a:lnTo>
                  <a:pt x="29086" y="123831"/>
                </a:lnTo>
                <a:lnTo>
                  <a:pt x="26201" y="124226"/>
                </a:lnTo>
                <a:lnTo>
                  <a:pt x="19183" y="124860"/>
                </a:lnTo>
                <a:lnTo>
                  <a:pt x="17616" y="124911"/>
                </a:lnTo>
                <a:lnTo>
                  <a:pt x="13227" y="124969"/>
                </a:lnTo>
                <a:lnTo>
                  <a:pt x="11661" y="123992"/>
                </a:lnTo>
                <a:lnTo>
                  <a:pt x="10616" y="122349"/>
                </a:lnTo>
                <a:lnTo>
                  <a:pt x="9919" y="120262"/>
                </a:lnTo>
                <a:lnTo>
                  <a:pt x="8462" y="118870"/>
                </a:lnTo>
                <a:lnTo>
                  <a:pt x="6500" y="117942"/>
                </a:lnTo>
                <a:lnTo>
                  <a:pt x="4198" y="117323"/>
                </a:lnTo>
                <a:lnTo>
                  <a:pt x="2665" y="115918"/>
                </a:lnTo>
                <a:lnTo>
                  <a:pt x="1642" y="113989"/>
                </a:lnTo>
                <a:lnTo>
                  <a:pt x="960" y="111712"/>
                </a:lnTo>
                <a:lnTo>
                  <a:pt x="505" y="109201"/>
                </a:lnTo>
                <a:lnTo>
                  <a:pt x="203" y="106535"/>
                </a:lnTo>
                <a:lnTo>
                  <a:pt x="0" y="103765"/>
                </a:lnTo>
                <a:lnTo>
                  <a:pt x="858" y="101919"/>
                </a:lnTo>
                <a:lnTo>
                  <a:pt x="2422" y="100688"/>
                </a:lnTo>
                <a:lnTo>
                  <a:pt x="7320" y="98712"/>
                </a:lnTo>
                <a:lnTo>
                  <a:pt x="8715" y="98551"/>
                </a:lnTo>
                <a:lnTo>
                  <a:pt x="10636" y="98443"/>
                </a:lnTo>
                <a:lnTo>
                  <a:pt x="15417" y="98322"/>
                </a:lnTo>
                <a:lnTo>
                  <a:pt x="29486" y="98239"/>
                </a:lnTo>
                <a:lnTo>
                  <a:pt x="32421" y="99227"/>
                </a:lnTo>
                <a:lnTo>
                  <a:pt x="35370" y="100878"/>
                </a:lnTo>
                <a:lnTo>
                  <a:pt x="38328" y="102971"/>
                </a:lnTo>
                <a:lnTo>
                  <a:pt x="41292" y="104366"/>
                </a:lnTo>
                <a:lnTo>
                  <a:pt x="44260" y="105296"/>
                </a:lnTo>
                <a:lnTo>
                  <a:pt x="47232" y="105916"/>
                </a:lnTo>
                <a:lnTo>
                  <a:pt x="50205" y="106329"/>
                </a:lnTo>
                <a:lnTo>
                  <a:pt x="53179" y="106605"/>
                </a:lnTo>
                <a:lnTo>
                  <a:pt x="56154" y="106789"/>
                </a:lnTo>
                <a:lnTo>
                  <a:pt x="59130" y="107903"/>
                </a:lnTo>
                <a:lnTo>
                  <a:pt x="62105" y="109639"/>
                </a:lnTo>
                <a:lnTo>
                  <a:pt x="65082" y="111788"/>
                </a:lnTo>
                <a:lnTo>
                  <a:pt x="68058" y="113220"/>
                </a:lnTo>
                <a:lnTo>
                  <a:pt x="71034" y="114175"/>
                </a:lnTo>
                <a:lnTo>
                  <a:pt x="79963" y="116086"/>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21" name="SMARTInkAnnotation114"/>
          <p:cNvSpPr/>
          <p:nvPr/>
        </p:nvSpPr>
        <p:spPr>
          <a:xfrm>
            <a:off x="5715000" y="1955880"/>
            <a:ext cx="177840" cy="785880"/>
          </a:xfrm>
          <a:custGeom>
            <a:avLst/>
            <a:gdLst>
              <a:gd name="textAreaLeft" fmla="*/ 0 w 177840"/>
              <a:gd name="textAreaRight" fmla="*/ 178200 w 177840"/>
              <a:gd name="textAreaTop" fmla="*/ 0 h 785880"/>
              <a:gd name="textAreaBottom" fmla="*/ 786240 h 785880"/>
            </a:gdLst>
            <a:ahLst/>
            <a:rect l="textAreaLeft" t="textAreaTop" r="textAreaRight" b="textAreaBottom"/>
            <a:pathLst>
              <a:path w="178449" h="785814">
                <a:moveTo>
                  <a:pt x="71437" y="0"/>
                </a:moveTo>
                <a:lnTo>
                  <a:pt x="80918" y="0"/>
                </a:lnTo>
                <a:lnTo>
                  <a:pt x="85695" y="992"/>
                </a:lnTo>
                <a:lnTo>
                  <a:pt x="90864" y="2646"/>
                </a:lnTo>
                <a:lnTo>
                  <a:pt x="96295" y="4740"/>
                </a:lnTo>
                <a:lnTo>
                  <a:pt x="100907" y="8121"/>
                </a:lnTo>
                <a:lnTo>
                  <a:pt x="104974" y="12359"/>
                </a:lnTo>
                <a:lnTo>
                  <a:pt x="108678" y="17169"/>
                </a:lnTo>
                <a:lnTo>
                  <a:pt x="112140" y="22361"/>
                </a:lnTo>
                <a:lnTo>
                  <a:pt x="115439" y="27806"/>
                </a:lnTo>
                <a:lnTo>
                  <a:pt x="118631" y="33420"/>
                </a:lnTo>
                <a:lnTo>
                  <a:pt x="122744" y="40139"/>
                </a:lnTo>
                <a:lnTo>
                  <a:pt x="132605" y="55543"/>
                </a:lnTo>
                <a:lnTo>
                  <a:pt x="137020" y="63818"/>
                </a:lnTo>
                <a:lnTo>
                  <a:pt x="140956" y="72311"/>
                </a:lnTo>
                <a:lnTo>
                  <a:pt x="144572" y="80949"/>
                </a:lnTo>
                <a:lnTo>
                  <a:pt x="147975" y="89685"/>
                </a:lnTo>
                <a:lnTo>
                  <a:pt x="154402" y="107329"/>
                </a:lnTo>
                <a:lnTo>
                  <a:pt x="157919" y="127738"/>
                </a:lnTo>
                <a:lnTo>
                  <a:pt x="160476" y="150038"/>
                </a:lnTo>
                <a:lnTo>
                  <a:pt x="164919" y="173178"/>
                </a:lnTo>
                <a:lnTo>
                  <a:pt x="170201" y="196692"/>
                </a:lnTo>
                <a:lnTo>
                  <a:pt x="172998" y="208519"/>
                </a:lnTo>
                <a:lnTo>
                  <a:pt x="174863" y="221364"/>
                </a:lnTo>
                <a:lnTo>
                  <a:pt x="176107" y="234889"/>
                </a:lnTo>
                <a:lnTo>
                  <a:pt x="176935" y="248866"/>
                </a:lnTo>
                <a:lnTo>
                  <a:pt x="177856" y="274979"/>
                </a:lnTo>
                <a:lnTo>
                  <a:pt x="178375" y="314640"/>
                </a:lnTo>
                <a:lnTo>
                  <a:pt x="178448" y="328822"/>
                </a:lnTo>
                <a:lnTo>
                  <a:pt x="177504" y="343238"/>
                </a:lnTo>
                <a:lnTo>
                  <a:pt x="175883" y="357810"/>
                </a:lnTo>
                <a:lnTo>
                  <a:pt x="173810" y="372485"/>
                </a:lnTo>
                <a:lnTo>
                  <a:pt x="168860" y="402020"/>
                </a:lnTo>
                <a:lnTo>
                  <a:pt x="166151" y="416841"/>
                </a:lnTo>
                <a:lnTo>
                  <a:pt x="164346" y="430691"/>
                </a:lnTo>
                <a:lnTo>
                  <a:pt x="163142" y="443894"/>
                </a:lnTo>
                <a:lnTo>
                  <a:pt x="162339" y="456663"/>
                </a:lnTo>
                <a:lnTo>
                  <a:pt x="159820" y="470137"/>
                </a:lnTo>
                <a:lnTo>
                  <a:pt x="156156" y="484081"/>
                </a:lnTo>
                <a:lnTo>
                  <a:pt x="151729" y="498338"/>
                </a:lnTo>
                <a:lnTo>
                  <a:pt x="147785" y="512804"/>
                </a:lnTo>
                <a:lnTo>
                  <a:pt x="144164" y="527408"/>
                </a:lnTo>
                <a:lnTo>
                  <a:pt x="140758" y="542106"/>
                </a:lnTo>
                <a:lnTo>
                  <a:pt x="136502" y="555872"/>
                </a:lnTo>
                <a:lnTo>
                  <a:pt x="131681" y="569019"/>
                </a:lnTo>
                <a:lnTo>
                  <a:pt x="126482" y="581752"/>
                </a:lnTo>
                <a:lnTo>
                  <a:pt x="121033" y="594210"/>
                </a:lnTo>
                <a:lnTo>
                  <a:pt x="109685" y="618635"/>
                </a:lnTo>
                <a:lnTo>
                  <a:pt x="92140" y="654699"/>
                </a:lnTo>
                <a:lnTo>
                  <a:pt x="87224" y="665661"/>
                </a:lnTo>
                <a:lnTo>
                  <a:pt x="82954" y="675946"/>
                </a:lnTo>
                <a:lnTo>
                  <a:pt x="79115" y="685779"/>
                </a:lnTo>
                <a:lnTo>
                  <a:pt x="74572" y="695311"/>
                </a:lnTo>
                <a:lnTo>
                  <a:pt x="69558" y="704642"/>
                </a:lnTo>
                <a:lnTo>
                  <a:pt x="64232" y="713840"/>
                </a:lnTo>
                <a:lnTo>
                  <a:pt x="58696" y="721955"/>
                </a:lnTo>
                <a:lnTo>
                  <a:pt x="53021" y="729351"/>
                </a:lnTo>
                <a:lnTo>
                  <a:pt x="47253" y="736265"/>
                </a:lnTo>
                <a:lnTo>
                  <a:pt x="42416" y="742859"/>
                </a:lnTo>
                <a:lnTo>
                  <a:pt x="38199" y="749240"/>
                </a:lnTo>
                <a:lnTo>
                  <a:pt x="34395" y="755477"/>
                </a:lnTo>
                <a:lnTo>
                  <a:pt x="30868" y="760628"/>
                </a:lnTo>
                <a:lnTo>
                  <a:pt x="27523" y="765054"/>
                </a:lnTo>
                <a:lnTo>
                  <a:pt x="24302" y="768997"/>
                </a:lnTo>
                <a:lnTo>
                  <a:pt x="21162" y="772618"/>
                </a:lnTo>
                <a:lnTo>
                  <a:pt x="18077" y="776024"/>
                </a:lnTo>
                <a:lnTo>
                  <a:pt x="15028" y="779287"/>
                </a:lnTo>
                <a:lnTo>
                  <a:pt x="12003" y="781462"/>
                </a:lnTo>
                <a:lnTo>
                  <a:pt x="8994" y="782912"/>
                </a:lnTo>
                <a:lnTo>
                  <a:pt x="0" y="785813"/>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22" name="SMARTInkAnnotation115"/>
          <p:cNvSpPr/>
          <p:nvPr/>
        </p:nvSpPr>
        <p:spPr>
          <a:xfrm>
            <a:off x="5964120" y="2276640"/>
            <a:ext cx="241560" cy="18720"/>
          </a:xfrm>
          <a:custGeom>
            <a:avLst/>
            <a:gdLst>
              <a:gd name="textAreaLeft" fmla="*/ 0 w 241560"/>
              <a:gd name="textAreaRight" fmla="*/ 241920 w 241560"/>
              <a:gd name="textAreaTop" fmla="*/ 0 h 18720"/>
              <a:gd name="textAreaBottom" fmla="*/ 19080 h 18720"/>
            </a:gdLst>
            <a:ahLst/>
            <a:rect l="textAreaLeft" t="textAreaTop" r="textAreaRight" b="textAreaBottom"/>
            <a:pathLst>
              <a:path w="241103" h="17860">
                <a:moveTo>
                  <a:pt x="0" y="0"/>
                </a:moveTo>
                <a:lnTo>
                  <a:pt x="142925" y="0"/>
                </a:lnTo>
                <a:lnTo>
                  <a:pt x="150846" y="992"/>
                </a:lnTo>
                <a:lnTo>
                  <a:pt x="158111" y="2646"/>
                </a:lnTo>
                <a:lnTo>
                  <a:pt x="164939" y="4740"/>
                </a:lnTo>
                <a:lnTo>
                  <a:pt x="172467" y="6137"/>
                </a:lnTo>
                <a:lnTo>
                  <a:pt x="180462" y="7068"/>
                </a:lnTo>
                <a:lnTo>
                  <a:pt x="188769" y="7688"/>
                </a:lnTo>
                <a:lnTo>
                  <a:pt x="196291" y="9094"/>
                </a:lnTo>
                <a:lnTo>
                  <a:pt x="203290" y="11024"/>
                </a:lnTo>
                <a:lnTo>
                  <a:pt x="209941" y="13302"/>
                </a:lnTo>
                <a:lnTo>
                  <a:pt x="215367" y="14821"/>
                </a:lnTo>
                <a:lnTo>
                  <a:pt x="219977" y="15834"/>
                </a:lnTo>
                <a:lnTo>
                  <a:pt x="224042" y="16509"/>
                </a:lnTo>
                <a:lnTo>
                  <a:pt x="227744" y="16959"/>
                </a:lnTo>
                <a:lnTo>
                  <a:pt x="231204" y="17259"/>
                </a:lnTo>
                <a:lnTo>
                  <a:pt x="241102" y="17859"/>
                </a:lnTo>
              </a:path>
            </a:pathLst>
          </a:custGeom>
          <a:noFill/>
          <a:ln w="38160">
            <a:solidFill>
              <a:srgbClr val="009300"/>
            </a:solidFill>
            <a:roun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Constantia"/>
            </a:endParaRPr>
          </a:p>
        </p:txBody>
      </p:sp>
      <p:sp>
        <p:nvSpPr>
          <p:cNvPr id="323" name="SMARTInkAnnotation116"/>
          <p:cNvSpPr/>
          <p:nvPr/>
        </p:nvSpPr>
        <p:spPr>
          <a:xfrm>
            <a:off x="5985000" y="2357280"/>
            <a:ext cx="149040" cy="27000"/>
          </a:xfrm>
          <a:custGeom>
            <a:avLst/>
            <a:gdLst>
              <a:gd name="textAreaLeft" fmla="*/ 0 w 149040"/>
              <a:gd name="textAreaRight" fmla="*/ 149400 w 149040"/>
              <a:gd name="textAreaTop" fmla="*/ 0 h 27000"/>
              <a:gd name="textAreaBottom" fmla="*/ 27360 h 27000"/>
            </a:gdLst>
            <a:ahLst/>
            <a:rect l="textAreaLeft" t="textAreaTop" r="textAreaRight" b="textAreaBottom"/>
            <a:pathLst>
              <a:path w="150456" h="26790">
                <a:moveTo>
                  <a:pt x="16510" y="26789"/>
                </a:moveTo>
                <a:lnTo>
                  <a:pt x="0" y="26789"/>
                </a:lnTo>
                <a:lnTo>
                  <a:pt x="11198" y="26789"/>
                </a:lnTo>
                <a:lnTo>
                  <a:pt x="14952" y="25797"/>
                </a:lnTo>
                <a:lnTo>
                  <a:pt x="19440" y="24143"/>
                </a:lnTo>
                <a:lnTo>
                  <a:pt x="24416" y="22048"/>
                </a:lnTo>
                <a:lnTo>
                  <a:pt x="29718" y="20652"/>
                </a:lnTo>
                <a:lnTo>
                  <a:pt x="35237" y="19721"/>
                </a:lnTo>
                <a:lnTo>
                  <a:pt x="40901" y="19101"/>
                </a:lnTo>
                <a:lnTo>
                  <a:pt x="47653" y="17695"/>
                </a:lnTo>
                <a:lnTo>
                  <a:pt x="55131" y="15766"/>
                </a:lnTo>
                <a:lnTo>
                  <a:pt x="63093" y="13487"/>
                </a:lnTo>
                <a:lnTo>
                  <a:pt x="70386" y="11968"/>
                </a:lnTo>
                <a:lnTo>
                  <a:pt x="77232" y="10955"/>
                </a:lnTo>
                <a:lnTo>
                  <a:pt x="83780" y="10280"/>
                </a:lnTo>
                <a:lnTo>
                  <a:pt x="91123" y="9830"/>
                </a:lnTo>
                <a:lnTo>
                  <a:pt x="107218" y="9330"/>
                </a:lnTo>
                <a:lnTo>
                  <a:pt x="114685" y="8204"/>
                </a:lnTo>
                <a:lnTo>
                  <a:pt x="121647" y="6461"/>
                </a:lnTo>
                <a:lnTo>
                  <a:pt x="128273" y="4308"/>
                </a:lnTo>
                <a:lnTo>
                  <a:pt x="133683" y="2872"/>
                </a:lnTo>
                <a:lnTo>
                  <a:pt x="138282" y="1915"/>
                </a:lnTo>
                <a:lnTo>
                  <a:pt x="150455" y="0"/>
                </a:lnTo>
              </a:path>
            </a:pathLst>
          </a:custGeom>
          <a:noFill/>
          <a:ln w="38160">
            <a:solidFill>
              <a:srgbClr val="009300"/>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Constantia"/>
            </a:endParaRPr>
          </a:p>
        </p:txBody>
      </p:sp>
      <p:sp>
        <p:nvSpPr>
          <p:cNvPr id="324" name="SMARTInkAnnotation117"/>
          <p:cNvSpPr/>
          <p:nvPr/>
        </p:nvSpPr>
        <p:spPr>
          <a:xfrm>
            <a:off x="6448320" y="1992240"/>
            <a:ext cx="257400" cy="687600"/>
          </a:xfrm>
          <a:custGeom>
            <a:avLst/>
            <a:gdLst>
              <a:gd name="textAreaLeft" fmla="*/ 0 w 257400"/>
              <a:gd name="textAreaRight" fmla="*/ 257760 w 257400"/>
              <a:gd name="textAreaTop" fmla="*/ 0 h 687600"/>
              <a:gd name="textAreaBottom" fmla="*/ 687960 h 687600"/>
            </a:gdLst>
            <a:ahLst/>
            <a:rect l="textAreaLeft" t="textAreaTop" r="textAreaRight" b="textAreaBottom"/>
            <a:pathLst>
              <a:path w="257519" h="687061">
                <a:moveTo>
                  <a:pt x="257518" y="79841"/>
                </a:moveTo>
                <a:lnTo>
                  <a:pt x="251381" y="66575"/>
                </a:lnTo>
                <a:lnTo>
                  <a:pt x="249829" y="59724"/>
                </a:lnTo>
                <a:lnTo>
                  <a:pt x="243848" y="50726"/>
                </a:lnTo>
                <a:lnTo>
                  <a:pt x="239476" y="45548"/>
                </a:lnTo>
                <a:lnTo>
                  <a:pt x="231970" y="37149"/>
                </a:lnTo>
                <a:lnTo>
                  <a:pt x="224335" y="30109"/>
                </a:lnTo>
                <a:lnTo>
                  <a:pt x="219522" y="26842"/>
                </a:lnTo>
                <a:lnTo>
                  <a:pt x="214327" y="23673"/>
                </a:lnTo>
                <a:lnTo>
                  <a:pt x="208880" y="20567"/>
                </a:lnTo>
                <a:lnTo>
                  <a:pt x="197537" y="14471"/>
                </a:lnTo>
                <a:lnTo>
                  <a:pt x="179995" y="5461"/>
                </a:lnTo>
                <a:lnTo>
                  <a:pt x="174086" y="3465"/>
                </a:lnTo>
                <a:lnTo>
                  <a:pt x="168163" y="2135"/>
                </a:lnTo>
                <a:lnTo>
                  <a:pt x="162228" y="1248"/>
                </a:lnTo>
                <a:lnTo>
                  <a:pt x="156288" y="656"/>
                </a:lnTo>
                <a:lnTo>
                  <a:pt x="150345" y="262"/>
                </a:lnTo>
                <a:lnTo>
                  <a:pt x="144398" y="0"/>
                </a:lnTo>
                <a:lnTo>
                  <a:pt x="137455" y="817"/>
                </a:lnTo>
                <a:lnTo>
                  <a:pt x="129852" y="2353"/>
                </a:lnTo>
                <a:lnTo>
                  <a:pt x="121806" y="4370"/>
                </a:lnTo>
                <a:lnTo>
                  <a:pt x="114458" y="6707"/>
                </a:lnTo>
                <a:lnTo>
                  <a:pt x="107574" y="9257"/>
                </a:lnTo>
                <a:lnTo>
                  <a:pt x="101001" y="11949"/>
                </a:lnTo>
                <a:lnTo>
                  <a:pt x="94635" y="15728"/>
                </a:lnTo>
                <a:lnTo>
                  <a:pt x="88406" y="20232"/>
                </a:lnTo>
                <a:lnTo>
                  <a:pt x="82269" y="25219"/>
                </a:lnTo>
                <a:lnTo>
                  <a:pt x="76193" y="30528"/>
                </a:lnTo>
                <a:lnTo>
                  <a:pt x="70158" y="36051"/>
                </a:lnTo>
                <a:lnTo>
                  <a:pt x="58162" y="47481"/>
                </a:lnTo>
                <a:lnTo>
                  <a:pt x="46214" y="59175"/>
                </a:lnTo>
                <a:lnTo>
                  <a:pt x="40250" y="66064"/>
                </a:lnTo>
                <a:lnTo>
                  <a:pt x="34291" y="73632"/>
                </a:lnTo>
                <a:lnTo>
                  <a:pt x="28333" y="81655"/>
                </a:lnTo>
                <a:lnTo>
                  <a:pt x="23368" y="89980"/>
                </a:lnTo>
                <a:lnTo>
                  <a:pt x="19067" y="98507"/>
                </a:lnTo>
                <a:lnTo>
                  <a:pt x="15207" y="107167"/>
                </a:lnTo>
                <a:lnTo>
                  <a:pt x="10918" y="127374"/>
                </a:lnTo>
                <a:lnTo>
                  <a:pt x="8019" y="147600"/>
                </a:lnTo>
                <a:lnTo>
                  <a:pt x="3425" y="163203"/>
                </a:lnTo>
                <a:lnTo>
                  <a:pt x="720" y="179399"/>
                </a:lnTo>
                <a:lnTo>
                  <a:pt x="0" y="187885"/>
                </a:lnTo>
                <a:lnTo>
                  <a:pt x="1844" y="202605"/>
                </a:lnTo>
                <a:lnTo>
                  <a:pt x="8461" y="222049"/>
                </a:lnTo>
                <a:lnTo>
                  <a:pt x="13873" y="233334"/>
                </a:lnTo>
                <a:lnTo>
                  <a:pt x="19586" y="241656"/>
                </a:lnTo>
                <a:lnTo>
                  <a:pt x="23491" y="245265"/>
                </a:lnTo>
                <a:lnTo>
                  <a:pt x="28078" y="248663"/>
                </a:lnTo>
                <a:lnTo>
                  <a:pt x="33121" y="251920"/>
                </a:lnTo>
                <a:lnTo>
                  <a:pt x="38467" y="253099"/>
                </a:lnTo>
                <a:lnTo>
                  <a:pt x="44015" y="252894"/>
                </a:lnTo>
                <a:lnTo>
                  <a:pt x="49698" y="251764"/>
                </a:lnTo>
                <a:lnTo>
                  <a:pt x="55471" y="250019"/>
                </a:lnTo>
                <a:lnTo>
                  <a:pt x="61305" y="247863"/>
                </a:lnTo>
                <a:lnTo>
                  <a:pt x="67178" y="245434"/>
                </a:lnTo>
                <a:lnTo>
                  <a:pt x="74069" y="242822"/>
                </a:lnTo>
                <a:lnTo>
                  <a:pt x="89665" y="237275"/>
                </a:lnTo>
                <a:lnTo>
                  <a:pt x="97992" y="233414"/>
                </a:lnTo>
                <a:lnTo>
                  <a:pt x="106519" y="228856"/>
                </a:lnTo>
                <a:lnTo>
                  <a:pt x="115180" y="223833"/>
                </a:lnTo>
                <a:lnTo>
                  <a:pt x="122939" y="218499"/>
                </a:lnTo>
                <a:lnTo>
                  <a:pt x="130095" y="212959"/>
                </a:lnTo>
                <a:lnTo>
                  <a:pt x="136851" y="207282"/>
                </a:lnTo>
                <a:lnTo>
                  <a:pt x="144332" y="200520"/>
                </a:lnTo>
                <a:lnTo>
                  <a:pt x="160580" y="185070"/>
                </a:lnTo>
                <a:lnTo>
                  <a:pt x="181722" y="164378"/>
                </a:lnTo>
                <a:lnTo>
                  <a:pt x="187144" y="157035"/>
                </a:lnTo>
                <a:lnTo>
                  <a:pt x="191751" y="149163"/>
                </a:lnTo>
                <a:lnTo>
                  <a:pt x="195813" y="140938"/>
                </a:lnTo>
                <a:lnTo>
                  <a:pt x="200507" y="133471"/>
                </a:lnTo>
                <a:lnTo>
                  <a:pt x="205620" y="126508"/>
                </a:lnTo>
                <a:lnTo>
                  <a:pt x="211014" y="119882"/>
                </a:lnTo>
                <a:lnTo>
                  <a:pt x="217006" y="107228"/>
                </a:lnTo>
                <a:lnTo>
                  <a:pt x="220660" y="95982"/>
                </a:lnTo>
                <a:lnTo>
                  <a:pt x="227305" y="84072"/>
                </a:lnTo>
                <a:lnTo>
                  <a:pt x="230278" y="72840"/>
                </a:lnTo>
                <a:lnTo>
                  <a:pt x="230640" y="66148"/>
                </a:lnTo>
                <a:lnTo>
                  <a:pt x="230727" y="83162"/>
                </a:lnTo>
                <a:lnTo>
                  <a:pt x="230728" y="109050"/>
                </a:lnTo>
                <a:lnTo>
                  <a:pt x="228083" y="125565"/>
                </a:lnTo>
                <a:lnTo>
                  <a:pt x="224592" y="142827"/>
                </a:lnTo>
                <a:lnTo>
                  <a:pt x="223040" y="160421"/>
                </a:lnTo>
                <a:lnTo>
                  <a:pt x="219705" y="180808"/>
                </a:lnTo>
                <a:lnTo>
                  <a:pt x="217426" y="191801"/>
                </a:lnTo>
                <a:lnTo>
                  <a:pt x="215908" y="204090"/>
                </a:lnTo>
                <a:lnTo>
                  <a:pt x="214895" y="217244"/>
                </a:lnTo>
                <a:lnTo>
                  <a:pt x="214220" y="230974"/>
                </a:lnTo>
                <a:lnTo>
                  <a:pt x="212778" y="245089"/>
                </a:lnTo>
                <a:lnTo>
                  <a:pt x="210824" y="259459"/>
                </a:lnTo>
                <a:lnTo>
                  <a:pt x="208529" y="274001"/>
                </a:lnTo>
                <a:lnTo>
                  <a:pt x="206999" y="287663"/>
                </a:lnTo>
                <a:lnTo>
                  <a:pt x="205979" y="300741"/>
                </a:lnTo>
                <a:lnTo>
                  <a:pt x="205300" y="313428"/>
                </a:lnTo>
                <a:lnTo>
                  <a:pt x="203854" y="326847"/>
                </a:lnTo>
                <a:lnTo>
                  <a:pt x="201899" y="340754"/>
                </a:lnTo>
                <a:lnTo>
                  <a:pt x="199602" y="354986"/>
                </a:lnTo>
                <a:lnTo>
                  <a:pt x="196087" y="369435"/>
                </a:lnTo>
                <a:lnTo>
                  <a:pt x="191760" y="384029"/>
                </a:lnTo>
                <a:lnTo>
                  <a:pt x="186890" y="398719"/>
                </a:lnTo>
                <a:lnTo>
                  <a:pt x="182652" y="413473"/>
                </a:lnTo>
                <a:lnTo>
                  <a:pt x="178833" y="428270"/>
                </a:lnTo>
                <a:lnTo>
                  <a:pt x="171946" y="457941"/>
                </a:lnTo>
                <a:lnTo>
                  <a:pt x="165577" y="487664"/>
                </a:lnTo>
                <a:lnTo>
                  <a:pt x="161497" y="501543"/>
                </a:lnTo>
                <a:lnTo>
                  <a:pt x="156795" y="514765"/>
                </a:lnTo>
                <a:lnTo>
                  <a:pt x="151673" y="527548"/>
                </a:lnTo>
                <a:lnTo>
                  <a:pt x="147268" y="540039"/>
                </a:lnTo>
                <a:lnTo>
                  <a:pt x="143338" y="552335"/>
                </a:lnTo>
                <a:lnTo>
                  <a:pt x="139727" y="564501"/>
                </a:lnTo>
                <a:lnTo>
                  <a:pt x="135334" y="577573"/>
                </a:lnTo>
                <a:lnTo>
                  <a:pt x="125162" y="605326"/>
                </a:lnTo>
                <a:lnTo>
                  <a:pt x="119318" y="626260"/>
                </a:lnTo>
                <a:lnTo>
                  <a:pt x="115729" y="642178"/>
                </a:lnTo>
                <a:lnTo>
                  <a:pt x="109122" y="661304"/>
                </a:lnTo>
                <a:lnTo>
                  <a:pt x="106163" y="675718"/>
                </a:lnTo>
                <a:lnTo>
                  <a:pt x="105713" y="68706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25" name="SMARTInkAnnotation118"/>
          <p:cNvSpPr/>
          <p:nvPr/>
        </p:nvSpPr>
        <p:spPr>
          <a:xfrm>
            <a:off x="6753240" y="2063880"/>
            <a:ext cx="255600" cy="612720"/>
          </a:xfrm>
          <a:custGeom>
            <a:avLst/>
            <a:gdLst>
              <a:gd name="textAreaLeft" fmla="*/ 0 w 255600"/>
              <a:gd name="textAreaRight" fmla="*/ 255960 w 255600"/>
              <a:gd name="textAreaTop" fmla="*/ 0 h 612720"/>
              <a:gd name="textAreaBottom" fmla="*/ 613080 h 612720"/>
            </a:gdLst>
            <a:ahLst/>
            <a:rect l="textAreaLeft" t="textAreaTop" r="textAreaRight" b="textAreaBottom"/>
            <a:pathLst>
              <a:path w="256215" h="613130">
                <a:moveTo>
                  <a:pt x="203608" y="7688"/>
                </a:moveTo>
                <a:lnTo>
                  <a:pt x="198868" y="7688"/>
                </a:lnTo>
                <a:lnTo>
                  <a:pt x="191250" y="5042"/>
                </a:lnTo>
                <a:lnTo>
                  <a:pt x="186439" y="2948"/>
                </a:lnTo>
                <a:lnTo>
                  <a:pt x="181248" y="1551"/>
                </a:lnTo>
                <a:lnTo>
                  <a:pt x="175804" y="620"/>
                </a:lnTo>
                <a:lnTo>
                  <a:pt x="170189" y="0"/>
                </a:lnTo>
                <a:lnTo>
                  <a:pt x="164462" y="578"/>
                </a:lnTo>
                <a:lnTo>
                  <a:pt x="158659" y="1956"/>
                </a:lnTo>
                <a:lnTo>
                  <a:pt x="152806" y="3867"/>
                </a:lnTo>
                <a:lnTo>
                  <a:pt x="146920" y="6132"/>
                </a:lnTo>
                <a:lnTo>
                  <a:pt x="141010" y="8636"/>
                </a:lnTo>
                <a:lnTo>
                  <a:pt x="129154" y="14062"/>
                </a:lnTo>
                <a:lnTo>
                  <a:pt x="117271" y="19781"/>
                </a:lnTo>
                <a:lnTo>
                  <a:pt x="111323" y="23688"/>
                </a:lnTo>
                <a:lnTo>
                  <a:pt x="105375" y="28276"/>
                </a:lnTo>
                <a:lnTo>
                  <a:pt x="99423" y="33320"/>
                </a:lnTo>
                <a:lnTo>
                  <a:pt x="93471" y="38667"/>
                </a:lnTo>
                <a:lnTo>
                  <a:pt x="81567" y="49899"/>
                </a:lnTo>
                <a:lnTo>
                  <a:pt x="75615" y="56665"/>
                </a:lnTo>
                <a:lnTo>
                  <a:pt x="69662" y="64152"/>
                </a:lnTo>
                <a:lnTo>
                  <a:pt x="63709" y="72120"/>
                </a:lnTo>
                <a:lnTo>
                  <a:pt x="58749" y="80408"/>
                </a:lnTo>
                <a:lnTo>
                  <a:pt x="54450" y="88910"/>
                </a:lnTo>
                <a:lnTo>
                  <a:pt x="50591" y="97555"/>
                </a:lnTo>
                <a:lnTo>
                  <a:pt x="46034" y="106295"/>
                </a:lnTo>
                <a:lnTo>
                  <a:pt x="41013" y="115098"/>
                </a:lnTo>
                <a:lnTo>
                  <a:pt x="35680" y="123943"/>
                </a:lnTo>
                <a:lnTo>
                  <a:pt x="32124" y="133809"/>
                </a:lnTo>
                <a:lnTo>
                  <a:pt x="29754" y="144354"/>
                </a:lnTo>
                <a:lnTo>
                  <a:pt x="28175" y="155354"/>
                </a:lnTo>
                <a:lnTo>
                  <a:pt x="27121" y="165663"/>
                </a:lnTo>
                <a:lnTo>
                  <a:pt x="26419" y="175513"/>
                </a:lnTo>
                <a:lnTo>
                  <a:pt x="25951" y="185055"/>
                </a:lnTo>
                <a:lnTo>
                  <a:pt x="25431" y="206242"/>
                </a:lnTo>
                <a:lnTo>
                  <a:pt x="25292" y="217448"/>
                </a:lnTo>
                <a:lnTo>
                  <a:pt x="26193" y="227895"/>
                </a:lnTo>
                <a:lnTo>
                  <a:pt x="27784" y="237837"/>
                </a:lnTo>
                <a:lnTo>
                  <a:pt x="32198" y="257812"/>
                </a:lnTo>
                <a:lnTo>
                  <a:pt x="37468" y="279920"/>
                </a:lnTo>
                <a:lnTo>
                  <a:pt x="40262" y="290379"/>
                </a:lnTo>
                <a:lnTo>
                  <a:pt x="46012" y="309938"/>
                </a:lnTo>
                <a:lnTo>
                  <a:pt x="49927" y="319321"/>
                </a:lnTo>
                <a:lnTo>
                  <a:pt x="54521" y="328552"/>
                </a:lnTo>
                <a:lnTo>
                  <a:pt x="59569" y="337684"/>
                </a:lnTo>
                <a:lnTo>
                  <a:pt x="64918" y="346748"/>
                </a:lnTo>
                <a:lnTo>
                  <a:pt x="76153" y="364756"/>
                </a:lnTo>
                <a:lnTo>
                  <a:pt x="82919" y="373726"/>
                </a:lnTo>
                <a:lnTo>
                  <a:pt x="90406" y="382682"/>
                </a:lnTo>
                <a:lnTo>
                  <a:pt x="98375" y="391629"/>
                </a:lnTo>
                <a:lnTo>
                  <a:pt x="105671" y="400571"/>
                </a:lnTo>
                <a:lnTo>
                  <a:pt x="112521" y="409508"/>
                </a:lnTo>
                <a:lnTo>
                  <a:pt x="119071" y="418443"/>
                </a:lnTo>
                <a:lnTo>
                  <a:pt x="131640" y="436308"/>
                </a:lnTo>
                <a:lnTo>
                  <a:pt x="155879" y="472031"/>
                </a:lnTo>
                <a:lnTo>
                  <a:pt x="161866" y="479969"/>
                </a:lnTo>
                <a:lnTo>
                  <a:pt x="167843" y="487245"/>
                </a:lnTo>
                <a:lnTo>
                  <a:pt x="173812" y="494080"/>
                </a:lnTo>
                <a:lnTo>
                  <a:pt x="178783" y="500621"/>
                </a:lnTo>
                <a:lnTo>
                  <a:pt x="183089" y="506966"/>
                </a:lnTo>
                <a:lnTo>
                  <a:pt x="186952" y="513181"/>
                </a:lnTo>
                <a:lnTo>
                  <a:pt x="191244" y="525378"/>
                </a:lnTo>
                <a:lnTo>
                  <a:pt x="193661" y="543401"/>
                </a:lnTo>
                <a:lnTo>
                  <a:pt x="194377" y="561308"/>
                </a:lnTo>
                <a:lnTo>
                  <a:pt x="194477" y="567268"/>
                </a:lnTo>
                <a:lnTo>
                  <a:pt x="193553" y="572234"/>
                </a:lnTo>
                <a:lnTo>
                  <a:pt x="189879" y="580397"/>
                </a:lnTo>
                <a:lnTo>
                  <a:pt x="182292" y="587332"/>
                </a:lnTo>
                <a:lnTo>
                  <a:pt x="177492" y="590570"/>
                </a:lnTo>
                <a:lnTo>
                  <a:pt x="169512" y="596815"/>
                </a:lnTo>
                <a:lnTo>
                  <a:pt x="161665" y="602897"/>
                </a:lnTo>
                <a:lnTo>
                  <a:pt x="156795" y="605908"/>
                </a:lnTo>
                <a:lnTo>
                  <a:pt x="151563" y="608908"/>
                </a:lnTo>
                <a:lnTo>
                  <a:pt x="146091" y="610907"/>
                </a:lnTo>
                <a:lnTo>
                  <a:pt x="140459" y="612240"/>
                </a:lnTo>
                <a:lnTo>
                  <a:pt x="134720" y="613129"/>
                </a:lnTo>
                <a:lnTo>
                  <a:pt x="128910" y="612730"/>
                </a:lnTo>
                <a:lnTo>
                  <a:pt x="123051" y="611471"/>
                </a:lnTo>
                <a:lnTo>
                  <a:pt x="102680" y="604959"/>
                </a:lnTo>
                <a:lnTo>
                  <a:pt x="94651" y="602322"/>
                </a:lnTo>
                <a:lnTo>
                  <a:pt x="87314" y="599571"/>
                </a:lnTo>
                <a:lnTo>
                  <a:pt x="80438" y="596746"/>
                </a:lnTo>
                <a:lnTo>
                  <a:pt x="73869" y="593870"/>
                </a:lnTo>
                <a:lnTo>
                  <a:pt x="68498" y="590960"/>
                </a:lnTo>
                <a:lnTo>
                  <a:pt x="63926" y="588028"/>
                </a:lnTo>
                <a:lnTo>
                  <a:pt x="59885" y="585082"/>
                </a:lnTo>
                <a:lnTo>
                  <a:pt x="55207" y="581133"/>
                </a:lnTo>
                <a:lnTo>
                  <a:pt x="50103" y="576516"/>
                </a:lnTo>
                <a:lnTo>
                  <a:pt x="44718" y="571453"/>
                </a:lnTo>
                <a:lnTo>
                  <a:pt x="40134" y="566094"/>
                </a:lnTo>
                <a:lnTo>
                  <a:pt x="32396" y="554847"/>
                </a:lnTo>
                <a:lnTo>
                  <a:pt x="25649" y="543235"/>
                </a:lnTo>
                <a:lnTo>
                  <a:pt x="19343" y="531459"/>
                </a:lnTo>
                <a:lnTo>
                  <a:pt x="13234" y="519611"/>
                </a:lnTo>
                <a:lnTo>
                  <a:pt x="7211" y="505084"/>
                </a:lnTo>
                <a:lnTo>
                  <a:pt x="2220" y="489698"/>
                </a:lnTo>
                <a:lnTo>
                  <a:pt x="0" y="476246"/>
                </a:lnTo>
                <a:lnTo>
                  <a:pt x="1659" y="463652"/>
                </a:lnTo>
                <a:lnTo>
                  <a:pt x="5705" y="450448"/>
                </a:lnTo>
                <a:lnTo>
                  <a:pt x="10811" y="434658"/>
                </a:lnTo>
                <a:lnTo>
                  <a:pt x="16387" y="420364"/>
                </a:lnTo>
                <a:lnTo>
                  <a:pt x="23164" y="406404"/>
                </a:lnTo>
                <a:lnTo>
                  <a:pt x="27751" y="398515"/>
                </a:lnTo>
                <a:lnTo>
                  <a:pt x="32791" y="390278"/>
                </a:lnTo>
                <a:lnTo>
                  <a:pt x="38137" y="382803"/>
                </a:lnTo>
                <a:lnTo>
                  <a:pt x="43684" y="375835"/>
                </a:lnTo>
                <a:lnTo>
                  <a:pt x="49367" y="369205"/>
                </a:lnTo>
                <a:lnTo>
                  <a:pt x="55140" y="361809"/>
                </a:lnTo>
                <a:lnTo>
                  <a:pt x="60973" y="353901"/>
                </a:lnTo>
                <a:lnTo>
                  <a:pt x="66847" y="345653"/>
                </a:lnTo>
                <a:lnTo>
                  <a:pt x="73739" y="338170"/>
                </a:lnTo>
                <a:lnTo>
                  <a:pt x="81309" y="331197"/>
                </a:lnTo>
                <a:lnTo>
                  <a:pt x="89334" y="324564"/>
                </a:lnTo>
                <a:lnTo>
                  <a:pt x="97660" y="318157"/>
                </a:lnTo>
                <a:lnTo>
                  <a:pt x="106187" y="311902"/>
                </a:lnTo>
                <a:lnTo>
                  <a:pt x="114848" y="305747"/>
                </a:lnTo>
                <a:lnTo>
                  <a:pt x="123599" y="298668"/>
                </a:lnTo>
                <a:lnTo>
                  <a:pt x="132409" y="290971"/>
                </a:lnTo>
                <a:lnTo>
                  <a:pt x="141259" y="282864"/>
                </a:lnTo>
                <a:lnTo>
                  <a:pt x="159031" y="265918"/>
                </a:lnTo>
                <a:lnTo>
                  <a:pt x="167937" y="257232"/>
                </a:lnTo>
                <a:lnTo>
                  <a:pt x="175858" y="248465"/>
                </a:lnTo>
                <a:lnTo>
                  <a:pt x="183124" y="239643"/>
                </a:lnTo>
                <a:lnTo>
                  <a:pt x="189952" y="230786"/>
                </a:lnTo>
                <a:lnTo>
                  <a:pt x="197481" y="222897"/>
                </a:lnTo>
                <a:lnTo>
                  <a:pt x="205476" y="215653"/>
                </a:lnTo>
                <a:lnTo>
                  <a:pt x="213783" y="208839"/>
                </a:lnTo>
                <a:lnTo>
                  <a:pt x="220313" y="201320"/>
                </a:lnTo>
                <a:lnTo>
                  <a:pt x="225659" y="193331"/>
                </a:lnTo>
                <a:lnTo>
                  <a:pt x="230215" y="185028"/>
                </a:lnTo>
                <a:lnTo>
                  <a:pt x="235237" y="177508"/>
                </a:lnTo>
                <a:lnTo>
                  <a:pt x="240569" y="170511"/>
                </a:lnTo>
                <a:lnTo>
                  <a:pt x="246109" y="163862"/>
                </a:lnTo>
                <a:lnTo>
                  <a:pt x="249801" y="157444"/>
                </a:lnTo>
                <a:lnTo>
                  <a:pt x="253904" y="145023"/>
                </a:lnTo>
                <a:lnTo>
                  <a:pt x="256214" y="126873"/>
                </a:lnTo>
                <a:lnTo>
                  <a:pt x="254108" y="114899"/>
                </a:lnTo>
                <a:lnTo>
                  <a:pt x="249991" y="99647"/>
                </a:lnTo>
                <a:lnTo>
                  <a:pt x="249413" y="95783"/>
                </a:lnTo>
                <a:lnTo>
                  <a:pt x="246125" y="88844"/>
                </a:lnTo>
                <a:lnTo>
                  <a:pt x="238695" y="79359"/>
                </a:lnTo>
                <a:lnTo>
                  <a:pt x="235929" y="76305"/>
                </a:lnTo>
                <a:lnTo>
                  <a:pt x="232101" y="73276"/>
                </a:lnTo>
                <a:lnTo>
                  <a:pt x="227564" y="70265"/>
                </a:lnTo>
                <a:lnTo>
                  <a:pt x="222556" y="67266"/>
                </a:lnTo>
                <a:lnTo>
                  <a:pt x="218224" y="65266"/>
                </a:lnTo>
                <a:lnTo>
                  <a:pt x="210765" y="63044"/>
                </a:lnTo>
                <a:lnTo>
                  <a:pt x="204144" y="62056"/>
                </a:lnTo>
                <a:lnTo>
                  <a:pt x="197893" y="61617"/>
                </a:lnTo>
                <a:lnTo>
                  <a:pt x="191808" y="61422"/>
                </a:lnTo>
                <a:lnTo>
                  <a:pt x="188796" y="62363"/>
                </a:lnTo>
                <a:lnTo>
                  <a:pt x="185795" y="63981"/>
                </a:lnTo>
                <a:lnTo>
                  <a:pt x="176819" y="70196"/>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26" name="SMARTInkAnnotation119"/>
          <p:cNvSpPr/>
          <p:nvPr/>
        </p:nvSpPr>
        <p:spPr>
          <a:xfrm>
            <a:off x="7134120" y="2000160"/>
            <a:ext cx="46080" cy="633600"/>
          </a:xfrm>
          <a:custGeom>
            <a:avLst/>
            <a:gdLst>
              <a:gd name="textAreaLeft" fmla="*/ 0 w 46080"/>
              <a:gd name="textAreaRight" fmla="*/ 46440 w 46080"/>
              <a:gd name="textAreaTop" fmla="*/ 0 h 633600"/>
              <a:gd name="textAreaBottom" fmla="*/ 633600 h 633600"/>
            </a:gdLst>
            <a:ahLst/>
            <a:rect l="textAreaLeft" t="textAreaTop" r="textAreaRight" b="textAreaBottom"/>
            <a:pathLst>
              <a:path w="44649" h="634008">
                <a:moveTo>
                  <a:pt x="44648" y="0"/>
                </a:moveTo>
                <a:lnTo>
                  <a:pt x="39908" y="4740"/>
                </a:lnTo>
                <a:lnTo>
                  <a:pt x="38511" y="7129"/>
                </a:lnTo>
                <a:lnTo>
                  <a:pt x="37580" y="9713"/>
                </a:lnTo>
                <a:lnTo>
                  <a:pt x="36546" y="16223"/>
                </a:lnTo>
                <a:lnTo>
                  <a:pt x="36087" y="25731"/>
                </a:lnTo>
                <a:lnTo>
                  <a:pt x="34972" y="31045"/>
                </a:lnTo>
                <a:lnTo>
                  <a:pt x="33237" y="36571"/>
                </a:lnTo>
                <a:lnTo>
                  <a:pt x="31088" y="42240"/>
                </a:lnTo>
                <a:lnTo>
                  <a:pt x="29655" y="48996"/>
                </a:lnTo>
                <a:lnTo>
                  <a:pt x="28699" y="56476"/>
                </a:lnTo>
                <a:lnTo>
                  <a:pt x="27638" y="72725"/>
                </a:lnTo>
                <a:lnTo>
                  <a:pt x="27166" y="89869"/>
                </a:lnTo>
                <a:lnTo>
                  <a:pt x="26822" y="155354"/>
                </a:lnTo>
                <a:lnTo>
                  <a:pt x="27804" y="167069"/>
                </a:lnTo>
                <a:lnTo>
                  <a:pt x="29450" y="178848"/>
                </a:lnTo>
                <a:lnTo>
                  <a:pt x="31540" y="190669"/>
                </a:lnTo>
                <a:lnTo>
                  <a:pt x="31940" y="202519"/>
                </a:lnTo>
                <a:lnTo>
                  <a:pt x="31216" y="214388"/>
                </a:lnTo>
                <a:lnTo>
                  <a:pt x="29741" y="226269"/>
                </a:lnTo>
                <a:lnTo>
                  <a:pt x="28757" y="238158"/>
                </a:lnTo>
                <a:lnTo>
                  <a:pt x="28100" y="250053"/>
                </a:lnTo>
                <a:lnTo>
                  <a:pt x="27372" y="274846"/>
                </a:lnTo>
                <a:lnTo>
                  <a:pt x="26796" y="413633"/>
                </a:lnTo>
                <a:lnTo>
                  <a:pt x="25801" y="424583"/>
                </a:lnTo>
                <a:lnTo>
                  <a:pt x="24146" y="434860"/>
                </a:lnTo>
                <a:lnTo>
                  <a:pt x="22051" y="444688"/>
                </a:lnTo>
                <a:lnTo>
                  <a:pt x="20654" y="455208"/>
                </a:lnTo>
                <a:lnTo>
                  <a:pt x="19722" y="466191"/>
                </a:lnTo>
                <a:lnTo>
                  <a:pt x="19102" y="477481"/>
                </a:lnTo>
                <a:lnTo>
                  <a:pt x="17696" y="487985"/>
                </a:lnTo>
                <a:lnTo>
                  <a:pt x="15765" y="497964"/>
                </a:lnTo>
                <a:lnTo>
                  <a:pt x="13487" y="507593"/>
                </a:lnTo>
                <a:lnTo>
                  <a:pt x="11968" y="516989"/>
                </a:lnTo>
                <a:lnTo>
                  <a:pt x="10955" y="526229"/>
                </a:lnTo>
                <a:lnTo>
                  <a:pt x="10281" y="535366"/>
                </a:lnTo>
                <a:lnTo>
                  <a:pt x="8838" y="544434"/>
                </a:lnTo>
                <a:lnTo>
                  <a:pt x="6884" y="553456"/>
                </a:lnTo>
                <a:lnTo>
                  <a:pt x="4589" y="562447"/>
                </a:lnTo>
                <a:lnTo>
                  <a:pt x="3059" y="570425"/>
                </a:lnTo>
                <a:lnTo>
                  <a:pt x="2039" y="577729"/>
                </a:lnTo>
                <a:lnTo>
                  <a:pt x="906" y="591135"/>
                </a:lnTo>
                <a:lnTo>
                  <a:pt x="269" y="608847"/>
                </a:lnTo>
                <a:lnTo>
                  <a:pt x="35" y="627485"/>
                </a:lnTo>
                <a:lnTo>
                  <a:pt x="0" y="634007"/>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27" name="SMARTInkAnnotation120"/>
          <p:cNvSpPr/>
          <p:nvPr/>
        </p:nvSpPr>
        <p:spPr>
          <a:xfrm>
            <a:off x="7323120" y="2054160"/>
            <a:ext cx="71280" cy="473040"/>
          </a:xfrm>
          <a:custGeom>
            <a:avLst/>
            <a:gdLst>
              <a:gd name="textAreaLeft" fmla="*/ 0 w 71280"/>
              <a:gd name="textAreaRight" fmla="*/ 71640 w 71280"/>
              <a:gd name="textAreaTop" fmla="*/ 0 h 473040"/>
              <a:gd name="textAreaBottom" fmla="*/ 473400 h 473040"/>
            </a:gdLst>
            <a:ahLst/>
            <a:rect l="textAreaLeft" t="textAreaTop" r="textAreaRight" b="textAreaBottom"/>
            <a:pathLst>
              <a:path w="71028" h="473274">
                <a:moveTo>
                  <a:pt x="71027" y="0"/>
                </a:moveTo>
                <a:lnTo>
                  <a:pt x="66287" y="0"/>
                </a:lnTo>
                <a:lnTo>
                  <a:pt x="64890" y="992"/>
                </a:lnTo>
                <a:lnTo>
                  <a:pt x="63959" y="2646"/>
                </a:lnTo>
                <a:lnTo>
                  <a:pt x="62465" y="7688"/>
                </a:lnTo>
                <a:lnTo>
                  <a:pt x="62146" y="21125"/>
                </a:lnTo>
                <a:lnTo>
                  <a:pt x="62130" y="25990"/>
                </a:lnTo>
                <a:lnTo>
                  <a:pt x="61127" y="32209"/>
                </a:lnTo>
                <a:lnTo>
                  <a:pt x="59465" y="39332"/>
                </a:lnTo>
                <a:lnTo>
                  <a:pt x="57366" y="47057"/>
                </a:lnTo>
                <a:lnTo>
                  <a:pt x="55966" y="55184"/>
                </a:lnTo>
                <a:lnTo>
                  <a:pt x="55034" y="63578"/>
                </a:lnTo>
                <a:lnTo>
                  <a:pt x="54411" y="72151"/>
                </a:lnTo>
                <a:lnTo>
                  <a:pt x="53005" y="81835"/>
                </a:lnTo>
                <a:lnTo>
                  <a:pt x="51074" y="92260"/>
                </a:lnTo>
                <a:lnTo>
                  <a:pt x="48796" y="103178"/>
                </a:lnTo>
                <a:lnTo>
                  <a:pt x="47276" y="113434"/>
                </a:lnTo>
                <a:lnTo>
                  <a:pt x="46263" y="123248"/>
                </a:lnTo>
                <a:lnTo>
                  <a:pt x="45589" y="132767"/>
                </a:lnTo>
                <a:lnTo>
                  <a:pt x="44145" y="143081"/>
                </a:lnTo>
                <a:lnTo>
                  <a:pt x="42192" y="153926"/>
                </a:lnTo>
                <a:lnTo>
                  <a:pt x="39897" y="165125"/>
                </a:lnTo>
                <a:lnTo>
                  <a:pt x="34702" y="188152"/>
                </a:lnTo>
                <a:lnTo>
                  <a:pt x="31928" y="199849"/>
                </a:lnTo>
                <a:lnTo>
                  <a:pt x="30078" y="211615"/>
                </a:lnTo>
                <a:lnTo>
                  <a:pt x="28845" y="223428"/>
                </a:lnTo>
                <a:lnTo>
                  <a:pt x="28022" y="235272"/>
                </a:lnTo>
                <a:lnTo>
                  <a:pt x="26483" y="247137"/>
                </a:lnTo>
                <a:lnTo>
                  <a:pt x="24463" y="259016"/>
                </a:lnTo>
                <a:lnTo>
                  <a:pt x="22124" y="270904"/>
                </a:lnTo>
                <a:lnTo>
                  <a:pt x="16881" y="294696"/>
                </a:lnTo>
                <a:lnTo>
                  <a:pt x="14094" y="306597"/>
                </a:lnTo>
                <a:lnTo>
                  <a:pt x="12236" y="317507"/>
                </a:lnTo>
                <a:lnTo>
                  <a:pt x="10996" y="327757"/>
                </a:lnTo>
                <a:lnTo>
                  <a:pt x="10171" y="337567"/>
                </a:lnTo>
                <a:lnTo>
                  <a:pt x="8628" y="347084"/>
                </a:lnTo>
                <a:lnTo>
                  <a:pt x="6607" y="356404"/>
                </a:lnTo>
                <a:lnTo>
                  <a:pt x="4267" y="365595"/>
                </a:lnTo>
                <a:lnTo>
                  <a:pt x="2708" y="374699"/>
                </a:lnTo>
                <a:lnTo>
                  <a:pt x="1669" y="383744"/>
                </a:lnTo>
                <a:lnTo>
                  <a:pt x="975" y="392751"/>
                </a:lnTo>
                <a:lnTo>
                  <a:pt x="514" y="401733"/>
                </a:lnTo>
                <a:lnTo>
                  <a:pt x="0" y="419649"/>
                </a:lnTo>
                <a:lnTo>
                  <a:pt x="855" y="427602"/>
                </a:lnTo>
                <a:lnTo>
                  <a:pt x="2417" y="434888"/>
                </a:lnTo>
                <a:lnTo>
                  <a:pt x="4452" y="441730"/>
                </a:lnTo>
                <a:lnTo>
                  <a:pt x="5807" y="447283"/>
                </a:lnTo>
                <a:lnTo>
                  <a:pt x="7313" y="456099"/>
                </a:lnTo>
                <a:lnTo>
                  <a:pt x="8707" y="459840"/>
                </a:lnTo>
                <a:lnTo>
                  <a:pt x="10630" y="463325"/>
                </a:lnTo>
                <a:lnTo>
                  <a:pt x="17449" y="473273"/>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28" name="SMARTInkAnnotation121"/>
          <p:cNvSpPr/>
          <p:nvPr/>
        </p:nvSpPr>
        <p:spPr>
          <a:xfrm>
            <a:off x="7375680" y="2071800"/>
            <a:ext cx="250560" cy="463320"/>
          </a:xfrm>
          <a:custGeom>
            <a:avLst/>
            <a:gdLst>
              <a:gd name="textAreaLeft" fmla="*/ 0 w 250560"/>
              <a:gd name="textAreaRight" fmla="*/ 250920 w 250560"/>
              <a:gd name="textAreaTop" fmla="*/ 0 h 463320"/>
              <a:gd name="textAreaBottom" fmla="*/ 463680 h 463320"/>
            </a:gdLst>
            <a:ahLst/>
            <a:rect l="textAreaLeft" t="textAreaTop" r="textAreaRight" b="textAreaBottom"/>
            <a:pathLst>
              <a:path w="250033" h="463662">
                <a:moveTo>
                  <a:pt x="0" y="0"/>
                </a:moveTo>
                <a:lnTo>
                  <a:pt x="8822" y="0"/>
                </a:lnTo>
                <a:lnTo>
                  <a:pt x="8921" y="12429"/>
                </a:lnTo>
                <a:lnTo>
                  <a:pt x="11571" y="26029"/>
                </a:lnTo>
                <a:lnTo>
                  <a:pt x="13668" y="35212"/>
                </a:lnTo>
                <a:lnTo>
                  <a:pt x="17049" y="46295"/>
                </a:lnTo>
                <a:lnTo>
                  <a:pt x="21289" y="58645"/>
                </a:lnTo>
                <a:lnTo>
                  <a:pt x="26098" y="71839"/>
                </a:lnTo>
                <a:lnTo>
                  <a:pt x="29306" y="84603"/>
                </a:lnTo>
                <a:lnTo>
                  <a:pt x="31443" y="97082"/>
                </a:lnTo>
                <a:lnTo>
                  <a:pt x="32869" y="109370"/>
                </a:lnTo>
                <a:lnTo>
                  <a:pt x="34811" y="121530"/>
                </a:lnTo>
                <a:lnTo>
                  <a:pt x="37099" y="133606"/>
                </a:lnTo>
                <a:lnTo>
                  <a:pt x="42285" y="157607"/>
                </a:lnTo>
                <a:lnTo>
                  <a:pt x="47898" y="181503"/>
                </a:lnTo>
                <a:lnTo>
                  <a:pt x="49791" y="193432"/>
                </a:lnTo>
                <a:lnTo>
                  <a:pt x="51054" y="205353"/>
                </a:lnTo>
                <a:lnTo>
                  <a:pt x="51895" y="217269"/>
                </a:lnTo>
                <a:lnTo>
                  <a:pt x="53448" y="229182"/>
                </a:lnTo>
                <a:lnTo>
                  <a:pt x="55476" y="241093"/>
                </a:lnTo>
                <a:lnTo>
                  <a:pt x="57820" y="253002"/>
                </a:lnTo>
                <a:lnTo>
                  <a:pt x="59383" y="264910"/>
                </a:lnTo>
                <a:lnTo>
                  <a:pt x="60425" y="276818"/>
                </a:lnTo>
                <a:lnTo>
                  <a:pt x="61119" y="288725"/>
                </a:lnTo>
                <a:lnTo>
                  <a:pt x="62575" y="299639"/>
                </a:lnTo>
                <a:lnTo>
                  <a:pt x="64538" y="309893"/>
                </a:lnTo>
                <a:lnTo>
                  <a:pt x="74816" y="352476"/>
                </a:lnTo>
                <a:lnTo>
                  <a:pt x="77658" y="362976"/>
                </a:lnTo>
                <a:lnTo>
                  <a:pt x="83463" y="382580"/>
                </a:lnTo>
                <a:lnTo>
                  <a:pt x="86400" y="390983"/>
                </a:lnTo>
                <a:lnTo>
                  <a:pt x="89351" y="398570"/>
                </a:lnTo>
                <a:lnTo>
                  <a:pt x="95274" y="412291"/>
                </a:lnTo>
                <a:lnTo>
                  <a:pt x="101214" y="425003"/>
                </a:lnTo>
                <a:lnTo>
                  <a:pt x="110136" y="443317"/>
                </a:lnTo>
                <a:lnTo>
                  <a:pt x="116089" y="452684"/>
                </a:lnTo>
                <a:lnTo>
                  <a:pt x="119064" y="456570"/>
                </a:lnTo>
                <a:lnTo>
                  <a:pt x="122040" y="459162"/>
                </a:lnTo>
                <a:lnTo>
                  <a:pt x="125018" y="460889"/>
                </a:lnTo>
                <a:lnTo>
                  <a:pt x="130970" y="462808"/>
                </a:lnTo>
                <a:lnTo>
                  <a:pt x="136921" y="463661"/>
                </a:lnTo>
                <a:lnTo>
                  <a:pt x="139900" y="462897"/>
                </a:lnTo>
                <a:lnTo>
                  <a:pt x="145852" y="459401"/>
                </a:lnTo>
                <a:lnTo>
                  <a:pt x="151805" y="451895"/>
                </a:lnTo>
                <a:lnTo>
                  <a:pt x="157759" y="441944"/>
                </a:lnTo>
                <a:lnTo>
                  <a:pt x="163711" y="430906"/>
                </a:lnTo>
                <a:lnTo>
                  <a:pt x="167019" y="419386"/>
                </a:lnTo>
                <a:lnTo>
                  <a:pt x="169482" y="405667"/>
                </a:lnTo>
                <a:lnTo>
                  <a:pt x="173883" y="386341"/>
                </a:lnTo>
                <a:lnTo>
                  <a:pt x="176445" y="376623"/>
                </a:lnTo>
                <a:lnTo>
                  <a:pt x="181938" y="357888"/>
                </a:lnTo>
                <a:lnTo>
                  <a:pt x="183801" y="347733"/>
                </a:lnTo>
                <a:lnTo>
                  <a:pt x="185042" y="336994"/>
                </a:lnTo>
                <a:lnTo>
                  <a:pt x="185870" y="325866"/>
                </a:lnTo>
                <a:lnTo>
                  <a:pt x="187412" y="314478"/>
                </a:lnTo>
                <a:lnTo>
                  <a:pt x="189434" y="302918"/>
                </a:lnTo>
                <a:lnTo>
                  <a:pt x="191774" y="291242"/>
                </a:lnTo>
                <a:lnTo>
                  <a:pt x="193334" y="279490"/>
                </a:lnTo>
                <a:lnTo>
                  <a:pt x="194374" y="267686"/>
                </a:lnTo>
                <a:lnTo>
                  <a:pt x="195067" y="255848"/>
                </a:lnTo>
                <a:lnTo>
                  <a:pt x="196521" y="244979"/>
                </a:lnTo>
                <a:lnTo>
                  <a:pt x="198484" y="234757"/>
                </a:lnTo>
                <a:lnTo>
                  <a:pt x="200783" y="224966"/>
                </a:lnTo>
                <a:lnTo>
                  <a:pt x="202317" y="214469"/>
                </a:lnTo>
                <a:lnTo>
                  <a:pt x="203339" y="203503"/>
                </a:lnTo>
                <a:lnTo>
                  <a:pt x="204020" y="192223"/>
                </a:lnTo>
                <a:lnTo>
                  <a:pt x="204778" y="169107"/>
                </a:lnTo>
                <a:lnTo>
                  <a:pt x="204979" y="157387"/>
                </a:lnTo>
                <a:lnTo>
                  <a:pt x="206107" y="146596"/>
                </a:lnTo>
                <a:lnTo>
                  <a:pt x="207850" y="136426"/>
                </a:lnTo>
                <a:lnTo>
                  <a:pt x="210005" y="126669"/>
                </a:lnTo>
                <a:lnTo>
                  <a:pt x="211440" y="117189"/>
                </a:lnTo>
                <a:lnTo>
                  <a:pt x="212397" y="107891"/>
                </a:lnTo>
                <a:lnTo>
                  <a:pt x="213036" y="98717"/>
                </a:lnTo>
                <a:lnTo>
                  <a:pt x="214454" y="90616"/>
                </a:lnTo>
                <a:lnTo>
                  <a:pt x="218676" y="76323"/>
                </a:lnTo>
                <a:lnTo>
                  <a:pt x="223859" y="63356"/>
                </a:lnTo>
                <a:lnTo>
                  <a:pt x="228478" y="50979"/>
                </a:lnTo>
                <a:lnTo>
                  <a:pt x="230530" y="38863"/>
                </a:lnTo>
                <a:lnTo>
                  <a:pt x="234089" y="29509"/>
                </a:lnTo>
                <a:lnTo>
                  <a:pt x="236426" y="25626"/>
                </a:lnTo>
                <a:lnTo>
                  <a:pt x="238977" y="23037"/>
                </a:lnTo>
                <a:lnTo>
                  <a:pt x="241670" y="21311"/>
                </a:lnTo>
                <a:lnTo>
                  <a:pt x="244458" y="20161"/>
                </a:lnTo>
                <a:lnTo>
                  <a:pt x="246316" y="18401"/>
                </a:lnTo>
                <a:lnTo>
                  <a:pt x="247554" y="16237"/>
                </a:lnTo>
                <a:lnTo>
                  <a:pt x="250032" y="893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29" name="SMARTInkAnnotation122"/>
          <p:cNvSpPr/>
          <p:nvPr/>
        </p:nvSpPr>
        <p:spPr>
          <a:xfrm>
            <a:off x="258840" y="2928960"/>
            <a:ext cx="527040" cy="552600"/>
          </a:xfrm>
          <a:custGeom>
            <a:avLst/>
            <a:gdLst>
              <a:gd name="textAreaLeft" fmla="*/ 0 w 527040"/>
              <a:gd name="textAreaRight" fmla="*/ 527400 w 527040"/>
              <a:gd name="textAreaTop" fmla="*/ 0 h 552600"/>
              <a:gd name="textAreaBottom" fmla="*/ 552960 h 552600"/>
            </a:gdLst>
            <a:ahLst/>
            <a:rect l="textAreaLeft" t="textAreaTop" r="textAreaRight" b="textAreaBottom"/>
            <a:pathLst>
              <a:path w="526853" h="551818">
                <a:moveTo>
                  <a:pt x="0" y="0"/>
                </a:moveTo>
                <a:lnTo>
                  <a:pt x="0" y="20991"/>
                </a:lnTo>
                <a:lnTo>
                  <a:pt x="993" y="23916"/>
                </a:lnTo>
                <a:lnTo>
                  <a:pt x="4741" y="29812"/>
                </a:lnTo>
                <a:lnTo>
                  <a:pt x="7068" y="38385"/>
                </a:lnTo>
                <a:lnTo>
                  <a:pt x="9095" y="48810"/>
                </a:lnTo>
                <a:lnTo>
                  <a:pt x="14822" y="65836"/>
                </a:lnTo>
                <a:lnTo>
                  <a:pt x="16509" y="77547"/>
                </a:lnTo>
                <a:lnTo>
                  <a:pt x="17260" y="89366"/>
                </a:lnTo>
                <a:lnTo>
                  <a:pt x="18585" y="102226"/>
                </a:lnTo>
                <a:lnTo>
                  <a:pt x="22482" y="117864"/>
                </a:lnTo>
                <a:lnTo>
                  <a:pt x="27521" y="134735"/>
                </a:lnTo>
                <a:lnTo>
                  <a:pt x="30254" y="143402"/>
                </a:lnTo>
                <a:lnTo>
                  <a:pt x="32075" y="152156"/>
                </a:lnTo>
                <a:lnTo>
                  <a:pt x="33290" y="160968"/>
                </a:lnTo>
                <a:lnTo>
                  <a:pt x="34100" y="169820"/>
                </a:lnTo>
                <a:lnTo>
                  <a:pt x="35632" y="178698"/>
                </a:lnTo>
                <a:lnTo>
                  <a:pt x="37645" y="187593"/>
                </a:lnTo>
                <a:lnTo>
                  <a:pt x="39980" y="196499"/>
                </a:lnTo>
                <a:lnTo>
                  <a:pt x="41536" y="206406"/>
                </a:lnTo>
                <a:lnTo>
                  <a:pt x="42574" y="216979"/>
                </a:lnTo>
                <a:lnTo>
                  <a:pt x="43265" y="227996"/>
                </a:lnTo>
                <a:lnTo>
                  <a:pt x="44719" y="238318"/>
                </a:lnTo>
                <a:lnTo>
                  <a:pt x="46680" y="248175"/>
                </a:lnTo>
                <a:lnTo>
                  <a:pt x="48979" y="257724"/>
                </a:lnTo>
                <a:lnTo>
                  <a:pt x="51505" y="267066"/>
                </a:lnTo>
                <a:lnTo>
                  <a:pt x="59799" y="295427"/>
                </a:lnTo>
                <a:lnTo>
                  <a:pt x="65604" y="317171"/>
                </a:lnTo>
                <a:lnTo>
                  <a:pt x="67548" y="327533"/>
                </a:lnTo>
                <a:lnTo>
                  <a:pt x="68845" y="337418"/>
                </a:lnTo>
                <a:lnTo>
                  <a:pt x="69709" y="346984"/>
                </a:lnTo>
                <a:lnTo>
                  <a:pt x="71278" y="356339"/>
                </a:lnTo>
                <a:lnTo>
                  <a:pt x="73315" y="365551"/>
                </a:lnTo>
                <a:lnTo>
                  <a:pt x="75666" y="374669"/>
                </a:lnTo>
                <a:lnTo>
                  <a:pt x="78226" y="383725"/>
                </a:lnTo>
                <a:lnTo>
                  <a:pt x="83715" y="401724"/>
                </a:lnTo>
                <a:lnTo>
                  <a:pt x="92384" y="428592"/>
                </a:lnTo>
                <a:lnTo>
                  <a:pt x="98276" y="443824"/>
                </a:lnTo>
                <a:lnTo>
                  <a:pt x="104202" y="457208"/>
                </a:lnTo>
                <a:lnTo>
                  <a:pt x="110143" y="469771"/>
                </a:lnTo>
                <a:lnTo>
                  <a:pt x="119066" y="483260"/>
                </a:lnTo>
                <a:lnTo>
                  <a:pt x="127993" y="493541"/>
                </a:lnTo>
                <a:lnTo>
                  <a:pt x="130970" y="495715"/>
                </a:lnTo>
                <a:lnTo>
                  <a:pt x="139899" y="499766"/>
                </a:lnTo>
                <a:lnTo>
                  <a:pt x="145852" y="504230"/>
                </a:lnTo>
                <a:lnTo>
                  <a:pt x="148829" y="504826"/>
                </a:lnTo>
                <a:lnTo>
                  <a:pt x="151805" y="504230"/>
                </a:lnTo>
                <a:lnTo>
                  <a:pt x="158971" y="500885"/>
                </a:lnTo>
                <a:lnTo>
                  <a:pt x="159559" y="499619"/>
                </a:lnTo>
                <a:lnTo>
                  <a:pt x="160212" y="495566"/>
                </a:lnTo>
                <a:lnTo>
                  <a:pt x="161379" y="493096"/>
                </a:lnTo>
                <a:lnTo>
                  <a:pt x="170380" y="479357"/>
                </a:lnTo>
                <a:lnTo>
                  <a:pt x="173118" y="474352"/>
                </a:lnTo>
                <a:lnTo>
                  <a:pt x="176160" y="463500"/>
                </a:lnTo>
                <a:lnTo>
                  <a:pt x="178505" y="451071"/>
                </a:lnTo>
                <a:lnTo>
                  <a:pt x="182854" y="435624"/>
                </a:lnTo>
                <a:lnTo>
                  <a:pt x="185448" y="418837"/>
                </a:lnTo>
                <a:lnTo>
                  <a:pt x="187594" y="402447"/>
                </a:lnTo>
                <a:lnTo>
                  <a:pt x="191854" y="388548"/>
                </a:lnTo>
                <a:lnTo>
                  <a:pt x="199831" y="364826"/>
                </a:lnTo>
                <a:lnTo>
                  <a:pt x="202916" y="347684"/>
                </a:lnTo>
                <a:lnTo>
                  <a:pt x="203738" y="338946"/>
                </a:lnTo>
                <a:lnTo>
                  <a:pt x="205279" y="330143"/>
                </a:lnTo>
                <a:lnTo>
                  <a:pt x="207298" y="321299"/>
                </a:lnTo>
                <a:lnTo>
                  <a:pt x="211195" y="304526"/>
                </a:lnTo>
                <a:lnTo>
                  <a:pt x="212927" y="290457"/>
                </a:lnTo>
                <a:lnTo>
                  <a:pt x="213697" y="274943"/>
                </a:lnTo>
                <a:lnTo>
                  <a:pt x="215031" y="259119"/>
                </a:lnTo>
                <a:lnTo>
                  <a:pt x="218932" y="245471"/>
                </a:lnTo>
                <a:lnTo>
                  <a:pt x="223972" y="232791"/>
                </a:lnTo>
                <a:lnTo>
                  <a:pt x="228528" y="220541"/>
                </a:lnTo>
                <a:lnTo>
                  <a:pt x="231093" y="203480"/>
                </a:lnTo>
                <a:lnTo>
                  <a:pt x="231692" y="195277"/>
                </a:lnTo>
                <a:lnTo>
                  <a:pt x="232845" y="191700"/>
                </a:lnTo>
                <a:lnTo>
                  <a:pt x="240722" y="179163"/>
                </a:lnTo>
                <a:lnTo>
                  <a:pt x="241069" y="170955"/>
                </a:lnTo>
                <a:lnTo>
                  <a:pt x="241101" y="187806"/>
                </a:lnTo>
                <a:lnTo>
                  <a:pt x="241101" y="190688"/>
                </a:lnTo>
                <a:lnTo>
                  <a:pt x="247239" y="209572"/>
                </a:lnTo>
                <a:lnTo>
                  <a:pt x="248790" y="220805"/>
                </a:lnTo>
                <a:lnTo>
                  <a:pt x="252126" y="235057"/>
                </a:lnTo>
                <a:lnTo>
                  <a:pt x="255923" y="251314"/>
                </a:lnTo>
                <a:lnTo>
                  <a:pt x="257611" y="268460"/>
                </a:lnTo>
                <a:lnTo>
                  <a:pt x="259053" y="277200"/>
                </a:lnTo>
                <a:lnTo>
                  <a:pt x="261007" y="286003"/>
                </a:lnTo>
                <a:lnTo>
                  <a:pt x="263302" y="294849"/>
                </a:lnTo>
                <a:lnTo>
                  <a:pt x="264831" y="303722"/>
                </a:lnTo>
                <a:lnTo>
                  <a:pt x="265851" y="312614"/>
                </a:lnTo>
                <a:lnTo>
                  <a:pt x="266531" y="321519"/>
                </a:lnTo>
                <a:lnTo>
                  <a:pt x="267977" y="331424"/>
                </a:lnTo>
                <a:lnTo>
                  <a:pt x="269933" y="341997"/>
                </a:lnTo>
                <a:lnTo>
                  <a:pt x="272229" y="353013"/>
                </a:lnTo>
                <a:lnTo>
                  <a:pt x="274751" y="363334"/>
                </a:lnTo>
                <a:lnTo>
                  <a:pt x="277426" y="373192"/>
                </a:lnTo>
                <a:lnTo>
                  <a:pt x="283043" y="392081"/>
                </a:lnTo>
                <a:lnTo>
                  <a:pt x="288847" y="410399"/>
                </a:lnTo>
                <a:lnTo>
                  <a:pt x="292775" y="419451"/>
                </a:lnTo>
                <a:lnTo>
                  <a:pt x="297379" y="428462"/>
                </a:lnTo>
                <a:lnTo>
                  <a:pt x="302433" y="437446"/>
                </a:lnTo>
                <a:lnTo>
                  <a:pt x="306794" y="446412"/>
                </a:lnTo>
                <a:lnTo>
                  <a:pt x="310693" y="455366"/>
                </a:lnTo>
                <a:lnTo>
                  <a:pt x="314285" y="464312"/>
                </a:lnTo>
                <a:lnTo>
                  <a:pt x="318664" y="473252"/>
                </a:lnTo>
                <a:lnTo>
                  <a:pt x="323568" y="482189"/>
                </a:lnTo>
                <a:lnTo>
                  <a:pt x="333316" y="499064"/>
                </a:lnTo>
                <a:lnTo>
                  <a:pt x="340956" y="513178"/>
                </a:lnTo>
                <a:lnTo>
                  <a:pt x="350835" y="527541"/>
                </a:lnTo>
                <a:lnTo>
                  <a:pt x="359656" y="534764"/>
                </a:lnTo>
                <a:lnTo>
                  <a:pt x="375779" y="544410"/>
                </a:lnTo>
                <a:lnTo>
                  <a:pt x="386287" y="549538"/>
                </a:lnTo>
                <a:lnTo>
                  <a:pt x="394264" y="551817"/>
                </a:lnTo>
                <a:lnTo>
                  <a:pt x="398773" y="551433"/>
                </a:lnTo>
                <a:lnTo>
                  <a:pt x="409074" y="548360"/>
                </a:lnTo>
                <a:lnTo>
                  <a:pt x="417621" y="543687"/>
                </a:lnTo>
                <a:lnTo>
                  <a:pt x="431192" y="532602"/>
                </a:lnTo>
                <a:lnTo>
                  <a:pt x="437373" y="521470"/>
                </a:lnTo>
                <a:lnTo>
                  <a:pt x="443427" y="507593"/>
                </a:lnTo>
                <a:lnTo>
                  <a:pt x="449426" y="494810"/>
                </a:lnTo>
                <a:lnTo>
                  <a:pt x="455398" y="479869"/>
                </a:lnTo>
                <a:lnTo>
                  <a:pt x="458381" y="471717"/>
                </a:lnTo>
                <a:lnTo>
                  <a:pt x="461360" y="462314"/>
                </a:lnTo>
                <a:lnTo>
                  <a:pt x="467318" y="441283"/>
                </a:lnTo>
                <a:lnTo>
                  <a:pt x="469303" y="431110"/>
                </a:lnTo>
                <a:lnTo>
                  <a:pt x="470627" y="421352"/>
                </a:lnTo>
                <a:lnTo>
                  <a:pt x="471509" y="411870"/>
                </a:lnTo>
                <a:lnTo>
                  <a:pt x="473089" y="401580"/>
                </a:lnTo>
                <a:lnTo>
                  <a:pt x="475135" y="390751"/>
                </a:lnTo>
                <a:lnTo>
                  <a:pt x="477491" y="379563"/>
                </a:lnTo>
                <a:lnTo>
                  <a:pt x="479062" y="368136"/>
                </a:lnTo>
                <a:lnTo>
                  <a:pt x="480109" y="356549"/>
                </a:lnTo>
                <a:lnTo>
                  <a:pt x="480807" y="344856"/>
                </a:lnTo>
                <a:lnTo>
                  <a:pt x="482265" y="333091"/>
                </a:lnTo>
                <a:lnTo>
                  <a:pt x="484229" y="321280"/>
                </a:lnTo>
                <a:lnTo>
                  <a:pt x="486530" y="309437"/>
                </a:lnTo>
                <a:lnTo>
                  <a:pt x="488065" y="297572"/>
                </a:lnTo>
                <a:lnTo>
                  <a:pt x="489087" y="285694"/>
                </a:lnTo>
                <a:lnTo>
                  <a:pt x="489769" y="273806"/>
                </a:lnTo>
                <a:lnTo>
                  <a:pt x="491216" y="262905"/>
                </a:lnTo>
                <a:lnTo>
                  <a:pt x="493173" y="252661"/>
                </a:lnTo>
                <a:lnTo>
                  <a:pt x="495470" y="242854"/>
                </a:lnTo>
                <a:lnTo>
                  <a:pt x="497001" y="232348"/>
                </a:lnTo>
                <a:lnTo>
                  <a:pt x="498022" y="221375"/>
                </a:lnTo>
                <a:lnTo>
                  <a:pt x="498702" y="210091"/>
                </a:lnTo>
                <a:lnTo>
                  <a:pt x="499458" y="189616"/>
                </a:lnTo>
                <a:lnTo>
                  <a:pt x="499944" y="156958"/>
                </a:lnTo>
                <a:lnTo>
                  <a:pt x="502656" y="141197"/>
                </a:lnTo>
                <a:lnTo>
                  <a:pt x="506176" y="125262"/>
                </a:lnTo>
                <a:lnTo>
                  <a:pt x="507741" y="111565"/>
                </a:lnTo>
                <a:lnTo>
                  <a:pt x="508622" y="97438"/>
                </a:lnTo>
                <a:lnTo>
                  <a:pt x="508883" y="86969"/>
                </a:lnTo>
                <a:lnTo>
                  <a:pt x="509912" y="83776"/>
                </a:lnTo>
                <a:lnTo>
                  <a:pt x="517813" y="71598"/>
                </a:lnTo>
                <a:lnTo>
                  <a:pt x="526852" y="7143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30" name="SMARTInkAnnotation123"/>
          <p:cNvSpPr/>
          <p:nvPr/>
        </p:nvSpPr>
        <p:spPr>
          <a:xfrm>
            <a:off x="884160" y="3143160"/>
            <a:ext cx="249480" cy="9720"/>
          </a:xfrm>
          <a:custGeom>
            <a:avLst/>
            <a:gdLst>
              <a:gd name="textAreaLeft" fmla="*/ 0 w 249480"/>
              <a:gd name="textAreaRight" fmla="*/ 249840 w 249480"/>
              <a:gd name="textAreaTop" fmla="*/ 0 h 9720"/>
              <a:gd name="textAreaBottom" fmla="*/ 10080 h 9720"/>
            </a:gdLst>
            <a:ahLst/>
            <a:rect l="textAreaLeft" t="textAreaTop" r="textAreaRight" b="textAreaBottom"/>
            <a:pathLst>
              <a:path w="250032" h="8930">
                <a:moveTo>
                  <a:pt x="0" y="8929"/>
                </a:moveTo>
                <a:lnTo>
                  <a:pt x="0" y="4189"/>
                </a:lnTo>
                <a:lnTo>
                  <a:pt x="992" y="2792"/>
                </a:lnTo>
                <a:lnTo>
                  <a:pt x="2645" y="1861"/>
                </a:lnTo>
                <a:lnTo>
                  <a:pt x="4740" y="1241"/>
                </a:lnTo>
                <a:lnTo>
                  <a:pt x="7129" y="827"/>
                </a:lnTo>
                <a:lnTo>
                  <a:pt x="9713" y="551"/>
                </a:lnTo>
                <a:lnTo>
                  <a:pt x="12429" y="367"/>
                </a:lnTo>
                <a:lnTo>
                  <a:pt x="18091" y="163"/>
                </a:lnTo>
                <a:lnTo>
                  <a:pt x="29811" y="32"/>
                </a:lnTo>
                <a:lnTo>
                  <a:pt x="250031" y="0"/>
                </a:lnTo>
              </a:path>
            </a:pathLst>
          </a:custGeom>
          <a:noFill/>
          <a:ln w="38160">
            <a:solidFill>
              <a:srgbClr val="009300"/>
            </a:solidFill>
            <a:round/>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onstantia"/>
            </a:endParaRPr>
          </a:p>
        </p:txBody>
      </p:sp>
      <p:sp>
        <p:nvSpPr>
          <p:cNvPr id="331" name="SMARTInkAnnotation124"/>
          <p:cNvSpPr/>
          <p:nvPr/>
        </p:nvSpPr>
        <p:spPr>
          <a:xfrm>
            <a:off x="901800" y="3241800"/>
            <a:ext cx="258840" cy="9360"/>
          </a:xfrm>
          <a:custGeom>
            <a:avLst/>
            <a:gdLst>
              <a:gd name="textAreaLeft" fmla="*/ 0 w 258840"/>
              <a:gd name="textAreaRight" fmla="*/ 259200 w 258840"/>
              <a:gd name="textAreaTop" fmla="*/ 0 h 9360"/>
              <a:gd name="textAreaBottom" fmla="*/ 9720 h 9360"/>
            </a:gdLst>
            <a:ahLst/>
            <a:rect l="textAreaLeft" t="textAreaTop" r="textAreaRight" b="textAreaBottom"/>
            <a:pathLst>
              <a:path w="258962" h="8930">
                <a:moveTo>
                  <a:pt x="0" y="8929"/>
                </a:moveTo>
                <a:lnTo>
                  <a:pt x="69752" y="8929"/>
                </a:lnTo>
                <a:lnTo>
                  <a:pt x="75275" y="7937"/>
                </a:lnTo>
                <a:lnTo>
                  <a:pt x="80941" y="6283"/>
                </a:lnTo>
                <a:lnTo>
                  <a:pt x="86703" y="4188"/>
                </a:lnTo>
                <a:lnTo>
                  <a:pt x="92528" y="2792"/>
                </a:lnTo>
                <a:lnTo>
                  <a:pt x="98397" y="1861"/>
                </a:lnTo>
                <a:lnTo>
                  <a:pt x="104293" y="1240"/>
                </a:lnTo>
                <a:lnTo>
                  <a:pt x="110208" y="827"/>
                </a:lnTo>
                <a:lnTo>
                  <a:pt x="116136" y="551"/>
                </a:lnTo>
                <a:lnTo>
                  <a:pt x="128015" y="244"/>
                </a:lnTo>
                <a:lnTo>
                  <a:pt x="211595" y="0"/>
                </a:lnTo>
                <a:lnTo>
                  <a:pt x="217461" y="992"/>
                </a:lnTo>
                <a:lnTo>
                  <a:pt x="223357" y="2645"/>
                </a:lnTo>
                <a:lnTo>
                  <a:pt x="229272" y="4740"/>
                </a:lnTo>
                <a:lnTo>
                  <a:pt x="234207" y="6136"/>
                </a:lnTo>
                <a:lnTo>
                  <a:pt x="238490" y="7067"/>
                </a:lnTo>
                <a:lnTo>
                  <a:pt x="242337" y="7688"/>
                </a:lnTo>
                <a:lnTo>
                  <a:pt x="245894" y="8101"/>
                </a:lnTo>
                <a:lnTo>
                  <a:pt x="249257" y="8377"/>
                </a:lnTo>
                <a:lnTo>
                  <a:pt x="258961" y="8929"/>
                </a:lnTo>
              </a:path>
            </a:pathLst>
          </a:custGeom>
          <a:noFill/>
          <a:ln w="38160">
            <a:solidFill>
              <a:srgbClr val="009300"/>
            </a:solidFill>
            <a:roun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Constantia"/>
            </a:endParaRPr>
          </a:p>
        </p:txBody>
      </p:sp>
      <p:sp>
        <p:nvSpPr>
          <p:cNvPr id="332" name="SMARTInkAnnotation125"/>
          <p:cNvSpPr/>
          <p:nvPr/>
        </p:nvSpPr>
        <p:spPr>
          <a:xfrm>
            <a:off x="1295280" y="3009960"/>
            <a:ext cx="34920" cy="542880"/>
          </a:xfrm>
          <a:custGeom>
            <a:avLst/>
            <a:gdLst>
              <a:gd name="textAreaLeft" fmla="*/ 0 w 34920"/>
              <a:gd name="textAreaRight" fmla="*/ 35280 w 34920"/>
              <a:gd name="textAreaTop" fmla="*/ 0 h 542880"/>
              <a:gd name="textAreaBottom" fmla="*/ 543240 h 542880"/>
            </a:gdLst>
            <a:ahLst/>
            <a:rect l="textAreaLeft" t="textAreaTop" r="textAreaRight" b="textAreaBottom"/>
            <a:pathLst>
              <a:path w="35720" h="542866">
                <a:moveTo>
                  <a:pt x="0" y="0"/>
                </a:moveTo>
                <a:lnTo>
                  <a:pt x="0" y="21250"/>
                </a:lnTo>
                <a:lnTo>
                  <a:pt x="993" y="25081"/>
                </a:lnTo>
                <a:lnTo>
                  <a:pt x="2646" y="29619"/>
                </a:lnTo>
                <a:lnTo>
                  <a:pt x="4741" y="34629"/>
                </a:lnTo>
                <a:lnTo>
                  <a:pt x="6137" y="40945"/>
                </a:lnTo>
                <a:lnTo>
                  <a:pt x="7068" y="48133"/>
                </a:lnTo>
                <a:lnTo>
                  <a:pt x="8103" y="63064"/>
                </a:lnTo>
                <a:lnTo>
                  <a:pt x="8562" y="76315"/>
                </a:lnTo>
                <a:lnTo>
                  <a:pt x="8881" y="116729"/>
                </a:lnTo>
                <a:lnTo>
                  <a:pt x="8930" y="360175"/>
                </a:lnTo>
                <a:lnTo>
                  <a:pt x="9922" y="372078"/>
                </a:lnTo>
                <a:lnTo>
                  <a:pt x="11576" y="383982"/>
                </a:lnTo>
                <a:lnTo>
                  <a:pt x="13670" y="395886"/>
                </a:lnTo>
                <a:lnTo>
                  <a:pt x="15067" y="406799"/>
                </a:lnTo>
                <a:lnTo>
                  <a:pt x="15998" y="417051"/>
                </a:lnTo>
                <a:lnTo>
                  <a:pt x="16618" y="426863"/>
                </a:lnTo>
                <a:lnTo>
                  <a:pt x="17308" y="445701"/>
                </a:lnTo>
                <a:lnTo>
                  <a:pt x="17492" y="454892"/>
                </a:lnTo>
                <a:lnTo>
                  <a:pt x="18607" y="463004"/>
                </a:lnTo>
                <a:lnTo>
                  <a:pt x="20342" y="470396"/>
                </a:lnTo>
                <a:lnTo>
                  <a:pt x="22491" y="477308"/>
                </a:lnTo>
                <a:lnTo>
                  <a:pt x="23924" y="484893"/>
                </a:lnTo>
                <a:lnTo>
                  <a:pt x="24879" y="492926"/>
                </a:lnTo>
                <a:lnTo>
                  <a:pt x="25940" y="507805"/>
                </a:lnTo>
                <a:lnTo>
                  <a:pt x="26412" y="517725"/>
                </a:lnTo>
                <a:lnTo>
                  <a:pt x="27530" y="521760"/>
                </a:lnTo>
                <a:lnTo>
                  <a:pt x="29267" y="525441"/>
                </a:lnTo>
                <a:lnTo>
                  <a:pt x="31418" y="528888"/>
                </a:lnTo>
                <a:lnTo>
                  <a:pt x="32852" y="532178"/>
                </a:lnTo>
                <a:lnTo>
                  <a:pt x="33807" y="535364"/>
                </a:lnTo>
                <a:lnTo>
                  <a:pt x="35341" y="542865"/>
                </a:lnTo>
                <a:lnTo>
                  <a:pt x="35467" y="542488"/>
                </a:lnTo>
                <a:lnTo>
                  <a:pt x="35719" y="535782"/>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33" name="SMARTInkAnnotation126"/>
          <p:cNvSpPr/>
          <p:nvPr/>
        </p:nvSpPr>
        <p:spPr>
          <a:xfrm>
            <a:off x="1339920" y="3009960"/>
            <a:ext cx="249120" cy="34920"/>
          </a:xfrm>
          <a:custGeom>
            <a:avLst/>
            <a:gdLst>
              <a:gd name="textAreaLeft" fmla="*/ 0 w 249120"/>
              <a:gd name="textAreaRight" fmla="*/ 249480 w 249120"/>
              <a:gd name="textAreaTop" fmla="*/ 0 h 34920"/>
              <a:gd name="textAreaBottom" fmla="*/ 35280 h 34920"/>
            </a:gdLst>
            <a:ahLst/>
            <a:rect l="textAreaLeft" t="textAreaTop" r="textAreaRight" b="textAreaBottom"/>
            <a:pathLst>
              <a:path w="250032" h="35720">
                <a:moveTo>
                  <a:pt x="0" y="35719"/>
                </a:moveTo>
                <a:lnTo>
                  <a:pt x="4740" y="35719"/>
                </a:lnTo>
                <a:lnTo>
                  <a:pt x="7129" y="34727"/>
                </a:lnTo>
                <a:lnTo>
                  <a:pt x="9713" y="33073"/>
                </a:lnTo>
                <a:lnTo>
                  <a:pt x="12429" y="30978"/>
                </a:lnTo>
                <a:lnTo>
                  <a:pt x="15231" y="29582"/>
                </a:lnTo>
                <a:lnTo>
                  <a:pt x="18091" y="28651"/>
                </a:lnTo>
                <a:lnTo>
                  <a:pt x="20991" y="28031"/>
                </a:lnTo>
                <a:lnTo>
                  <a:pt x="24908" y="26625"/>
                </a:lnTo>
                <a:lnTo>
                  <a:pt x="29504" y="24695"/>
                </a:lnTo>
                <a:lnTo>
                  <a:pt x="34552" y="22416"/>
                </a:lnTo>
                <a:lnTo>
                  <a:pt x="39901" y="20898"/>
                </a:lnTo>
                <a:lnTo>
                  <a:pt x="45452" y="19885"/>
                </a:lnTo>
                <a:lnTo>
                  <a:pt x="51137" y="19210"/>
                </a:lnTo>
                <a:lnTo>
                  <a:pt x="56912" y="18760"/>
                </a:lnTo>
                <a:lnTo>
                  <a:pt x="62746" y="18460"/>
                </a:lnTo>
                <a:lnTo>
                  <a:pt x="68619" y="18260"/>
                </a:lnTo>
                <a:lnTo>
                  <a:pt x="75512" y="17134"/>
                </a:lnTo>
                <a:lnTo>
                  <a:pt x="83083" y="15391"/>
                </a:lnTo>
                <a:lnTo>
                  <a:pt x="91108" y="13237"/>
                </a:lnTo>
                <a:lnTo>
                  <a:pt x="98441" y="11802"/>
                </a:lnTo>
                <a:lnTo>
                  <a:pt x="105315" y="10844"/>
                </a:lnTo>
                <a:lnTo>
                  <a:pt x="111882" y="10206"/>
                </a:lnTo>
                <a:lnTo>
                  <a:pt x="119236" y="9781"/>
                </a:lnTo>
                <a:lnTo>
                  <a:pt x="135345" y="9308"/>
                </a:lnTo>
                <a:lnTo>
                  <a:pt x="142816" y="8190"/>
                </a:lnTo>
                <a:lnTo>
                  <a:pt x="149781" y="6452"/>
                </a:lnTo>
                <a:lnTo>
                  <a:pt x="156408" y="4301"/>
                </a:lnTo>
                <a:lnTo>
                  <a:pt x="163803" y="2868"/>
                </a:lnTo>
                <a:lnTo>
                  <a:pt x="171710" y="1912"/>
                </a:lnTo>
                <a:lnTo>
                  <a:pt x="179958" y="1275"/>
                </a:lnTo>
                <a:lnTo>
                  <a:pt x="187440" y="850"/>
                </a:lnTo>
                <a:lnTo>
                  <a:pt x="201046" y="378"/>
                </a:lnTo>
                <a:lnTo>
                  <a:pt x="225950" y="75"/>
                </a:lnTo>
                <a:lnTo>
                  <a:pt x="250031" y="0"/>
                </a:lnTo>
              </a:path>
            </a:pathLst>
          </a:custGeom>
          <a:noFill/>
          <a:ln w="38160">
            <a:solidFill>
              <a:srgbClr val="009300"/>
            </a:solidFill>
            <a:round/>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Constantia"/>
            </a:endParaRPr>
          </a:p>
        </p:txBody>
      </p:sp>
      <p:sp>
        <p:nvSpPr>
          <p:cNvPr id="334" name="SMARTInkAnnotation127"/>
          <p:cNvSpPr/>
          <p:nvPr/>
        </p:nvSpPr>
        <p:spPr>
          <a:xfrm>
            <a:off x="1285920" y="3214800"/>
            <a:ext cx="276120" cy="9360"/>
          </a:xfrm>
          <a:custGeom>
            <a:avLst/>
            <a:gdLst>
              <a:gd name="textAreaLeft" fmla="*/ 0 w 276120"/>
              <a:gd name="textAreaRight" fmla="*/ 276480 w 276120"/>
              <a:gd name="textAreaTop" fmla="*/ 0 h 9360"/>
              <a:gd name="textAreaBottom" fmla="*/ 9720 h 9360"/>
            </a:gdLst>
            <a:ahLst/>
            <a:rect l="textAreaLeft" t="textAreaTop" r="textAreaRight" b="textAreaBottom"/>
            <a:pathLst>
              <a:path w="276821" h="8928">
                <a:moveTo>
                  <a:pt x="0" y="8927"/>
                </a:moveTo>
                <a:lnTo>
                  <a:pt x="51137" y="8927"/>
                </a:lnTo>
                <a:lnTo>
                  <a:pt x="57904" y="7935"/>
                </a:lnTo>
                <a:lnTo>
                  <a:pt x="65392" y="6281"/>
                </a:lnTo>
                <a:lnTo>
                  <a:pt x="73360" y="4186"/>
                </a:lnTo>
                <a:lnTo>
                  <a:pt x="81649" y="2790"/>
                </a:lnTo>
                <a:lnTo>
                  <a:pt x="90151" y="1859"/>
                </a:lnTo>
                <a:lnTo>
                  <a:pt x="98796" y="1238"/>
                </a:lnTo>
                <a:lnTo>
                  <a:pt x="106544" y="824"/>
                </a:lnTo>
                <a:lnTo>
                  <a:pt x="120443" y="365"/>
                </a:lnTo>
                <a:lnTo>
                  <a:pt x="154649" y="70"/>
                </a:lnTo>
                <a:lnTo>
                  <a:pt x="235659" y="0"/>
                </a:lnTo>
                <a:lnTo>
                  <a:pt x="241442" y="991"/>
                </a:lnTo>
                <a:lnTo>
                  <a:pt x="246289" y="2644"/>
                </a:lnTo>
                <a:lnTo>
                  <a:pt x="250513" y="4739"/>
                </a:lnTo>
                <a:lnTo>
                  <a:pt x="254321" y="6135"/>
                </a:lnTo>
                <a:lnTo>
                  <a:pt x="257852" y="7065"/>
                </a:lnTo>
                <a:lnTo>
                  <a:pt x="261198" y="7686"/>
                </a:lnTo>
                <a:lnTo>
                  <a:pt x="264421" y="8099"/>
                </a:lnTo>
                <a:lnTo>
                  <a:pt x="267562" y="8375"/>
                </a:lnTo>
                <a:lnTo>
                  <a:pt x="276820" y="8927"/>
                </a:lnTo>
              </a:path>
            </a:pathLst>
          </a:custGeom>
          <a:noFill/>
          <a:ln w="38160">
            <a:solidFill>
              <a:srgbClr val="009300"/>
            </a:solidFill>
            <a:roun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Constantia"/>
            </a:endParaRPr>
          </a:p>
        </p:txBody>
      </p:sp>
      <p:sp>
        <p:nvSpPr>
          <p:cNvPr id="335" name="SMARTInkAnnotation128"/>
          <p:cNvSpPr/>
          <p:nvPr/>
        </p:nvSpPr>
        <p:spPr>
          <a:xfrm>
            <a:off x="1608120" y="3054240"/>
            <a:ext cx="303120" cy="507960"/>
          </a:xfrm>
          <a:custGeom>
            <a:avLst/>
            <a:gdLst>
              <a:gd name="textAreaLeft" fmla="*/ 0 w 303120"/>
              <a:gd name="textAreaRight" fmla="*/ 303480 w 303120"/>
              <a:gd name="textAreaTop" fmla="*/ 0 h 507960"/>
              <a:gd name="textAreaBottom" fmla="*/ 508320 h 507960"/>
            </a:gdLst>
            <a:ahLst/>
            <a:rect l="textAreaLeft" t="textAreaTop" r="textAreaRight" b="textAreaBottom"/>
            <a:pathLst>
              <a:path w="303478" h="508976">
                <a:moveTo>
                  <a:pt x="151672" y="348241"/>
                </a:moveTo>
                <a:lnTo>
                  <a:pt x="146931" y="343500"/>
                </a:lnTo>
                <a:lnTo>
                  <a:pt x="145535" y="341111"/>
                </a:lnTo>
                <a:lnTo>
                  <a:pt x="143984" y="335812"/>
                </a:lnTo>
                <a:lnTo>
                  <a:pt x="143110" y="327250"/>
                </a:lnTo>
                <a:lnTo>
                  <a:pt x="141995" y="325317"/>
                </a:lnTo>
                <a:lnTo>
                  <a:pt x="140260" y="324029"/>
                </a:lnTo>
                <a:lnTo>
                  <a:pt x="138111" y="323169"/>
                </a:lnTo>
                <a:lnTo>
                  <a:pt x="136678" y="321604"/>
                </a:lnTo>
                <a:lnTo>
                  <a:pt x="135723" y="319569"/>
                </a:lnTo>
                <a:lnTo>
                  <a:pt x="135086" y="317220"/>
                </a:lnTo>
                <a:lnTo>
                  <a:pt x="131733" y="311964"/>
                </a:lnTo>
                <a:lnTo>
                  <a:pt x="124267" y="303427"/>
                </a:lnTo>
                <a:lnTo>
                  <a:pt x="121495" y="300505"/>
                </a:lnTo>
                <a:lnTo>
                  <a:pt x="118656" y="298558"/>
                </a:lnTo>
                <a:lnTo>
                  <a:pt x="112855" y="296394"/>
                </a:lnTo>
                <a:lnTo>
                  <a:pt x="104324" y="295432"/>
                </a:lnTo>
                <a:lnTo>
                  <a:pt x="99270" y="295175"/>
                </a:lnTo>
                <a:lnTo>
                  <a:pt x="94910" y="295997"/>
                </a:lnTo>
                <a:lnTo>
                  <a:pt x="87418" y="299555"/>
                </a:lnTo>
                <a:lnTo>
                  <a:pt x="78136" y="304443"/>
                </a:lnTo>
                <a:lnTo>
                  <a:pt x="72882" y="307136"/>
                </a:lnTo>
                <a:lnTo>
                  <a:pt x="64399" y="312774"/>
                </a:lnTo>
                <a:lnTo>
                  <a:pt x="56329" y="318587"/>
                </a:lnTo>
                <a:lnTo>
                  <a:pt x="51399" y="321526"/>
                </a:lnTo>
                <a:lnTo>
                  <a:pt x="46128" y="324478"/>
                </a:lnTo>
                <a:lnTo>
                  <a:pt x="37626" y="330403"/>
                </a:lnTo>
                <a:lnTo>
                  <a:pt x="29547" y="337336"/>
                </a:lnTo>
                <a:lnTo>
                  <a:pt x="19342" y="347032"/>
                </a:lnTo>
                <a:lnTo>
                  <a:pt x="15827" y="352396"/>
                </a:lnTo>
                <a:lnTo>
                  <a:pt x="11921" y="363647"/>
                </a:lnTo>
                <a:lnTo>
                  <a:pt x="7540" y="375262"/>
                </a:lnTo>
                <a:lnTo>
                  <a:pt x="3277" y="387039"/>
                </a:lnTo>
                <a:lnTo>
                  <a:pt x="1383" y="398888"/>
                </a:lnTo>
                <a:lnTo>
                  <a:pt x="541" y="410769"/>
                </a:lnTo>
                <a:lnTo>
                  <a:pt x="167" y="422664"/>
                </a:lnTo>
                <a:lnTo>
                  <a:pt x="0" y="434565"/>
                </a:lnTo>
                <a:lnTo>
                  <a:pt x="2572" y="446469"/>
                </a:lnTo>
                <a:lnTo>
                  <a:pt x="7023" y="458374"/>
                </a:lnTo>
                <a:lnTo>
                  <a:pt x="12308" y="470280"/>
                </a:lnTo>
                <a:lnTo>
                  <a:pt x="16098" y="475241"/>
                </a:lnTo>
                <a:lnTo>
                  <a:pt x="20610" y="479540"/>
                </a:lnTo>
                <a:lnTo>
                  <a:pt x="25602" y="483399"/>
                </a:lnTo>
                <a:lnTo>
                  <a:pt x="30914" y="486963"/>
                </a:lnTo>
                <a:lnTo>
                  <a:pt x="36440" y="490332"/>
                </a:lnTo>
                <a:lnTo>
                  <a:pt x="42109" y="493570"/>
                </a:lnTo>
                <a:lnTo>
                  <a:pt x="53699" y="499813"/>
                </a:lnTo>
                <a:lnTo>
                  <a:pt x="59567" y="502867"/>
                </a:lnTo>
                <a:lnTo>
                  <a:pt x="68734" y="506260"/>
                </a:lnTo>
                <a:lnTo>
                  <a:pt x="72567" y="507165"/>
                </a:lnTo>
                <a:lnTo>
                  <a:pt x="78100" y="506776"/>
                </a:lnTo>
                <a:lnTo>
                  <a:pt x="84764" y="505525"/>
                </a:lnTo>
                <a:lnTo>
                  <a:pt x="92184" y="503698"/>
                </a:lnTo>
                <a:lnTo>
                  <a:pt x="99115" y="502481"/>
                </a:lnTo>
                <a:lnTo>
                  <a:pt x="105720" y="501669"/>
                </a:lnTo>
                <a:lnTo>
                  <a:pt x="112107" y="501128"/>
                </a:lnTo>
                <a:lnTo>
                  <a:pt x="119343" y="498782"/>
                </a:lnTo>
                <a:lnTo>
                  <a:pt x="127143" y="495235"/>
                </a:lnTo>
                <a:lnTo>
                  <a:pt x="135319" y="490885"/>
                </a:lnTo>
                <a:lnTo>
                  <a:pt x="142754" y="486001"/>
                </a:lnTo>
                <a:lnTo>
                  <a:pt x="149696" y="480761"/>
                </a:lnTo>
                <a:lnTo>
                  <a:pt x="156308" y="475283"/>
                </a:lnTo>
                <a:lnTo>
                  <a:pt x="163692" y="469646"/>
                </a:lnTo>
                <a:lnTo>
                  <a:pt x="171592" y="463905"/>
                </a:lnTo>
                <a:lnTo>
                  <a:pt x="179835" y="458092"/>
                </a:lnTo>
                <a:lnTo>
                  <a:pt x="187314" y="451241"/>
                </a:lnTo>
                <a:lnTo>
                  <a:pt x="194285" y="443696"/>
                </a:lnTo>
                <a:lnTo>
                  <a:pt x="200917" y="435690"/>
                </a:lnTo>
                <a:lnTo>
                  <a:pt x="208314" y="427376"/>
                </a:lnTo>
                <a:lnTo>
                  <a:pt x="224471" y="410201"/>
                </a:lnTo>
                <a:lnTo>
                  <a:pt x="230963" y="400462"/>
                </a:lnTo>
                <a:lnTo>
                  <a:pt x="236282" y="390000"/>
                </a:lnTo>
                <a:lnTo>
                  <a:pt x="240821" y="379056"/>
                </a:lnTo>
                <a:lnTo>
                  <a:pt x="244839" y="367792"/>
                </a:lnTo>
                <a:lnTo>
                  <a:pt x="248510" y="356314"/>
                </a:lnTo>
                <a:lnTo>
                  <a:pt x="251949" y="344693"/>
                </a:lnTo>
                <a:lnTo>
                  <a:pt x="256227" y="333969"/>
                </a:lnTo>
                <a:lnTo>
                  <a:pt x="261063" y="323844"/>
                </a:lnTo>
                <a:lnTo>
                  <a:pt x="266271" y="314117"/>
                </a:lnTo>
                <a:lnTo>
                  <a:pt x="270735" y="302671"/>
                </a:lnTo>
                <a:lnTo>
                  <a:pt x="274704" y="290080"/>
                </a:lnTo>
                <a:lnTo>
                  <a:pt x="285029" y="251302"/>
                </a:lnTo>
                <a:lnTo>
                  <a:pt x="288202" y="238966"/>
                </a:lnTo>
                <a:lnTo>
                  <a:pt x="291309" y="227766"/>
                </a:lnTo>
                <a:lnTo>
                  <a:pt x="297408" y="207384"/>
                </a:lnTo>
                <a:lnTo>
                  <a:pt x="299431" y="196789"/>
                </a:lnTo>
                <a:lnTo>
                  <a:pt x="300779" y="185757"/>
                </a:lnTo>
                <a:lnTo>
                  <a:pt x="301678" y="174434"/>
                </a:lnTo>
                <a:lnTo>
                  <a:pt x="302278" y="162916"/>
                </a:lnTo>
                <a:lnTo>
                  <a:pt x="302944" y="139536"/>
                </a:lnTo>
                <a:lnTo>
                  <a:pt x="303430" y="80842"/>
                </a:lnTo>
                <a:lnTo>
                  <a:pt x="303477" y="0"/>
                </a:lnTo>
                <a:lnTo>
                  <a:pt x="298736" y="9469"/>
                </a:lnTo>
                <a:lnTo>
                  <a:pt x="296409" y="19412"/>
                </a:lnTo>
                <a:lnTo>
                  <a:pt x="294382" y="30446"/>
                </a:lnTo>
                <a:lnTo>
                  <a:pt x="290174" y="41965"/>
                </a:lnTo>
                <a:lnTo>
                  <a:pt x="287643" y="56344"/>
                </a:lnTo>
                <a:lnTo>
                  <a:pt x="286967" y="64346"/>
                </a:lnTo>
                <a:lnTo>
                  <a:pt x="285525" y="72657"/>
                </a:lnTo>
                <a:lnTo>
                  <a:pt x="283571" y="81175"/>
                </a:lnTo>
                <a:lnTo>
                  <a:pt x="273307" y="120972"/>
                </a:lnTo>
                <a:lnTo>
                  <a:pt x="271457" y="132236"/>
                </a:lnTo>
                <a:lnTo>
                  <a:pt x="270224" y="143714"/>
                </a:lnTo>
                <a:lnTo>
                  <a:pt x="269402" y="155335"/>
                </a:lnTo>
                <a:lnTo>
                  <a:pt x="267862" y="167051"/>
                </a:lnTo>
                <a:lnTo>
                  <a:pt x="265843" y="178830"/>
                </a:lnTo>
                <a:lnTo>
                  <a:pt x="263505" y="190652"/>
                </a:lnTo>
                <a:lnTo>
                  <a:pt x="258261" y="214370"/>
                </a:lnTo>
                <a:lnTo>
                  <a:pt x="252623" y="239134"/>
                </a:lnTo>
                <a:lnTo>
                  <a:pt x="246810" y="266676"/>
                </a:lnTo>
                <a:lnTo>
                  <a:pt x="244863" y="278981"/>
                </a:lnTo>
                <a:lnTo>
                  <a:pt x="243565" y="290161"/>
                </a:lnTo>
                <a:lnTo>
                  <a:pt x="242700" y="300591"/>
                </a:lnTo>
                <a:lnTo>
                  <a:pt x="241130" y="311514"/>
                </a:lnTo>
                <a:lnTo>
                  <a:pt x="239092" y="322764"/>
                </a:lnTo>
                <a:lnTo>
                  <a:pt x="236741" y="334233"/>
                </a:lnTo>
                <a:lnTo>
                  <a:pt x="236166" y="345847"/>
                </a:lnTo>
                <a:lnTo>
                  <a:pt x="236775" y="357559"/>
                </a:lnTo>
                <a:lnTo>
                  <a:pt x="238173" y="369336"/>
                </a:lnTo>
                <a:lnTo>
                  <a:pt x="239105" y="379171"/>
                </a:lnTo>
                <a:lnTo>
                  <a:pt x="239726" y="387712"/>
                </a:lnTo>
                <a:lnTo>
                  <a:pt x="240417" y="403487"/>
                </a:lnTo>
                <a:lnTo>
                  <a:pt x="240805" y="428110"/>
                </a:lnTo>
                <a:lnTo>
                  <a:pt x="240967" y="484600"/>
                </a:lnTo>
                <a:lnTo>
                  <a:pt x="241960" y="487764"/>
                </a:lnTo>
                <a:lnTo>
                  <a:pt x="248657" y="498232"/>
                </a:lnTo>
                <a:lnTo>
                  <a:pt x="249347" y="501885"/>
                </a:lnTo>
                <a:lnTo>
                  <a:pt x="249790" y="507575"/>
                </a:lnTo>
                <a:lnTo>
                  <a:pt x="250818" y="508041"/>
                </a:lnTo>
                <a:lnTo>
                  <a:pt x="258822" y="508974"/>
                </a:lnTo>
                <a:lnTo>
                  <a:pt x="258824" y="508974"/>
                </a:lnTo>
                <a:lnTo>
                  <a:pt x="258825" y="508975"/>
                </a:lnTo>
                <a:lnTo>
                  <a:pt x="258828" y="508975"/>
                </a:lnTo>
                <a:lnTo>
                  <a:pt x="258828" y="500045"/>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36" name="SMARTInkAnnotation129"/>
          <p:cNvSpPr/>
          <p:nvPr/>
        </p:nvSpPr>
        <p:spPr>
          <a:xfrm>
            <a:off x="2125800" y="3259080"/>
            <a:ext cx="312480" cy="9720"/>
          </a:xfrm>
          <a:custGeom>
            <a:avLst/>
            <a:gdLst>
              <a:gd name="textAreaLeft" fmla="*/ 0 w 312480"/>
              <a:gd name="textAreaRight" fmla="*/ 312840 w 312480"/>
              <a:gd name="textAreaTop" fmla="*/ 0 h 9720"/>
              <a:gd name="textAreaBottom" fmla="*/ 10080 h 9720"/>
            </a:gdLst>
            <a:ahLst/>
            <a:rect l="textAreaLeft" t="textAreaTop" r="textAreaRight" b="textAreaBottom"/>
            <a:pathLst>
              <a:path w="312540" h="8931">
                <a:moveTo>
                  <a:pt x="0" y="0"/>
                </a:moveTo>
                <a:lnTo>
                  <a:pt x="183349" y="0"/>
                </a:lnTo>
                <a:lnTo>
                  <a:pt x="193670" y="993"/>
                </a:lnTo>
                <a:lnTo>
                  <a:pt x="203528" y="2646"/>
                </a:lnTo>
                <a:lnTo>
                  <a:pt x="213076" y="4741"/>
                </a:lnTo>
                <a:lnTo>
                  <a:pt x="222418" y="6138"/>
                </a:lnTo>
                <a:lnTo>
                  <a:pt x="231622" y="7068"/>
                </a:lnTo>
                <a:lnTo>
                  <a:pt x="240735" y="7689"/>
                </a:lnTo>
                <a:lnTo>
                  <a:pt x="256152" y="8379"/>
                </a:lnTo>
                <a:lnTo>
                  <a:pt x="275988" y="8767"/>
                </a:lnTo>
                <a:lnTo>
                  <a:pt x="312539" y="8930"/>
                </a:lnTo>
              </a:path>
            </a:pathLst>
          </a:custGeom>
          <a:noFill/>
          <a:ln w="38160">
            <a:solidFill>
              <a:srgbClr val="009300"/>
            </a:solidFill>
            <a:round/>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onstantia"/>
            </a:endParaRPr>
          </a:p>
        </p:txBody>
      </p:sp>
      <p:sp>
        <p:nvSpPr>
          <p:cNvPr id="337" name="SMARTInkAnnotation130"/>
          <p:cNvSpPr/>
          <p:nvPr/>
        </p:nvSpPr>
        <p:spPr>
          <a:xfrm>
            <a:off x="2133720" y="3321000"/>
            <a:ext cx="304560" cy="36720"/>
          </a:xfrm>
          <a:custGeom>
            <a:avLst/>
            <a:gdLst>
              <a:gd name="textAreaLeft" fmla="*/ 0 w 304560"/>
              <a:gd name="textAreaRight" fmla="*/ 304920 w 304560"/>
              <a:gd name="textAreaTop" fmla="*/ 0 h 36720"/>
              <a:gd name="textAreaBottom" fmla="*/ 37080 h 36720"/>
            </a:gdLst>
            <a:ahLst/>
            <a:rect l="textAreaLeft" t="textAreaTop" r="textAreaRight" b="textAreaBottom"/>
            <a:pathLst>
              <a:path w="303610" h="35720">
                <a:moveTo>
                  <a:pt x="0" y="0"/>
                </a:moveTo>
                <a:lnTo>
                  <a:pt x="7688" y="7689"/>
                </a:lnTo>
                <a:lnTo>
                  <a:pt x="11024" y="8378"/>
                </a:lnTo>
                <a:lnTo>
                  <a:pt x="16806" y="8685"/>
                </a:lnTo>
                <a:lnTo>
                  <a:pt x="31217" y="8857"/>
                </a:lnTo>
                <a:lnTo>
                  <a:pt x="42317" y="8897"/>
                </a:lnTo>
                <a:lnTo>
                  <a:pt x="48055" y="9900"/>
                </a:lnTo>
                <a:lnTo>
                  <a:pt x="53865" y="11561"/>
                </a:lnTo>
                <a:lnTo>
                  <a:pt x="59722" y="13661"/>
                </a:lnTo>
                <a:lnTo>
                  <a:pt x="66604" y="15060"/>
                </a:lnTo>
                <a:lnTo>
                  <a:pt x="74168" y="15993"/>
                </a:lnTo>
                <a:lnTo>
                  <a:pt x="82188" y="16616"/>
                </a:lnTo>
                <a:lnTo>
                  <a:pt x="90510" y="17030"/>
                </a:lnTo>
                <a:lnTo>
                  <a:pt x="107696" y="17491"/>
                </a:lnTo>
                <a:lnTo>
                  <a:pt x="156041" y="17827"/>
                </a:lnTo>
                <a:lnTo>
                  <a:pt x="163558" y="18830"/>
                </a:lnTo>
                <a:lnTo>
                  <a:pt x="171547" y="20491"/>
                </a:lnTo>
                <a:lnTo>
                  <a:pt x="179849" y="22590"/>
                </a:lnTo>
                <a:lnTo>
                  <a:pt x="188360" y="23990"/>
                </a:lnTo>
                <a:lnTo>
                  <a:pt x="197011" y="24923"/>
                </a:lnTo>
                <a:lnTo>
                  <a:pt x="205755" y="25545"/>
                </a:lnTo>
                <a:lnTo>
                  <a:pt x="213568" y="25960"/>
                </a:lnTo>
                <a:lnTo>
                  <a:pt x="227541" y="26421"/>
                </a:lnTo>
                <a:lnTo>
                  <a:pt x="246565" y="26680"/>
                </a:lnTo>
                <a:lnTo>
                  <a:pt x="252681" y="27709"/>
                </a:lnTo>
                <a:lnTo>
                  <a:pt x="258743" y="29387"/>
                </a:lnTo>
                <a:lnTo>
                  <a:pt x="264769" y="31498"/>
                </a:lnTo>
                <a:lnTo>
                  <a:pt x="269778" y="32904"/>
                </a:lnTo>
                <a:lnTo>
                  <a:pt x="274110" y="33843"/>
                </a:lnTo>
                <a:lnTo>
                  <a:pt x="282561" y="34885"/>
                </a:lnTo>
                <a:lnTo>
                  <a:pt x="287593" y="35163"/>
                </a:lnTo>
                <a:lnTo>
                  <a:pt x="303609" y="35719"/>
                </a:lnTo>
              </a:path>
            </a:pathLst>
          </a:custGeom>
          <a:noFill/>
          <a:ln w="38160">
            <a:solidFill>
              <a:srgbClr val="009300"/>
            </a:solidFill>
            <a:round/>
          </a:ln>
        </p:spPr>
        <p:style>
          <a:lnRef idx="0"/>
          <a:fillRef idx="0"/>
          <a:effectRef idx="0"/>
          <a:fontRef idx="minor"/>
        </p:style>
        <p:txBody>
          <a:bodyPr lIns="90000" rIns="90000" tIns="-9720" bIns="-9720" anchor="ctr">
            <a:noAutofit/>
          </a:bodyPr>
          <a:p>
            <a:endParaRPr b="0" lang="en-US" sz="1800" spc="-1" strike="noStrike">
              <a:solidFill>
                <a:srgbClr val="000000"/>
              </a:solidFill>
              <a:latin typeface="Constantia"/>
            </a:endParaRPr>
          </a:p>
        </p:txBody>
      </p:sp>
      <p:sp>
        <p:nvSpPr>
          <p:cNvPr id="338" name="SMARTInkAnnotation131"/>
          <p:cNvSpPr/>
          <p:nvPr/>
        </p:nvSpPr>
        <p:spPr>
          <a:xfrm>
            <a:off x="2679840" y="3062160"/>
            <a:ext cx="195120" cy="544680"/>
          </a:xfrm>
          <a:custGeom>
            <a:avLst/>
            <a:gdLst>
              <a:gd name="textAreaLeft" fmla="*/ 0 w 195120"/>
              <a:gd name="textAreaRight" fmla="*/ 195480 w 195120"/>
              <a:gd name="textAreaTop" fmla="*/ 0 h 544680"/>
              <a:gd name="textAreaBottom" fmla="*/ 545040 h 544680"/>
            </a:gdLst>
            <a:ahLst/>
            <a:rect l="textAreaLeft" t="textAreaTop" r="textAreaRight" b="textAreaBottom"/>
            <a:pathLst>
              <a:path w="195904" h="544372">
                <a:moveTo>
                  <a:pt x="178058" y="124856"/>
                </a:moveTo>
                <a:lnTo>
                  <a:pt x="178058" y="120116"/>
                </a:lnTo>
                <a:lnTo>
                  <a:pt x="177065" y="117727"/>
                </a:lnTo>
                <a:lnTo>
                  <a:pt x="171921" y="109625"/>
                </a:lnTo>
                <a:lnTo>
                  <a:pt x="168963" y="100941"/>
                </a:lnTo>
                <a:lnTo>
                  <a:pt x="164755" y="95044"/>
                </a:lnTo>
                <a:lnTo>
                  <a:pt x="159578" y="89117"/>
                </a:lnTo>
                <a:lnTo>
                  <a:pt x="153969" y="83175"/>
                </a:lnTo>
                <a:lnTo>
                  <a:pt x="139326" y="68300"/>
                </a:lnTo>
                <a:lnTo>
                  <a:pt x="136361" y="66316"/>
                </a:lnTo>
                <a:lnTo>
                  <a:pt x="130422" y="64112"/>
                </a:lnTo>
                <a:lnTo>
                  <a:pt x="126457" y="62532"/>
                </a:lnTo>
                <a:lnTo>
                  <a:pt x="121828" y="60486"/>
                </a:lnTo>
                <a:lnTo>
                  <a:pt x="116759" y="58130"/>
                </a:lnTo>
                <a:lnTo>
                  <a:pt x="112387" y="56560"/>
                </a:lnTo>
                <a:lnTo>
                  <a:pt x="108480" y="55512"/>
                </a:lnTo>
                <a:lnTo>
                  <a:pt x="104883" y="54814"/>
                </a:lnTo>
                <a:lnTo>
                  <a:pt x="100502" y="55341"/>
                </a:lnTo>
                <a:lnTo>
                  <a:pt x="95596" y="56685"/>
                </a:lnTo>
                <a:lnTo>
                  <a:pt x="90341" y="58573"/>
                </a:lnTo>
                <a:lnTo>
                  <a:pt x="84853" y="59831"/>
                </a:lnTo>
                <a:lnTo>
                  <a:pt x="79210" y="60670"/>
                </a:lnTo>
                <a:lnTo>
                  <a:pt x="73464" y="61230"/>
                </a:lnTo>
                <a:lnTo>
                  <a:pt x="67649" y="62595"/>
                </a:lnTo>
                <a:lnTo>
                  <a:pt x="61788" y="64497"/>
                </a:lnTo>
                <a:lnTo>
                  <a:pt x="55896" y="66757"/>
                </a:lnTo>
                <a:lnTo>
                  <a:pt x="49983" y="70248"/>
                </a:lnTo>
                <a:lnTo>
                  <a:pt x="44057" y="74560"/>
                </a:lnTo>
                <a:lnTo>
                  <a:pt x="38123" y="79420"/>
                </a:lnTo>
                <a:lnTo>
                  <a:pt x="33174" y="83651"/>
                </a:lnTo>
                <a:lnTo>
                  <a:pt x="28883" y="87464"/>
                </a:lnTo>
                <a:lnTo>
                  <a:pt x="25029" y="90998"/>
                </a:lnTo>
                <a:lnTo>
                  <a:pt x="21468" y="95339"/>
                </a:lnTo>
                <a:lnTo>
                  <a:pt x="18103" y="100217"/>
                </a:lnTo>
                <a:lnTo>
                  <a:pt x="14866" y="105453"/>
                </a:lnTo>
                <a:lnTo>
                  <a:pt x="11717" y="109936"/>
                </a:lnTo>
                <a:lnTo>
                  <a:pt x="8624" y="113917"/>
                </a:lnTo>
                <a:lnTo>
                  <a:pt x="5571" y="117564"/>
                </a:lnTo>
                <a:lnTo>
                  <a:pt x="3535" y="121979"/>
                </a:lnTo>
                <a:lnTo>
                  <a:pt x="670" y="136682"/>
                </a:lnTo>
                <a:lnTo>
                  <a:pt x="0" y="144333"/>
                </a:lnTo>
                <a:lnTo>
                  <a:pt x="813" y="147763"/>
                </a:lnTo>
                <a:lnTo>
                  <a:pt x="4363" y="154219"/>
                </a:lnTo>
                <a:lnTo>
                  <a:pt x="9248" y="160396"/>
                </a:lnTo>
                <a:lnTo>
                  <a:pt x="14726" y="166448"/>
                </a:lnTo>
                <a:lnTo>
                  <a:pt x="20468" y="172446"/>
                </a:lnTo>
                <a:lnTo>
                  <a:pt x="24381" y="174442"/>
                </a:lnTo>
                <a:lnTo>
                  <a:pt x="28973" y="175773"/>
                </a:lnTo>
                <a:lnTo>
                  <a:pt x="34020" y="176660"/>
                </a:lnTo>
                <a:lnTo>
                  <a:pt x="39368" y="176259"/>
                </a:lnTo>
                <a:lnTo>
                  <a:pt x="44918" y="175000"/>
                </a:lnTo>
                <a:lnTo>
                  <a:pt x="50602" y="173168"/>
                </a:lnTo>
                <a:lnTo>
                  <a:pt x="56376" y="170954"/>
                </a:lnTo>
                <a:lnTo>
                  <a:pt x="62210" y="168487"/>
                </a:lnTo>
                <a:lnTo>
                  <a:pt x="68084" y="165850"/>
                </a:lnTo>
                <a:lnTo>
                  <a:pt x="73984" y="162107"/>
                </a:lnTo>
                <a:lnTo>
                  <a:pt x="79902" y="157627"/>
                </a:lnTo>
                <a:lnTo>
                  <a:pt x="85831" y="152657"/>
                </a:lnTo>
                <a:lnTo>
                  <a:pt x="91769" y="147359"/>
                </a:lnTo>
                <a:lnTo>
                  <a:pt x="103657" y="136180"/>
                </a:lnTo>
                <a:lnTo>
                  <a:pt x="139363" y="100992"/>
                </a:lnTo>
                <a:lnTo>
                  <a:pt x="145316" y="94064"/>
                </a:lnTo>
                <a:lnTo>
                  <a:pt x="151269" y="86469"/>
                </a:lnTo>
                <a:lnTo>
                  <a:pt x="157222" y="78429"/>
                </a:lnTo>
                <a:lnTo>
                  <a:pt x="162183" y="71084"/>
                </a:lnTo>
                <a:lnTo>
                  <a:pt x="166482" y="64203"/>
                </a:lnTo>
                <a:lnTo>
                  <a:pt x="170341" y="57632"/>
                </a:lnTo>
                <a:lnTo>
                  <a:pt x="173905" y="51267"/>
                </a:lnTo>
                <a:lnTo>
                  <a:pt x="180511" y="38902"/>
                </a:lnTo>
                <a:lnTo>
                  <a:pt x="183662" y="33819"/>
                </a:lnTo>
                <a:lnTo>
                  <a:pt x="186755" y="29438"/>
                </a:lnTo>
                <a:lnTo>
                  <a:pt x="189809" y="25525"/>
                </a:lnTo>
                <a:lnTo>
                  <a:pt x="193202" y="18532"/>
                </a:lnTo>
                <a:lnTo>
                  <a:pt x="195112" y="9017"/>
                </a:lnTo>
                <a:lnTo>
                  <a:pt x="195903" y="0"/>
                </a:lnTo>
                <a:lnTo>
                  <a:pt x="191173" y="4628"/>
                </a:lnTo>
                <a:lnTo>
                  <a:pt x="189777" y="7001"/>
                </a:lnTo>
                <a:lnTo>
                  <a:pt x="184893" y="20584"/>
                </a:lnTo>
                <a:lnTo>
                  <a:pt x="180103" y="31880"/>
                </a:lnTo>
                <a:lnTo>
                  <a:pt x="174667" y="46823"/>
                </a:lnTo>
                <a:lnTo>
                  <a:pt x="166029" y="71969"/>
                </a:lnTo>
                <a:lnTo>
                  <a:pt x="163093" y="81661"/>
                </a:lnTo>
                <a:lnTo>
                  <a:pt x="157185" y="103012"/>
                </a:lnTo>
                <a:lnTo>
                  <a:pt x="134399" y="190455"/>
                </a:lnTo>
                <a:lnTo>
                  <a:pt x="120951" y="236694"/>
                </a:lnTo>
                <a:lnTo>
                  <a:pt x="115181" y="257954"/>
                </a:lnTo>
                <a:lnTo>
                  <a:pt x="106126" y="294805"/>
                </a:lnTo>
                <a:lnTo>
                  <a:pt x="103314" y="311577"/>
                </a:lnTo>
                <a:lnTo>
                  <a:pt x="101439" y="327720"/>
                </a:lnTo>
                <a:lnTo>
                  <a:pt x="100190" y="343442"/>
                </a:lnTo>
                <a:lnTo>
                  <a:pt x="97372" y="357892"/>
                </a:lnTo>
                <a:lnTo>
                  <a:pt x="93509" y="371495"/>
                </a:lnTo>
                <a:lnTo>
                  <a:pt x="88950" y="384532"/>
                </a:lnTo>
                <a:lnTo>
                  <a:pt x="84918" y="397192"/>
                </a:lnTo>
                <a:lnTo>
                  <a:pt x="77792" y="421842"/>
                </a:lnTo>
                <a:lnTo>
                  <a:pt x="68203" y="458033"/>
                </a:lnTo>
                <a:lnTo>
                  <a:pt x="65133" y="468021"/>
                </a:lnTo>
                <a:lnTo>
                  <a:pt x="59078" y="484410"/>
                </a:lnTo>
                <a:lnTo>
                  <a:pt x="55725" y="500955"/>
                </a:lnTo>
                <a:lnTo>
                  <a:pt x="53242" y="516245"/>
                </a:lnTo>
                <a:lnTo>
                  <a:pt x="47259" y="530432"/>
                </a:lnTo>
                <a:lnTo>
                  <a:pt x="44148" y="544371"/>
                </a:lnTo>
                <a:lnTo>
                  <a:pt x="44123" y="539757"/>
                </a:lnTo>
                <a:lnTo>
                  <a:pt x="45112" y="538379"/>
                </a:lnTo>
                <a:lnTo>
                  <a:pt x="46763" y="537460"/>
                </a:lnTo>
                <a:lnTo>
                  <a:pt x="48856" y="536847"/>
                </a:lnTo>
                <a:lnTo>
                  <a:pt x="50251" y="535446"/>
                </a:lnTo>
                <a:lnTo>
                  <a:pt x="51181" y="533521"/>
                </a:lnTo>
                <a:lnTo>
                  <a:pt x="53042" y="526692"/>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39" name="SMARTInkAnnotation132"/>
          <p:cNvSpPr/>
          <p:nvPr/>
        </p:nvSpPr>
        <p:spPr>
          <a:xfrm>
            <a:off x="2884320" y="3116160"/>
            <a:ext cx="231840" cy="569880"/>
          </a:xfrm>
          <a:custGeom>
            <a:avLst/>
            <a:gdLst>
              <a:gd name="textAreaLeft" fmla="*/ 0 w 231840"/>
              <a:gd name="textAreaRight" fmla="*/ 232200 w 231840"/>
              <a:gd name="textAreaTop" fmla="*/ 0 h 569880"/>
              <a:gd name="textAreaBottom" fmla="*/ 570240 h 569880"/>
            </a:gdLst>
            <a:ahLst/>
            <a:rect l="textAreaLeft" t="textAreaTop" r="textAreaRight" b="textAreaBottom"/>
            <a:pathLst>
              <a:path w="230990" h="569332">
                <a:moveTo>
                  <a:pt x="195808" y="17459"/>
                </a:moveTo>
                <a:lnTo>
                  <a:pt x="188120" y="9771"/>
                </a:lnTo>
                <a:lnTo>
                  <a:pt x="182138" y="6435"/>
                </a:lnTo>
                <a:lnTo>
                  <a:pt x="177765" y="4157"/>
                </a:lnTo>
                <a:lnTo>
                  <a:pt x="173858" y="2637"/>
                </a:lnTo>
                <a:lnTo>
                  <a:pt x="166870" y="950"/>
                </a:lnTo>
                <a:lnTo>
                  <a:pt x="160457" y="200"/>
                </a:lnTo>
                <a:lnTo>
                  <a:pt x="157358" y="0"/>
                </a:lnTo>
                <a:lnTo>
                  <a:pt x="153308" y="858"/>
                </a:lnTo>
                <a:lnTo>
                  <a:pt x="148623" y="2423"/>
                </a:lnTo>
                <a:lnTo>
                  <a:pt x="143515" y="4459"/>
                </a:lnTo>
                <a:lnTo>
                  <a:pt x="138126" y="6808"/>
                </a:lnTo>
                <a:lnTo>
                  <a:pt x="126846" y="12064"/>
                </a:lnTo>
                <a:lnTo>
                  <a:pt x="109339" y="20601"/>
                </a:lnTo>
                <a:lnTo>
                  <a:pt x="103436" y="24514"/>
                </a:lnTo>
                <a:lnTo>
                  <a:pt x="97515" y="29108"/>
                </a:lnTo>
                <a:lnTo>
                  <a:pt x="91584" y="34155"/>
                </a:lnTo>
                <a:lnTo>
                  <a:pt x="86638" y="39504"/>
                </a:lnTo>
                <a:lnTo>
                  <a:pt x="82348" y="45054"/>
                </a:lnTo>
                <a:lnTo>
                  <a:pt x="78496" y="50738"/>
                </a:lnTo>
                <a:lnTo>
                  <a:pt x="73944" y="56513"/>
                </a:lnTo>
                <a:lnTo>
                  <a:pt x="68925" y="62346"/>
                </a:lnTo>
                <a:lnTo>
                  <a:pt x="63594" y="68219"/>
                </a:lnTo>
                <a:lnTo>
                  <a:pt x="59048" y="75112"/>
                </a:lnTo>
                <a:lnTo>
                  <a:pt x="55025" y="82684"/>
                </a:lnTo>
                <a:lnTo>
                  <a:pt x="47910" y="99034"/>
                </a:lnTo>
                <a:lnTo>
                  <a:pt x="41440" y="116222"/>
                </a:lnTo>
                <a:lnTo>
                  <a:pt x="32219" y="142634"/>
                </a:lnTo>
                <a:lnTo>
                  <a:pt x="28844" y="160405"/>
                </a:lnTo>
                <a:lnTo>
                  <a:pt x="27944" y="169311"/>
                </a:lnTo>
                <a:lnTo>
                  <a:pt x="28336" y="178225"/>
                </a:lnTo>
                <a:lnTo>
                  <a:pt x="29589" y="187144"/>
                </a:lnTo>
                <a:lnTo>
                  <a:pt x="31417" y="196067"/>
                </a:lnTo>
                <a:lnTo>
                  <a:pt x="32636" y="205984"/>
                </a:lnTo>
                <a:lnTo>
                  <a:pt x="33448" y="216564"/>
                </a:lnTo>
                <a:lnTo>
                  <a:pt x="33990" y="227586"/>
                </a:lnTo>
                <a:lnTo>
                  <a:pt x="35343" y="237911"/>
                </a:lnTo>
                <a:lnTo>
                  <a:pt x="37238" y="247771"/>
                </a:lnTo>
                <a:lnTo>
                  <a:pt x="39493" y="257320"/>
                </a:lnTo>
                <a:lnTo>
                  <a:pt x="42981" y="266663"/>
                </a:lnTo>
                <a:lnTo>
                  <a:pt x="47290" y="275869"/>
                </a:lnTo>
                <a:lnTo>
                  <a:pt x="52148" y="284982"/>
                </a:lnTo>
                <a:lnTo>
                  <a:pt x="58362" y="294034"/>
                </a:lnTo>
                <a:lnTo>
                  <a:pt x="65483" y="303046"/>
                </a:lnTo>
                <a:lnTo>
                  <a:pt x="73205" y="312030"/>
                </a:lnTo>
                <a:lnTo>
                  <a:pt x="80339" y="320996"/>
                </a:lnTo>
                <a:lnTo>
                  <a:pt x="87078" y="329949"/>
                </a:lnTo>
                <a:lnTo>
                  <a:pt x="99859" y="347836"/>
                </a:lnTo>
                <a:lnTo>
                  <a:pt x="112153" y="365707"/>
                </a:lnTo>
                <a:lnTo>
                  <a:pt x="118210" y="373648"/>
                </a:lnTo>
                <a:lnTo>
                  <a:pt x="124232" y="380926"/>
                </a:lnTo>
                <a:lnTo>
                  <a:pt x="130231" y="387763"/>
                </a:lnTo>
                <a:lnTo>
                  <a:pt x="136215" y="395297"/>
                </a:lnTo>
                <a:lnTo>
                  <a:pt x="142189" y="403296"/>
                </a:lnTo>
                <a:lnTo>
                  <a:pt x="148156" y="411606"/>
                </a:lnTo>
                <a:lnTo>
                  <a:pt x="153125" y="419130"/>
                </a:lnTo>
                <a:lnTo>
                  <a:pt x="157431" y="426130"/>
                </a:lnTo>
                <a:lnTo>
                  <a:pt x="161294" y="432781"/>
                </a:lnTo>
                <a:lnTo>
                  <a:pt x="168231" y="448109"/>
                </a:lnTo>
                <a:lnTo>
                  <a:pt x="174622" y="463851"/>
                </a:lnTo>
                <a:lnTo>
                  <a:pt x="180770" y="477463"/>
                </a:lnTo>
                <a:lnTo>
                  <a:pt x="184163" y="490126"/>
                </a:lnTo>
                <a:lnTo>
                  <a:pt x="185671" y="502369"/>
                </a:lnTo>
                <a:lnTo>
                  <a:pt x="186342" y="514425"/>
                </a:lnTo>
                <a:lnTo>
                  <a:pt x="185528" y="519426"/>
                </a:lnTo>
                <a:lnTo>
                  <a:pt x="181979" y="527628"/>
                </a:lnTo>
                <a:lnTo>
                  <a:pt x="177094" y="534581"/>
                </a:lnTo>
                <a:lnTo>
                  <a:pt x="171616" y="540978"/>
                </a:lnTo>
                <a:lnTo>
                  <a:pt x="165873" y="547129"/>
                </a:lnTo>
                <a:lnTo>
                  <a:pt x="161961" y="550158"/>
                </a:lnTo>
                <a:lnTo>
                  <a:pt x="157369" y="553170"/>
                </a:lnTo>
                <a:lnTo>
                  <a:pt x="152322" y="556170"/>
                </a:lnTo>
                <a:lnTo>
                  <a:pt x="146974" y="559162"/>
                </a:lnTo>
                <a:lnTo>
                  <a:pt x="135740" y="565133"/>
                </a:lnTo>
                <a:lnTo>
                  <a:pt x="129966" y="567121"/>
                </a:lnTo>
                <a:lnTo>
                  <a:pt x="124131" y="568447"/>
                </a:lnTo>
                <a:lnTo>
                  <a:pt x="118258" y="569331"/>
                </a:lnTo>
                <a:lnTo>
                  <a:pt x="112358" y="568929"/>
                </a:lnTo>
                <a:lnTo>
                  <a:pt x="106440" y="567668"/>
                </a:lnTo>
                <a:lnTo>
                  <a:pt x="100511" y="565835"/>
                </a:lnTo>
                <a:lnTo>
                  <a:pt x="94573" y="564613"/>
                </a:lnTo>
                <a:lnTo>
                  <a:pt x="88631" y="563799"/>
                </a:lnTo>
                <a:lnTo>
                  <a:pt x="82685" y="563256"/>
                </a:lnTo>
                <a:lnTo>
                  <a:pt x="76736" y="561902"/>
                </a:lnTo>
                <a:lnTo>
                  <a:pt x="70786" y="560007"/>
                </a:lnTo>
                <a:lnTo>
                  <a:pt x="64835" y="557751"/>
                </a:lnTo>
                <a:lnTo>
                  <a:pt x="58883" y="555255"/>
                </a:lnTo>
                <a:lnTo>
                  <a:pt x="52931" y="552599"/>
                </a:lnTo>
                <a:lnTo>
                  <a:pt x="46979" y="549836"/>
                </a:lnTo>
                <a:lnTo>
                  <a:pt x="42018" y="546010"/>
                </a:lnTo>
                <a:lnTo>
                  <a:pt x="37719" y="541475"/>
                </a:lnTo>
                <a:lnTo>
                  <a:pt x="33860" y="536467"/>
                </a:lnTo>
                <a:lnTo>
                  <a:pt x="29304" y="532136"/>
                </a:lnTo>
                <a:lnTo>
                  <a:pt x="24282" y="528257"/>
                </a:lnTo>
                <a:lnTo>
                  <a:pt x="18949" y="524678"/>
                </a:lnTo>
                <a:lnTo>
                  <a:pt x="14402" y="520308"/>
                </a:lnTo>
                <a:lnTo>
                  <a:pt x="10379" y="515411"/>
                </a:lnTo>
                <a:lnTo>
                  <a:pt x="6704" y="510161"/>
                </a:lnTo>
                <a:lnTo>
                  <a:pt x="2621" y="496391"/>
                </a:lnTo>
                <a:lnTo>
                  <a:pt x="806" y="481341"/>
                </a:lnTo>
                <a:lnTo>
                  <a:pt x="0" y="468038"/>
                </a:lnTo>
                <a:lnTo>
                  <a:pt x="2287" y="455510"/>
                </a:lnTo>
                <a:lnTo>
                  <a:pt x="11840" y="426559"/>
                </a:lnTo>
                <a:lnTo>
                  <a:pt x="17472" y="412270"/>
                </a:lnTo>
                <a:lnTo>
                  <a:pt x="24274" y="398313"/>
                </a:lnTo>
                <a:lnTo>
                  <a:pt x="28866" y="390424"/>
                </a:lnTo>
                <a:lnTo>
                  <a:pt x="39260" y="373722"/>
                </a:lnTo>
                <a:lnTo>
                  <a:pt x="73875" y="320987"/>
                </a:lnTo>
                <a:lnTo>
                  <a:pt x="103549" y="276409"/>
                </a:lnTo>
                <a:lnTo>
                  <a:pt x="110489" y="267483"/>
                </a:lnTo>
                <a:lnTo>
                  <a:pt x="118093" y="258556"/>
                </a:lnTo>
                <a:lnTo>
                  <a:pt x="126138" y="249628"/>
                </a:lnTo>
                <a:lnTo>
                  <a:pt x="143016" y="231770"/>
                </a:lnTo>
                <a:lnTo>
                  <a:pt x="151683" y="222840"/>
                </a:lnTo>
                <a:lnTo>
                  <a:pt x="159446" y="213912"/>
                </a:lnTo>
                <a:lnTo>
                  <a:pt x="166606" y="204982"/>
                </a:lnTo>
                <a:lnTo>
                  <a:pt x="173364" y="196053"/>
                </a:lnTo>
                <a:lnTo>
                  <a:pt x="186164" y="178193"/>
                </a:lnTo>
                <a:lnTo>
                  <a:pt x="192355" y="169264"/>
                </a:lnTo>
                <a:lnTo>
                  <a:pt x="197474" y="160334"/>
                </a:lnTo>
                <a:lnTo>
                  <a:pt x="201880" y="151405"/>
                </a:lnTo>
                <a:lnTo>
                  <a:pt x="205809" y="142474"/>
                </a:lnTo>
                <a:lnTo>
                  <a:pt x="209421" y="133545"/>
                </a:lnTo>
                <a:lnTo>
                  <a:pt x="216079" y="115686"/>
                </a:lnTo>
                <a:lnTo>
                  <a:pt x="222346" y="100472"/>
                </a:lnTo>
                <a:lnTo>
                  <a:pt x="227446" y="87096"/>
                </a:lnTo>
                <a:lnTo>
                  <a:pt x="230318" y="69401"/>
                </a:lnTo>
                <a:lnTo>
                  <a:pt x="230989" y="61050"/>
                </a:lnTo>
                <a:lnTo>
                  <a:pt x="230176" y="57433"/>
                </a:lnTo>
                <a:lnTo>
                  <a:pt x="226627" y="50770"/>
                </a:lnTo>
                <a:lnTo>
                  <a:pt x="221742" y="44501"/>
                </a:lnTo>
                <a:lnTo>
                  <a:pt x="219050" y="41440"/>
                </a:lnTo>
                <a:lnTo>
                  <a:pt x="215272" y="38407"/>
                </a:lnTo>
                <a:lnTo>
                  <a:pt x="210768" y="35393"/>
                </a:lnTo>
                <a:lnTo>
                  <a:pt x="205782" y="32392"/>
                </a:lnTo>
                <a:lnTo>
                  <a:pt x="201465" y="30391"/>
                </a:lnTo>
                <a:lnTo>
                  <a:pt x="197595" y="29057"/>
                </a:lnTo>
                <a:lnTo>
                  <a:pt x="194023" y="28167"/>
                </a:lnTo>
                <a:lnTo>
                  <a:pt x="187408" y="24533"/>
                </a:lnTo>
                <a:lnTo>
                  <a:pt x="184255" y="22175"/>
                </a:lnTo>
                <a:lnTo>
                  <a:pt x="180168" y="20603"/>
                </a:lnTo>
                <a:lnTo>
                  <a:pt x="175460" y="19555"/>
                </a:lnTo>
                <a:lnTo>
                  <a:pt x="163125" y="17873"/>
                </a:lnTo>
                <a:lnTo>
                  <a:pt x="158793" y="17643"/>
                </a:lnTo>
                <a:lnTo>
                  <a:pt x="151159" y="1745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40" name="SMARTInkAnnotation133"/>
          <p:cNvSpPr/>
          <p:nvPr/>
        </p:nvSpPr>
        <p:spPr>
          <a:xfrm>
            <a:off x="3214800" y="3160800"/>
            <a:ext cx="27000" cy="473040"/>
          </a:xfrm>
          <a:custGeom>
            <a:avLst/>
            <a:gdLst>
              <a:gd name="textAreaLeft" fmla="*/ 0 w 27000"/>
              <a:gd name="textAreaRight" fmla="*/ 27360 w 27000"/>
              <a:gd name="textAreaTop" fmla="*/ 0 h 473040"/>
              <a:gd name="textAreaBottom" fmla="*/ 473400 h 473040"/>
            </a:gdLst>
            <a:ahLst/>
            <a:rect l="textAreaLeft" t="textAreaTop" r="textAreaRight" b="textAreaBottom"/>
            <a:pathLst>
              <a:path w="26420" h="473274">
                <a:moveTo>
                  <a:pt x="26419" y="0"/>
                </a:moveTo>
                <a:lnTo>
                  <a:pt x="26419" y="4740"/>
                </a:lnTo>
                <a:lnTo>
                  <a:pt x="25427" y="8121"/>
                </a:lnTo>
                <a:lnTo>
                  <a:pt x="23773" y="12359"/>
                </a:lnTo>
                <a:lnTo>
                  <a:pt x="21679" y="17169"/>
                </a:lnTo>
                <a:lnTo>
                  <a:pt x="20282" y="23352"/>
                </a:lnTo>
                <a:lnTo>
                  <a:pt x="19351" y="30451"/>
                </a:lnTo>
                <a:lnTo>
                  <a:pt x="18731" y="38160"/>
                </a:lnTo>
                <a:lnTo>
                  <a:pt x="18317" y="46276"/>
                </a:lnTo>
                <a:lnTo>
                  <a:pt x="17857" y="63231"/>
                </a:lnTo>
                <a:lnTo>
                  <a:pt x="17490" y="201195"/>
                </a:lnTo>
                <a:lnTo>
                  <a:pt x="16498" y="212513"/>
                </a:lnTo>
                <a:lnTo>
                  <a:pt x="14844" y="224027"/>
                </a:lnTo>
                <a:lnTo>
                  <a:pt x="12749" y="235672"/>
                </a:lnTo>
                <a:lnTo>
                  <a:pt x="12345" y="246411"/>
                </a:lnTo>
                <a:lnTo>
                  <a:pt x="13067" y="256547"/>
                </a:lnTo>
                <a:lnTo>
                  <a:pt x="14541" y="266282"/>
                </a:lnTo>
                <a:lnTo>
                  <a:pt x="14532" y="276740"/>
                </a:lnTo>
                <a:lnTo>
                  <a:pt x="13533" y="287681"/>
                </a:lnTo>
                <a:lnTo>
                  <a:pt x="11875" y="298943"/>
                </a:lnTo>
                <a:lnTo>
                  <a:pt x="10770" y="309428"/>
                </a:lnTo>
                <a:lnTo>
                  <a:pt x="10034" y="319395"/>
                </a:lnTo>
                <a:lnTo>
                  <a:pt x="9542" y="329016"/>
                </a:lnTo>
                <a:lnTo>
                  <a:pt x="8996" y="347643"/>
                </a:lnTo>
                <a:lnTo>
                  <a:pt x="8646" y="383855"/>
                </a:lnTo>
                <a:lnTo>
                  <a:pt x="7625" y="391833"/>
                </a:lnTo>
                <a:lnTo>
                  <a:pt x="5952" y="399136"/>
                </a:lnTo>
                <a:lnTo>
                  <a:pt x="3845" y="405989"/>
                </a:lnTo>
                <a:lnTo>
                  <a:pt x="2440" y="412543"/>
                </a:lnTo>
                <a:lnTo>
                  <a:pt x="1503" y="418896"/>
                </a:lnTo>
                <a:lnTo>
                  <a:pt x="879" y="425115"/>
                </a:lnTo>
                <a:lnTo>
                  <a:pt x="185" y="437318"/>
                </a:lnTo>
                <a:lnTo>
                  <a:pt x="0" y="443350"/>
                </a:lnTo>
                <a:lnTo>
                  <a:pt x="869" y="448363"/>
                </a:lnTo>
                <a:lnTo>
                  <a:pt x="2440" y="452698"/>
                </a:lnTo>
                <a:lnTo>
                  <a:pt x="7351" y="462043"/>
                </a:lnTo>
                <a:lnTo>
                  <a:pt x="8022" y="465967"/>
                </a:lnTo>
                <a:lnTo>
                  <a:pt x="8560" y="473273"/>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41" name="SMARTInkAnnotation134"/>
          <p:cNvSpPr/>
          <p:nvPr/>
        </p:nvSpPr>
        <p:spPr>
          <a:xfrm>
            <a:off x="3402000" y="3152880"/>
            <a:ext cx="17640" cy="455400"/>
          </a:xfrm>
          <a:custGeom>
            <a:avLst/>
            <a:gdLst>
              <a:gd name="textAreaLeft" fmla="*/ 0 w 17640"/>
              <a:gd name="textAreaRight" fmla="*/ 18000 w 17640"/>
              <a:gd name="textAreaTop" fmla="*/ 0 h 455400"/>
              <a:gd name="textAreaBottom" fmla="*/ 455760 h 455400"/>
            </a:gdLst>
            <a:ahLst/>
            <a:rect l="textAreaLeft" t="textAreaTop" r="textAreaRight" b="textAreaBottom"/>
            <a:pathLst>
              <a:path w="17860" h="455415">
                <a:moveTo>
                  <a:pt x="17859" y="0"/>
                </a:moveTo>
                <a:lnTo>
                  <a:pt x="17859" y="89876"/>
                </a:lnTo>
                <a:lnTo>
                  <a:pt x="16867" y="99605"/>
                </a:lnTo>
                <a:lnTo>
                  <a:pt x="15213" y="110060"/>
                </a:lnTo>
                <a:lnTo>
                  <a:pt x="13118" y="120998"/>
                </a:lnTo>
                <a:lnTo>
                  <a:pt x="11722" y="131267"/>
                </a:lnTo>
                <a:lnTo>
                  <a:pt x="10791" y="141090"/>
                </a:lnTo>
                <a:lnTo>
                  <a:pt x="10171" y="150614"/>
                </a:lnTo>
                <a:lnTo>
                  <a:pt x="9757" y="160933"/>
                </a:lnTo>
                <a:lnTo>
                  <a:pt x="9297" y="182982"/>
                </a:lnTo>
                <a:lnTo>
                  <a:pt x="8182" y="194417"/>
                </a:lnTo>
                <a:lnTo>
                  <a:pt x="6447" y="206010"/>
                </a:lnTo>
                <a:lnTo>
                  <a:pt x="4298" y="217707"/>
                </a:lnTo>
                <a:lnTo>
                  <a:pt x="3858" y="229474"/>
                </a:lnTo>
                <a:lnTo>
                  <a:pt x="4556" y="241288"/>
                </a:lnTo>
                <a:lnTo>
                  <a:pt x="6014" y="253132"/>
                </a:lnTo>
                <a:lnTo>
                  <a:pt x="6985" y="264005"/>
                </a:lnTo>
                <a:lnTo>
                  <a:pt x="7633" y="274230"/>
                </a:lnTo>
                <a:lnTo>
                  <a:pt x="8066" y="284023"/>
                </a:lnTo>
                <a:lnTo>
                  <a:pt x="7361" y="294521"/>
                </a:lnTo>
                <a:lnTo>
                  <a:pt x="5899" y="305488"/>
                </a:lnTo>
                <a:lnTo>
                  <a:pt x="3933" y="316768"/>
                </a:lnTo>
                <a:lnTo>
                  <a:pt x="2622" y="327265"/>
                </a:lnTo>
                <a:lnTo>
                  <a:pt x="1748" y="337239"/>
                </a:lnTo>
                <a:lnTo>
                  <a:pt x="1165" y="346865"/>
                </a:lnTo>
                <a:lnTo>
                  <a:pt x="518" y="365498"/>
                </a:lnTo>
                <a:lnTo>
                  <a:pt x="68" y="403555"/>
                </a:lnTo>
                <a:lnTo>
                  <a:pt x="0" y="453600"/>
                </a:lnTo>
                <a:lnTo>
                  <a:pt x="992" y="454205"/>
                </a:lnTo>
                <a:lnTo>
                  <a:pt x="2645" y="454608"/>
                </a:lnTo>
                <a:lnTo>
                  <a:pt x="8929" y="45541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42" name="SMARTInkAnnotation135"/>
          <p:cNvSpPr/>
          <p:nvPr/>
        </p:nvSpPr>
        <p:spPr>
          <a:xfrm>
            <a:off x="3411360" y="3143160"/>
            <a:ext cx="231840" cy="446040"/>
          </a:xfrm>
          <a:custGeom>
            <a:avLst/>
            <a:gdLst>
              <a:gd name="textAreaLeft" fmla="*/ 0 w 231840"/>
              <a:gd name="textAreaRight" fmla="*/ 232200 w 231840"/>
              <a:gd name="textAreaTop" fmla="*/ 0 h 446040"/>
              <a:gd name="textAreaBottom" fmla="*/ 446400 h 446040"/>
            </a:gdLst>
            <a:ahLst/>
            <a:rect l="textAreaLeft" t="textAreaTop" r="textAreaRight" b="textAreaBottom"/>
            <a:pathLst>
              <a:path w="232173" h="445938">
                <a:moveTo>
                  <a:pt x="0" y="0"/>
                </a:moveTo>
                <a:lnTo>
                  <a:pt x="0" y="4740"/>
                </a:lnTo>
                <a:lnTo>
                  <a:pt x="993" y="7129"/>
                </a:lnTo>
                <a:lnTo>
                  <a:pt x="4741" y="12428"/>
                </a:lnTo>
                <a:lnTo>
                  <a:pt x="6137" y="16223"/>
                </a:lnTo>
                <a:lnTo>
                  <a:pt x="7689" y="25731"/>
                </a:lnTo>
                <a:lnTo>
                  <a:pt x="8378" y="39217"/>
                </a:lnTo>
                <a:lnTo>
                  <a:pt x="8562" y="46980"/>
                </a:lnTo>
                <a:lnTo>
                  <a:pt x="11412" y="60898"/>
                </a:lnTo>
                <a:lnTo>
                  <a:pt x="21326" y="90742"/>
                </a:lnTo>
                <a:lnTo>
                  <a:pt x="23148" y="99190"/>
                </a:lnTo>
                <a:lnTo>
                  <a:pt x="24361" y="107798"/>
                </a:lnTo>
                <a:lnTo>
                  <a:pt x="25171" y="116514"/>
                </a:lnTo>
                <a:lnTo>
                  <a:pt x="26702" y="125301"/>
                </a:lnTo>
                <a:lnTo>
                  <a:pt x="28716" y="134135"/>
                </a:lnTo>
                <a:lnTo>
                  <a:pt x="31050" y="143002"/>
                </a:lnTo>
                <a:lnTo>
                  <a:pt x="32606" y="152881"/>
                </a:lnTo>
                <a:lnTo>
                  <a:pt x="33644" y="163436"/>
                </a:lnTo>
                <a:lnTo>
                  <a:pt x="34336" y="174442"/>
                </a:lnTo>
                <a:lnTo>
                  <a:pt x="35789" y="184755"/>
                </a:lnTo>
                <a:lnTo>
                  <a:pt x="37750" y="194607"/>
                </a:lnTo>
                <a:lnTo>
                  <a:pt x="40050" y="204152"/>
                </a:lnTo>
                <a:lnTo>
                  <a:pt x="42575" y="213492"/>
                </a:lnTo>
                <a:lnTo>
                  <a:pt x="50869" y="241850"/>
                </a:lnTo>
                <a:lnTo>
                  <a:pt x="59610" y="273955"/>
                </a:lnTo>
                <a:lnTo>
                  <a:pt x="68484" y="303752"/>
                </a:lnTo>
                <a:lnTo>
                  <a:pt x="77398" y="336284"/>
                </a:lnTo>
                <a:lnTo>
                  <a:pt x="83347" y="355834"/>
                </a:lnTo>
                <a:lnTo>
                  <a:pt x="86323" y="364223"/>
                </a:lnTo>
                <a:lnTo>
                  <a:pt x="89299" y="371799"/>
                </a:lnTo>
                <a:lnTo>
                  <a:pt x="92274" y="378835"/>
                </a:lnTo>
                <a:lnTo>
                  <a:pt x="95251" y="386502"/>
                </a:lnTo>
                <a:lnTo>
                  <a:pt x="101204" y="402958"/>
                </a:lnTo>
                <a:lnTo>
                  <a:pt x="107157" y="414902"/>
                </a:lnTo>
                <a:lnTo>
                  <a:pt x="113110" y="423518"/>
                </a:lnTo>
                <a:lnTo>
                  <a:pt x="119063" y="430654"/>
                </a:lnTo>
                <a:lnTo>
                  <a:pt x="125016" y="437134"/>
                </a:lnTo>
                <a:lnTo>
                  <a:pt x="127993" y="440250"/>
                </a:lnTo>
                <a:lnTo>
                  <a:pt x="130968" y="442328"/>
                </a:lnTo>
                <a:lnTo>
                  <a:pt x="136922" y="444637"/>
                </a:lnTo>
                <a:lnTo>
                  <a:pt x="142875" y="445663"/>
                </a:lnTo>
                <a:lnTo>
                  <a:pt x="145852" y="445937"/>
                </a:lnTo>
                <a:lnTo>
                  <a:pt x="148828" y="445127"/>
                </a:lnTo>
                <a:lnTo>
                  <a:pt x="154782" y="441581"/>
                </a:lnTo>
                <a:lnTo>
                  <a:pt x="160735" y="436698"/>
                </a:lnTo>
                <a:lnTo>
                  <a:pt x="163711" y="434007"/>
                </a:lnTo>
                <a:lnTo>
                  <a:pt x="165695" y="431221"/>
                </a:lnTo>
                <a:lnTo>
                  <a:pt x="169481" y="420574"/>
                </a:lnTo>
                <a:lnTo>
                  <a:pt x="173882" y="407187"/>
                </a:lnTo>
                <a:lnTo>
                  <a:pt x="176500" y="393961"/>
                </a:lnTo>
                <a:lnTo>
                  <a:pt x="177663" y="380477"/>
                </a:lnTo>
                <a:lnTo>
                  <a:pt x="177974" y="372714"/>
                </a:lnTo>
                <a:lnTo>
                  <a:pt x="178180" y="364562"/>
                </a:lnTo>
                <a:lnTo>
                  <a:pt x="179310" y="356150"/>
                </a:lnTo>
                <a:lnTo>
                  <a:pt x="181056" y="347566"/>
                </a:lnTo>
                <a:lnTo>
                  <a:pt x="183212" y="338867"/>
                </a:lnTo>
                <a:lnTo>
                  <a:pt x="184649" y="329099"/>
                </a:lnTo>
                <a:lnTo>
                  <a:pt x="185607" y="318618"/>
                </a:lnTo>
                <a:lnTo>
                  <a:pt x="186246" y="307662"/>
                </a:lnTo>
                <a:lnTo>
                  <a:pt x="185680" y="297381"/>
                </a:lnTo>
                <a:lnTo>
                  <a:pt x="184310" y="287551"/>
                </a:lnTo>
                <a:lnTo>
                  <a:pt x="182405" y="278021"/>
                </a:lnTo>
                <a:lnTo>
                  <a:pt x="181134" y="268691"/>
                </a:lnTo>
                <a:lnTo>
                  <a:pt x="180288" y="259494"/>
                </a:lnTo>
                <a:lnTo>
                  <a:pt x="179723" y="250387"/>
                </a:lnTo>
                <a:lnTo>
                  <a:pt x="180339" y="240346"/>
                </a:lnTo>
                <a:lnTo>
                  <a:pt x="181742" y="229684"/>
                </a:lnTo>
                <a:lnTo>
                  <a:pt x="183669" y="218607"/>
                </a:lnTo>
                <a:lnTo>
                  <a:pt x="184954" y="208245"/>
                </a:lnTo>
                <a:lnTo>
                  <a:pt x="185810" y="198361"/>
                </a:lnTo>
                <a:lnTo>
                  <a:pt x="186381" y="188796"/>
                </a:lnTo>
                <a:lnTo>
                  <a:pt x="187755" y="180434"/>
                </a:lnTo>
                <a:lnTo>
                  <a:pt x="189662" y="172875"/>
                </a:lnTo>
                <a:lnTo>
                  <a:pt x="191926" y="165851"/>
                </a:lnTo>
                <a:lnTo>
                  <a:pt x="193435" y="158193"/>
                </a:lnTo>
                <a:lnTo>
                  <a:pt x="194441" y="150110"/>
                </a:lnTo>
                <a:lnTo>
                  <a:pt x="195112" y="141745"/>
                </a:lnTo>
                <a:lnTo>
                  <a:pt x="196551" y="134184"/>
                </a:lnTo>
                <a:lnTo>
                  <a:pt x="200796" y="120491"/>
                </a:lnTo>
                <a:lnTo>
                  <a:pt x="203345" y="107791"/>
                </a:lnTo>
                <a:lnTo>
                  <a:pt x="204024" y="101626"/>
                </a:lnTo>
                <a:lnTo>
                  <a:pt x="207425" y="92131"/>
                </a:lnTo>
                <a:lnTo>
                  <a:pt x="211251" y="84603"/>
                </a:lnTo>
                <a:lnTo>
                  <a:pt x="214398" y="74787"/>
                </a:lnTo>
                <a:lnTo>
                  <a:pt x="221201" y="65227"/>
                </a:lnTo>
                <a:lnTo>
                  <a:pt x="221882" y="64320"/>
                </a:lnTo>
                <a:lnTo>
                  <a:pt x="222637" y="60667"/>
                </a:lnTo>
                <a:lnTo>
                  <a:pt x="222839" y="58304"/>
                </a:lnTo>
                <a:lnTo>
                  <a:pt x="223966" y="56729"/>
                </a:lnTo>
                <a:lnTo>
                  <a:pt x="225710" y="55678"/>
                </a:lnTo>
                <a:lnTo>
                  <a:pt x="232172" y="5357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43" name="SMARTInkAnnotation136"/>
          <p:cNvSpPr/>
          <p:nvPr/>
        </p:nvSpPr>
        <p:spPr>
          <a:xfrm>
            <a:off x="3606840" y="3027240"/>
            <a:ext cx="233280" cy="758880"/>
          </a:xfrm>
          <a:custGeom>
            <a:avLst/>
            <a:gdLst>
              <a:gd name="textAreaLeft" fmla="*/ 0 w 233280"/>
              <a:gd name="textAreaRight" fmla="*/ 233640 w 233280"/>
              <a:gd name="textAreaTop" fmla="*/ 0 h 758880"/>
              <a:gd name="textAreaBottom" fmla="*/ 759240 h 758880"/>
            </a:gdLst>
            <a:ahLst/>
            <a:rect l="textAreaLeft" t="textAreaTop" r="textAreaRight" b="textAreaBottom"/>
            <a:pathLst>
              <a:path w="232051" h="759024">
                <a:moveTo>
                  <a:pt x="142875" y="0"/>
                </a:moveTo>
                <a:lnTo>
                  <a:pt x="142875" y="4740"/>
                </a:lnTo>
                <a:lnTo>
                  <a:pt x="143868" y="7129"/>
                </a:lnTo>
                <a:lnTo>
                  <a:pt x="150004" y="15231"/>
                </a:lnTo>
                <a:lnTo>
                  <a:pt x="155304" y="20990"/>
                </a:lnTo>
                <a:lnTo>
                  <a:pt x="160967" y="29503"/>
                </a:lnTo>
                <a:lnTo>
                  <a:pt x="166791" y="40894"/>
                </a:lnTo>
                <a:lnTo>
                  <a:pt x="172687" y="55878"/>
                </a:lnTo>
                <a:lnTo>
                  <a:pt x="178615" y="72459"/>
                </a:lnTo>
                <a:lnTo>
                  <a:pt x="184556" y="90743"/>
                </a:lnTo>
                <a:lnTo>
                  <a:pt x="190505" y="112098"/>
                </a:lnTo>
                <a:lnTo>
                  <a:pt x="217290" y="217340"/>
                </a:lnTo>
                <a:lnTo>
                  <a:pt x="219274" y="229229"/>
                </a:lnTo>
                <a:lnTo>
                  <a:pt x="220597" y="241124"/>
                </a:lnTo>
                <a:lnTo>
                  <a:pt x="221479" y="253022"/>
                </a:lnTo>
                <a:lnTo>
                  <a:pt x="223059" y="265916"/>
                </a:lnTo>
                <a:lnTo>
                  <a:pt x="225105" y="279473"/>
                </a:lnTo>
                <a:lnTo>
                  <a:pt x="227460" y="293471"/>
                </a:lnTo>
                <a:lnTo>
                  <a:pt x="229031" y="306772"/>
                </a:lnTo>
                <a:lnTo>
                  <a:pt x="230078" y="319608"/>
                </a:lnTo>
                <a:lnTo>
                  <a:pt x="230776" y="332135"/>
                </a:lnTo>
                <a:lnTo>
                  <a:pt x="231552" y="359282"/>
                </a:lnTo>
                <a:lnTo>
                  <a:pt x="232050" y="417132"/>
                </a:lnTo>
                <a:lnTo>
                  <a:pt x="231099" y="430885"/>
                </a:lnTo>
                <a:lnTo>
                  <a:pt x="229472" y="444022"/>
                </a:lnTo>
                <a:lnTo>
                  <a:pt x="227396" y="456749"/>
                </a:lnTo>
                <a:lnTo>
                  <a:pt x="225019" y="469202"/>
                </a:lnTo>
                <a:lnTo>
                  <a:pt x="219733" y="493623"/>
                </a:lnTo>
                <a:lnTo>
                  <a:pt x="215942" y="505691"/>
                </a:lnTo>
                <a:lnTo>
                  <a:pt x="211430" y="517706"/>
                </a:lnTo>
                <a:lnTo>
                  <a:pt x="206438" y="529684"/>
                </a:lnTo>
                <a:lnTo>
                  <a:pt x="202118" y="541638"/>
                </a:lnTo>
                <a:lnTo>
                  <a:pt x="198245" y="553576"/>
                </a:lnTo>
                <a:lnTo>
                  <a:pt x="194671" y="565504"/>
                </a:lnTo>
                <a:lnTo>
                  <a:pt x="190305" y="576432"/>
                </a:lnTo>
                <a:lnTo>
                  <a:pt x="185409" y="586694"/>
                </a:lnTo>
                <a:lnTo>
                  <a:pt x="180161" y="596512"/>
                </a:lnTo>
                <a:lnTo>
                  <a:pt x="174678" y="606034"/>
                </a:lnTo>
                <a:lnTo>
                  <a:pt x="169038" y="615359"/>
                </a:lnTo>
                <a:lnTo>
                  <a:pt x="163293" y="624551"/>
                </a:lnTo>
                <a:lnTo>
                  <a:pt x="156488" y="633657"/>
                </a:lnTo>
                <a:lnTo>
                  <a:pt x="148974" y="642703"/>
                </a:lnTo>
                <a:lnTo>
                  <a:pt x="140988" y="651711"/>
                </a:lnTo>
                <a:lnTo>
                  <a:pt x="133679" y="660693"/>
                </a:lnTo>
                <a:lnTo>
                  <a:pt x="126823" y="669657"/>
                </a:lnTo>
                <a:lnTo>
                  <a:pt x="120267" y="678610"/>
                </a:lnTo>
                <a:lnTo>
                  <a:pt x="112921" y="686563"/>
                </a:lnTo>
                <a:lnTo>
                  <a:pt x="105046" y="693849"/>
                </a:lnTo>
                <a:lnTo>
                  <a:pt x="96820" y="700691"/>
                </a:lnTo>
                <a:lnTo>
                  <a:pt x="88359" y="707237"/>
                </a:lnTo>
                <a:lnTo>
                  <a:pt x="79742" y="713585"/>
                </a:lnTo>
                <a:lnTo>
                  <a:pt x="71021" y="719802"/>
                </a:lnTo>
                <a:lnTo>
                  <a:pt x="63222" y="725930"/>
                </a:lnTo>
                <a:lnTo>
                  <a:pt x="56039" y="732000"/>
                </a:lnTo>
                <a:lnTo>
                  <a:pt x="49266" y="738032"/>
                </a:lnTo>
                <a:lnTo>
                  <a:pt x="42766" y="742052"/>
                </a:lnTo>
                <a:lnTo>
                  <a:pt x="36448" y="744732"/>
                </a:lnTo>
                <a:lnTo>
                  <a:pt x="30252" y="746520"/>
                </a:lnTo>
                <a:lnTo>
                  <a:pt x="24137" y="748703"/>
                </a:lnTo>
                <a:lnTo>
                  <a:pt x="18076" y="751151"/>
                </a:lnTo>
                <a:lnTo>
                  <a:pt x="0" y="759023"/>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44" name="SMARTInkAnnotation137"/>
          <p:cNvSpPr/>
          <p:nvPr/>
        </p:nvSpPr>
        <p:spPr>
          <a:xfrm>
            <a:off x="2554200" y="2849400"/>
            <a:ext cx="268200" cy="927360"/>
          </a:xfrm>
          <a:custGeom>
            <a:avLst/>
            <a:gdLst>
              <a:gd name="textAreaLeft" fmla="*/ 0 w 268200"/>
              <a:gd name="textAreaRight" fmla="*/ 268560 w 268200"/>
              <a:gd name="textAreaTop" fmla="*/ 0 h 927360"/>
              <a:gd name="textAreaBottom" fmla="*/ 927720 h 927360"/>
            </a:gdLst>
            <a:ahLst/>
            <a:rect l="textAreaLeft" t="textAreaTop" r="textAreaRight" b="textAreaBottom"/>
            <a:pathLst>
              <a:path w="267247" h="927447">
                <a:moveTo>
                  <a:pt x="267246" y="7689"/>
                </a:moveTo>
                <a:lnTo>
                  <a:pt x="259557" y="0"/>
                </a:lnTo>
                <a:lnTo>
                  <a:pt x="258152" y="578"/>
                </a:lnTo>
                <a:lnTo>
                  <a:pt x="251432" y="6133"/>
                </a:lnTo>
                <a:lnTo>
                  <a:pt x="243157" y="14063"/>
                </a:lnTo>
                <a:lnTo>
                  <a:pt x="223774" y="33320"/>
                </a:lnTo>
                <a:lnTo>
                  <a:pt x="215513" y="44216"/>
                </a:lnTo>
                <a:lnTo>
                  <a:pt x="207543" y="55673"/>
                </a:lnTo>
                <a:lnTo>
                  <a:pt x="202639" y="61506"/>
                </a:lnTo>
                <a:lnTo>
                  <a:pt x="197386" y="67379"/>
                </a:lnTo>
                <a:lnTo>
                  <a:pt x="191899" y="74271"/>
                </a:lnTo>
                <a:lnTo>
                  <a:pt x="186257" y="81843"/>
                </a:lnTo>
                <a:lnTo>
                  <a:pt x="173704" y="99185"/>
                </a:lnTo>
                <a:lnTo>
                  <a:pt x="150894" y="130269"/>
                </a:lnTo>
                <a:lnTo>
                  <a:pt x="137482" y="149481"/>
                </a:lnTo>
                <a:lnTo>
                  <a:pt x="131127" y="159764"/>
                </a:lnTo>
                <a:lnTo>
                  <a:pt x="124906" y="170588"/>
                </a:lnTo>
                <a:lnTo>
                  <a:pt x="112703" y="193198"/>
                </a:lnTo>
                <a:lnTo>
                  <a:pt x="100664" y="216476"/>
                </a:lnTo>
                <a:lnTo>
                  <a:pt x="94676" y="229231"/>
                </a:lnTo>
                <a:lnTo>
                  <a:pt x="76767" y="269894"/>
                </a:lnTo>
                <a:lnTo>
                  <a:pt x="64849" y="295211"/>
                </a:lnTo>
                <a:lnTo>
                  <a:pt x="58893" y="308511"/>
                </a:lnTo>
                <a:lnTo>
                  <a:pt x="46983" y="336517"/>
                </a:lnTo>
                <a:lnTo>
                  <a:pt x="42022" y="350931"/>
                </a:lnTo>
                <a:lnTo>
                  <a:pt x="37721" y="365502"/>
                </a:lnTo>
                <a:lnTo>
                  <a:pt x="33862" y="380176"/>
                </a:lnTo>
                <a:lnTo>
                  <a:pt x="29305" y="393928"/>
                </a:lnTo>
                <a:lnTo>
                  <a:pt x="24283" y="407064"/>
                </a:lnTo>
                <a:lnTo>
                  <a:pt x="18950" y="419790"/>
                </a:lnTo>
                <a:lnTo>
                  <a:pt x="14403" y="433235"/>
                </a:lnTo>
                <a:lnTo>
                  <a:pt x="6705" y="461404"/>
                </a:lnTo>
                <a:lnTo>
                  <a:pt x="2622" y="487814"/>
                </a:lnTo>
                <a:lnTo>
                  <a:pt x="807" y="513773"/>
                </a:lnTo>
                <a:lnTo>
                  <a:pt x="0" y="541847"/>
                </a:lnTo>
                <a:lnTo>
                  <a:pt x="2288" y="568215"/>
                </a:lnTo>
                <a:lnTo>
                  <a:pt x="6612" y="593163"/>
                </a:lnTo>
                <a:lnTo>
                  <a:pt x="11841" y="617480"/>
                </a:lnTo>
                <a:lnTo>
                  <a:pt x="20118" y="641516"/>
                </a:lnTo>
                <a:lnTo>
                  <a:pt x="25103" y="653483"/>
                </a:lnTo>
                <a:lnTo>
                  <a:pt x="33289" y="677362"/>
                </a:lnTo>
                <a:lnTo>
                  <a:pt x="41226" y="700212"/>
                </a:lnTo>
                <a:lnTo>
                  <a:pt x="46120" y="710472"/>
                </a:lnTo>
                <a:lnTo>
                  <a:pt x="51368" y="720289"/>
                </a:lnTo>
                <a:lnTo>
                  <a:pt x="57843" y="730803"/>
                </a:lnTo>
                <a:lnTo>
                  <a:pt x="65136" y="741780"/>
                </a:lnTo>
                <a:lnTo>
                  <a:pt x="93488" y="783174"/>
                </a:lnTo>
                <a:lnTo>
                  <a:pt x="112134" y="810946"/>
                </a:lnTo>
                <a:lnTo>
                  <a:pt x="119189" y="819022"/>
                </a:lnTo>
                <a:lnTo>
                  <a:pt x="126870" y="826390"/>
                </a:lnTo>
                <a:lnTo>
                  <a:pt x="134966" y="833286"/>
                </a:lnTo>
                <a:lnTo>
                  <a:pt x="142349" y="840861"/>
                </a:lnTo>
                <a:lnTo>
                  <a:pt x="149255" y="848886"/>
                </a:lnTo>
                <a:lnTo>
                  <a:pt x="155843" y="857213"/>
                </a:lnTo>
                <a:lnTo>
                  <a:pt x="163212" y="864750"/>
                </a:lnTo>
                <a:lnTo>
                  <a:pt x="171100" y="871758"/>
                </a:lnTo>
                <a:lnTo>
                  <a:pt x="179337" y="878414"/>
                </a:lnTo>
                <a:lnTo>
                  <a:pt x="186812" y="884837"/>
                </a:lnTo>
                <a:lnTo>
                  <a:pt x="193779" y="891102"/>
                </a:lnTo>
                <a:lnTo>
                  <a:pt x="210420" y="906756"/>
                </a:lnTo>
                <a:lnTo>
                  <a:pt x="231527" y="927446"/>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45" name="SMARTInkAnnotation138"/>
          <p:cNvSpPr/>
          <p:nvPr/>
        </p:nvSpPr>
        <p:spPr>
          <a:xfrm>
            <a:off x="3922560" y="3027240"/>
            <a:ext cx="211320" cy="884520"/>
          </a:xfrm>
          <a:custGeom>
            <a:avLst/>
            <a:gdLst>
              <a:gd name="textAreaLeft" fmla="*/ 0 w 211320"/>
              <a:gd name="textAreaRight" fmla="*/ 211680 w 211320"/>
              <a:gd name="textAreaTop" fmla="*/ 0 h 884520"/>
              <a:gd name="textAreaBottom" fmla="*/ 884880 h 884520"/>
            </a:gdLst>
            <a:ahLst/>
            <a:rect l="textAreaLeft" t="textAreaTop" r="textAreaRight" b="textAreaBottom"/>
            <a:pathLst>
              <a:path w="211043" h="884040">
                <a:moveTo>
                  <a:pt x="211042" y="0"/>
                </a:moveTo>
                <a:lnTo>
                  <a:pt x="206301" y="0"/>
                </a:lnTo>
                <a:lnTo>
                  <a:pt x="204905" y="992"/>
                </a:lnTo>
                <a:lnTo>
                  <a:pt x="203974" y="2645"/>
                </a:lnTo>
                <a:lnTo>
                  <a:pt x="203354" y="4740"/>
                </a:lnTo>
                <a:lnTo>
                  <a:pt x="200018" y="9713"/>
                </a:lnTo>
                <a:lnTo>
                  <a:pt x="197740" y="12428"/>
                </a:lnTo>
                <a:lnTo>
                  <a:pt x="194236" y="15231"/>
                </a:lnTo>
                <a:lnTo>
                  <a:pt x="189916" y="18091"/>
                </a:lnTo>
                <a:lnTo>
                  <a:pt x="185052" y="20990"/>
                </a:lnTo>
                <a:lnTo>
                  <a:pt x="179824" y="24907"/>
                </a:lnTo>
                <a:lnTo>
                  <a:pt x="174355" y="29503"/>
                </a:lnTo>
                <a:lnTo>
                  <a:pt x="168725" y="34552"/>
                </a:lnTo>
                <a:lnTo>
                  <a:pt x="163979" y="39901"/>
                </a:lnTo>
                <a:lnTo>
                  <a:pt x="159822" y="45452"/>
                </a:lnTo>
                <a:lnTo>
                  <a:pt x="156060" y="51137"/>
                </a:lnTo>
                <a:lnTo>
                  <a:pt x="151567" y="56912"/>
                </a:lnTo>
                <a:lnTo>
                  <a:pt x="146587" y="62746"/>
                </a:lnTo>
                <a:lnTo>
                  <a:pt x="141283" y="68619"/>
                </a:lnTo>
                <a:lnTo>
                  <a:pt x="135763" y="75512"/>
                </a:lnTo>
                <a:lnTo>
                  <a:pt x="130098" y="83083"/>
                </a:lnTo>
                <a:lnTo>
                  <a:pt x="118512" y="99433"/>
                </a:lnTo>
                <a:lnTo>
                  <a:pt x="88969" y="143034"/>
                </a:lnTo>
                <a:lnTo>
                  <a:pt x="83027" y="152902"/>
                </a:lnTo>
                <a:lnTo>
                  <a:pt x="77081" y="163451"/>
                </a:lnTo>
                <a:lnTo>
                  <a:pt x="65183" y="185754"/>
                </a:lnTo>
                <a:lnTo>
                  <a:pt x="53281" y="208896"/>
                </a:lnTo>
                <a:lnTo>
                  <a:pt x="48321" y="220623"/>
                </a:lnTo>
                <a:lnTo>
                  <a:pt x="44022" y="232410"/>
                </a:lnTo>
                <a:lnTo>
                  <a:pt x="40164" y="244237"/>
                </a:lnTo>
                <a:lnTo>
                  <a:pt x="35608" y="257082"/>
                </a:lnTo>
                <a:lnTo>
                  <a:pt x="25254" y="284584"/>
                </a:lnTo>
                <a:lnTo>
                  <a:pt x="8267" y="327958"/>
                </a:lnTo>
                <a:lnTo>
                  <a:pt x="4421" y="346631"/>
                </a:lnTo>
                <a:lnTo>
                  <a:pt x="1857" y="368009"/>
                </a:lnTo>
                <a:lnTo>
                  <a:pt x="148" y="391190"/>
                </a:lnTo>
                <a:lnTo>
                  <a:pt x="0" y="411606"/>
                </a:lnTo>
                <a:lnTo>
                  <a:pt x="895" y="430178"/>
                </a:lnTo>
                <a:lnTo>
                  <a:pt x="2483" y="447519"/>
                </a:lnTo>
                <a:lnTo>
                  <a:pt x="4533" y="464041"/>
                </a:lnTo>
                <a:lnTo>
                  <a:pt x="6893" y="480017"/>
                </a:lnTo>
                <a:lnTo>
                  <a:pt x="12161" y="510997"/>
                </a:lnTo>
                <a:lnTo>
                  <a:pt x="17809" y="541302"/>
                </a:lnTo>
                <a:lnTo>
                  <a:pt x="23627" y="568662"/>
                </a:lnTo>
                <a:lnTo>
                  <a:pt x="26567" y="581514"/>
                </a:lnTo>
                <a:lnTo>
                  <a:pt x="30512" y="594051"/>
                </a:lnTo>
                <a:lnTo>
                  <a:pt x="35126" y="606378"/>
                </a:lnTo>
                <a:lnTo>
                  <a:pt x="56790" y="659417"/>
                </a:lnTo>
                <a:lnTo>
                  <a:pt x="62566" y="672776"/>
                </a:lnTo>
                <a:lnTo>
                  <a:pt x="74277" y="698201"/>
                </a:lnTo>
                <a:lnTo>
                  <a:pt x="80178" y="709546"/>
                </a:lnTo>
                <a:lnTo>
                  <a:pt x="86096" y="720085"/>
                </a:lnTo>
                <a:lnTo>
                  <a:pt x="92026" y="730088"/>
                </a:lnTo>
                <a:lnTo>
                  <a:pt x="97963" y="740725"/>
                </a:lnTo>
                <a:lnTo>
                  <a:pt x="109853" y="763128"/>
                </a:lnTo>
                <a:lnTo>
                  <a:pt x="114809" y="773666"/>
                </a:lnTo>
                <a:lnTo>
                  <a:pt x="119106" y="783668"/>
                </a:lnTo>
                <a:lnTo>
                  <a:pt x="122962" y="793312"/>
                </a:lnTo>
                <a:lnTo>
                  <a:pt x="127517" y="802718"/>
                </a:lnTo>
                <a:lnTo>
                  <a:pt x="132538" y="811966"/>
                </a:lnTo>
                <a:lnTo>
                  <a:pt x="137871" y="821107"/>
                </a:lnTo>
                <a:lnTo>
                  <a:pt x="143409" y="829186"/>
                </a:lnTo>
                <a:lnTo>
                  <a:pt x="149087" y="836556"/>
                </a:lnTo>
                <a:lnTo>
                  <a:pt x="154855" y="843454"/>
                </a:lnTo>
                <a:lnTo>
                  <a:pt x="159694" y="850037"/>
                </a:lnTo>
                <a:lnTo>
                  <a:pt x="163911" y="856410"/>
                </a:lnTo>
                <a:lnTo>
                  <a:pt x="170251" y="867790"/>
                </a:lnTo>
                <a:lnTo>
                  <a:pt x="175323" y="88403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46" name="SMARTInkAnnotation139"/>
          <p:cNvSpPr/>
          <p:nvPr/>
        </p:nvSpPr>
        <p:spPr>
          <a:xfrm>
            <a:off x="4125960" y="3170160"/>
            <a:ext cx="231840" cy="446040"/>
          </a:xfrm>
          <a:custGeom>
            <a:avLst/>
            <a:gdLst>
              <a:gd name="textAreaLeft" fmla="*/ 0 w 231840"/>
              <a:gd name="textAreaRight" fmla="*/ 232200 w 231840"/>
              <a:gd name="textAreaTop" fmla="*/ 0 h 446040"/>
              <a:gd name="textAreaBottom" fmla="*/ 446400 h 446040"/>
            </a:gdLst>
            <a:ahLst/>
            <a:rect l="textAreaLeft" t="textAreaTop" r="textAreaRight" b="textAreaBottom"/>
            <a:pathLst>
              <a:path w="232173" h="445285">
                <a:moveTo>
                  <a:pt x="0" y="35201"/>
                </a:moveTo>
                <a:lnTo>
                  <a:pt x="0" y="30460"/>
                </a:lnTo>
                <a:lnTo>
                  <a:pt x="993" y="28071"/>
                </a:lnTo>
                <a:lnTo>
                  <a:pt x="7130" y="19969"/>
                </a:lnTo>
                <a:lnTo>
                  <a:pt x="12429" y="14210"/>
                </a:lnTo>
                <a:lnTo>
                  <a:pt x="20991" y="5389"/>
                </a:lnTo>
                <a:lnTo>
                  <a:pt x="23916" y="3420"/>
                </a:lnTo>
                <a:lnTo>
                  <a:pt x="29811" y="1232"/>
                </a:lnTo>
                <a:lnTo>
                  <a:pt x="35739" y="260"/>
                </a:lnTo>
                <a:lnTo>
                  <a:pt x="38709" y="0"/>
                </a:lnTo>
                <a:lnTo>
                  <a:pt x="42673" y="820"/>
                </a:lnTo>
                <a:lnTo>
                  <a:pt x="47301" y="2358"/>
                </a:lnTo>
                <a:lnTo>
                  <a:pt x="52370" y="4376"/>
                </a:lnTo>
                <a:lnTo>
                  <a:pt x="57733" y="6713"/>
                </a:lnTo>
                <a:lnTo>
                  <a:pt x="68985" y="11956"/>
                </a:lnTo>
                <a:lnTo>
                  <a:pt x="86476" y="20486"/>
                </a:lnTo>
                <a:lnTo>
                  <a:pt x="92377" y="24399"/>
                </a:lnTo>
                <a:lnTo>
                  <a:pt x="98296" y="28991"/>
                </a:lnTo>
                <a:lnTo>
                  <a:pt x="104226" y="34038"/>
                </a:lnTo>
                <a:lnTo>
                  <a:pt x="109172" y="40378"/>
                </a:lnTo>
                <a:lnTo>
                  <a:pt x="113461" y="47582"/>
                </a:lnTo>
                <a:lnTo>
                  <a:pt x="117313" y="55361"/>
                </a:lnTo>
                <a:lnTo>
                  <a:pt x="121865" y="63524"/>
                </a:lnTo>
                <a:lnTo>
                  <a:pt x="126884" y="71942"/>
                </a:lnTo>
                <a:lnTo>
                  <a:pt x="137753" y="89233"/>
                </a:lnTo>
                <a:lnTo>
                  <a:pt x="149198" y="106840"/>
                </a:lnTo>
                <a:lnTo>
                  <a:pt x="154035" y="116695"/>
                </a:lnTo>
                <a:lnTo>
                  <a:pt x="158252" y="127233"/>
                </a:lnTo>
                <a:lnTo>
                  <a:pt x="162057" y="138227"/>
                </a:lnTo>
                <a:lnTo>
                  <a:pt x="165585" y="149526"/>
                </a:lnTo>
                <a:lnTo>
                  <a:pt x="172151" y="172662"/>
                </a:lnTo>
                <a:lnTo>
                  <a:pt x="174298" y="184389"/>
                </a:lnTo>
                <a:lnTo>
                  <a:pt x="175730" y="196175"/>
                </a:lnTo>
                <a:lnTo>
                  <a:pt x="176685" y="208001"/>
                </a:lnTo>
                <a:lnTo>
                  <a:pt x="178314" y="218862"/>
                </a:lnTo>
                <a:lnTo>
                  <a:pt x="180391" y="229079"/>
                </a:lnTo>
                <a:lnTo>
                  <a:pt x="182769" y="238867"/>
                </a:lnTo>
                <a:lnTo>
                  <a:pt x="183361" y="249361"/>
                </a:lnTo>
                <a:lnTo>
                  <a:pt x="182765" y="260325"/>
                </a:lnTo>
                <a:lnTo>
                  <a:pt x="181375" y="271604"/>
                </a:lnTo>
                <a:lnTo>
                  <a:pt x="179455" y="283092"/>
                </a:lnTo>
                <a:lnTo>
                  <a:pt x="177183" y="294719"/>
                </a:lnTo>
                <a:lnTo>
                  <a:pt x="174677" y="306440"/>
                </a:lnTo>
                <a:lnTo>
                  <a:pt x="171022" y="317230"/>
                </a:lnTo>
                <a:lnTo>
                  <a:pt x="166600" y="327400"/>
                </a:lnTo>
                <a:lnTo>
                  <a:pt x="161669" y="337156"/>
                </a:lnTo>
                <a:lnTo>
                  <a:pt x="157388" y="346637"/>
                </a:lnTo>
                <a:lnTo>
                  <a:pt x="153543" y="355934"/>
                </a:lnTo>
                <a:lnTo>
                  <a:pt x="149987" y="365109"/>
                </a:lnTo>
                <a:lnTo>
                  <a:pt x="145632" y="373210"/>
                </a:lnTo>
                <a:lnTo>
                  <a:pt x="140745" y="380595"/>
                </a:lnTo>
                <a:lnTo>
                  <a:pt x="135502" y="387502"/>
                </a:lnTo>
                <a:lnTo>
                  <a:pt x="129029" y="394092"/>
                </a:lnTo>
                <a:lnTo>
                  <a:pt x="121739" y="400469"/>
                </a:lnTo>
                <a:lnTo>
                  <a:pt x="113902" y="406705"/>
                </a:lnTo>
                <a:lnTo>
                  <a:pt x="106692" y="412847"/>
                </a:lnTo>
                <a:lnTo>
                  <a:pt x="99902" y="418925"/>
                </a:lnTo>
                <a:lnTo>
                  <a:pt x="93390" y="424962"/>
                </a:lnTo>
                <a:lnTo>
                  <a:pt x="87065" y="429979"/>
                </a:lnTo>
                <a:lnTo>
                  <a:pt x="80863" y="434316"/>
                </a:lnTo>
                <a:lnTo>
                  <a:pt x="74745" y="438199"/>
                </a:lnTo>
                <a:lnTo>
                  <a:pt x="68682" y="440788"/>
                </a:lnTo>
                <a:lnTo>
                  <a:pt x="62655" y="442514"/>
                </a:lnTo>
                <a:lnTo>
                  <a:pt x="56653" y="443665"/>
                </a:lnTo>
                <a:lnTo>
                  <a:pt x="50667" y="444432"/>
                </a:lnTo>
                <a:lnTo>
                  <a:pt x="44692" y="444943"/>
                </a:lnTo>
                <a:lnTo>
                  <a:pt x="38725" y="445284"/>
                </a:lnTo>
                <a:lnTo>
                  <a:pt x="33754" y="444519"/>
                </a:lnTo>
                <a:lnTo>
                  <a:pt x="29448" y="443017"/>
                </a:lnTo>
                <a:lnTo>
                  <a:pt x="25585" y="441024"/>
                </a:lnTo>
                <a:lnTo>
                  <a:pt x="18647" y="436163"/>
                </a:lnTo>
                <a:lnTo>
                  <a:pt x="12256" y="430695"/>
                </a:lnTo>
                <a:lnTo>
                  <a:pt x="6109" y="424958"/>
                </a:lnTo>
                <a:lnTo>
                  <a:pt x="4072" y="422038"/>
                </a:lnTo>
                <a:lnTo>
                  <a:pt x="1810" y="416149"/>
                </a:lnTo>
                <a:lnTo>
                  <a:pt x="536" y="402515"/>
                </a:lnTo>
                <a:lnTo>
                  <a:pt x="1350" y="398147"/>
                </a:lnTo>
                <a:lnTo>
                  <a:pt x="6243" y="386267"/>
                </a:lnTo>
                <a:lnTo>
                  <a:pt x="7736" y="376107"/>
                </a:lnTo>
                <a:lnTo>
                  <a:pt x="10118" y="371612"/>
                </a:lnTo>
                <a:lnTo>
                  <a:pt x="13691" y="367623"/>
                </a:lnTo>
                <a:lnTo>
                  <a:pt x="18057" y="363972"/>
                </a:lnTo>
                <a:lnTo>
                  <a:pt x="21960" y="360546"/>
                </a:lnTo>
                <a:lnTo>
                  <a:pt x="28942" y="354092"/>
                </a:lnTo>
                <a:lnTo>
                  <a:pt x="33185" y="350983"/>
                </a:lnTo>
                <a:lnTo>
                  <a:pt x="37999" y="347917"/>
                </a:lnTo>
                <a:lnTo>
                  <a:pt x="43192" y="344881"/>
                </a:lnTo>
                <a:lnTo>
                  <a:pt x="48639" y="342858"/>
                </a:lnTo>
                <a:lnTo>
                  <a:pt x="54254" y="341508"/>
                </a:lnTo>
                <a:lnTo>
                  <a:pt x="59981" y="340609"/>
                </a:lnTo>
                <a:lnTo>
                  <a:pt x="65785" y="340009"/>
                </a:lnTo>
                <a:lnTo>
                  <a:pt x="71638" y="339609"/>
                </a:lnTo>
                <a:lnTo>
                  <a:pt x="77524" y="339343"/>
                </a:lnTo>
                <a:lnTo>
                  <a:pt x="92003" y="339046"/>
                </a:lnTo>
                <a:lnTo>
                  <a:pt x="100030" y="338968"/>
                </a:lnTo>
                <a:lnTo>
                  <a:pt x="107366" y="339907"/>
                </a:lnTo>
                <a:lnTo>
                  <a:pt x="114242" y="341526"/>
                </a:lnTo>
                <a:lnTo>
                  <a:pt x="120810" y="343597"/>
                </a:lnTo>
                <a:lnTo>
                  <a:pt x="129157" y="346962"/>
                </a:lnTo>
                <a:lnTo>
                  <a:pt x="138691" y="351190"/>
                </a:lnTo>
                <a:lnTo>
                  <a:pt x="165779" y="363976"/>
                </a:lnTo>
                <a:lnTo>
                  <a:pt x="173027" y="367493"/>
                </a:lnTo>
                <a:lnTo>
                  <a:pt x="178851" y="370831"/>
                </a:lnTo>
                <a:lnTo>
                  <a:pt x="183727" y="374047"/>
                </a:lnTo>
                <a:lnTo>
                  <a:pt x="187969" y="377184"/>
                </a:lnTo>
                <a:lnTo>
                  <a:pt x="192781" y="380268"/>
                </a:lnTo>
                <a:lnTo>
                  <a:pt x="197974" y="383315"/>
                </a:lnTo>
                <a:lnTo>
                  <a:pt x="203420" y="386340"/>
                </a:lnTo>
                <a:lnTo>
                  <a:pt x="209035" y="391332"/>
                </a:lnTo>
                <a:lnTo>
                  <a:pt x="214763" y="397637"/>
                </a:lnTo>
                <a:lnTo>
                  <a:pt x="232172" y="419177"/>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47" name="SMARTInkAnnotation140"/>
          <p:cNvSpPr/>
          <p:nvPr/>
        </p:nvSpPr>
        <p:spPr>
          <a:xfrm>
            <a:off x="4402080" y="3571920"/>
            <a:ext cx="360" cy="9360"/>
          </a:xfrm>
          <a:custGeom>
            <a:avLst/>
            <a:gdLst>
              <a:gd name="textAreaLeft" fmla="*/ 0 w 360"/>
              <a:gd name="textAreaRight" fmla="*/ 720 w 360"/>
              <a:gd name="textAreaTop" fmla="*/ 0 h 9360"/>
              <a:gd name="textAreaBottom" fmla="*/ 9720 h 9360"/>
            </a:gdLst>
            <a:ahLst/>
            <a:rect l="textAreaLeft" t="textAreaTop" r="textAreaRight" b="textAreaBottom"/>
            <a:pathLst>
              <a:path w="1" h="8930">
                <a:moveTo>
                  <a:pt x="0" y="8929"/>
                </a:moveTo>
                <a:lnTo>
                  <a:pt x="0" y="0"/>
                </a:lnTo>
              </a:path>
            </a:pathLst>
          </a:custGeom>
          <a:noFill/>
          <a:ln w="38160">
            <a:solidFill>
              <a:srgbClr val="009300"/>
            </a:solidFill>
            <a:roun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Constantia"/>
            </a:endParaRPr>
          </a:p>
        </p:txBody>
      </p:sp>
      <p:sp>
        <p:nvSpPr>
          <p:cNvPr id="348" name="SMARTInkAnnotation141"/>
          <p:cNvSpPr/>
          <p:nvPr/>
        </p:nvSpPr>
        <p:spPr>
          <a:xfrm>
            <a:off x="4473720" y="3143160"/>
            <a:ext cx="204480" cy="490680"/>
          </a:xfrm>
          <a:custGeom>
            <a:avLst/>
            <a:gdLst>
              <a:gd name="textAreaLeft" fmla="*/ 0 w 204480"/>
              <a:gd name="textAreaRight" fmla="*/ 204840 w 204480"/>
              <a:gd name="textAreaTop" fmla="*/ 0 h 490680"/>
              <a:gd name="textAreaBottom" fmla="*/ 491040 h 490680"/>
            </a:gdLst>
            <a:ahLst/>
            <a:rect l="textAreaLeft" t="textAreaTop" r="textAreaRight" b="textAreaBottom"/>
            <a:pathLst>
              <a:path w="204822" h="491121">
                <a:moveTo>
                  <a:pt x="8930" y="35706"/>
                </a:moveTo>
                <a:lnTo>
                  <a:pt x="8930" y="30966"/>
                </a:lnTo>
                <a:lnTo>
                  <a:pt x="9922" y="28577"/>
                </a:lnTo>
                <a:lnTo>
                  <a:pt x="13670" y="23278"/>
                </a:lnTo>
                <a:lnTo>
                  <a:pt x="16059" y="21467"/>
                </a:lnTo>
                <a:lnTo>
                  <a:pt x="18643" y="20260"/>
                </a:lnTo>
                <a:lnTo>
                  <a:pt x="21358" y="19456"/>
                </a:lnTo>
                <a:lnTo>
                  <a:pt x="27022" y="15917"/>
                </a:lnTo>
                <a:lnTo>
                  <a:pt x="32846" y="11036"/>
                </a:lnTo>
                <a:lnTo>
                  <a:pt x="38741" y="5559"/>
                </a:lnTo>
                <a:lnTo>
                  <a:pt x="42695" y="3702"/>
                </a:lnTo>
                <a:lnTo>
                  <a:pt x="47314" y="2464"/>
                </a:lnTo>
                <a:lnTo>
                  <a:pt x="52379" y="1639"/>
                </a:lnTo>
                <a:lnTo>
                  <a:pt x="57740" y="1088"/>
                </a:lnTo>
                <a:lnTo>
                  <a:pt x="63298" y="721"/>
                </a:lnTo>
                <a:lnTo>
                  <a:pt x="68988" y="477"/>
                </a:lnTo>
                <a:lnTo>
                  <a:pt x="80601" y="205"/>
                </a:lnTo>
                <a:lnTo>
                  <a:pt x="122053" y="0"/>
                </a:lnTo>
                <a:lnTo>
                  <a:pt x="128993" y="988"/>
                </a:lnTo>
                <a:lnTo>
                  <a:pt x="136597" y="2639"/>
                </a:lnTo>
                <a:lnTo>
                  <a:pt x="144643" y="4732"/>
                </a:lnTo>
                <a:lnTo>
                  <a:pt x="150999" y="7119"/>
                </a:lnTo>
                <a:lnTo>
                  <a:pt x="156228" y="9703"/>
                </a:lnTo>
                <a:lnTo>
                  <a:pt x="160707" y="12417"/>
                </a:lnTo>
                <a:lnTo>
                  <a:pt x="165677" y="15220"/>
                </a:lnTo>
                <a:lnTo>
                  <a:pt x="176491" y="20979"/>
                </a:lnTo>
                <a:lnTo>
                  <a:pt x="181161" y="22911"/>
                </a:lnTo>
                <a:lnTo>
                  <a:pt x="185266" y="24200"/>
                </a:lnTo>
                <a:lnTo>
                  <a:pt x="188995" y="25059"/>
                </a:lnTo>
                <a:lnTo>
                  <a:pt x="192473" y="26623"/>
                </a:lnTo>
                <a:lnTo>
                  <a:pt x="195784" y="28659"/>
                </a:lnTo>
                <a:lnTo>
                  <a:pt x="198984" y="31008"/>
                </a:lnTo>
                <a:lnTo>
                  <a:pt x="201117" y="33566"/>
                </a:lnTo>
                <a:lnTo>
                  <a:pt x="202538" y="36264"/>
                </a:lnTo>
                <a:lnTo>
                  <a:pt x="203487" y="39054"/>
                </a:lnTo>
                <a:lnTo>
                  <a:pt x="204821" y="52463"/>
                </a:lnTo>
                <a:lnTo>
                  <a:pt x="204016" y="56799"/>
                </a:lnTo>
                <a:lnTo>
                  <a:pt x="198142" y="68635"/>
                </a:lnTo>
                <a:lnTo>
                  <a:pt x="192904" y="78784"/>
                </a:lnTo>
                <a:lnTo>
                  <a:pt x="189126" y="83276"/>
                </a:lnTo>
                <a:lnTo>
                  <a:pt x="184623" y="87263"/>
                </a:lnTo>
                <a:lnTo>
                  <a:pt x="179637" y="90914"/>
                </a:lnTo>
                <a:lnTo>
                  <a:pt x="174328" y="94339"/>
                </a:lnTo>
                <a:lnTo>
                  <a:pt x="168805" y="97615"/>
                </a:lnTo>
                <a:lnTo>
                  <a:pt x="163138" y="100791"/>
                </a:lnTo>
                <a:lnTo>
                  <a:pt x="157376" y="104893"/>
                </a:lnTo>
                <a:lnTo>
                  <a:pt x="151550" y="109612"/>
                </a:lnTo>
                <a:lnTo>
                  <a:pt x="145682" y="114743"/>
                </a:lnTo>
                <a:lnTo>
                  <a:pt x="139785" y="119155"/>
                </a:lnTo>
                <a:lnTo>
                  <a:pt x="133870" y="123089"/>
                </a:lnTo>
                <a:lnTo>
                  <a:pt x="127942" y="126703"/>
                </a:lnTo>
                <a:lnTo>
                  <a:pt x="122006" y="130106"/>
                </a:lnTo>
                <a:lnTo>
                  <a:pt x="110118" y="136531"/>
                </a:lnTo>
                <a:lnTo>
                  <a:pt x="92269" y="145727"/>
                </a:lnTo>
                <a:lnTo>
                  <a:pt x="87310" y="149733"/>
                </a:lnTo>
                <a:lnTo>
                  <a:pt x="83011" y="154388"/>
                </a:lnTo>
                <a:lnTo>
                  <a:pt x="79153" y="159476"/>
                </a:lnTo>
                <a:lnTo>
                  <a:pt x="74867" y="167775"/>
                </a:lnTo>
                <a:lnTo>
                  <a:pt x="72961" y="175763"/>
                </a:lnTo>
                <a:lnTo>
                  <a:pt x="72115" y="185928"/>
                </a:lnTo>
                <a:lnTo>
                  <a:pt x="72882" y="190424"/>
                </a:lnTo>
                <a:lnTo>
                  <a:pt x="78701" y="202485"/>
                </a:lnTo>
                <a:lnTo>
                  <a:pt x="83926" y="212687"/>
                </a:lnTo>
                <a:lnTo>
                  <a:pt x="89556" y="221190"/>
                </a:lnTo>
                <a:lnTo>
                  <a:pt x="95365" y="229268"/>
                </a:lnTo>
                <a:lnTo>
                  <a:pt x="101254" y="239474"/>
                </a:lnTo>
                <a:lnTo>
                  <a:pt x="105206" y="243981"/>
                </a:lnTo>
                <a:lnTo>
                  <a:pt x="109825" y="247978"/>
                </a:lnTo>
                <a:lnTo>
                  <a:pt x="114888" y="251635"/>
                </a:lnTo>
                <a:lnTo>
                  <a:pt x="119256" y="256057"/>
                </a:lnTo>
                <a:lnTo>
                  <a:pt x="123160" y="260989"/>
                </a:lnTo>
                <a:lnTo>
                  <a:pt x="126755" y="266262"/>
                </a:lnTo>
                <a:lnTo>
                  <a:pt x="130145" y="271762"/>
                </a:lnTo>
                <a:lnTo>
                  <a:pt x="133395" y="277413"/>
                </a:lnTo>
                <a:lnTo>
                  <a:pt x="139654" y="288983"/>
                </a:lnTo>
                <a:lnTo>
                  <a:pt x="154749" y="318515"/>
                </a:lnTo>
                <a:lnTo>
                  <a:pt x="158074" y="330402"/>
                </a:lnTo>
                <a:lnTo>
                  <a:pt x="159946" y="345604"/>
                </a:lnTo>
                <a:lnTo>
                  <a:pt x="160209" y="349462"/>
                </a:lnTo>
                <a:lnTo>
                  <a:pt x="157855" y="359038"/>
                </a:lnTo>
                <a:lnTo>
                  <a:pt x="153501" y="369909"/>
                </a:lnTo>
                <a:lnTo>
                  <a:pt x="148259" y="381356"/>
                </a:lnTo>
                <a:lnTo>
                  <a:pt x="139730" y="398956"/>
                </a:lnTo>
                <a:lnTo>
                  <a:pt x="135817" y="403880"/>
                </a:lnTo>
                <a:lnTo>
                  <a:pt x="131225" y="408156"/>
                </a:lnTo>
                <a:lnTo>
                  <a:pt x="126178" y="411998"/>
                </a:lnTo>
                <a:lnTo>
                  <a:pt x="120830" y="416544"/>
                </a:lnTo>
                <a:lnTo>
                  <a:pt x="115280" y="421559"/>
                </a:lnTo>
                <a:lnTo>
                  <a:pt x="109596" y="426887"/>
                </a:lnTo>
                <a:lnTo>
                  <a:pt x="103822" y="431431"/>
                </a:lnTo>
                <a:lnTo>
                  <a:pt x="97988" y="435452"/>
                </a:lnTo>
                <a:lnTo>
                  <a:pt x="92114" y="439126"/>
                </a:lnTo>
                <a:lnTo>
                  <a:pt x="86214" y="442567"/>
                </a:lnTo>
                <a:lnTo>
                  <a:pt x="80296" y="445853"/>
                </a:lnTo>
                <a:lnTo>
                  <a:pt x="74367" y="449036"/>
                </a:lnTo>
                <a:lnTo>
                  <a:pt x="68429" y="453142"/>
                </a:lnTo>
                <a:lnTo>
                  <a:pt x="62487" y="457864"/>
                </a:lnTo>
                <a:lnTo>
                  <a:pt x="56541" y="462996"/>
                </a:lnTo>
                <a:lnTo>
                  <a:pt x="51585" y="466418"/>
                </a:lnTo>
                <a:lnTo>
                  <a:pt x="47288" y="468699"/>
                </a:lnTo>
                <a:lnTo>
                  <a:pt x="43431" y="470220"/>
                </a:lnTo>
                <a:lnTo>
                  <a:pt x="38876" y="472226"/>
                </a:lnTo>
                <a:lnTo>
                  <a:pt x="28523" y="477100"/>
                </a:lnTo>
                <a:lnTo>
                  <a:pt x="23976" y="478797"/>
                </a:lnTo>
                <a:lnTo>
                  <a:pt x="19953" y="479928"/>
                </a:lnTo>
                <a:lnTo>
                  <a:pt x="16279" y="480683"/>
                </a:lnTo>
                <a:lnTo>
                  <a:pt x="12837" y="481185"/>
                </a:lnTo>
                <a:lnTo>
                  <a:pt x="9550" y="481520"/>
                </a:lnTo>
                <a:lnTo>
                  <a:pt x="6367" y="481744"/>
                </a:lnTo>
                <a:lnTo>
                  <a:pt x="4245" y="482885"/>
                </a:lnTo>
                <a:lnTo>
                  <a:pt x="2830" y="484638"/>
                </a:lnTo>
                <a:lnTo>
                  <a:pt x="0" y="49112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49" name="SMARTInkAnnotation142"/>
          <p:cNvSpPr/>
          <p:nvPr/>
        </p:nvSpPr>
        <p:spPr>
          <a:xfrm>
            <a:off x="4660920" y="3421080"/>
            <a:ext cx="223920" cy="303120"/>
          </a:xfrm>
          <a:custGeom>
            <a:avLst/>
            <a:gdLst>
              <a:gd name="textAreaLeft" fmla="*/ 0 w 223920"/>
              <a:gd name="textAreaRight" fmla="*/ 224280 w 223920"/>
              <a:gd name="textAreaTop" fmla="*/ 0 h 303120"/>
              <a:gd name="textAreaBottom" fmla="*/ 303480 h 303120"/>
            </a:gdLst>
            <a:ahLst/>
            <a:rect l="textAreaLeft" t="textAreaTop" r="textAreaRight" b="textAreaBottom"/>
            <a:pathLst>
              <a:path w="222869" h="303052">
                <a:moveTo>
                  <a:pt x="26418" y="35160"/>
                </a:moveTo>
                <a:lnTo>
                  <a:pt x="26418" y="165580"/>
                </a:lnTo>
                <a:lnTo>
                  <a:pt x="25427" y="171716"/>
                </a:lnTo>
                <a:lnTo>
                  <a:pt x="23773" y="177791"/>
                </a:lnTo>
                <a:lnTo>
                  <a:pt x="21678" y="183825"/>
                </a:lnTo>
                <a:lnTo>
                  <a:pt x="20282" y="189833"/>
                </a:lnTo>
                <a:lnTo>
                  <a:pt x="19351" y="195822"/>
                </a:lnTo>
                <a:lnTo>
                  <a:pt x="18730" y="201799"/>
                </a:lnTo>
                <a:lnTo>
                  <a:pt x="15395" y="211086"/>
                </a:lnTo>
                <a:lnTo>
                  <a:pt x="13116" y="214952"/>
                </a:lnTo>
                <a:lnTo>
                  <a:pt x="11598" y="219513"/>
                </a:lnTo>
                <a:lnTo>
                  <a:pt x="10585" y="224539"/>
                </a:lnTo>
                <a:lnTo>
                  <a:pt x="9909" y="229874"/>
                </a:lnTo>
                <a:lnTo>
                  <a:pt x="9159" y="238446"/>
                </a:lnTo>
                <a:lnTo>
                  <a:pt x="8677" y="247294"/>
                </a:lnTo>
                <a:lnTo>
                  <a:pt x="7646" y="248020"/>
                </a:lnTo>
                <a:lnTo>
                  <a:pt x="881" y="249281"/>
                </a:lnTo>
                <a:lnTo>
                  <a:pt x="464" y="248352"/>
                </a:lnTo>
                <a:lnTo>
                  <a:pt x="0" y="244675"/>
                </a:lnTo>
                <a:lnTo>
                  <a:pt x="869" y="242305"/>
                </a:lnTo>
                <a:lnTo>
                  <a:pt x="4480" y="237027"/>
                </a:lnTo>
                <a:lnTo>
                  <a:pt x="6746" y="228728"/>
                </a:lnTo>
                <a:lnTo>
                  <a:pt x="7350" y="223736"/>
                </a:lnTo>
                <a:lnTo>
                  <a:pt x="7753" y="218424"/>
                </a:lnTo>
                <a:lnTo>
                  <a:pt x="8022" y="212899"/>
                </a:lnTo>
                <a:lnTo>
                  <a:pt x="8201" y="207230"/>
                </a:lnTo>
                <a:lnTo>
                  <a:pt x="9313" y="200475"/>
                </a:lnTo>
                <a:lnTo>
                  <a:pt x="11047" y="192995"/>
                </a:lnTo>
                <a:lnTo>
                  <a:pt x="13194" y="185032"/>
                </a:lnTo>
                <a:lnTo>
                  <a:pt x="14625" y="177738"/>
                </a:lnTo>
                <a:lnTo>
                  <a:pt x="15580" y="170892"/>
                </a:lnTo>
                <a:lnTo>
                  <a:pt x="16217" y="164343"/>
                </a:lnTo>
                <a:lnTo>
                  <a:pt x="17633" y="157001"/>
                </a:lnTo>
                <a:lnTo>
                  <a:pt x="19570" y="149129"/>
                </a:lnTo>
                <a:lnTo>
                  <a:pt x="21852" y="140905"/>
                </a:lnTo>
                <a:lnTo>
                  <a:pt x="23375" y="133438"/>
                </a:lnTo>
                <a:lnTo>
                  <a:pt x="24389" y="126475"/>
                </a:lnTo>
                <a:lnTo>
                  <a:pt x="25066" y="119849"/>
                </a:lnTo>
                <a:lnTo>
                  <a:pt x="26510" y="112455"/>
                </a:lnTo>
                <a:lnTo>
                  <a:pt x="28463" y="104550"/>
                </a:lnTo>
                <a:lnTo>
                  <a:pt x="30758" y="96303"/>
                </a:lnTo>
                <a:lnTo>
                  <a:pt x="33280" y="88820"/>
                </a:lnTo>
                <a:lnTo>
                  <a:pt x="35954" y="81847"/>
                </a:lnTo>
                <a:lnTo>
                  <a:pt x="38729" y="75214"/>
                </a:lnTo>
                <a:lnTo>
                  <a:pt x="41570" y="68808"/>
                </a:lnTo>
                <a:lnTo>
                  <a:pt x="47375" y="56399"/>
                </a:lnTo>
                <a:lnTo>
                  <a:pt x="50311" y="51303"/>
                </a:lnTo>
                <a:lnTo>
                  <a:pt x="56220" y="42996"/>
                </a:lnTo>
                <a:lnTo>
                  <a:pt x="59185" y="38400"/>
                </a:lnTo>
                <a:lnTo>
                  <a:pt x="62153" y="33351"/>
                </a:lnTo>
                <a:lnTo>
                  <a:pt x="65125" y="28001"/>
                </a:lnTo>
                <a:lnTo>
                  <a:pt x="71072" y="19410"/>
                </a:lnTo>
                <a:lnTo>
                  <a:pt x="77023" y="12285"/>
                </a:lnTo>
                <a:lnTo>
                  <a:pt x="82974" y="5811"/>
                </a:lnTo>
                <a:lnTo>
                  <a:pt x="85950" y="3687"/>
                </a:lnTo>
                <a:lnTo>
                  <a:pt x="91903" y="1328"/>
                </a:lnTo>
                <a:lnTo>
                  <a:pt x="97856" y="280"/>
                </a:lnTo>
                <a:lnTo>
                  <a:pt x="100833" y="0"/>
                </a:lnTo>
                <a:lnTo>
                  <a:pt x="102817" y="806"/>
                </a:lnTo>
                <a:lnTo>
                  <a:pt x="104140" y="2335"/>
                </a:lnTo>
                <a:lnTo>
                  <a:pt x="105022" y="4347"/>
                </a:lnTo>
                <a:lnTo>
                  <a:pt x="106602" y="5688"/>
                </a:lnTo>
                <a:lnTo>
                  <a:pt x="108648" y="6582"/>
                </a:lnTo>
                <a:lnTo>
                  <a:pt x="111004" y="7178"/>
                </a:lnTo>
                <a:lnTo>
                  <a:pt x="113566" y="9560"/>
                </a:lnTo>
                <a:lnTo>
                  <a:pt x="119060" y="17498"/>
                </a:lnTo>
                <a:lnTo>
                  <a:pt x="120922" y="22393"/>
                </a:lnTo>
                <a:lnTo>
                  <a:pt x="122163" y="27641"/>
                </a:lnTo>
                <a:lnTo>
                  <a:pt x="122991" y="33124"/>
                </a:lnTo>
                <a:lnTo>
                  <a:pt x="123542" y="38763"/>
                </a:lnTo>
                <a:lnTo>
                  <a:pt x="123910" y="44507"/>
                </a:lnTo>
                <a:lnTo>
                  <a:pt x="124155" y="50321"/>
                </a:lnTo>
                <a:lnTo>
                  <a:pt x="125310" y="57173"/>
                </a:lnTo>
                <a:lnTo>
                  <a:pt x="127074" y="64719"/>
                </a:lnTo>
                <a:lnTo>
                  <a:pt x="129240" y="72725"/>
                </a:lnTo>
                <a:lnTo>
                  <a:pt x="129693" y="80047"/>
                </a:lnTo>
                <a:lnTo>
                  <a:pt x="129002" y="86912"/>
                </a:lnTo>
                <a:lnTo>
                  <a:pt x="127550" y="93474"/>
                </a:lnTo>
                <a:lnTo>
                  <a:pt x="126581" y="100825"/>
                </a:lnTo>
                <a:lnTo>
                  <a:pt x="125936" y="108702"/>
                </a:lnTo>
                <a:lnTo>
                  <a:pt x="125506" y="116930"/>
                </a:lnTo>
                <a:lnTo>
                  <a:pt x="124226" y="124400"/>
                </a:lnTo>
                <a:lnTo>
                  <a:pt x="122382" y="131364"/>
                </a:lnTo>
                <a:lnTo>
                  <a:pt x="120160" y="137991"/>
                </a:lnTo>
                <a:lnTo>
                  <a:pt x="118678" y="144394"/>
                </a:lnTo>
                <a:lnTo>
                  <a:pt x="117691" y="150647"/>
                </a:lnTo>
                <a:lnTo>
                  <a:pt x="117032" y="156799"/>
                </a:lnTo>
                <a:lnTo>
                  <a:pt x="115601" y="162886"/>
                </a:lnTo>
                <a:lnTo>
                  <a:pt x="113655" y="168927"/>
                </a:lnTo>
                <a:lnTo>
                  <a:pt x="111365" y="174940"/>
                </a:lnTo>
                <a:lnTo>
                  <a:pt x="108821" y="184266"/>
                </a:lnTo>
                <a:lnTo>
                  <a:pt x="108142" y="188142"/>
                </a:lnTo>
                <a:lnTo>
                  <a:pt x="104743" y="195094"/>
                </a:lnTo>
                <a:lnTo>
                  <a:pt x="97892" y="204774"/>
                </a:lnTo>
                <a:lnTo>
                  <a:pt x="102607" y="200068"/>
                </a:lnTo>
                <a:lnTo>
                  <a:pt x="104001" y="197685"/>
                </a:lnTo>
                <a:lnTo>
                  <a:pt x="106953" y="188597"/>
                </a:lnTo>
                <a:lnTo>
                  <a:pt x="108882" y="184084"/>
                </a:lnTo>
                <a:lnTo>
                  <a:pt x="111160" y="179091"/>
                </a:lnTo>
                <a:lnTo>
                  <a:pt x="113671" y="172786"/>
                </a:lnTo>
                <a:lnTo>
                  <a:pt x="119106" y="157842"/>
                </a:lnTo>
                <a:lnTo>
                  <a:pt x="121944" y="150683"/>
                </a:lnTo>
                <a:lnTo>
                  <a:pt x="124829" y="143925"/>
                </a:lnTo>
                <a:lnTo>
                  <a:pt x="130680" y="131125"/>
                </a:lnTo>
                <a:lnTo>
                  <a:pt x="142521" y="106739"/>
                </a:lnTo>
                <a:lnTo>
                  <a:pt x="145492" y="100738"/>
                </a:lnTo>
                <a:lnTo>
                  <a:pt x="151439" y="91426"/>
                </a:lnTo>
                <a:lnTo>
                  <a:pt x="157390" y="83979"/>
                </a:lnTo>
                <a:lnTo>
                  <a:pt x="163341" y="77362"/>
                </a:lnTo>
                <a:lnTo>
                  <a:pt x="169294" y="71114"/>
                </a:lnTo>
                <a:lnTo>
                  <a:pt x="172270" y="68059"/>
                </a:lnTo>
                <a:lnTo>
                  <a:pt x="175247" y="66022"/>
                </a:lnTo>
                <a:lnTo>
                  <a:pt x="181200" y="63759"/>
                </a:lnTo>
                <a:lnTo>
                  <a:pt x="187153" y="62753"/>
                </a:lnTo>
                <a:lnTo>
                  <a:pt x="190129" y="62485"/>
                </a:lnTo>
                <a:lnTo>
                  <a:pt x="193106" y="63299"/>
                </a:lnTo>
                <a:lnTo>
                  <a:pt x="199059" y="66848"/>
                </a:lnTo>
                <a:lnTo>
                  <a:pt x="203249" y="69684"/>
                </a:lnTo>
                <a:lnTo>
                  <a:pt x="206874" y="75639"/>
                </a:lnTo>
                <a:lnTo>
                  <a:pt x="210801" y="83909"/>
                </a:lnTo>
                <a:lnTo>
                  <a:pt x="212546" y="90891"/>
                </a:lnTo>
                <a:lnTo>
                  <a:pt x="215967" y="99947"/>
                </a:lnTo>
                <a:lnTo>
                  <a:pt x="218268" y="105141"/>
                </a:lnTo>
                <a:lnTo>
                  <a:pt x="219803" y="111579"/>
                </a:lnTo>
                <a:lnTo>
                  <a:pt x="220826" y="118848"/>
                </a:lnTo>
                <a:lnTo>
                  <a:pt x="221508" y="126671"/>
                </a:lnTo>
                <a:lnTo>
                  <a:pt x="221963" y="133870"/>
                </a:lnTo>
                <a:lnTo>
                  <a:pt x="222468" y="147161"/>
                </a:lnTo>
                <a:lnTo>
                  <a:pt x="222792" y="178000"/>
                </a:lnTo>
                <a:lnTo>
                  <a:pt x="222868" y="236207"/>
                </a:lnTo>
                <a:lnTo>
                  <a:pt x="221877" y="242614"/>
                </a:lnTo>
                <a:lnTo>
                  <a:pt x="220224" y="248868"/>
                </a:lnTo>
                <a:lnTo>
                  <a:pt x="218131" y="255023"/>
                </a:lnTo>
                <a:lnTo>
                  <a:pt x="216734" y="261110"/>
                </a:lnTo>
                <a:lnTo>
                  <a:pt x="215803" y="267152"/>
                </a:lnTo>
                <a:lnTo>
                  <a:pt x="215183" y="273165"/>
                </a:lnTo>
                <a:lnTo>
                  <a:pt x="214493" y="282492"/>
                </a:lnTo>
                <a:lnTo>
                  <a:pt x="214187" y="289945"/>
                </a:lnTo>
                <a:lnTo>
                  <a:pt x="213942" y="303051"/>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50" name="SMARTInkAnnotation143"/>
          <p:cNvSpPr/>
          <p:nvPr/>
        </p:nvSpPr>
        <p:spPr>
          <a:xfrm>
            <a:off x="4938840" y="3027240"/>
            <a:ext cx="123840" cy="795600"/>
          </a:xfrm>
          <a:custGeom>
            <a:avLst/>
            <a:gdLst>
              <a:gd name="textAreaLeft" fmla="*/ 0 w 123840"/>
              <a:gd name="textAreaRight" fmla="*/ 124200 w 123840"/>
              <a:gd name="textAreaTop" fmla="*/ 0 h 795600"/>
              <a:gd name="textAreaBottom" fmla="*/ 795960 h 795600"/>
            </a:gdLst>
            <a:ahLst/>
            <a:rect l="textAreaLeft" t="textAreaTop" r="textAreaRight" b="textAreaBottom"/>
            <a:pathLst>
              <a:path w="125003" h="794743">
                <a:moveTo>
                  <a:pt x="17859" y="0"/>
                </a:moveTo>
                <a:lnTo>
                  <a:pt x="22599" y="0"/>
                </a:lnTo>
                <a:lnTo>
                  <a:pt x="23996" y="992"/>
                </a:lnTo>
                <a:lnTo>
                  <a:pt x="24927" y="2645"/>
                </a:lnTo>
                <a:lnTo>
                  <a:pt x="25548" y="4740"/>
                </a:lnTo>
                <a:lnTo>
                  <a:pt x="28883" y="9713"/>
                </a:lnTo>
                <a:lnTo>
                  <a:pt x="31161" y="12428"/>
                </a:lnTo>
                <a:lnTo>
                  <a:pt x="33673" y="16223"/>
                </a:lnTo>
                <a:lnTo>
                  <a:pt x="36339" y="20737"/>
                </a:lnTo>
                <a:lnTo>
                  <a:pt x="39109" y="25731"/>
                </a:lnTo>
                <a:lnTo>
                  <a:pt x="42939" y="31044"/>
                </a:lnTo>
                <a:lnTo>
                  <a:pt x="47478" y="36571"/>
                </a:lnTo>
                <a:lnTo>
                  <a:pt x="52488" y="42240"/>
                </a:lnTo>
                <a:lnTo>
                  <a:pt x="56820" y="48996"/>
                </a:lnTo>
                <a:lnTo>
                  <a:pt x="60701" y="56476"/>
                </a:lnTo>
                <a:lnTo>
                  <a:pt x="64279" y="64440"/>
                </a:lnTo>
                <a:lnTo>
                  <a:pt x="67657" y="73717"/>
                </a:lnTo>
                <a:lnTo>
                  <a:pt x="70902" y="83871"/>
                </a:lnTo>
                <a:lnTo>
                  <a:pt x="77152" y="104745"/>
                </a:lnTo>
                <a:lnTo>
                  <a:pt x="83238" y="123944"/>
                </a:lnTo>
                <a:lnTo>
                  <a:pt x="86249" y="134223"/>
                </a:lnTo>
                <a:lnTo>
                  <a:pt x="92242" y="156227"/>
                </a:lnTo>
                <a:lnTo>
                  <a:pt x="95229" y="168644"/>
                </a:lnTo>
                <a:lnTo>
                  <a:pt x="116084" y="261111"/>
                </a:lnTo>
                <a:lnTo>
                  <a:pt x="119062" y="275277"/>
                </a:lnTo>
                <a:lnTo>
                  <a:pt x="121046" y="289682"/>
                </a:lnTo>
                <a:lnTo>
                  <a:pt x="122369" y="304246"/>
                </a:lnTo>
                <a:lnTo>
                  <a:pt x="123251" y="318917"/>
                </a:lnTo>
                <a:lnTo>
                  <a:pt x="124232" y="351092"/>
                </a:lnTo>
                <a:lnTo>
                  <a:pt x="124970" y="461010"/>
                </a:lnTo>
                <a:lnTo>
                  <a:pt x="125002" y="501169"/>
                </a:lnTo>
                <a:lnTo>
                  <a:pt x="124014" y="514691"/>
                </a:lnTo>
                <a:lnTo>
                  <a:pt x="122364" y="528666"/>
                </a:lnTo>
                <a:lnTo>
                  <a:pt x="120271" y="542944"/>
                </a:lnTo>
                <a:lnTo>
                  <a:pt x="117884" y="556431"/>
                </a:lnTo>
                <a:lnTo>
                  <a:pt x="115300" y="569392"/>
                </a:lnTo>
                <a:lnTo>
                  <a:pt x="109783" y="594375"/>
                </a:lnTo>
                <a:lnTo>
                  <a:pt x="104024" y="618708"/>
                </a:lnTo>
                <a:lnTo>
                  <a:pt x="100108" y="630753"/>
                </a:lnTo>
                <a:lnTo>
                  <a:pt x="95512" y="642752"/>
                </a:lnTo>
                <a:lnTo>
                  <a:pt x="90463" y="654720"/>
                </a:lnTo>
                <a:lnTo>
                  <a:pt x="86106" y="665676"/>
                </a:lnTo>
                <a:lnTo>
                  <a:pt x="78618" y="685785"/>
                </a:lnTo>
                <a:lnTo>
                  <a:pt x="74240" y="695315"/>
                </a:lnTo>
                <a:lnTo>
                  <a:pt x="69337" y="704645"/>
                </a:lnTo>
                <a:lnTo>
                  <a:pt x="59590" y="721956"/>
                </a:lnTo>
                <a:lnTo>
                  <a:pt x="51950" y="736265"/>
                </a:lnTo>
                <a:lnTo>
                  <a:pt x="47532" y="742859"/>
                </a:lnTo>
                <a:lnTo>
                  <a:pt x="42602" y="749239"/>
                </a:lnTo>
                <a:lnTo>
                  <a:pt x="37331" y="755477"/>
                </a:lnTo>
                <a:lnTo>
                  <a:pt x="31833" y="761620"/>
                </a:lnTo>
                <a:lnTo>
                  <a:pt x="20431" y="773737"/>
                </a:lnTo>
                <a:lnTo>
                  <a:pt x="0" y="794742"/>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51" name="SMARTInkAnnotation144"/>
          <p:cNvSpPr/>
          <p:nvPr/>
        </p:nvSpPr>
        <p:spPr>
          <a:xfrm>
            <a:off x="5232240" y="3303720"/>
            <a:ext cx="285840" cy="9360"/>
          </a:xfrm>
          <a:custGeom>
            <a:avLst/>
            <a:gdLst>
              <a:gd name="textAreaLeft" fmla="*/ 0 w 285840"/>
              <a:gd name="textAreaRight" fmla="*/ 286200 w 285840"/>
              <a:gd name="textAreaTop" fmla="*/ 0 h 9360"/>
              <a:gd name="textAreaBottom" fmla="*/ 9720 h 9360"/>
            </a:gdLst>
            <a:ahLst/>
            <a:rect l="textAreaLeft" t="textAreaTop" r="textAreaRight" b="textAreaBottom"/>
            <a:pathLst>
              <a:path w="285751" h="8931">
                <a:moveTo>
                  <a:pt x="0" y="8930"/>
                </a:moveTo>
                <a:lnTo>
                  <a:pt x="12429" y="8930"/>
                </a:lnTo>
                <a:lnTo>
                  <a:pt x="16224" y="7937"/>
                </a:lnTo>
                <a:lnTo>
                  <a:pt x="20738" y="6284"/>
                </a:lnTo>
                <a:lnTo>
                  <a:pt x="25732" y="4189"/>
                </a:lnTo>
                <a:lnTo>
                  <a:pt x="34022" y="2792"/>
                </a:lnTo>
                <a:lnTo>
                  <a:pt x="44509" y="1862"/>
                </a:lnTo>
                <a:lnTo>
                  <a:pt x="66415" y="827"/>
                </a:lnTo>
                <a:lnTo>
                  <a:pt x="82765" y="367"/>
                </a:lnTo>
                <a:lnTo>
                  <a:pt x="143016" y="22"/>
                </a:lnTo>
                <a:lnTo>
                  <a:pt x="227801" y="0"/>
                </a:lnTo>
                <a:lnTo>
                  <a:pt x="234219" y="992"/>
                </a:lnTo>
                <a:lnTo>
                  <a:pt x="240483" y="2646"/>
                </a:lnTo>
                <a:lnTo>
                  <a:pt x="246643" y="4741"/>
                </a:lnTo>
                <a:lnTo>
                  <a:pt x="251741" y="6137"/>
                </a:lnTo>
                <a:lnTo>
                  <a:pt x="256132" y="7068"/>
                </a:lnTo>
                <a:lnTo>
                  <a:pt x="260052" y="7689"/>
                </a:lnTo>
                <a:lnTo>
                  <a:pt x="264649" y="8102"/>
                </a:lnTo>
                <a:lnTo>
                  <a:pt x="269698" y="8378"/>
                </a:lnTo>
                <a:lnTo>
                  <a:pt x="285750" y="8930"/>
                </a:lnTo>
              </a:path>
            </a:pathLst>
          </a:custGeom>
          <a:noFill/>
          <a:ln w="38160">
            <a:solidFill>
              <a:srgbClr val="009300"/>
            </a:solidFill>
            <a:roun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Constantia"/>
            </a:endParaRPr>
          </a:p>
        </p:txBody>
      </p:sp>
      <p:sp>
        <p:nvSpPr>
          <p:cNvPr id="352" name="SMARTInkAnnotation145"/>
          <p:cNvSpPr/>
          <p:nvPr/>
        </p:nvSpPr>
        <p:spPr>
          <a:xfrm>
            <a:off x="5214960" y="3456000"/>
            <a:ext cx="276120" cy="360"/>
          </a:xfrm>
          <a:custGeom>
            <a:avLst/>
            <a:gdLst>
              <a:gd name="textAreaLeft" fmla="*/ 0 w 276120"/>
              <a:gd name="textAreaRight" fmla="*/ 276480 w 276120"/>
              <a:gd name="textAreaTop" fmla="*/ 0 h 360"/>
              <a:gd name="textAreaBottom" fmla="*/ 720 h 360"/>
            </a:gdLst>
            <a:ahLst/>
            <a:rect l="textAreaLeft" t="textAreaTop" r="textAreaRight" b="textAreaBottom"/>
            <a:pathLst>
              <a:path w="276821" h="1">
                <a:moveTo>
                  <a:pt x="0" y="0"/>
                </a:moveTo>
                <a:lnTo>
                  <a:pt x="276820" y="0"/>
                </a:lnTo>
              </a:path>
            </a:pathLst>
          </a:custGeom>
          <a:noFill/>
          <a:ln w="38160">
            <a:solidFill>
              <a:srgbClr val="009300"/>
            </a:solidFill>
            <a:round/>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Constantia"/>
            </a:endParaRPr>
          </a:p>
        </p:txBody>
      </p:sp>
      <p:sp>
        <p:nvSpPr>
          <p:cNvPr id="353" name="SMARTInkAnnotation146"/>
          <p:cNvSpPr/>
          <p:nvPr/>
        </p:nvSpPr>
        <p:spPr>
          <a:xfrm>
            <a:off x="5705640" y="3143160"/>
            <a:ext cx="291960" cy="554040"/>
          </a:xfrm>
          <a:custGeom>
            <a:avLst/>
            <a:gdLst>
              <a:gd name="textAreaLeft" fmla="*/ 0 w 291960"/>
              <a:gd name="textAreaRight" fmla="*/ 291960 w 291960"/>
              <a:gd name="textAreaTop" fmla="*/ 0 h 554040"/>
              <a:gd name="textAreaBottom" fmla="*/ 554400 h 554040"/>
            </a:gdLst>
            <a:ahLst/>
            <a:rect l="textAreaLeft" t="textAreaTop" r="textAreaRight" b="textAreaBottom"/>
            <a:pathLst>
              <a:path w="290895" h="553639">
                <a:moveTo>
                  <a:pt x="0" y="44645"/>
                </a:moveTo>
                <a:lnTo>
                  <a:pt x="0" y="39905"/>
                </a:lnTo>
                <a:lnTo>
                  <a:pt x="992" y="38508"/>
                </a:lnTo>
                <a:lnTo>
                  <a:pt x="2645" y="37577"/>
                </a:lnTo>
                <a:lnTo>
                  <a:pt x="4740" y="36957"/>
                </a:lnTo>
                <a:lnTo>
                  <a:pt x="9714" y="33621"/>
                </a:lnTo>
                <a:lnTo>
                  <a:pt x="18092" y="26166"/>
                </a:lnTo>
                <a:lnTo>
                  <a:pt x="20990" y="23396"/>
                </a:lnTo>
                <a:lnTo>
                  <a:pt x="23916" y="21549"/>
                </a:lnTo>
                <a:lnTo>
                  <a:pt x="29811" y="19497"/>
                </a:lnTo>
                <a:lnTo>
                  <a:pt x="38385" y="15940"/>
                </a:lnTo>
                <a:lnTo>
                  <a:pt x="43449" y="13602"/>
                </a:lnTo>
                <a:lnTo>
                  <a:pt x="51722" y="11005"/>
                </a:lnTo>
                <a:lnTo>
                  <a:pt x="59699" y="9850"/>
                </a:lnTo>
                <a:lnTo>
                  <a:pt x="64604" y="9542"/>
                </a:lnTo>
                <a:lnTo>
                  <a:pt x="69858" y="9337"/>
                </a:lnTo>
                <a:lnTo>
                  <a:pt x="75345" y="8208"/>
                </a:lnTo>
                <a:lnTo>
                  <a:pt x="80989" y="6463"/>
                </a:lnTo>
                <a:lnTo>
                  <a:pt x="86734" y="4307"/>
                </a:lnTo>
                <a:lnTo>
                  <a:pt x="92550" y="2871"/>
                </a:lnTo>
                <a:lnTo>
                  <a:pt x="98411" y="1913"/>
                </a:lnTo>
                <a:lnTo>
                  <a:pt x="104302" y="1274"/>
                </a:lnTo>
                <a:lnTo>
                  <a:pt x="109223" y="848"/>
                </a:lnTo>
                <a:lnTo>
                  <a:pt x="117335" y="375"/>
                </a:lnTo>
                <a:lnTo>
                  <a:pt x="126893" y="165"/>
                </a:lnTo>
                <a:lnTo>
                  <a:pt x="176891" y="0"/>
                </a:lnTo>
                <a:lnTo>
                  <a:pt x="181427" y="991"/>
                </a:lnTo>
                <a:lnTo>
                  <a:pt x="192552" y="6134"/>
                </a:lnTo>
                <a:lnTo>
                  <a:pt x="199019" y="7685"/>
                </a:lnTo>
                <a:lnTo>
                  <a:pt x="201140" y="9091"/>
                </a:lnTo>
                <a:lnTo>
                  <a:pt x="202555" y="11021"/>
                </a:lnTo>
                <a:lnTo>
                  <a:pt x="203497" y="13299"/>
                </a:lnTo>
                <a:lnTo>
                  <a:pt x="205118" y="14818"/>
                </a:lnTo>
                <a:lnTo>
                  <a:pt x="207191" y="15831"/>
                </a:lnTo>
                <a:lnTo>
                  <a:pt x="209565" y="16506"/>
                </a:lnTo>
                <a:lnTo>
                  <a:pt x="211147" y="17948"/>
                </a:lnTo>
                <a:lnTo>
                  <a:pt x="212202" y="19902"/>
                </a:lnTo>
                <a:lnTo>
                  <a:pt x="213375" y="24718"/>
                </a:lnTo>
                <a:lnTo>
                  <a:pt x="214305" y="41756"/>
                </a:lnTo>
                <a:lnTo>
                  <a:pt x="214312" y="44645"/>
                </a:lnTo>
                <a:lnTo>
                  <a:pt x="223133" y="44645"/>
                </a:lnTo>
                <a:lnTo>
                  <a:pt x="230921" y="52333"/>
                </a:lnTo>
                <a:lnTo>
                  <a:pt x="231616" y="55669"/>
                </a:lnTo>
                <a:lnTo>
                  <a:pt x="231801" y="57948"/>
                </a:lnTo>
                <a:lnTo>
                  <a:pt x="232917" y="59467"/>
                </a:lnTo>
                <a:lnTo>
                  <a:pt x="234653" y="60479"/>
                </a:lnTo>
                <a:lnTo>
                  <a:pt x="239828" y="62104"/>
                </a:lnTo>
                <a:lnTo>
                  <a:pt x="248678" y="70158"/>
                </a:lnTo>
                <a:lnTo>
                  <a:pt x="275460" y="96863"/>
                </a:lnTo>
                <a:lnTo>
                  <a:pt x="275913" y="98308"/>
                </a:lnTo>
                <a:lnTo>
                  <a:pt x="276701" y="105792"/>
                </a:lnTo>
                <a:lnTo>
                  <a:pt x="284498" y="114722"/>
                </a:lnTo>
                <a:lnTo>
                  <a:pt x="285194" y="118124"/>
                </a:lnTo>
                <a:lnTo>
                  <a:pt x="285743" y="134027"/>
                </a:lnTo>
                <a:lnTo>
                  <a:pt x="285750" y="214347"/>
                </a:lnTo>
                <a:lnTo>
                  <a:pt x="286742" y="218304"/>
                </a:lnTo>
                <a:lnTo>
                  <a:pt x="290490" y="225345"/>
                </a:lnTo>
                <a:lnTo>
                  <a:pt x="290894" y="228612"/>
                </a:lnTo>
                <a:lnTo>
                  <a:pt x="290172" y="231782"/>
                </a:lnTo>
                <a:lnTo>
                  <a:pt x="288698" y="234887"/>
                </a:lnTo>
                <a:lnTo>
                  <a:pt x="287060" y="243629"/>
                </a:lnTo>
                <a:lnTo>
                  <a:pt x="286009" y="260670"/>
                </a:lnTo>
                <a:lnTo>
                  <a:pt x="285801" y="274583"/>
                </a:lnTo>
                <a:lnTo>
                  <a:pt x="285757" y="301119"/>
                </a:lnTo>
                <a:lnTo>
                  <a:pt x="284762" y="305917"/>
                </a:lnTo>
                <a:lnTo>
                  <a:pt x="279615" y="318402"/>
                </a:lnTo>
                <a:lnTo>
                  <a:pt x="276656" y="334228"/>
                </a:lnTo>
                <a:lnTo>
                  <a:pt x="270929" y="351485"/>
                </a:lnTo>
                <a:lnTo>
                  <a:pt x="269242" y="363250"/>
                </a:lnTo>
                <a:lnTo>
                  <a:pt x="265844" y="375094"/>
                </a:lnTo>
                <a:lnTo>
                  <a:pt x="261028" y="385980"/>
                </a:lnTo>
                <a:lnTo>
                  <a:pt x="252739" y="398679"/>
                </a:lnTo>
                <a:lnTo>
                  <a:pt x="243998" y="413576"/>
                </a:lnTo>
                <a:lnTo>
                  <a:pt x="235125" y="424715"/>
                </a:lnTo>
                <a:lnTo>
                  <a:pt x="226212" y="435291"/>
                </a:lnTo>
                <a:lnTo>
                  <a:pt x="220262" y="445146"/>
                </a:lnTo>
                <a:lnTo>
                  <a:pt x="211665" y="453494"/>
                </a:lnTo>
                <a:lnTo>
                  <a:pt x="206595" y="457110"/>
                </a:lnTo>
                <a:lnTo>
                  <a:pt x="198314" y="463772"/>
                </a:lnTo>
                <a:lnTo>
                  <a:pt x="191327" y="470041"/>
                </a:lnTo>
                <a:lnTo>
                  <a:pt x="184914" y="476134"/>
                </a:lnTo>
                <a:lnTo>
                  <a:pt x="176111" y="482150"/>
                </a:lnTo>
                <a:lnTo>
                  <a:pt x="170985" y="485143"/>
                </a:lnTo>
                <a:lnTo>
                  <a:pt x="165584" y="488131"/>
                </a:lnTo>
                <a:lnTo>
                  <a:pt x="154291" y="494096"/>
                </a:lnTo>
                <a:lnTo>
                  <a:pt x="145303" y="497409"/>
                </a:lnTo>
                <a:lnTo>
                  <a:pt x="137009" y="499873"/>
                </a:lnTo>
                <a:lnTo>
                  <a:pt x="132019" y="501920"/>
                </a:lnTo>
                <a:lnTo>
                  <a:pt x="126708" y="504276"/>
                </a:lnTo>
                <a:lnTo>
                  <a:pt x="118161" y="506894"/>
                </a:lnTo>
                <a:lnTo>
                  <a:pt x="110062" y="508058"/>
                </a:lnTo>
                <a:lnTo>
                  <a:pt x="105125" y="508369"/>
                </a:lnTo>
                <a:lnTo>
                  <a:pt x="95340" y="508713"/>
                </a:lnTo>
                <a:lnTo>
                  <a:pt x="83260" y="508907"/>
                </a:lnTo>
                <a:lnTo>
                  <a:pt x="73054" y="508953"/>
                </a:lnTo>
                <a:lnTo>
                  <a:pt x="68547" y="507972"/>
                </a:lnTo>
                <a:lnTo>
                  <a:pt x="60892" y="504238"/>
                </a:lnTo>
                <a:lnTo>
                  <a:pt x="54183" y="499270"/>
                </a:lnTo>
                <a:lnTo>
                  <a:pt x="47894" y="493756"/>
                </a:lnTo>
                <a:lnTo>
                  <a:pt x="41791" y="487997"/>
                </a:lnTo>
                <a:lnTo>
                  <a:pt x="32778" y="479177"/>
                </a:lnTo>
                <a:lnTo>
                  <a:pt x="30781" y="476216"/>
                </a:lnTo>
                <a:lnTo>
                  <a:pt x="22574" y="456619"/>
                </a:lnTo>
                <a:lnTo>
                  <a:pt x="19955" y="448341"/>
                </a:lnTo>
                <a:lnTo>
                  <a:pt x="18481" y="435457"/>
                </a:lnTo>
                <a:lnTo>
                  <a:pt x="18043" y="421717"/>
                </a:lnTo>
                <a:lnTo>
                  <a:pt x="17982" y="418066"/>
                </a:lnTo>
                <a:lnTo>
                  <a:pt x="18934" y="414639"/>
                </a:lnTo>
                <a:lnTo>
                  <a:pt x="24020" y="405076"/>
                </a:lnTo>
                <a:lnTo>
                  <a:pt x="25558" y="398974"/>
                </a:lnTo>
                <a:lnTo>
                  <a:pt x="26961" y="396951"/>
                </a:lnTo>
                <a:lnTo>
                  <a:pt x="28888" y="395601"/>
                </a:lnTo>
                <a:lnTo>
                  <a:pt x="31165" y="394702"/>
                </a:lnTo>
                <a:lnTo>
                  <a:pt x="32683" y="393110"/>
                </a:lnTo>
                <a:lnTo>
                  <a:pt x="33694" y="391057"/>
                </a:lnTo>
                <a:lnTo>
                  <a:pt x="34369" y="388696"/>
                </a:lnTo>
                <a:lnTo>
                  <a:pt x="37765" y="383426"/>
                </a:lnTo>
                <a:lnTo>
                  <a:pt x="40059" y="380632"/>
                </a:lnTo>
                <a:lnTo>
                  <a:pt x="42581" y="378769"/>
                </a:lnTo>
                <a:lnTo>
                  <a:pt x="48029" y="376699"/>
                </a:lnTo>
                <a:lnTo>
                  <a:pt x="56674" y="375534"/>
                </a:lnTo>
                <a:lnTo>
                  <a:pt x="65520" y="375189"/>
                </a:lnTo>
                <a:lnTo>
                  <a:pt x="74100" y="377754"/>
                </a:lnTo>
                <a:lnTo>
                  <a:pt x="79165" y="379827"/>
                </a:lnTo>
                <a:lnTo>
                  <a:pt x="87440" y="382131"/>
                </a:lnTo>
                <a:lnTo>
                  <a:pt x="95417" y="384147"/>
                </a:lnTo>
                <a:lnTo>
                  <a:pt x="100322" y="386073"/>
                </a:lnTo>
                <a:lnTo>
                  <a:pt x="105577" y="388350"/>
                </a:lnTo>
                <a:lnTo>
                  <a:pt x="116707" y="393526"/>
                </a:lnTo>
                <a:lnTo>
                  <a:pt x="122453" y="396294"/>
                </a:lnTo>
                <a:lnTo>
                  <a:pt x="131484" y="402017"/>
                </a:lnTo>
                <a:lnTo>
                  <a:pt x="139797" y="407868"/>
                </a:lnTo>
                <a:lnTo>
                  <a:pt x="144791" y="410817"/>
                </a:lnTo>
                <a:lnTo>
                  <a:pt x="150106" y="413775"/>
                </a:lnTo>
                <a:lnTo>
                  <a:pt x="158657" y="422354"/>
                </a:lnTo>
                <a:lnTo>
                  <a:pt x="162326" y="427420"/>
                </a:lnTo>
                <a:lnTo>
                  <a:pt x="166756" y="431789"/>
                </a:lnTo>
                <a:lnTo>
                  <a:pt x="171694" y="435694"/>
                </a:lnTo>
                <a:lnTo>
                  <a:pt x="176970" y="439290"/>
                </a:lnTo>
                <a:lnTo>
                  <a:pt x="185479" y="448576"/>
                </a:lnTo>
                <a:lnTo>
                  <a:pt x="189137" y="453831"/>
                </a:lnTo>
                <a:lnTo>
                  <a:pt x="193560" y="458326"/>
                </a:lnTo>
                <a:lnTo>
                  <a:pt x="198493" y="462316"/>
                </a:lnTo>
                <a:lnTo>
                  <a:pt x="203766" y="465967"/>
                </a:lnTo>
                <a:lnTo>
                  <a:pt x="212271" y="475316"/>
                </a:lnTo>
                <a:lnTo>
                  <a:pt x="219358" y="485093"/>
                </a:lnTo>
                <a:lnTo>
                  <a:pt x="225815" y="492746"/>
                </a:lnTo>
                <a:lnTo>
                  <a:pt x="231993" y="499455"/>
                </a:lnTo>
                <a:lnTo>
                  <a:pt x="239038" y="506736"/>
                </a:lnTo>
                <a:lnTo>
                  <a:pt x="275133" y="543020"/>
                </a:lnTo>
                <a:lnTo>
                  <a:pt x="276688" y="543582"/>
                </a:lnTo>
                <a:lnTo>
                  <a:pt x="281061" y="544208"/>
                </a:lnTo>
                <a:lnTo>
                  <a:pt x="282624" y="545366"/>
                </a:lnTo>
                <a:lnTo>
                  <a:pt x="283665" y="547131"/>
                </a:lnTo>
                <a:lnTo>
                  <a:pt x="285750" y="55363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54" name="SMARTInkAnnotation147"/>
          <p:cNvSpPr/>
          <p:nvPr/>
        </p:nvSpPr>
        <p:spPr>
          <a:xfrm>
            <a:off x="6134040" y="3187800"/>
            <a:ext cx="258840" cy="517320"/>
          </a:xfrm>
          <a:custGeom>
            <a:avLst/>
            <a:gdLst>
              <a:gd name="textAreaLeft" fmla="*/ 0 w 258840"/>
              <a:gd name="textAreaRight" fmla="*/ 259200 w 258840"/>
              <a:gd name="textAreaTop" fmla="*/ 0 h 517320"/>
              <a:gd name="textAreaBottom" fmla="*/ 517680 h 517320"/>
            </a:gdLst>
            <a:ahLst/>
            <a:rect l="textAreaLeft" t="textAreaTop" r="textAreaRight" b="textAreaBottom"/>
            <a:pathLst>
              <a:path w="258306" h="517795">
                <a:moveTo>
                  <a:pt x="8930" y="8927"/>
                </a:moveTo>
                <a:lnTo>
                  <a:pt x="8930" y="4186"/>
                </a:lnTo>
                <a:lnTo>
                  <a:pt x="9922" y="2790"/>
                </a:lnTo>
                <a:lnTo>
                  <a:pt x="11575" y="1859"/>
                </a:lnTo>
                <a:lnTo>
                  <a:pt x="17491" y="106"/>
                </a:lnTo>
                <a:lnTo>
                  <a:pt x="24916" y="19"/>
                </a:lnTo>
                <a:lnTo>
                  <a:pt x="38840" y="0"/>
                </a:lnTo>
                <a:lnTo>
                  <a:pt x="41769" y="991"/>
                </a:lnTo>
                <a:lnTo>
                  <a:pt x="47668" y="4739"/>
                </a:lnTo>
                <a:lnTo>
                  <a:pt x="51623" y="7127"/>
                </a:lnTo>
                <a:lnTo>
                  <a:pt x="56244" y="9711"/>
                </a:lnTo>
                <a:lnTo>
                  <a:pt x="61308" y="12426"/>
                </a:lnTo>
                <a:lnTo>
                  <a:pt x="66669" y="14236"/>
                </a:lnTo>
                <a:lnTo>
                  <a:pt x="72227" y="15443"/>
                </a:lnTo>
                <a:lnTo>
                  <a:pt x="77917" y="16247"/>
                </a:lnTo>
                <a:lnTo>
                  <a:pt x="83695" y="17776"/>
                </a:lnTo>
                <a:lnTo>
                  <a:pt x="89530" y="19787"/>
                </a:lnTo>
                <a:lnTo>
                  <a:pt x="95406" y="22120"/>
                </a:lnTo>
                <a:lnTo>
                  <a:pt x="109871" y="27358"/>
                </a:lnTo>
                <a:lnTo>
                  <a:pt x="117896" y="30144"/>
                </a:lnTo>
                <a:lnTo>
                  <a:pt x="125229" y="32993"/>
                </a:lnTo>
                <a:lnTo>
                  <a:pt x="132104" y="35885"/>
                </a:lnTo>
                <a:lnTo>
                  <a:pt x="138670" y="38805"/>
                </a:lnTo>
                <a:lnTo>
                  <a:pt x="146025" y="41744"/>
                </a:lnTo>
                <a:lnTo>
                  <a:pt x="162134" y="47655"/>
                </a:lnTo>
                <a:lnTo>
                  <a:pt x="169605" y="51613"/>
                </a:lnTo>
                <a:lnTo>
                  <a:pt x="176570" y="56236"/>
                </a:lnTo>
                <a:lnTo>
                  <a:pt x="183198" y="61302"/>
                </a:lnTo>
                <a:lnTo>
                  <a:pt x="190593" y="65672"/>
                </a:lnTo>
                <a:lnTo>
                  <a:pt x="198500" y="69577"/>
                </a:lnTo>
                <a:lnTo>
                  <a:pt x="206747" y="73173"/>
                </a:lnTo>
                <a:lnTo>
                  <a:pt x="213238" y="76562"/>
                </a:lnTo>
                <a:lnTo>
                  <a:pt x="218557" y="79814"/>
                </a:lnTo>
                <a:lnTo>
                  <a:pt x="223095" y="82974"/>
                </a:lnTo>
                <a:lnTo>
                  <a:pt x="228105" y="86073"/>
                </a:lnTo>
                <a:lnTo>
                  <a:pt x="233430" y="89131"/>
                </a:lnTo>
                <a:lnTo>
                  <a:pt x="238964" y="92162"/>
                </a:lnTo>
                <a:lnTo>
                  <a:pt x="243645" y="96167"/>
                </a:lnTo>
                <a:lnTo>
                  <a:pt x="251493" y="105909"/>
                </a:lnTo>
                <a:lnTo>
                  <a:pt x="255642" y="114207"/>
                </a:lnTo>
                <a:lnTo>
                  <a:pt x="257485" y="121202"/>
                </a:lnTo>
                <a:lnTo>
                  <a:pt x="258305" y="127619"/>
                </a:lnTo>
                <a:lnTo>
                  <a:pt x="256024" y="136424"/>
                </a:lnTo>
                <a:lnTo>
                  <a:pt x="254026" y="141550"/>
                </a:lnTo>
                <a:lnTo>
                  <a:pt x="250710" y="145959"/>
                </a:lnTo>
                <a:lnTo>
                  <a:pt x="246515" y="149891"/>
                </a:lnTo>
                <a:lnTo>
                  <a:pt x="241734" y="153504"/>
                </a:lnTo>
                <a:lnTo>
                  <a:pt x="233776" y="160165"/>
                </a:lnTo>
                <a:lnTo>
                  <a:pt x="230265" y="163331"/>
                </a:lnTo>
                <a:lnTo>
                  <a:pt x="224947" y="167425"/>
                </a:lnTo>
                <a:lnTo>
                  <a:pt x="218426" y="172139"/>
                </a:lnTo>
                <a:lnTo>
                  <a:pt x="211101" y="177266"/>
                </a:lnTo>
                <a:lnTo>
                  <a:pt x="204235" y="181677"/>
                </a:lnTo>
                <a:lnTo>
                  <a:pt x="197671" y="185609"/>
                </a:lnTo>
                <a:lnTo>
                  <a:pt x="191313" y="189223"/>
                </a:lnTo>
                <a:lnTo>
                  <a:pt x="178955" y="195884"/>
                </a:lnTo>
                <a:lnTo>
                  <a:pt x="148876" y="211258"/>
                </a:lnTo>
                <a:lnTo>
                  <a:pt x="136943" y="217253"/>
                </a:lnTo>
                <a:lnTo>
                  <a:pt x="130983" y="221233"/>
                </a:lnTo>
                <a:lnTo>
                  <a:pt x="125025" y="225870"/>
                </a:lnTo>
                <a:lnTo>
                  <a:pt x="119069" y="230946"/>
                </a:lnTo>
                <a:lnTo>
                  <a:pt x="114106" y="234331"/>
                </a:lnTo>
                <a:lnTo>
                  <a:pt x="109805" y="236587"/>
                </a:lnTo>
                <a:lnTo>
                  <a:pt x="102380" y="240085"/>
                </a:lnTo>
                <a:lnTo>
                  <a:pt x="95774" y="244948"/>
                </a:lnTo>
                <a:lnTo>
                  <a:pt x="93614" y="248626"/>
                </a:lnTo>
                <a:lnTo>
                  <a:pt x="91216" y="258004"/>
                </a:lnTo>
                <a:lnTo>
                  <a:pt x="89865" y="269699"/>
                </a:lnTo>
                <a:lnTo>
                  <a:pt x="92195" y="278946"/>
                </a:lnTo>
                <a:lnTo>
                  <a:pt x="96538" y="289670"/>
                </a:lnTo>
                <a:lnTo>
                  <a:pt x="101776" y="301050"/>
                </a:lnTo>
                <a:lnTo>
                  <a:pt x="116162" y="330451"/>
                </a:lnTo>
                <a:lnTo>
                  <a:pt x="123065" y="342326"/>
                </a:lnTo>
                <a:lnTo>
                  <a:pt x="127684" y="348271"/>
                </a:lnTo>
                <a:lnTo>
                  <a:pt x="132748" y="354219"/>
                </a:lnTo>
                <a:lnTo>
                  <a:pt x="137116" y="359177"/>
                </a:lnTo>
                <a:lnTo>
                  <a:pt x="144615" y="367330"/>
                </a:lnTo>
                <a:lnTo>
                  <a:pt x="151255" y="376907"/>
                </a:lnTo>
                <a:lnTo>
                  <a:pt x="157513" y="387778"/>
                </a:lnTo>
                <a:lnTo>
                  <a:pt x="163603" y="399225"/>
                </a:lnTo>
                <a:lnTo>
                  <a:pt x="172609" y="416825"/>
                </a:lnTo>
                <a:lnTo>
                  <a:pt x="175934" y="426024"/>
                </a:lnTo>
                <a:lnTo>
                  <a:pt x="177411" y="434413"/>
                </a:lnTo>
                <a:lnTo>
                  <a:pt x="178069" y="444755"/>
                </a:lnTo>
                <a:lnTo>
                  <a:pt x="177251" y="449300"/>
                </a:lnTo>
                <a:lnTo>
                  <a:pt x="173698" y="456995"/>
                </a:lnTo>
                <a:lnTo>
                  <a:pt x="166119" y="466904"/>
                </a:lnTo>
                <a:lnTo>
                  <a:pt x="160482" y="473087"/>
                </a:lnTo>
                <a:lnTo>
                  <a:pt x="153677" y="480134"/>
                </a:lnTo>
                <a:lnTo>
                  <a:pt x="144038" y="489881"/>
                </a:lnTo>
                <a:lnTo>
                  <a:pt x="138689" y="494266"/>
                </a:lnTo>
                <a:lnTo>
                  <a:pt x="133139" y="498182"/>
                </a:lnTo>
                <a:lnTo>
                  <a:pt x="127454" y="501784"/>
                </a:lnTo>
                <a:lnTo>
                  <a:pt x="120689" y="504186"/>
                </a:lnTo>
                <a:lnTo>
                  <a:pt x="113202" y="505787"/>
                </a:lnTo>
                <a:lnTo>
                  <a:pt x="105233" y="506854"/>
                </a:lnTo>
                <a:lnTo>
                  <a:pt x="98929" y="508558"/>
                </a:lnTo>
                <a:lnTo>
                  <a:pt x="93734" y="510687"/>
                </a:lnTo>
                <a:lnTo>
                  <a:pt x="89278" y="513097"/>
                </a:lnTo>
                <a:lnTo>
                  <a:pt x="84323" y="514704"/>
                </a:lnTo>
                <a:lnTo>
                  <a:pt x="79035" y="515776"/>
                </a:lnTo>
                <a:lnTo>
                  <a:pt x="73527" y="516490"/>
                </a:lnTo>
                <a:lnTo>
                  <a:pt x="67869" y="516967"/>
                </a:lnTo>
                <a:lnTo>
                  <a:pt x="62113" y="517284"/>
                </a:lnTo>
                <a:lnTo>
                  <a:pt x="50426" y="517637"/>
                </a:lnTo>
                <a:lnTo>
                  <a:pt x="38618" y="517794"/>
                </a:lnTo>
                <a:lnTo>
                  <a:pt x="33682" y="516843"/>
                </a:lnTo>
                <a:lnTo>
                  <a:pt x="29400" y="515217"/>
                </a:lnTo>
                <a:lnTo>
                  <a:pt x="21997" y="511757"/>
                </a:lnTo>
                <a:lnTo>
                  <a:pt x="15399" y="510219"/>
                </a:lnTo>
                <a:lnTo>
                  <a:pt x="9216" y="509233"/>
                </a:lnTo>
                <a:lnTo>
                  <a:pt x="1409" y="509021"/>
                </a:lnTo>
                <a:lnTo>
                  <a:pt x="0" y="50899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55" name="SMARTInkAnnotation148"/>
          <p:cNvSpPr/>
          <p:nvPr/>
        </p:nvSpPr>
        <p:spPr>
          <a:xfrm>
            <a:off x="6459480" y="3251160"/>
            <a:ext cx="292320" cy="490680"/>
          </a:xfrm>
          <a:custGeom>
            <a:avLst/>
            <a:gdLst>
              <a:gd name="textAreaLeft" fmla="*/ 0 w 292320"/>
              <a:gd name="textAreaRight" fmla="*/ 292680 w 292320"/>
              <a:gd name="textAreaTop" fmla="*/ 0 h 490680"/>
              <a:gd name="textAreaBottom" fmla="*/ 491040 h 490680"/>
            </a:gdLst>
            <a:ahLst/>
            <a:rect l="textAreaLeft" t="textAreaTop" r="textAreaRight" b="textAreaBottom"/>
            <a:pathLst>
              <a:path w="290538" h="490732">
                <a:moveTo>
                  <a:pt x="290537" y="17460"/>
                </a:moveTo>
                <a:lnTo>
                  <a:pt x="285797" y="12719"/>
                </a:lnTo>
                <a:lnTo>
                  <a:pt x="283409" y="11322"/>
                </a:lnTo>
                <a:lnTo>
                  <a:pt x="275306" y="8365"/>
                </a:lnTo>
                <a:lnTo>
                  <a:pt x="269547" y="4157"/>
                </a:lnTo>
                <a:lnTo>
                  <a:pt x="265630" y="2638"/>
                </a:lnTo>
                <a:lnTo>
                  <a:pt x="261034" y="1625"/>
                </a:lnTo>
                <a:lnTo>
                  <a:pt x="255986" y="950"/>
                </a:lnTo>
                <a:lnTo>
                  <a:pt x="249644" y="500"/>
                </a:lnTo>
                <a:lnTo>
                  <a:pt x="242439" y="200"/>
                </a:lnTo>
                <a:lnTo>
                  <a:pt x="234658" y="0"/>
                </a:lnTo>
                <a:lnTo>
                  <a:pt x="227488" y="859"/>
                </a:lnTo>
                <a:lnTo>
                  <a:pt x="220723" y="2424"/>
                </a:lnTo>
                <a:lnTo>
                  <a:pt x="214230" y="4459"/>
                </a:lnTo>
                <a:lnTo>
                  <a:pt x="206923" y="5816"/>
                </a:lnTo>
                <a:lnTo>
                  <a:pt x="199075" y="6720"/>
                </a:lnTo>
                <a:lnTo>
                  <a:pt x="190867" y="7323"/>
                </a:lnTo>
                <a:lnTo>
                  <a:pt x="182419" y="8717"/>
                </a:lnTo>
                <a:lnTo>
                  <a:pt x="173810" y="10639"/>
                </a:lnTo>
                <a:lnTo>
                  <a:pt x="165093" y="12913"/>
                </a:lnTo>
                <a:lnTo>
                  <a:pt x="156307" y="14428"/>
                </a:lnTo>
                <a:lnTo>
                  <a:pt x="147472" y="15438"/>
                </a:lnTo>
                <a:lnTo>
                  <a:pt x="138606" y="16112"/>
                </a:lnTo>
                <a:lnTo>
                  <a:pt x="130711" y="17553"/>
                </a:lnTo>
                <a:lnTo>
                  <a:pt x="123462" y="19506"/>
                </a:lnTo>
                <a:lnTo>
                  <a:pt x="116646" y="21801"/>
                </a:lnTo>
                <a:lnTo>
                  <a:pt x="109126" y="25314"/>
                </a:lnTo>
                <a:lnTo>
                  <a:pt x="101136" y="29641"/>
                </a:lnTo>
                <a:lnTo>
                  <a:pt x="92832" y="34510"/>
                </a:lnTo>
                <a:lnTo>
                  <a:pt x="78314" y="42566"/>
                </a:lnTo>
                <a:lnTo>
                  <a:pt x="58984" y="52680"/>
                </a:lnTo>
                <a:lnTo>
                  <a:pt x="52825" y="55822"/>
                </a:lnTo>
                <a:lnTo>
                  <a:pt x="47726" y="59902"/>
                </a:lnTo>
                <a:lnTo>
                  <a:pt x="39415" y="69726"/>
                </a:lnTo>
                <a:lnTo>
                  <a:pt x="32415" y="78061"/>
                </a:lnTo>
                <a:lnTo>
                  <a:pt x="29159" y="81673"/>
                </a:lnTo>
                <a:lnTo>
                  <a:pt x="26988" y="86065"/>
                </a:lnTo>
                <a:lnTo>
                  <a:pt x="24576" y="96238"/>
                </a:lnTo>
                <a:lnTo>
                  <a:pt x="23504" y="107373"/>
                </a:lnTo>
                <a:lnTo>
                  <a:pt x="23218" y="113120"/>
                </a:lnTo>
                <a:lnTo>
                  <a:pt x="25546" y="124798"/>
                </a:lnTo>
                <a:lnTo>
                  <a:pt x="30880" y="137595"/>
                </a:lnTo>
                <a:lnTo>
                  <a:pt x="35081" y="145175"/>
                </a:lnTo>
                <a:lnTo>
                  <a:pt x="39866" y="153204"/>
                </a:lnTo>
                <a:lnTo>
                  <a:pt x="47828" y="167418"/>
                </a:lnTo>
                <a:lnTo>
                  <a:pt x="55666" y="180350"/>
                </a:lnTo>
                <a:lnTo>
                  <a:pt x="60535" y="186576"/>
                </a:lnTo>
                <a:lnTo>
                  <a:pt x="65765" y="192712"/>
                </a:lnTo>
                <a:lnTo>
                  <a:pt x="72228" y="199779"/>
                </a:lnTo>
                <a:lnTo>
                  <a:pt x="87347" y="215568"/>
                </a:lnTo>
                <a:lnTo>
                  <a:pt x="149328" y="278072"/>
                </a:lnTo>
                <a:lnTo>
                  <a:pt x="155718" y="285459"/>
                </a:lnTo>
                <a:lnTo>
                  <a:pt x="160971" y="292368"/>
                </a:lnTo>
                <a:lnTo>
                  <a:pt x="181270" y="322455"/>
                </a:lnTo>
                <a:lnTo>
                  <a:pt x="185942" y="330923"/>
                </a:lnTo>
                <a:lnTo>
                  <a:pt x="190049" y="339544"/>
                </a:lnTo>
                <a:lnTo>
                  <a:pt x="193780" y="348269"/>
                </a:lnTo>
                <a:lnTo>
                  <a:pt x="197924" y="363254"/>
                </a:lnTo>
                <a:lnTo>
                  <a:pt x="199767" y="376528"/>
                </a:lnTo>
                <a:lnTo>
                  <a:pt x="200585" y="389043"/>
                </a:lnTo>
                <a:lnTo>
                  <a:pt x="200949" y="401219"/>
                </a:lnTo>
                <a:lnTo>
                  <a:pt x="201047" y="407245"/>
                </a:lnTo>
                <a:lnTo>
                  <a:pt x="200119" y="412254"/>
                </a:lnTo>
                <a:lnTo>
                  <a:pt x="196443" y="420465"/>
                </a:lnTo>
                <a:lnTo>
                  <a:pt x="188855" y="430068"/>
                </a:lnTo>
                <a:lnTo>
                  <a:pt x="184054" y="435406"/>
                </a:lnTo>
                <a:lnTo>
                  <a:pt x="178869" y="439958"/>
                </a:lnTo>
                <a:lnTo>
                  <a:pt x="173428" y="443985"/>
                </a:lnTo>
                <a:lnTo>
                  <a:pt x="167816" y="447661"/>
                </a:lnTo>
                <a:lnTo>
                  <a:pt x="162090" y="452096"/>
                </a:lnTo>
                <a:lnTo>
                  <a:pt x="156289" y="457038"/>
                </a:lnTo>
                <a:lnTo>
                  <a:pt x="150436" y="462316"/>
                </a:lnTo>
                <a:lnTo>
                  <a:pt x="143559" y="465835"/>
                </a:lnTo>
                <a:lnTo>
                  <a:pt x="135996" y="468181"/>
                </a:lnTo>
                <a:lnTo>
                  <a:pt x="127979" y="469745"/>
                </a:lnTo>
                <a:lnTo>
                  <a:pt x="119657" y="471780"/>
                </a:lnTo>
                <a:lnTo>
                  <a:pt x="111133" y="474129"/>
                </a:lnTo>
                <a:lnTo>
                  <a:pt x="102474" y="476687"/>
                </a:lnTo>
                <a:lnTo>
                  <a:pt x="94716" y="479384"/>
                </a:lnTo>
                <a:lnTo>
                  <a:pt x="87560" y="482175"/>
                </a:lnTo>
                <a:lnTo>
                  <a:pt x="80805" y="485027"/>
                </a:lnTo>
                <a:lnTo>
                  <a:pt x="74318" y="486929"/>
                </a:lnTo>
                <a:lnTo>
                  <a:pt x="68007" y="488197"/>
                </a:lnTo>
                <a:lnTo>
                  <a:pt x="61817" y="489042"/>
                </a:lnTo>
                <a:lnTo>
                  <a:pt x="55706" y="489605"/>
                </a:lnTo>
                <a:lnTo>
                  <a:pt x="49647" y="489981"/>
                </a:lnTo>
                <a:lnTo>
                  <a:pt x="38615" y="490399"/>
                </a:lnTo>
                <a:lnTo>
                  <a:pt x="26827" y="490634"/>
                </a:lnTo>
                <a:lnTo>
                  <a:pt x="584" y="490731"/>
                </a:lnTo>
                <a:lnTo>
                  <a:pt x="0" y="489740"/>
                </a:lnTo>
                <a:lnTo>
                  <a:pt x="603" y="488086"/>
                </a:lnTo>
                <a:lnTo>
                  <a:pt x="4788" y="481803"/>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56" name="SMARTInkAnnotation149"/>
          <p:cNvSpPr/>
          <p:nvPr/>
        </p:nvSpPr>
        <p:spPr>
          <a:xfrm>
            <a:off x="6769080" y="3232080"/>
            <a:ext cx="303120" cy="527040"/>
          </a:xfrm>
          <a:custGeom>
            <a:avLst/>
            <a:gdLst>
              <a:gd name="textAreaLeft" fmla="*/ 0 w 303120"/>
              <a:gd name="textAreaRight" fmla="*/ 303480 w 303120"/>
              <a:gd name="textAreaTop" fmla="*/ 0 h 527040"/>
              <a:gd name="textAreaBottom" fmla="*/ 527400 h 527040"/>
            </a:gdLst>
            <a:ahLst/>
            <a:rect l="textAreaLeft" t="textAreaTop" r="textAreaRight" b="textAreaBottom"/>
            <a:pathLst>
              <a:path w="303561" h="526174">
                <a:moveTo>
                  <a:pt x="303560" y="8821"/>
                </a:moveTo>
                <a:lnTo>
                  <a:pt x="298820" y="8821"/>
                </a:lnTo>
                <a:lnTo>
                  <a:pt x="297423" y="7829"/>
                </a:lnTo>
                <a:lnTo>
                  <a:pt x="296492" y="6175"/>
                </a:lnTo>
                <a:lnTo>
                  <a:pt x="295871" y="4080"/>
                </a:lnTo>
                <a:lnTo>
                  <a:pt x="293474" y="2684"/>
                </a:lnTo>
                <a:lnTo>
                  <a:pt x="285518" y="1133"/>
                </a:lnTo>
                <a:lnTo>
                  <a:pt x="278012" y="443"/>
                </a:lnTo>
                <a:lnTo>
                  <a:pt x="270378" y="137"/>
                </a:lnTo>
                <a:lnTo>
                  <a:pt x="260370" y="0"/>
                </a:lnTo>
                <a:lnTo>
                  <a:pt x="254923" y="956"/>
                </a:lnTo>
                <a:lnTo>
                  <a:pt x="249307" y="2586"/>
                </a:lnTo>
                <a:lnTo>
                  <a:pt x="243579" y="4664"/>
                </a:lnTo>
                <a:lnTo>
                  <a:pt x="237776" y="6050"/>
                </a:lnTo>
                <a:lnTo>
                  <a:pt x="231923" y="6973"/>
                </a:lnTo>
                <a:lnTo>
                  <a:pt x="226037" y="7589"/>
                </a:lnTo>
                <a:lnTo>
                  <a:pt x="219135" y="8992"/>
                </a:lnTo>
                <a:lnTo>
                  <a:pt x="211558" y="10919"/>
                </a:lnTo>
                <a:lnTo>
                  <a:pt x="203530" y="13197"/>
                </a:lnTo>
                <a:lnTo>
                  <a:pt x="196193" y="15707"/>
                </a:lnTo>
                <a:lnTo>
                  <a:pt x="189319" y="18373"/>
                </a:lnTo>
                <a:lnTo>
                  <a:pt x="182750" y="21142"/>
                </a:lnTo>
                <a:lnTo>
                  <a:pt x="176388" y="24972"/>
                </a:lnTo>
                <a:lnTo>
                  <a:pt x="170162" y="29510"/>
                </a:lnTo>
                <a:lnTo>
                  <a:pt x="164027" y="34520"/>
                </a:lnTo>
                <a:lnTo>
                  <a:pt x="156959" y="39844"/>
                </a:lnTo>
                <a:lnTo>
                  <a:pt x="141169" y="51052"/>
                </a:lnTo>
                <a:lnTo>
                  <a:pt x="133784" y="56819"/>
                </a:lnTo>
                <a:lnTo>
                  <a:pt x="126876" y="62648"/>
                </a:lnTo>
                <a:lnTo>
                  <a:pt x="120286" y="68518"/>
                </a:lnTo>
                <a:lnTo>
                  <a:pt x="113909" y="75408"/>
                </a:lnTo>
                <a:lnTo>
                  <a:pt x="107673" y="82978"/>
                </a:lnTo>
                <a:lnTo>
                  <a:pt x="101530" y="91001"/>
                </a:lnTo>
                <a:lnTo>
                  <a:pt x="95452" y="98334"/>
                </a:lnTo>
                <a:lnTo>
                  <a:pt x="89415" y="105207"/>
                </a:lnTo>
                <a:lnTo>
                  <a:pt x="83405" y="111774"/>
                </a:lnTo>
                <a:lnTo>
                  <a:pt x="77416" y="119128"/>
                </a:lnTo>
                <a:lnTo>
                  <a:pt x="71439" y="127008"/>
                </a:lnTo>
                <a:lnTo>
                  <a:pt x="65468" y="135237"/>
                </a:lnTo>
                <a:lnTo>
                  <a:pt x="59504" y="144692"/>
                </a:lnTo>
                <a:lnTo>
                  <a:pt x="53544" y="154964"/>
                </a:lnTo>
                <a:lnTo>
                  <a:pt x="47586" y="165781"/>
                </a:lnTo>
                <a:lnTo>
                  <a:pt x="41629" y="175969"/>
                </a:lnTo>
                <a:lnTo>
                  <a:pt x="29719" y="195226"/>
                </a:lnTo>
                <a:lnTo>
                  <a:pt x="24757" y="204528"/>
                </a:lnTo>
                <a:lnTo>
                  <a:pt x="20457" y="213707"/>
                </a:lnTo>
                <a:lnTo>
                  <a:pt x="16598" y="222802"/>
                </a:lnTo>
                <a:lnTo>
                  <a:pt x="13034" y="232834"/>
                </a:lnTo>
                <a:lnTo>
                  <a:pt x="9665" y="243492"/>
                </a:lnTo>
                <a:lnTo>
                  <a:pt x="6427" y="254565"/>
                </a:lnTo>
                <a:lnTo>
                  <a:pt x="4267" y="264924"/>
                </a:lnTo>
                <a:lnTo>
                  <a:pt x="2829" y="274806"/>
                </a:lnTo>
                <a:lnTo>
                  <a:pt x="1869" y="284371"/>
                </a:lnTo>
                <a:lnTo>
                  <a:pt x="1230" y="294716"/>
                </a:lnTo>
                <a:lnTo>
                  <a:pt x="520" y="316795"/>
                </a:lnTo>
                <a:lnTo>
                  <a:pt x="26" y="365407"/>
                </a:lnTo>
                <a:lnTo>
                  <a:pt x="0" y="374537"/>
                </a:lnTo>
                <a:lnTo>
                  <a:pt x="975" y="384593"/>
                </a:lnTo>
                <a:lnTo>
                  <a:pt x="2619" y="395265"/>
                </a:lnTo>
                <a:lnTo>
                  <a:pt x="4706" y="406349"/>
                </a:lnTo>
                <a:lnTo>
                  <a:pt x="7089" y="416714"/>
                </a:lnTo>
                <a:lnTo>
                  <a:pt x="9671" y="426602"/>
                </a:lnTo>
                <a:lnTo>
                  <a:pt x="12383" y="436169"/>
                </a:lnTo>
                <a:lnTo>
                  <a:pt x="18044" y="452092"/>
                </a:lnTo>
                <a:lnTo>
                  <a:pt x="24859" y="465783"/>
                </a:lnTo>
                <a:lnTo>
                  <a:pt x="29455" y="472213"/>
                </a:lnTo>
                <a:lnTo>
                  <a:pt x="34504" y="478483"/>
                </a:lnTo>
                <a:lnTo>
                  <a:pt x="39853" y="484648"/>
                </a:lnTo>
                <a:lnTo>
                  <a:pt x="45404" y="490742"/>
                </a:lnTo>
                <a:lnTo>
                  <a:pt x="51089" y="496789"/>
                </a:lnTo>
                <a:lnTo>
                  <a:pt x="56863" y="501813"/>
                </a:lnTo>
                <a:lnTo>
                  <a:pt x="62696" y="506154"/>
                </a:lnTo>
                <a:lnTo>
                  <a:pt x="68570" y="510040"/>
                </a:lnTo>
                <a:lnTo>
                  <a:pt x="74470" y="513624"/>
                </a:lnTo>
                <a:lnTo>
                  <a:pt x="80389" y="517004"/>
                </a:lnTo>
                <a:lnTo>
                  <a:pt x="86318" y="520251"/>
                </a:lnTo>
                <a:lnTo>
                  <a:pt x="95553" y="523857"/>
                </a:lnTo>
                <a:lnTo>
                  <a:pt x="103956" y="525460"/>
                </a:lnTo>
                <a:lnTo>
                  <a:pt x="108975" y="525888"/>
                </a:lnTo>
                <a:lnTo>
                  <a:pt x="114306" y="526173"/>
                </a:lnTo>
                <a:lnTo>
                  <a:pt x="119843" y="525371"/>
                </a:lnTo>
                <a:lnTo>
                  <a:pt x="125520" y="523844"/>
                </a:lnTo>
                <a:lnTo>
                  <a:pt x="131288" y="521834"/>
                </a:lnTo>
                <a:lnTo>
                  <a:pt x="140344" y="519600"/>
                </a:lnTo>
                <a:lnTo>
                  <a:pt x="144147" y="519005"/>
                </a:lnTo>
                <a:lnTo>
                  <a:pt x="151020" y="515697"/>
                </a:lnTo>
                <a:lnTo>
                  <a:pt x="154241" y="513426"/>
                </a:lnTo>
                <a:lnTo>
                  <a:pt x="160466" y="505611"/>
                </a:lnTo>
                <a:lnTo>
                  <a:pt x="169550" y="492700"/>
                </a:lnTo>
                <a:lnTo>
                  <a:pt x="172549" y="489165"/>
                </a:lnTo>
                <a:lnTo>
                  <a:pt x="174547" y="484824"/>
                </a:lnTo>
                <a:lnTo>
                  <a:pt x="176768" y="474709"/>
                </a:lnTo>
                <a:lnTo>
                  <a:pt x="177755" y="460952"/>
                </a:lnTo>
                <a:lnTo>
                  <a:pt x="178194" y="445909"/>
                </a:lnTo>
                <a:lnTo>
                  <a:pt x="178389" y="432608"/>
                </a:lnTo>
                <a:lnTo>
                  <a:pt x="175830" y="420082"/>
                </a:lnTo>
                <a:lnTo>
                  <a:pt x="171385" y="407901"/>
                </a:lnTo>
                <a:lnTo>
                  <a:pt x="166102" y="395872"/>
                </a:lnTo>
                <a:lnTo>
                  <a:pt x="157550" y="382684"/>
                </a:lnTo>
                <a:lnTo>
                  <a:pt x="149038" y="373089"/>
                </a:lnTo>
                <a:lnTo>
                  <a:pt x="143991" y="367752"/>
                </a:lnTo>
                <a:lnTo>
                  <a:pt x="138642" y="363203"/>
                </a:lnTo>
                <a:lnTo>
                  <a:pt x="133091" y="359177"/>
                </a:lnTo>
                <a:lnTo>
                  <a:pt x="127406" y="355501"/>
                </a:lnTo>
                <a:lnTo>
                  <a:pt x="118444" y="351416"/>
                </a:lnTo>
                <a:lnTo>
                  <a:pt x="110162" y="348609"/>
                </a:lnTo>
                <a:lnTo>
                  <a:pt x="105174" y="346471"/>
                </a:lnTo>
                <a:lnTo>
                  <a:pt x="99865" y="344054"/>
                </a:lnTo>
                <a:lnTo>
                  <a:pt x="94342" y="342443"/>
                </a:lnTo>
                <a:lnTo>
                  <a:pt x="88675" y="341368"/>
                </a:lnTo>
                <a:lnTo>
                  <a:pt x="82913" y="340652"/>
                </a:lnTo>
                <a:lnTo>
                  <a:pt x="77087" y="340174"/>
                </a:lnTo>
                <a:lnTo>
                  <a:pt x="71218" y="339856"/>
                </a:lnTo>
                <a:lnTo>
                  <a:pt x="56125" y="339408"/>
                </a:lnTo>
                <a:lnTo>
                  <a:pt x="46875" y="339257"/>
                </a:lnTo>
                <a:lnTo>
                  <a:pt x="42965" y="341882"/>
                </a:lnTo>
                <a:lnTo>
                  <a:pt x="35669" y="34814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57" name="Freeform 68"/>
          <p:cNvSpPr/>
          <p:nvPr/>
        </p:nvSpPr>
        <p:spPr>
          <a:xfrm>
            <a:off x="7089840" y="3660840"/>
            <a:ext cx="3240" cy="360"/>
          </a:xfrm>
          <a:custGeom>
            <a:avLst/>
            <a:gdLst>
              <a:gd name="textAreaLeft" fmla="*/ 0 w 3240"/>
              <a:gd name="textAreaRight" fmla="*/ 3600 w 3240"/>
              <a:gd name="textAreaTop" fmla="*/ 0 h 360"/>
              <a:gd name="textAreaBottom" fmla="*/ 720 h 360"/>
            </a:gdLst>
            <a:ahLst/>
            <a:rect l="textAreaLeft" t="textAreaTop" r="textAreaRight" b="textAreaBottom"/>
            <a:pathLst>
              <a:path w="2648" h="1">
                <a:moveTo>
                  <a:pt x="0" y="0"/>
                </a:moveTo>
                <a:lnTo>
                  <a:pt x="2647" y="0"/>
                </a:lnTo>
                <a:close/>
              </a:path>
            </a:pathLst>
          </a:custGeom>
          <a:solidFill>
            <a:srgbClr val="0f6fc6"/>
          </a:solidFill>
          <a:ln w="38160">
            <a:solidFill>
              <a:srgbClr val="009300"/>
            </a:solidFill>
            <a:round/>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Constantia"/>
            </a:endParaRPr>
          </a:p>
        </p:txBody>
      </p:sp>
      <p:sp>
        <p:nvSpPr>
          <p:cNvPr id="358" name="SMARTInkAnnotation151"/>
          <p:cNvSpPr/>
          <p:nvPr/>
        </p:nvSpPr>
        <p:spPr>
          <a:xfrm>
            <a:off x="7197840" y="3241800"/>
            <a:ext cx="264960" cy="473040"/>
          </a:xfrm>
          <a:custGeom>
            <a:avLst/>
            <a:gdLst>
              <a:gd name="textAreaLeft" fmla="*/ 0 w 264960"/>
              <a:gd name="textAreaRight" fmla="*/ 265320 w 264960"/>
              <a:gd name="textAreaTop" fmla="*/ 0 h 473040"/>
              <a:gd name="textAreaBottom" fmla="*/ 473400 h 473040"/>
            </a:gdLst>
            <a:ahLst/>
            <a:rect l="textAreaLeft" t="textAreaTop" r="textAreaRight" b="textAreaBottom"/>
            <a:pathLst>
              <a:path w="265929" h="472875">
                <a:moveTo>
                  <a:pt x="89297" y="17459"/>
                </a:moveTo>
                <a:lnTo>
                  <a:pt x="94037" y="12719"/>
                </a:lnTo>
                <a:lnTo>
                  <a:pt x="96426" y="11323"/>
                </a:lnTo>
                <a:lnTo>
                  <a:pt x="104528" y="8365"/>
                </a:lnTo>
                <a:lnTo>
                  <a:pt x="110287" y="4157"/>
                </a:lnTo>
                <a:lnTo>
                  <a:pt x="114204" y="2638"/>
                </a:lnTo>
                <a:lnTo>
                  <a:pt x="118799" y="1625"/>
                </a:lnTo>
                <a:lnTo>
                  <a:pt x="123848" y="951"/>
                </a:lnTo>
                <a:lnTo>
                  <a:pt x="130191" y="500"/>
                </a:lnTo>
                <a:lnTo>
                  <a:pt x="137395" y="200"/>
                </a:lnTo>
                <a:lnTo>
                  <a:pt x="145174" y="0"/>
                </a:lnTo>
                <a:lnTo>
                  <a:pt x="152345" y="859"/>
                </a:lnTo>
                <a:lnTo>
                  <a:pt x="159110" y="2424"/>
                </a:lnTo>
                <a:lnTo>
                  <a:pt x="188966" y="12064"/>
                </a:lnTo>
                <a:lnTo>
                  <a:pt x="214740" y="20601"/>
                </a:lnTo>
                <a:lnTo>
                  <a:pt x="222534" y="22531"/>
                </a:lnTo>
                <a:lnTo>
                  <a:pt x="229715" y="23817"/>
                </a:lnTo>
                <a:lnTo>
                  <a:pt x="236487" y="24675"/>
                </a:lnTo>
                <a:lnTo>
                  <a:pt x="241993" y="27230"/>
                </a:lnTo>
                <a:lnTo>
                  <a:pt x="246658" y="30919"/>
                </a:lnTo>
                <a:lnTo>
                  <a:pt x="254485" y="39316"/>
                </a:lnTo>
                <a:lnTo>
                  <a:pt x="261270" y="46356"/>
                </a:lnTo>
                <a:lnTo>
                  <a:pt x="263477" y="50614"/>
                </a:lnTo>
                <a:lnTo>
                  <a:pt x="265928" y="60638"/>
                </a:lnTo>
                <a:lnTo>
                  <a:pt x="265590" y="65096"/>
                </a:lnTo>
                <a:lnTo>
                  <a:pt x="264373" y="69061"/>
                </a:lnTo>
                <a:lnTo>
                  <a:pt x="255289" y="87294"/>
                </a:lnTo>
                <a:lnTo>
                  <a:pt x="249722" y="95791"/>
                </a:lnTo>
                <a:lnTo>
                  <a:pt x="242948" y="103868"/>
                </a:lnTo>
                <a:lnTo>
                  <a:pt x="233323" y="114071"/>
                </a:lnTo>
                <a:lnTo>
                  <a:pt x="227979" y="118578"/>
                </a:lnTo>
                <a:lnTo>
                  <a:pt x="222430" y="122575"/>
                </a:lnTo>
                <a:lnTo>
                  <a:pt x="216748" y="126232"/>
                </a:lnTo>
                <a:lnTo>
                  <a:pt x="210975" y="130654"/>
                </a:lnTo>
                <a:lnTo>
                  <a:pt x="205142" y="135587"/>
                </a:lnTo>
                <a:lnTo>
                  <a:pt x="199269" y="140859"/>
                </a:lnTo>
                <a:lnTo>
                  <a:pt x="193369" y="145367"/>
                </a:lnTo>
                <a:lnTo>
                  <a:pt x="187452" y="149364"/>
                </a:lnTo>
                <a:lnTo>
                  <a:pt x="181522" y="153021"/>
                </a:lnTo>
                <a:lnTo>
                  <a:pt x="176577" y="157443"/>
                </a:lnTo>
                <a:lnTo>
                  <a:pt x="168437" y="167648"/>
                </a:lnTo>
                <a:lnTo>
                  <a:pt x="161511" y="176153"/>
                </a:lnTo>
                <a:lnTo>
                  <a:pt x="158276" y="179810"/>
                </a:lnTo>
                <a:lnTo>
                  <a:pt x="156119" y="184232"/>
                </a:lnTo>
                <a:lnTo>
                  <a:pt x="153722" y="194437"/>
                </a:lnTo>
                <a:lnTo>
                  <a:pt x="152657" y="205588"/>
                </a:lnTo>
                <a:lnTo>
                  <a:pt x="152372" y="211339"/>
                </a:lnTo>
                <a:lnTo>
                  <a:pt x="154703" y="223022"/>
                </a:lnTo>
                <a:lnTo>
                  <a:pt x="159046" y="234828"/>
                </a:lnTo>
                <a:lnTo>
                  <a:pt x="164283" y="246690"/>
                </a:lnTo>
                <a:lnTo>
                  <a:pt x="172564" y="258577"/>
                </a:lnTo>
                <a:lnTo>
                  <a:pt x="177551" y="264525"/>
                </a:lnTo>
                <a:lnTo>
                  <a:pt x="185737" y="276425"/>
                </a:lnTo>
                <a:lnTo>
                  <a:pt x="193675" y="288329"/>
                </a:lnTo>
                <a:lnTo>
                  <a:pt x="198570" y="294281"/>
                </a:lnTo>
                <a:lnTo>
                  <a:pt x="203817" y="300234"/>
                </a:lnTo>
                <a:lnTo>
                  <a:pt x="208308" y="306187"/>
                </a:lnTo>
                <a:lnTo>
                  <a:pt x="215943" y="318093"/>
                </a:lnTo>
                <a:lnTo>
                  <a:pt x="219998" y="329999"/>
                </a:lnTo>
                <a:lnTo>
                  <a:pt x="221801" y="341905"/>
                </a:lnTo>
                <a:lnTo>
                  <a:pt x="222601" y="353811"/>
                </a:lnTo>
                <a:lnTo>
                  <a:pt x="222957" y="365717"/>
                </a:lnTo>
                <a:lnTo>
                  <a:pt x="223052" y="371670"/>
                </a:lnTo>
                <a:lnTo>
                  <a:pt x="222123" y="376632"/>
                </a:lnTo>
                <a:lnTo>
                  <a:pt x="218445" y="384789"/>
                </a:lnTo>
                <a:lnTo>
                  <a:pt x="210857" y="391723"/>
                </a:lnTo>
                <a:lnTo>
                  <a:pt x="206056" y="394960"/>
                </a:lnTo>
                <a:lnTo>
                  <a:pt x="200870" y="399103"/>
                </a:lnTo>
                <a:lnTo>
                  <a:pt x="195430" y="403850"/>
                </a:lnTo>
                <a:lnTo>
                  <a:pt x="189817" y="408998"/>
                </a:lnTo>
                <a:lnTo>
                  <a:pt x="184091" y="413423"/>
                </a:lnTo>
                <a:lnTo>
                  <a:pt x="178290" y="417365"/>
                </a:lnTo>
                <a:lnTo>
                  <a:pt x="172437" y="420985"/>
                </a:lnTo>
                <a:lnTo>
                  <a:pt x="166551" y="423398"/>
                </a:lnTo>
                <a:lnTo>
                  <a:pt x="160644" y="425007"/>
                </a:lnTo>
                <a:lnTo>
                  <a:pt x="154721" y="426080"/>
                </a:lnTo>
                <a:lnTo>
                  <a:pt x="147796" y="427787"/>
                </a:lnTo>
                <a:lnTo>
                  <a:pt x="140203" y="429918"/>
                </a:lnTo>
                <a:lnTo>
                  <a:pt x="123828" y="434930"/>
                </a:lnTo>
                <a:lnTo>
                  <a:pt x="106628" y="440466"/>
                </a:lnTo>
                <a:lnTo>
                  <a:pt x="98866" y="442339"/>
                </a:lnTo>
                <a:lnTo>
                  <a:pt x="91708" y="443587"/>
                </a:lnTo>
                <a:lnTo>
                  <a:pt x="84951" y="444420"/>
                </a:lnTo>
                <a:lnTo>
                  <a:pt x="78462" y="445967"/>
                </a:lnTo>
                <a:lnTo>
                  <a:pt x="72152" y="447991"/>
                </a:lnTo>
                <a:lnTo>
                  <a:pt x="65961" y="450332"/>
                </a:lnTo>
                <a:lnTo>
                  <a:pt x="59849" y="451893"/>
                </a:lnTo>
                <a:lnTo>
                  <a:pt x="53789" y="452933"/>
                </a:lnTo>
                <a:lnTo>
                  <a:pt x="47766" y="453627"/>
                </a:lnTo>
                <a:lnTo>
                  <a:pt x="41766" y="454089"/>
                </a:lnTo>
                <a:lnTo>
                  <a:pt x="35781" y="454398"/>
                </a:lnTo>
                <a:lnTo>
                  <a:pt x="29807" y="454603"/>
                </a:lnTo>
                <a:lnTo>
                  <a:pt x="24833" y="455732"/>
                </a:lnTo>
                <a:lnTo>
                  <a:pt x="13090" y="461070"/>
                </a:lnTo>
                <a:lnTo>
                  <a:pt x="6480" y="462667"/>
                </a:lnTo>
                <a:lnTo>
                  <a:pt x="1919" y="463566"/>
                </a:lnTo>
                <a:lnTo>
                  <a:pt x="1279" y="464684"/>
                </a:lnTo>
                <a:lnTo>
                  <a:pt x="0" y="47287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59" name="SMARTInkAnnotation152"/>
          <p:cNvSpPr/>
          <p:nvPr/>
        </p:nvSpPr>
        <p:spPr>
          <a:xfrm>
            <a:off x="7643880" y="3276720"/>
            <a:ext cx="177840" cy="465120"/>
          </a:xfrm>
          <a:custGeom>
            <a:avLst/>
            <a:gdLst>
              <a:gd name="textAreaLeft" fmla="*/ 0 w 177840"/>
              <a:gd name="textAreaRight" fmla="*/ 178200 w 177840"/>
              <a:gd name="textAreaTop" fmla="*/ 0 h 465120"/>
              <a:gd name="textAreaBottom" fmla="*/ 465480 h 465120"/>
            </a:gdLst>
            <a:ahLst/>
            <a:rect l="textAreaLeft" t="textAreaTop" r="textAreaRight" b="textAreaBottom"/>
            <a:pathLst>
              <a:path w="178182" h="464186">
                <a:moveTo>
                  <a:pt x="62508" y="0"/>
                </a:moveTo>
                <a:lnTo>
                  <a:pt x="67248" y="4741"/>
                </a:lnTo>
                <a:lnTo>
                  <a:pt x="69637" y="6137"/>
                </a:lnTo>
                <a:lnTo>
                  <a:pt x="74937" y="7688"/>
                </a:lnTo>
                <a:lnTo>
                  <a:pt x="77739" y="9094"/>
                </a:lnTo>
                <a:lnTo>
                  <a:pt x="80601" y="11024"/>
                </a:lnTo>
                <a:lnTo>
                  <a:pt x="83499" y="13302"/>
                </a:lnTo>
                <a:lnTo>
                  <a:pt x="86424" y="16806"/>
                </a:lnTo>
                <a:lnTo>
                  <a:pt x="89366" y="21126"/>
                </a:lnTo>
                <a:lnTo>
                  <a:pt x="92319" y="25990"/>
                </a:lnTo>
                <a:lnTo>
                  <a:pt x="96273" y="30225"/>
                </a:lnTo>
                <a:lnTo>
                  <a:pt x="100893" y="34041"/>
                </a:lnTo>
                <a:lnTo>
                  <a:pt x="105958" y="37577"/>
                </a:lnTo>
                <a:lnTo>
                  <a:pt x="110327" y="42911"/>
                </a:lnTo>
                <a:lnTo>
                  <a:pt x="114230" y="49443"/>
                </a:lnTo>
                <a:lnTo>
                  <a:pt x="127626" y="76573"/>
                </a:lnTo>
                <a:lnTo>
                  <a:pt x="130725" y="83791"/>
                </a:lnTo>
                <a:lnTo>
                  <a:pt x="133783" y="91579"/>
                </a:lnTo>
                <a:lnTo>
                  <a:pt x="139826" y="108171"/>
                </a:lnTo>
                <a:lnTo>
                  <a:pt x="163709" y="178633"/>
                </a:lnTo>
                <a:lnTo>
                  <a:pt x="165695" y="187550"/>
                </a:lnTo>
                <a:lnTo>
                  <a:pt x="167018" y="196471"/>
                </a:lnTo>
                <a:lnTo>
                  <a:pt x="167900" y="205394"/>
                </a:lnTo>
                <a:lnTo>
                  <a:pt x="169481" y="214320"/>
                </a:lnTo>
                <a:lnTo>
                  <a:pt x="171526" y="223247"/>
                </a:lnTo>
                <a:lnTo>
                  <a:pt x="173882" y="232175"/>
                </a:lnTo>
                <a:lnTo>
                  <a:pt x="175453" y="241104"/>
                </a:lnTo>
                <a:lnTo>
                  <a:pt x="176499" y="250033"/>
                </a:lnTo>
                <a:lnTo>
                  <a:pt x="177198" y="258962"/>
                </a:lnTo>
                <a:lnTo>
                  <a:pt x="177664" y="267891"/>
                </a:lnTo>
                <a:lnTo>
                  <a:pt x="178181" y="285750"/>
                </a:lnTo>
                <a:lnTo>
                  <a:pt x="177326" y="294680"/>
                </a:lnTo>
                <a:lnTo>
                  <a:pt x="175764" y="303610"/>
                </a:lnTo>
                <a:lnTo>
                  <a:pt x="173731" y="312539"/>
                </a:lnTo>
                <a:lnTo>
                  <a:pt x="172376" y="321469"/>
                </a:lnTo>
                <a:lnTo>
                  <a:pt x="171472" y="330398"/>
                </a:lnTo>
                <a:lnTo>
                  <a:pt x="170869" y="339328"/>
                </a:lnTo>
                <a:lnTo>
                  <a:pt x="169476" y="348258"/>
                </a:lnTo>
                <a:lnTo>
                  <a:pt x="167554" y="357187"/>
                </a:lnTo>
                <a:lnTo>
                  <a:pt x="165281" y="366117"/>
                </a:lnTo>
                <a:lnTo>
                  <a:pt x="162773" y="374055"/>
                </a:lnTo>
                <a:lnTo>
                  <a:pt x="157342" y="388166"/>
                </a:lnTo>
                <a:lnTo>
                  <a:pt x="154504" y="394706"/>
                </a:lnTo>
                <a:lnTo>
                  <a:pt x="148705" y="407266"/>
                </a:lnTo>
                <a:lnTo>
                  <a:pt x="144777" y="413394"/>
                </a:lnTo>
                <a:lnTo>
                  <a:pt x="140174" y="419463"/>
                </a:lnTo>
                <a:lnTo>
                  <a:pt x="135122" y="425493"/>
                </a:lnTo>
                <a:lnTo>
                  <a:pt x="130762" y="430506"/>
                </a:lnTo>
                <a:lnTo>
                  <a:pt x="123270" y="438721"/>
                </a:lnTo>
                <a:lnTo>
                  <a:pt x="116634" y="445680"/>
                </a:lnTo>
                <a:lnTo>
                  <a:pt x="113474" y="448924"/>
                </a:lnTo>
                <a:lnTo>
                  <a:pt x="109384" y="452080"/>
                </a:lnTo>
                <a:lnTo>
                  <a:pt x="104673" y="455176"/>
                </a:lnTo>
                <a:lnTo>
                  <a:pt x="99547" y="458232"/>
                </a:lnTo>
                <a:lnTo>
                  <a:pt x="94146" y="460269"/>
                </a:lnTo>
                <a:lnTo>
                  <a:pt x="88561" y="461627"/>
                </a:lnTo>
                <a:lnTo>
                  <a:pt x="82853" y="462533"/>
                </a:lnTo>
                <a:lnTo>
                  <a:pt x="77064" y="463136"/>
                </a:lnTo>
                <a:lnTo>
                  <a:pt x="71220" y="463539"/>
                </a:lnTo>
                <a:lnTo>
                  <a:pt x="65339" y="463807"/>
                </a:lnTo>
                <a:lnTo>
                  <a:pt x="53514" y="464105"/>
                </a:lnTo>
                <a:lnTo>
                  <a:pt x="47583" y="464185"/>
                </a:lnTo>
                <a:lnTo>
                  <a:pt x="41643" y="463245"/>
                </a:lnTo>
                <a:lnTo>
                  <a:pt x="35700" y="461627"/>
                </a:lnTo>
                <a:lnTo>
                  <a:pt x="29753" y="459556"/>
                </a:lnTo>
                <a:lnTo>
                  <a:pt x="24797" y="457183"/>
                </a:lnTo>
                <a:lnTo>
                  <a:pt x="20500" y="454609"/>
                </a:lnTo>
                <a:lnTo>
                  <a:pt x="16643" y="451901"/>
                </a:lnTo>
                <a:lnTo>
                  <a:pt x="13080" y="449103"/>
                </a:lnTo>
                <a:lnTo>
                  <a:pt x="9713" y="446245"/>
                </a:lnTo>
                <a:lnTo>
                  <a:pt x="0" y="437555"/>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60" name="SMARTInkAnnotation153"/>
          <p:cNvSpPr/>
          <p:nvPr/>
        </p:nvSpPr>
        <p:spPr>
          <a:xfrm>
            <a:off x="7589880" y="3224160"/>
            <a:ext cx="527040" cy="34920"/>
          </a:xfrm>
          <a:custGeom>
            <a:avLst/>
            <a:gdLst>
              <a:gd name="textAreaLeft" fmla="*/ 0 w 527040"/>
              <a:gd name="textAreaRight" fmla="*/ 527400 w 527040"/>
              <a:gd name="textAreaTop" fmla="*/ 0 h 34920"/>
              <a:gd name="textAreaBottom" fmla="*/ 35280 h 34920"/>
            </a:gdLst>
            <a:ahLst/>
            <a:rect l="textAreaLeft" t="textAreaTop" r="textAreaRight" b="textAreaBottom"/>
            <a:pathLst>
              <a:path w="526852" h="35719">
                <a:moveTo>
                  <a:pt x="0" y="35718"/>
                </a:moveTo>
                <a:lnTo>
                  <a:pt x="4740" y="30978"/>
                </a:lnTo>
                <a:lnTo>
                  <a:pt x="7129" y="29581"/>
                </a:lnTo>
                <a:lnTo>
                  <a:pt x="9714" y="28650"/>
                </a:lnTo>
                <a:lnTo>
                  <a:pt x="12429" y="28030"/>
                </a:lnTo>
                <a:lnTo>
                  <a:pt x="15232" y="26624"/>
                </a:lnTo>
                <a:lnTo>
                  <a:pt x="18091" y="24695"/>
                </a:lnTo>
                <a:lnTo>
                  <a:pt x="20991" y="22416"/>
                </a:lnTo>
                <a:lnTo>
                  <a:pt x="24908" y="20897"/>
                </a:lnTo>
                <a:lnTo>
                  <a:pt x="29503" y="19884"/>
                </a:lnTo>
                <a:lnTo>
                  <a:pt x="34551" y="19210"/>
                </a:lnTo>
                <a:lnTo>
                  <a:pt x="48098" y="18459"/>
                </a:lnTo>
                <a:lnTo>
                  <a:pt x="64041" y="18126"/>
                </a:lnTo>
                <a:lnTo>
                  <a:pt x="81048" y="17978"/>
                </a:lnTo>
                <a:lnTo>
                  <a:pt x="89752" y="16946"/>
                </a:lnTo>
                <a:lnTo>
                  <a:pt x="98530" y="15266"/>
                </a:lnTo>
                <a:lnTo>
                  <a:pt x="107358" y="13154"/>
                </a:lnTo>
                <a:lnTo>
                  <a:pt x="118205" y="11745"/>
                </a:lnTo>
                <a:lnTo>
                  <a:pt x="130397" y="10807"/>
                </a:lnTo>
                <a:lnTo>
                  <a:pt x="143486" y="10181"/>
                </a:lnTo>
                <a:lnTo>
                  <a:pt x="168614" y="9486"/>
                </a:lnTo>
                <a:lnTo>
                  <a:pt x="180869" y="9300"/>
                </a:lnTo>
                <a:lnTo>
                  <a:pt x="193009" y="10169"/>
                </a:lnTo>
                <a:lnTo>
                  <a:pt x="205071" y="11740"/>
                </a:lnTo>
                <a:lnTo>
                  <a:pt x="217081" y="13780"/>
                </a:lnTo>
                <a:lnTo>
                  <a:pt x="230049" y="15139"/>
                </a:lnTo>
                <a:lnTo>
                  <a:pt x="243655" y="16046"/>
                </a:lnTo>
                <a:lnTo>
                  <a:pt x="271010" y="17053"/>
                </a:lnTo>
                <a:lnTo>
                  <a:pt x="308723" y="17621"/>
                </a:lnTo>
                <a:lnTo>
                  <a:pt x="404780" y="17850"/>
                </a:lnTo>
                <a:lnTo>
                  <a:pt x="415705" y="16860"/>
                </a:lnTo>
                <a:lnTo>
                  <a:pt x="425965" y="15209"/>
                </a:lnTo>
                <a:lnTo>
                  <a:pt x="435781" y="13116"/>
                </a:lnTo>
                <a:lnTo>
                  <a:pt x="445302" y="11720"/>
                </a:lnTo>
                <a:lnTo>
                  <a:pt x="454626" y="10790"/>
                </a:lnTo>
                <a:lnTo>
                  <a:pt x="463819" y="10170"/>
                </a:lnTo>
                <a:lnTo>
                  <a:pt x="479324" y="9481"/>
                </a:lnTo>
                <a:lnTo>
                  <a:pt x="486237" y="9297"/>
                </a:lnTo>
                <a:lnTo>
                  <a:pt x="491837" y="8182"/>
                </a:lnTo>
                <a:lnTo>
                  <a:pt x="496563" y="6447"/>
                </a:lnTo>
                <a:lnTo>
                  <a:pt x="500707" y="4298"/>
                </a:lnTo>
                <a:lnTo>
                  <a:pt x="504461" y="2865"/>
                </a:lnTo>
                <a:lnTo>
                  <a:pt x="507956" y="1910"/>
                </a:lnTo>
                <a:lnTo>
                  <a:pt x="514485" y="849"/>
                </a:lnTo>
                <a:lnTo>
                  <a:pt x="526851" y="0"/>
                </a:lnTo>
              </a:path>
            </a:pathLst>
          </a:custGeom>
          <a:noFill/>
          <a:ln w="38160">
            <a:solidFill>
              <a:srgbClr val="009300"/>
            </a:solidFill>
            <a:round/>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Constantia"/>
            </a:endParaRPr>
          </a:p>
        </p:txBody>
      </p:sp>
      <p:sp>
        <p:nvSpPr>
          <p:cNvPr id="361" name="SMARTInkAnnotation154"/>
          <p:cNvSpPr/>
          <p:nvPr/>
        </p:nvSpPr>
        <p:spPr>
          <a:xfrm>
            <a:off x="6100920" y="3170160"/>
            <a:ext cx="345960" cy="652680"/>
          </a:xfrm>
          <a:custGeom>
            <a:avLst/>
            <a:gdLst>
              <a:gd name="textAreaLeft" fmla="*/ 0 w 345960"/>
              <a:gd name="textAreaRight" fmla="*/ 346320 w 345960"/>
              <a:gd name="textAreaTop" fmla="*/ 0 h 652680"/>
              <a:gd name="textAreaBottom" fmla="*/ 653040 h 652680"/>
            </a:gdLst>
            <a:ahLst/>
            <a:rect l="textAreaLeft" t="textAreaTop" r="textAreaRight" b="textAreaBottom"/>
            <a:pathLst>
              <a:path w="346981" h="651868">
                <a:moveTo>
                  <a:pt x="25512" y="0"/>
                </a:moveTo>
                <a:lnTo>
                  <a:pt x="33200" y="7688"/>
                </a:lnTo>
                <a:lnTo>
                  <a:pt x="36536" y="8378"/>
                </a:lnTo>
                <a:lnTo>
                  <a:pt x="42021" y="8820"/>
                </a:lnTo>
                <a:lnTo>
                  <a:pt x="52218" y="16037"/>
                </a:lnTo>
                <a:lnTo>
                  <a:pt x="58198" y="18628"/>
                </a:lnTo>
                <a:lnTo>
                  <a:pt x="65162" y="21349"/>
                </a:lnTo>
                <a:lnTo>
                  <a:pt x="75546" y="24371"/>
                </a:lnTo>
                <a:lnTo>
                  <a:pt x="79704" y="25177"/>
                </a:lnTo>
                <a:lnTo>
                  <a:pt x="86969" y="28718"/>
                </a:lnTo>
                <a:lnTo>
                  <a:pt x="90296" y="31052"/>
                </a:lnTo>
                <a:lnTo>
                  <a:pt x="96638" y="33644"/>
                </a:lnTo>
                <a:lnTo>
                  <a:pt x="99719" y="34336"/>
                </a:lnTo>
                <a:lnTo>
                  <a:pt x="105787" y="37749"/>
                </a:lnTo>
                <a:lnTo>
                  <a:pt x="108794" y="40049"/>
                </a:lnTo>
                <a:lnTo>
                  <a:pt x="114781" y="42604"/>
                </a:lnTo>
                <a:lnTo>
                  <a:pt x="121742" y="44732"/>
                </a:lnTo>
                <a:lnTo>
                  <a:pt x="131450" y="48985"/>
                </a:lnTo>
                <a:lnTo>
                  <a:pt x="139734" y="54182"/>
                </a:lnTo>
                <a:lnTo>
                  <a:pt x="149976" y="62687"/>
                </a:lnTo>
                <a:lnTo>
                  <a:pt x="159293" y="71490"/>
                </a:lnTo>
                <a:lnTo>
                  <a:pt x="180283" y="92276"/>
                </a:lnTo>
                <a:lnTo>
                  <a:pt x="188887" y="98228"/>
                </a:lnTo>
                <a:lnTo>
                  <a:pt x="198334" y="104180"/>
                </a:lnTo>
                <a:lnTo>
                  <a:pt x="205840" y="110133"/>
                </a:lnTo>
                <a:lnTo>
                  <a:pt x="215644" y="119062"/>
                </a:lnTo>
                <a:lnTo>
                  <a:pt x="217750" y="123031"/>
                </a:lnTo>
                <a:lnTo>
                  <a:pt x="221708" y="137105"/>
                </a:lnTo>
                <a:lnTo>
                  <a:pt x="234229" y="159153"/>
                </a:lnTo>
                <a:lnTo>
                  <a:pt x="242907" y="171290"/>
                </a:lnTo>
                <a:lnTo>
                  <a:pt x="251762" y="185910"/>
                </a:lnTo>
                <a:lnTo>
                  <a:pt x="255052" y="197059"/>
                </a:lnTo>
                <a:lnTo>
                  <a:pt x="257505" y="208628"/>
                </a:lnTo>
                <a:lnTo>
                  <a:pt x="263473" y="226298"/>
                </a:lnTo>
                <a:lnTo>
                  <a:pt x="265683" y="244102"/>
                </a:lnTo>
                <a:lnTo>
                  <a:pt x="266338" y="261944"/>
                </a:lnTo>
                <a:lnTo>
                  <a:pt x="266589" y="303793"/>
                </a:lnTo>
                <a:lnTo>
                  <a:pt x="266613" y="452405"/>
                </a:lnTo>
                <a:lnTo>
                  <a:pt x="263967" y="464329"/>
                </a:lnTo>
                <a:lnTo>
                  <a:pt x="260475" y="476243"/>
                </a:lnTo>
                <a:lnTo>
                  <a:pt x="257519" y="494107"/>
                </a:lnTo>
                <a:lnTo>
                  <a:pt x="251792" y="510976"/>
                </a:lnTo>
                <a:lnTo>
                  <a:pt x="246707" y="528713"/>
                </a:lnTo>
                <a:lnTo>
                  <a:pt x="241892" y="538593"/>
                </a:lnTo>
                <a:lnTo>
                  <a:pt x="233602" y="550725"/>
                </a:lnTo>
                <a:lnTo>
                  <a:pt x="224862" y="565455"/>
                </a:lnTo>
                <a:lnTo>
                  <a:pt x="215988" y="576543"/>
                </a:lnTo>
                <a:lnTo>
                  <a:pt x="207074" y="586113"/>
                </a:lnTo>
                <a:lnTo>
                  <a:pt x="192199" y="601230"/>
                </a:lnTo>
                <a:lnTo>
                  <a:pt x="189222" y="603226"/>
                </a:lnTo>
                <a:lnTo>
                  <a:pt x="174670" y="609076"/>
                </a:lnTo>
                <a:lnTo>
                  <a:pt x="165226" y="613005"/>
                </a:lnTo>
                <a:lnTo>
                  <a:pt x="157722" y="614751"/>
                </a:lnTo>
                <a:lnTo>
                  <a:pt x="147919" y="615734"/>
                </a:lnTo>
                <a:lnTo>
                  <a:pt x="138729" y="616026"/>
                </a:lnTo>
                <a:lnTo>
                  <a:pt x="116030" y="616138"/>
                </a:lnTo>
                <a:lnTo>
                  <a:pt x="111654" y="615148"/>
                </a:lnTo>
                <a:lnTo>
                  <a:pt x="104147" y="611404"/>
                </a:lnTo>
                <a:lnTo>
                  <a:pt x="94341" y="603719"/>
                </a:lnTo>
                <a:lnTo>
                  <a:pt x="85152" y="595157"/>
                </a:lnTo>
                <a:lnTo>
                  <a:pt x="61235" y="571493"/>
                </a:lnTo>
                <a:lnTo>
                  <a:pt x="49324" y="559593"/>
                </a:lnTo>
                <a:lnTo>
                  <a:pt x="40395" y="545923"/>
                </a:lnTo>
                <a:lnTo>
                  <a:pt x="28488" y="529663"/>
                </a:lnTo>
                <a:lnTo>
                  <a:pt x="20551" y="515006"/>
                </a:lnTo>
                <a:lnTo>
                  <a:pt x="14720" y="498016"/>
                </a:lnTo>
                <a:lnTo>
                  <a:pt x="10793" y="488239"/>
                </a:lnTo>
                <a:lnTo>
                  <a:pt x="8584" y="477156"/>
                </a:lnTo>
                <a:lnTo>
                  <a:pt x="8066" y="470700"/>
                </a:lnTo>
                <a:lnTo>
                  <a:pt x="6936" y="467588"/>
                </a:lnTo>
                <a:lnTo>
                  <a:pt x="0" y="457213"/>
                </a:lnTo>
                <a:lnTo>
                  <a:pt x="567" y="455621"/>
                </a:lnTo>
                <a:lnTo>
                  <a:pt x="5112" y="448640"/>
                </a:lnTo>
                <a:lnTo>
                  <a:pt x="7318" y="439210"/>
                </a:lnTo>
                <a:lnTo>
                  <a:pt x="12294" y="433305"/>
                </a:lnTo>
                <a:lnTo>
                  <a:pt x="14715" y="431745"/>
                </a:lnTo>
                <a:lnTo>
                  <a:pt x="20051" y="430011"/>
                </a:lnTo>
                <a:lnTo>
                  <a:pt x="28634" y="429036"/>
                </a:lnTo>
                <a:lnTo>
                  <a:pt x="37462" y="428747"/>
                </a:lnTo>
                <a:lnTo>
                  <a:pt x="51101" y="428661"/>
                </a:lnTo>
                <a:lnTo>
                  <a:pt x="55469" y="429641"/>
                </a:lnTo>
                <a:lnTo>
                  <a:pt x="62970" y="433376"/>
                </a:lnTo>
                <a:lnTo>
                  <a:pt x="72256" y="438343"/>
                </a:lnTo>
                <a:lnTo>
                  <a:pt x="77511" y="441057"/>
                </a:lnTo>
                <a:lnTo>
                  <a:pt x="82998" y="442866"/>
                </a:lnTo>
                <a:lnTo>
                  <a:pt x="88641" y="444072"/>
                </a:lnTo>
                <a:lnTo>
                  <a:pt x="94386" y="444876"/>
                </a:lnTo>
                <a:lnTo>
                  <a:pt x="103417" y="448415"/>
                </a:lnTo>
                <a:lnTo>
                  <a:pt x="111730" y="454288"/>
                </a:lnTo>
                <a:lnTo>
                  <a:pt x="122039" y="463512"/>
                </a:lnTo>
                <a:lnTo>
                  <a:pt x="127566" y="467758"/>
                </a:lnTo>
                <a:lnTo>
                  <a:pt x="133236" y="471581"/>
                </a:lnTo>
                <a:lnTo>
                  <a:pt x="139000" y="475122"/>
                </a:lnTo>
                <a:lnTo>
                  <a:pt x="144827" y="478474"/>
                </a:lnTo>
                <a:lnTo>
                  <a:pt x="156592" y="484845"/>
                </a:lnTo>
                <a:lnTo>
                  <a:pt x="174373" y="494010"/>
                </a:lnTo>
                <a:lnTo>
                  <a:pt x="180314" y="498012"/>
                </a:lnTo>
                <a:lnTo>
                  <a:pt x="186261" y="502664"/>
                </a:lnTo>
                <a:lnTo>
                  <a:pt x="192209" y="507750"/>
                </a:lnTo>
                <a:lnTo>
                  <a:pt x="198159" y="512133"/>
                </a:lnTo>
                <a:lnTo>
                  <a:pt x="204110" y="516047"/>
                </a:lnTo>
                <a:lnTo>
                  <a:pt x="210061" y="519648"/>
                </a:lnTo>
                <a:lnTo>
                  <a:pt x="216013" y="524033"/>
                </a:lnTo>
                <a:lnTo>
                  <a:pt x="221966" y="528941"/>
                </a:lnTo>
                <a:lnTo>
                  <a:pt x="227918" y="534198"/>
                </a:lnTo>
                <a:lnTo>
                  <a:pt x="239825" y="545330"/>
                </a:lnTo>
                <a:lnTo>
                  <a:pt x="268597" y="573566"/>
                </a:lnTo>
                <a:lnTo>
                  <a:pt x="276755" y="581678"/>
                </a:lnTo>
                <a:lnTo>
                  <a:pt x="286334" y="588591"/>
                </a:lnTo>
                <a:lnTo>
                  <a:pt x="291667" y="591824"/>
                </a:lnTo>
                <a:lnTo>
                  <a:pt x="300237" y="600707"/>
                </a:lnTo>
                <a:lnTo>
                  <a:pt x="310641" y="614219"/>
                </a:lnTo>
                <a:lnTo>
                  <a:pt x="320007" y="624506"/>
                </a:lnTo>
                <a:lnTo>
                  <a:pt x="329066" y="633838"/>
                </a:lnTo>
                <a:lnTo>
                  <a:pt x="332061" y="636871"/>
                </a:lnTo>
                <a:lnTo>
                  <a:pt x="335050" y="638893"/>
                </a:lnTo>
                <a:lnTo>
                  <a:pt x="341017" y="641140"/>
                </a:lnTo>
                <a:lnTo>
                  <a:pt x="343004" y="642731"/>
                </a:lnTo>
                <a:lnTo>
                  <a:pt x="344330" y="644784"/>
                </a:lnTo>
                <a:lnTo>
                  <a:pt x="346980" y="651867"/>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62" name="SMARTInkAnnotation155"/>
          <p:cNvSpPr/>
          <p:nvPr/>
        </p:nvSpPr>
        <p:spPr>
          <a:xfrm>
            <a:off x="6099120" y="3170160"/>
            <a:ext cx="339840" cy="669960"/>
          </a:xfrm>
          <a:custGeom>
            <a:avLst/>
            <a:gdLst>
              <a:gd name="textAreaLeft" fmla="*/ 0 w 339840"/>
              <a:gd name="textAreaRight" fmla="*/ 340200 w 339840"/>
              <a:gd name="textAreaTop" fmla="*/ 0 h 669960"/>
              <a:gd name="textAreaBottom" fmla="*/ 670320 h 669960"/>
            </a:gdLst>
            <a:ahLst/>
            <a:rect l="textAreaLeft" t="textAreaTop" r="textAreaRight" b="textAreaBottom"/>
            <a:pathLst>
              <a:path w="338949" h="669728">
                <a:moveTo>
                  <a:pt x="71057" y="0"/>
                </a:moveTo>
                <a:lnTo>
                  <a:pt x="75797" y="0"/>
                </a:lnTo>
                <a:lnTo>
                  <a:pt x="77193" y="992"/>
                </a:lnTo>
                <a:lnTo>
                  <a:pt x="78125" y="2646"/>
                </a:lnTo>
                <a:lnTo>
                  <a:pt x="78745" y="4740"/>
                </a:lnTo>
                <a:lnTo>
                  <a:pt x="82081" y="9713"/>
                </a:lnTo>
                <a:lnTo>
                  <a:pt x="92306" y="20991"/>
                </a:lnTo>
                <a:lnTo>
                  <a:pt x="115721" y="44654"/>
                </a:lnTo>
                <a:lnTo>
                  <a:pt x="121665" y="51596"/>
                </a:lnTo>
                <a:lnTo>
                  <a:pt x="127615" y="61296"/>
                </a:lnTo>
                <a:lnTo>
                  <a:pt x="136212" y="69576"/>
                </a:lnTo>
                <a:lnTo>
                  <a:pt x="141283" y="73173"/>
                </a:lnTo>
                <a:lnTo>
                  <a:pt x="149562" y="82461"/>
                </a:lnTo>
                <a:lnTo>
                  <a:pt x="159802" y="98847"/>
                </a:lnTo>
                <a:lnTo>
                  <a:pt x="167054" y="110408"/>
                </a:lnTo>
                <a:lnTo>
                  <a:pt x="176892" y="122161"/>
                </a:lnTo>
                <a:lnTo>
                  <a:pt x="185232" y="134000"/>
                </a:lnTo>
                <a:lnTo>
                  <a:pt x="193238" y="145876"/>
                </a:lnTo>
                <a:lnTo>
                  <a:pt x="203412" y="157768"/>
                </a:lnTo>
                <a:lnTo>
                  <a:pt x="211902" y="169669"/>
                </a:lnTo>
                <a:lnTo>
                  <a:pt x="222260" y="187525"/>
                </a:lnTo>
                <a:lnTo>
                  <a:pt x="231612" y="208029"/>
                </a:lnTo>
                <a:lnTo>
                  <a:pt x="237665" y="223426"/>
                </a:lnTo>
                <a:lnTo>
                  <a:pt x="246651" y="243250"/>
                </a:lnTo>
                <a:lnTo>
                  <a:pt x="255597" y="262684"/>
                </a:lnTo>
                <a:lnTo>
                  <a:pt x="264531" y="285861"/>
                </a:lnTo>
                <a:lnTo>
                  <a:pt x="273462" y="306729"/>
                </a:lnTo>
                <a:lnTo>
                  <a:pt x="279416" y="322855"/>
                </a:lnTo>
                <a:lnTo>
                  <a:pt x="285369" y="337298"/>
                </a:lnTo>
                <a:lnTo>
                  <a:pt x="288345" y="343928"/>
                </a:lnTo>
                <a:lnTo>
                  <a:pt x="291653" y="359232"/>
                </a:lnTo>
                <a:lnTo>
                  <a:pt x="294115" y="375955"/>
                </a:lnTo>
                <a:lnTo>
                  <a:pt x="298517" y="393310"/>
                </a:lnTo>
                <a:lnTo>
                  <a:pt x="301134" y="408299"/>
                </a:lnTo>
                <a:lnTo>
                  <a:pt x="302298" y="422568"/>
                </a:lnTo>
                <a:lnTo>
                  <a:pt x="302815" y="438831"/>
                </a:lnTo>
                <a:lnTo>
                  <a:pt x="303147" y="467388"/>
                </a:lnTo>
                <a:lnTo>
                  <a:pt x="303192" y="483556"/>
                </a:lnTo>
                <a:lnTo>
                  <a:pt x="300567" y="498018"/>
                </a:lnTo>
                <a:lnTo>
                  <a:pt x="293510" y="517316"/>
                </a:lnTo>
                <a:lnTo>
                  <a:pt x="285136" y="535602"/>
                </a:lnTo>
                <a:lnTo>
                  <a:pt x="255600" y="595309"/>
                </a:lnTo>
                <a:lnTo>
                  <a:pt x="251632" y="600271"/>
                </a:lnTo>
                <a:lnTo>
                  <a:pt x="241933" y="608431"/>
                </a:lnTo>
                <a:lnTo>
                  <a:pt x="236567" y="611995"/>
                </a:lnTo>
                <a:lnTo>
                  <a:pt x="231007" y="615364"/>
                </a:lnTo>
                <a:lnTo>
                  <a:pt x="220529" y="621753"/>
                </a:lnTo>
                <a:lnTo>
                  <a:pt x="212564" y="627900"/>
                </a:lnTo>
                <a:lnTo>
                  <a:pt x="203071" y="633939"/>
                </a:lnTo>
                <a:lnTo>
                  <a:pt x="197762" y="636938"/>
                </a:lnTo>
                <a:lnTo>
                  <a:pt x="192238" y="638938"/>
                </a:lnTo>
                <a:lnTo>
                  <a:pt x="186570" y="640271"/>
                </a:lnTo>
                <a:lnTo>
                  <a:pt x="180808" y="641160"/>
                </a:lnTo>
                <a:lnTo>
                  <a:pt x="174982" y="641753"/>
                </a:lnTo>
                <a:lnTo>
                  <a:pt x="169114" y="642148"/>
                </a:lnTo>
                <a:lnTo>
                  <a:pt x="163217" y="642411"/>
                </a:lnTo>
                <a:lnTo>
                  <a:pt x="151374" y="642703"/>
                </a:lnTo>
                <a:lnTo>
                  <a:pt x="127601" y="642891"/>
                </a:lnTo>
                <a:lnTo>
                  <a:pt x="121652" y="641915"/>
                </a:lnTo>
                <a:lnTo>
                  <a:pt x="115700" y="640271"/>
                </a:lnTo>
                <a:lnTo>
                  <a:pt x="109749" y="638183"/>
                </a:lnTo>
                <a:lnTo>
                  <a:pt x="100490" y="635863"/>
                </a:lnTo>
                <a:lnTo>
                  <a:pt x="92075" y="633840"/>
                </a:lnTo>
                <a:lnTo>
                  <a:pt x="81721" y="629634"/>
                </a:lnTo>
                <a:lnTo>
                  <a:pt x="77174" y="626131"/>
                </a:lnTo>
                <a:lnTo>
                  <a:pt x="69476" y="616947"/>
                </a:lnTo>
                <a:lnTo>
                  <a:pt x="60102" y="608897"/>
                </a:lnTo>
                <a:lnTo>
                  <a:pt x="54823" y="605361"/>
                </a:lnTo>
                <a:lnTo>
                  <a:pt x="46314" y="596141"/>
                </a:lnTo>
                <a:lnTo>
                  <a:pt x="35944" y="582439"/>
                </a:lnTo>
                <a:lnTo>
                  <a:pt x="29654" y="574377"/>
                </a:lnTo>
                <a:lnTo>
                  <a:pt x="20535" y="559674"/>
                </a:lnTo>
                <a:lnTo>
                  <a:pt x="14538" y="552023"/>
                </a:lnTo>
                <a:lnTo>
                  <a:pt x="12541" y="547601"/>
                </a:lnTo>
                <a:lnTo>
                  <a:pt x="10323" y="537396"/>
                </a:lnTo>
                <a:lnTo>
                  <a:pt x="9075" y="520495"/>
                </a:lnTo>
                <a:lnTo>
                  <a:pt x="7908" y="515668"/>
                </a:lnTo>
                <a:lnTo>
                  <a:pt x="2516" y="503143"/>
                </a:lnTo>
                <a:lnTo>
                  <a:pt x="192" y="484282"/>
                </a:lnTo>
                <a:lnTo>
                  <a:pt x="0" y="480612"/>
                </a:lnTo>
                <a:lnTo>
                  <a:pt x="865" y="477174"/>
                </a:lnTo>
                <a:lnTo>
                  <a:pt x="5831" y="467594"/>
                </a:lnTo>
                <a:lnTo>
                  <a:pt x="8735" y="458472"/>
                </a:lnTo>
                <a:lnTo>
                  <a:pt x="15439" y="449485"/>
                </a:lnTo>
                <a:lnTo>
                  <a:pt x="20872" y="443518"/>
                </a:lnTo>
                <a:lnTo>
                  <a:pt x="23709" y="441530"/>
                </a:lnTo>
                <a:lnTo>
                  <a:pt x="32443" y="437740"/>
                </a:lnTo>
                <a:lnTo>
                  <a:pt x="41315" y="431767"/>
                </a:lnTo>
                <a:lnTo>
                  <a:pt x="50228" y="428563"/>
                </a:lnTo>
                <a:lnTo>
                  <a:pt x="56177" y="424298"/>
                </a:lnTo>
                <a:lnTo>
                  <a:pt x="60144" y="422764"/>
                </a:lnTo>
                <a:lnTo>
                  <a:pt x="69845" y="421059"/>
                </a:lnTo>
                <a:lnTo>
                  <a:pt x="75209" y="421596"/>
                </a:lnTo>
                <a:lnTo>
                  <a:pt x="80771" y="422947"/>
                </a:lnTo>
                <a:lnTo>
                  <a:pt x="91249" y="426101"/>
                </a:lnTo>
                <a:lnTo>
                  <a:pt x="99213" y="427503"/>
                </a:lnTo>
                <a:lnTo>
                  <a:pt x="105703" y="429861"/>
                </a:lnTo>
                <a:lnTo>
                  <a:pt x="113998" y="433418"/>
                </a:lnTo>
                <a:lnTo>
                  <a:pt x="131814" y="441669"/>
                </a:lnTo>
                <a:lnTo>
                  <a:pt x="159420" y="455051"/>
                </a:lnTo>
                <a:lnTo>
                  <a:pt x="183981" y="467249"/>
                </a:lnTo>
                <a:lnTo>
                  <a:pt x="189997" y="471241"/>
                </a:lnTo>
                <a:lnTo>
                  <a:pt x="195990" y="475887"/>
                </a:lnTo>
                <a:lnTo>
                  <a:pt x="201971" y="480969"/>
                </a:lnTo>
                <a:lnTo>
                  <a:pt x="207942" y="486341"/>
                </a:lnTo>
                <a:lnTo>
                  <a:pt x="219868" y="497602"/>
                </a:lnTo>
                <a:lnTo>
                  <a:pt x="237739" y="515098"/>
                </a:lnTo>
                <a:lnTo>
                  <a:pt x="247002" y="526920"/>
                </a:lnTo>
                <a:lnTo>
                  <a:pt x="250861" y="532850"/>
                </a:lnTo>
                <a:lnTo>
                  <a:pt x="260442" y="542085"/>
                </a:lnTo>
                <a:lnTo>
                  <a:pt x="265774" y="545937"/>
                </a:lnTo>
                <a:lnTo>
                  <a:pt x="274345" y="555508"/>
                </a:lnTo>
                <a:lnTo>
                  <a:pt x="284749" y="572053"/>
                </a:lnTo>
                <a:lnTo>
                  <a:pt x="294115" y="589523"/>
                </a:lnTo>
                <a:lnTo>
                  <a:pt x="306169" y="613204"/>
                </a:lnTo>
                <a:lnTo>
                  <a:pt x="315125" y="626300"/>
                </a:lnTo>
                <a:lnTo>
                  <a:pt x="317112" y="630854"/>
                </a:lnTo>
                <a:lnTo>
                  <a:pt x="320903" y="645751"/>
                </a:lnTo>
                <a:lnTo>
                  <a:pt x="325305" y="653448"/>
                </a:lnTo>
                <a:lnTo>
                  <a:pt x="335224" y="665482"/>
                </a:lnTo>
                <a:lnTo>
                  <a:pt x="338948" y="669727"/>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63" name="SMARTInkAnnotation156"/>
          <p:cNvSpPr/>
          <p:nvPr/>
        </p:nvSpPr>
        <p:spPr>
          <a:xfrm>
            <a:off x="6143760" y="3179880"/>
            <a:ext cx="330120" cy="677880"/>
          </a:xfrm>
          <a:custGeom>
            <a:avLst/>
            <a:gdLst>
              <a:gd name="textAreaLeft" fmla="*/ 0 w 330120"/>
              <a:gd name="textAreaRight" fmla="*/ 330480 w 330120"/>
              <a:gd name="textAreaTop" fmla="*/ 0 h 677880"/>
              <a:gd name="textAreaBottom" fmla="*/ 678240 h 677880"/>
            </a:gdLst>
            <a:ahLst/>
            <a:rect l="textAreaLeft" t="textAreaTop" r="textAreaRight" b="textAreaBottom"/>
            <a:pathLst>
              <a:path w="330276" h="678622">
                <a:moveTo>
                  <a:pt x="35596" y="17824"/>
                </a:moveTo>
                <a:lnTo>
                  <a:pt x="35596" y="365"/>
                </a:lnTo>
                <a:lnTo>
                  <a:pt x="43284" y="0"/>
                </a:lnTo>
                <a:lnTo>
                  <a:pt x="43698" y="980"/>
                </a:lnTo>
                <a:lnTo>
                  <a:pt x="44157" y="4715"/>
                </a:lnTo>
                <a:lnTo>
                  <a:pt x="45273" y="6108"/>
                </a:lnTo>
                <a:lnTo>
                  <a:pt x="47008" y="7037"/>
                </a:lnTo>
                <a:lnTo>
                  <a:pt x="49158" y="7656"/>
                </a:lnTo>
                <a:lnTo>
                  <a:pt x="54191" y="10990"/>
                </a:lnTo>
                <a:lnTo>
                  <a:pt x="62603" y="18445"/>
                </a:lnTo>
                <a:lnTo>
                  <a:pt x="71378" y="26937"/>
                </a:lnTo>
                <a:lnTo>
                  <a:pt x="83233" y="38696"/>
                </a:lnTo>
                <a:lnTo>
                  <a:pt x="92154" y="52340"/>
                </a:lnTo>
                <a:lnTo>
                  <a:pt x="104057" y="68592"/>
                </a:lnTo>
                <a:lnTo>
                  <a:pt x="113979" y="84239"/>
                </a:lnTo>
                <a:lnTo>
                  <a:pt x="123680" y="95628"/>
                </a:lnTo>
                <a:lnTo>
                  <a:pt x="131960" y="107305"/>
                </a:lnTo>
                <a:lnTo>
                  <a:pt x="142200" y="125035"/>
                </a:lnTo>
                <a:lnTo>
                  <a:pt x="151518" y="142856"/>
                </a:lnTo>
                <a:lnTo>
                  <a:pt x="158554" y="154753"/>
                </a:lnTo>
                <a:lnTo>
                  <a:pt x="168296" y="166655"/>
                </a:lnTo>
                <a:lnTo>
                  <a:pt x="176594" y="178560"/>
                </a:lnTo>
                <a:lnTo>
                  <a:pt x="186844" y="199063"/>
                </a:lnTo>
                <a:lnTo>
                  <a:pt x="193106" y="214461"/>
                </a:lnTo>
                <a:lnTo>
                  <a:pt x="202210" y="235277"/>
                </a:lnTo>
                <a:lnTo>
                  <a:pt x="208203" y="251392"/>
                </a:lnTo>
                <a:lnTo>
                  <a:pt x="220136" y="279853"/>
                </a:lnTo>
                <a:lnTo>
                  <a:pt x="226093" y="296008"/>
                </a:lnTo>
                <a:lnTo>
                  <a:pt x="238000" y="324495"/>
                </a:lnTo>
                <a:lnTo>
                  <a:pt x="243955" y="340653"/>
                </a:lnTo>
                <a:lnTo>
                  <a:pt x="252885" y="361744"/>
                </a:lnTo>
                <a:lnTo>
                  <a:pt x="256192" y="374407"/>
                </a:lnTo>
                <a:lnTo>
                  <a:pt x="258055" y="392691"/>
                </a:lnTo>
                <a:lnTo>
                  <a:pt x="258606" y="413323"/>
                </a:lnTo>
                <a:lnTo>
                  <a:pt x="258837" y="497018"/>
                </a:lnTo>
                <a:lnTo>
                  <a:pt x="256191" y="508942"/>
                </a:lnTo>
                <a:lnTo>
                  <a:pt x="249124" y="526812"/>
                </a:lnTo>
                <a:lnTo>
                  <a:pt x="244598" y="537728"/>
                </a:lnTo>
                <a:lnTo>
                  <a:pt x="239048" y="555466"/>
                </a:lnTo>
                <a:lnTo>
                  <a:pt x="234168" y="565346"/>
                </a:lnTo>
                <a:lnTo>
                  <a:pt x="228690" y="573044"/>
                </a:lnTo>
                <a:lnTo>
                  <a:pt x="226834" y="577479"/>
                </a:lnTo>
                <a:lnTo>
                  <a:pt x="223228" y="592208"/>
                </a:lnTo>
                <a:lnTo>
                  <a:pt x="218868" y="599866"/>
                </a:lnTo>
                <a:lnTo>
                  <a:pt x="210835" y="609756"/>
                </a:lnTo>
                <a:lnTo>
                  <a:pt x="207985" y="611875"/>
                </a:lnTo>
                <a:lnTo>
                  <a:pt x="198240" y="615849"/>
                </a:lnTo>
                <a:lnTo>
                  <a:pt x="188580" y="620295"/>
                </a:lnTo>
                <a:lnTo>
                  <a:pt x="180318" y="625578"/>
                </a:lnTo>
                <a:lnTo>
                  <a:pt x="176725" y="628376"/>
                </a:lnTo>
                <a:lnTo>
                  <a:pt x="172347" y="630242"/>
                </a:lnTo>
                <a:lnTo>
                  <a:pt x="162189" y="632314"/>
                </a:lnTo>
                <a:lnTo>
                  <a:pt x="153706" y="633235"/>
                </a:lnTo>
                <a:lnTo>
                  <a:pt x="145636" y="633645"/>
                </a:lnTo>
                <a:lnTo>
                  <a:pt x="129936" y="633875"/>
                </a:lnTo>
                <a:lnTo>
                  <a:pt x="118536" y="633929"/>
                </a:lnTo>
                <a:lnTo>
                  <a:pt x="113709" y="632952"/>
                </a:lnTo>
                <a:lnTo>
                  <a:pt x="105701" y="629219"/>
                </a:lnTo>
                <a:lnTo>
                  <a:pt x="96189" y="626898"/>
                </a:lnTo>
                <a:lnTo>
                  <a:pt x="90873" y="626280"/>
                </a:lnTo>
                <a:lnTo>
                  <a:pt x="85346" y="624875"/>
                </a:lnTo>
                <a:lnTo>
                  <a:pt x="79676" y="622947"/>
                </a:lnTo>
                <a:lnTo>
                  <a:pt x="73913" y="620669"/>
                </a:lnTo>
                <a:lnTo>
                  <a:pt x="69078" y="617166"/>
                </a:lnTo>
                <a:lnTo>
                  <a:pt x="61060" y="607982"/>
                </a:lnTo>
                <a:lnTo>
                  <a:pt x="51543" y="599932"/>
                </a:lnTo>
                <a:lnTo>
                  <a:pt x="41691" y="593046"/>
                </a:lnTo>
                <a:lnTo>
                  <a:pt x="34005" y="586678"/>
                </a:lnTo>
                <a:lnTo>
                  <a:pt x="24100" y="577516"/>
                </a:lnTo>
                <a:lnTo>
                  <a:pt x="14881" y="563776"/>
                </a:lnTo>
                <a:lnTo>
                  <a:pt x="11507" y="555480"/>
                </a:lnTo>
                <a:lnTo>
                  <a:pt x="9014" y="547493"/>
                </a:lnTo>
                <a:lnTo>
                  <a:pt x="3026" y="531840"/>
                </a:lnTo>
                <a:lnTo>
                  <a:pt x="809" y="514634"/>
                </a:lnTo>
                <a:lnTo>
                  <a:pt x="61" y="493688"/>
                </a:lnTo>
                <a:lnTo>
                  <a:pt x="0" y="489848"/>
                </a:lnTo>
                <a:lnTo>
                  <a:pt x="2577" y="480289"/>
                </a:lnTo>
                <a:lnTo>
                  <a:pt x="6961" y="466397"/>
                </a:lnTo>
                <a:lnTo>
                  <a:pt x="7576" y="462724"/>
                </a:lnTo>
                <a:lnTo>
                  <a:pt x="10905" y="455998"/>
                </a:lnTo>
                <a:lnTo>
                  <a:pt x="21127" y="443595"/>
                </a:lnTo>
                <a:lnTo>
                  <a:pt x="22974" y="440577"/>
                </a:lnTo>
                <a:lnTo>
                  <a:pt x="25025" y="434578"/>
                </a:lnTo>
                <a:lnTo>
                  <a:pt x="26564" y="432582"/>
                </a:lnTo>
                <a:lnTo>
                  <a:pt x="28582" y="431251"/>
                </a:lnTo>
                <a:lnTo>
                  <a:pt x="38809" y="426732"/>
                </a:lnTo>
                <a:lnTo>
                  <a:pt x="47938" y="422803"/>
                </a:lnTo>
                <a:lnTo>
                  <a:pt x="55303" y="421057"/>
                </a:lnTo>
                <a:lnTo>
                  <a:pt x="65026" y="420073"/>
                </a:lnTo>
                <a:lnTo>
                  <a:pt x="73812" y="422489"/>
                </a:lnTo>
                <a:lnTo>
                  <a:pt x="83338" y="426870"/>
                </a:lnTo>
                <a:lnTo>
                  <a:pt x="90880" y="432125"/>
                </a:lnTo>
                <a:lnTo>
                  <a:pt x="95272" y="433923"/>
                </a:lnTo>
                <a:lnTo>
                  <a:pt x="105444" y="435921"/>
                </a:lnTo>
                <a:lnTo>
                  <a:pt x="110935" y="438438"/>
                </a:lnTo>
                <a:lnTo>
                  <a:pt x="116579" y="442100"/>
                </a:lnTo>
                <a:lnTo>
                  <a:pt x="122327" y="446527"/>
                </a:lnTo>
                <a:lnTo>
                  <a:pt x="131359" y="454090"/>
                </a:lnTo>
                <a:lnTo>
                  <a:pt x="139673" y="461751"/>
                </a:lnTo>
                <a:lnTo>
                  <a:pt x="161179" y="482838"/>
                </a:lnTo>
                <a:lnTo>
                  <a:pt x="166943" y="488568"/>
                </a:lnTo>
                <a:lnTo>
                  <a:pt x="175993" y="500226"/>
                </a:lnTo>
                <a:lnTo>
                  <a:pt x="184314" y="512021"/>
                </a:lnTo>
                <a:lnTo>
                  <a:pt x="194628" y="523878"/>
                </a:lnTo>
                <a:lnTo>
                  <a:pt x="200156" y="530811"/>
                </a:lnTo>
                <a:lnTo>
                  <a:pt x="205826" y="538409"/>
                </a:lnTo>
                <a:lnTo>
                  <a:pt x="211590" y="546451"/>
                </a:lnTo>
                <a:lnTo>
                  <a:pt x="220641" y="560678"/>
                </a:lnTo>
                <a:lnTo>
                  <a:pt x="228963" y="573616"/>
                </a:lnTo>
                <a:lnTo>
                  <a:pt x="239277" y="585980"/>
                </a:lnTo>
                <a:lnTo>
                  <a:pt x="244805" y="592055"/>
                </a:lnTo>
                <a:lnTo>
                  <a:pt x="256238" y="604098"/>
                </a:lnTo>
                <a:lnTo>
                  <a:pt x="278609" y="626890"/>
                </a:lnTo>
                <a:lnTo>
                  <a:pt x="330275" y="678621"/>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64" name="SMARTInkAnnotation157"/>
          <p:cNvSpPr/>
          <p:nvPr/>
        </p:nvSpPr>
        <p:spPr>
          <a:xfrm>
            <a:off x="312840" y="3768840"/>
            <a:ext cx="44280" cy="722160"/>
          </a:xfrm>
          <a:custGeom>
            <a:avLst/>
            <a:gdLst>
              <a:gd name="textAreaLeft" fmla="*/ 0 w 44280"/>
              <a:gd name="textAreaRight" fmla="*/ 44640 w 44280"/>
              <a:gd name="textAreaTop" fmla="*/ 0 h 722160"/>
              <a:gd name="textAreaBottom" fmla="*/ 722520 h 722160"/>
            </a:gdLst>
            <a:ahLst/>
            <a:rect l="textAreaLeft" t="textAreaTop" r="textAreaRight" b="textAreaBottom"/>
            <a:pathLst>
              <a:path w="44649" h="723305">
                <a:moveTo>
                  <a:pt x="0" y="0"/>
                </a:moveTo>
                <a:lnTo>
                  <a:pt x="0" y="25990"/>
                </a:lnTo>
                <a:lnTo>
                  <a:pt x="992" y="30225"/>
                </a:lnTo>
                <a:lnTo>
                  <a:pt x="2645" y="34041"/>
                </a:lnTo>
                <a:lnTo>
                  <a:pt x="4740" y="37576"/>
                </a:lnTo>
                <a:lnTo>
                  <a:pt x="6136" y="41918"/>
                </a:lnTo>
                <a:lnTo>
                  <a:pt x="7067" y="46796"/>
                </a:lnTo>
                <a:lnTo>
                  <a:pt x="8378" y="60498"/>
                </a:lnTo>
                <a:lnTo>
                  <a:pt x="8820" y="78757"/>
                </a:lnTo>
                <a:lnTo>
                  <a:pt x="8897" y="95655"/>
                </a:lnTo>
                <a:lnTo>
                  <a:pt x="9900" y="101473"/>
                </a:lnTo>
                <a:lnTo>
                  <a:pt x="11561" y="107336"/>
                </a:lnTo>
                <a:lnTo>
                  <a:pt x="13660" y="113229"/>
                </a:lnTo>
                <a:lnTo>
                  <a:pt x="15060" y="119142"/>
                </a:lnTo>
                <a:lnTo>
                  <a:pt x="15993" y="125069"/>
                </a:lnTo>
                <a:lnTo>
                  <a:pt x="17306" y="145536"/>
                </a:lnTo>
                <a:lnTo>
                  <a:pt x="17695" y="170453"/>
                </a:lnTo>
                <a:lnTo>
                  <a:pt x="18778" y="187874"/>
                </a:lnTo>
                <a:lnTo>
                  <a:pt x="20456" y="196686"/>
                </a:lnTo>
                <a:lnTo>
                  <a:pt x="22567" y="205539"/>
                </a:lnTo>
                <a:lnTo>
                  <a:pt x="23974" y="214416"/>
                </a:lnTo>
                <a:lnTo>
                  <a:pt x="24912" y="223311"/>
                </a:lnTo>
                <a:lnTo>
                  <a:pt x="25955" y="242124"/>
                </a:lnTo>
                <a:lnTo>
                  <a:pt x="26418" y="263715"/>
                </a:lnTo>
                <a:lnTo>
                  <a:pt x="26679" y="293442"/>
                </a:lnTo>
                <a:lnTo>
                  <a:pt x="27708" y="303776"/>
                </a:lnTo>
                <a:lnTo>
                  <a:pt x="29386" y="314635"/>
                </a:lnTo>
                <a:lnTo>
                  <a:pt x="31497" y="325842"/>
                </a:lnTo>
                <a:lnTo>
                  <a:pt x="32904" y="337283"/>
                </a:lnTo>
                <a:lnTo>
                  <a:pt x="33842" y="348879"/>
                </a:lnTo>
                <a:lnTo>
                  <a:pt x="34467" y="360578"/>
                </a:lnTo>
                <a:lnTo>
                  <a:pt x="35162" y="384160"/>
                </a:lnTo>
                <a:lnTo>
                  <a:pt x="35686" y="462591"/>
                </a:lnTo>
                <a:lnTo>
                  <a:pt x="35709" y="495353"/>
                </a:lnTo>
                <a:lnTo>
                  <a:pt x="36704" y="505853"/>
                </a:lnTo>
                <a:lnTo>
                  <a:pt x="38360" y="515829"/>
                </a:lnTo>
                <a:lnTo>
                  <a:pt x="40456" y="525456"/>
                </a:lnTo>
                <a:lnTo>
                  <a:pt x="41853" y="535843"/>
                </a:lnTo>
                <a:lnTo>
                  <a:pt x="42785" y="546736"/>
                </a:lnTo>
                <a:lnTo>
                  <a:pt x="43820" y="568431"/>
                </a:lnTo>
                <a:lnTo>
                  <a:pt x="44280" y="587995"/>
                </a:lnTo>
                <a:lnTo>
                  <a:pt x="44648" y="72330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65" name="SMARTInkAnnotation158"/>
          <p:cNvSpPr/>
          <p:nvPr/>
        </p:nvSpPr>
        <p:spPr>
          <a:xfrm>
            <a:off x="330120" y="3732120"/>
            <a:ext cx="419040" cy="365040"/>
          </a:xfrm>
          <a:custGeom>
            <a:avLst/>
            <a:gdLst>
              <a:gd name="textAreaLeft" fmla="*/ 0 w 419040"/>
              <a:gd name="textAreaRight" fmla="*/ 419400 w 419040"/>
              <a:gd name="textAreaTop" fmla="*/ 0 h 365040"/>
              <a:gd name="textAreaBottom" fmla="*/ 365040 h 365040"/>
            </a:gdLst>
            <a:ahLst/>
            <a:rect l="textAreaLeft" t="textAreaTop" r="textAreaRight" b="textAreaBottom"/>
            <a:pathLst>
              <a:path w="419573" h="364808">
                <a:moveTo>
                  <a:pt x="0" y="62475"/>
                </a:moveTo>
                <a:lnTo>
                  <a:pt x="0" y="54786"/>
                </a:lnTo>
                <a:lnTo>
                  <a:pt x="992" y="54372"/>
                </a:lnTo>
                <a:lnTo>
                  <a:pt x="4740" y="53913"/>
                </a:lnTo>
                <a:lnTo>
                  <a:pt x="6137" y="52799"/>
                </a:lnTo>
                <a:lnTo>
                  <a:pt x="7068" y="51063"/>
                </a:lnTo>
                <a:lnTo>
                  <a:pt x="7688" y="48913"/>
                </a:lnTo>
                <a:lnTo>
                  <a:pt x="9094" y="47481"/>
                </a:lnTo>
                <a:lnTo>
                  <a:pt x="11024" y="46526"/>
                </a:lnTo>
                <a:lnTo>
                  <a:pt x="15813" y="45464"/>
                </a:lnTo>
                <a:lnTo>
                  <a:pt x="21250" y="44993"/>
                </a:lnTo>
                <a:lnTo>
                  <a:pt x="23096" y="43875"/>
                </a:lnTo>
                <a:lnTo>
                  <a:pt x="24327" y="42137"/>
                </a:lnTo>
                <a:lnTo>
                  <a:pt x="25148" y="39987"/>
                </a:lnTo>
                <a:lnTo>
                  <a:pt x="26687" y="38553"/>
                </a:lnTo>
                <a:lnTo>
                  <a:pt x="28705" y="37597"/>
                </a:lnTo>
                <a:lnTo>
                  <a:pt x="31043" y="36960"/>
                </a:lnTo>
                <a:lnTo>
                  <a:pt x="36287" y="33607"/>
                </a:lnTo>
                <a:lnTo>
                  <a:pt x="39074" y="31323"/>
                </a:lnTo>
                <a:lnTo>
                  <a:pt x="41924" y="29801"/>
                </a:lnTo>
                <a:lnTo>
                  <a:pt x="50676" y="26666"/>
                </a:lnTo>
                <a:lnTo>
                  <a:pt x="56588" y="22416"/>
                </a:lnTo>
                <a:lnTo>
                  <a:pt x="60546" y="20886"/>
                </a:lnTo>
                <a:lnTo>
                  <a:pt x="70235" y="19186"/>
                </a:lnTo>
                <a:lnTo>
                  <a:pt x="78510" y="15785"/>
                </a:lnTo>
                <a:lnTo>
                  <a:pt x="82105" y="13489"/>
                </a:lnTo>
                <a:lnTo>
                  <a:pt x="91392" y="10938"/>
                </a:lnTo>
                <a:lnTo>
                  <a:pt x="101142" y="9804"/>
                </a:lnTo>
                <a:lnTo>
                  <a:pt x="108783" y="9300"/>
                </a:lnTo>
                <a:lnTo>
                  <a:pt x="112209" y="8173"/>
                </a:lnTo>
                <a:lnTo>
                  <a:pt x="118662" y="4276"/>
                </a:lnTo>
                <a:lnTo>
                  <a:pt x="127484" y="1882"/>
                </a:lnTo>
                <a:lnTo>
                  <a:pt x="137027" y="818"/>
                </a:lnTo>
                <a:lnTo>
                  <a:pt x="148969" y="219"/>
                </a:lnTo>
                <a:lnTo>
                  <a:pt x="170280" y="17"/>
                </a:lnTo>
                <a:lnTo>
                  <a:pt x="176028" y="0"/>
                </a:lnTo>
                <a:lnTo>
                  <a:pt x="180852" y="981"/>
                </a:lnTo>
                <a:lnTo>
                  <a:pt x="193374" y="6111"/>
                </a:lnTo>
                <a:lnTo>
                  <a:pt x="203684" y="7658"/>
                </a:lnTo>
                <a:lnTo>
                  <a:pt x="214880" y="10992"/>
                </a:lnTo>
                <a:lnTo>
                  <a:pt x="225479" y="15781"/>
                </a:lnTo>
                <a:lnTo>
                  <a:pt x="238016" y="24055"/>
                </a:lnTo>
                <a:lnTo>
                  <a:pt x="248329" y="29855"/>
                </a:lnTo>
                <a:lnTo>
                  <a:pt x="265292" y="38699"/>
                </a:lnTo>
                <a:lnTo>
                  <a:pt x="282885" y="47602"/>
                </a:lnTo>
                <a:lnTo>
                  <a:pt x="294729" y="56196"/>
                </a:lnTo>
                <a:lnTo>
                  <a:pt x="306608" y="65637"/>
                </a:lnTo>
                <a:lnTo>
                  <a:pt x="318502" y="73141"/>
                </a:lnTo>
                <a:lnTo>
                  <a:pt x="330403" y="82429"/>
                </a:lnTo>
                <a:lnTo>
                  <a:pt x="341315" y="93171"/>
                </a:lnTo>
                <a:lnTo>
                  <a:pt x="354028" y="110376"/>
                </a:lnTo>
                <a:lnTo>
                  <a:pt x="359050" y="116237"/>
                </a:lnTo>
                <a:lnTo>
                  <a:pt x="364382" y="122128"/>
                </a:lnTo>
                <a:lnTo>
                  <a:pt x="375599" y="133967"/>
                </a:lnTo>
                <a:lnTo>
                  <a:pt x="381368" y="139902"/>
                </a:lnTo>
                <a:lnTo>
                  <a:pt x="386206" y="145843"/>
                </a:lnTo>
                <a:lnTo>
                  <a:pt x="390424" y="151788"/>
                </a:lnTo>
                <a:lnTo>
                  <a:pt x="394228" y="157736"/>
                </a:lnTo>
                <a:lnTo>
                  <a:pt x="397756" y="163685"/>
                </a:lnTo>
                <a:lnTo>
                  <a:pt x="401100" y="169636"/>
                </a:lnTo>
                <a:lnTo>
                  <a:pt x="404322" y="175588"/>
                </a:lnTo>
                <a:lnTo>
                  <a:pt x="406470" y="181540"/>
                </a:lnTo>
                <a:lnTo>
                  <a:pt x="407902" y="187492"/>
                </a:lnTo>
                <a:lnTo>
                  <a:pt x="408856" y="193445"/>
                </a:lnTo>
                <a:lnTo>
                  <a:pt x="410485" y="199397"/>
                </a:lnTo>
                <a:lnTo>
                  <a:pt x="412563" y="205350"/>
                </a:lnTo>
                <a:lnTo>
                  <a:pt x="414941" y="211303"/>
                </a:lnTo>
                <a:lnTo>
                  <a:pt x="416525" y="217256"/>
                </a:lnTo>
                <a:lnTo>
                  <a:pt x="417582" y="223210"/>
                </a:lnTo>
                <a:lnTo>
                  <a:pt x="418286" y="229162"/>
                </a:lnTo>
                <a:lnTo>
                  <a:pt x="418756" y="235116"/>
                </a:lnTo>
                <a:lnTo>
                  <a:pt x="419069" y="241069"/>
                </a:lnTo>
                <a:lnTo>
                  <a:pt x="419510" y="256282"/>
                </a:lnTo>
                <a:lnTo>
                  <a:pt x="419572" y="260141"/>
                </a:lnTo>
                <a:lnTo>
                  <a:pt x="416994" y="269720"/>
                </a:lnTo>
                <a:lnTo>
                  <a:pt x="412542" y="280591"/>
                </a:lnTo>
                <a:lnTo>
                  <a:pt x="407255" y="292038"/>
                </a:lnTo>
                <a:lnTo>
                  <a:pt x="401599" y="301094"/>
                </a:lnTo>
                <a:lnTo>
                  <a:pt x="398701" y="304898"/>
                </a:lnTo>
                <a:lnTo>
                  <a:pt x="390190" y="311771"/>
                </a:lnTo>
                <a:lnTo>
                  <a:pt x="380785" y="318133"/>
                </a:lnTo>
                <a:lnTo>
                  <a:pt x="373298" y="324267"/>
                </a:lnTo>
                <a:lnTo>
                  <a:pt x="361371" y="330301"/>
                </a:lnTo>
                <a:lnTo>
                  <a:pt x="354023" y="333299"/>
                </a:lnTo>
                <a:lnTo>
                  <a:pt x="347141" y="336290"/>
                </a:lnTo>
                <a:lnTo>
                  <a:pt x="334201" y="342259"/>
                </a:lnTo>
                <a:lnTo>
                  <a:pt x="321836" y="345574"/>
                </a:lnTo>
                <a:lnTo>
                  <a:pt x="309726" y="348039"/>
                </a:lnTo>
                <a:lnTo>
                  <a:pt x="297729" y="352442"/>
                </a:lnTo>
                <a:lnTo>
                  <a:pt x="290759" y="354013"/>
                </a:lnTo>
                <a:lnTo>
                  <a:pt x="283136" y="355060"/>
                </a:lnTo>
                <a:lnTo>
                  <a:pt x="275078" y="355758"/>
                </a:lnTo>
                <a:lnTo>
                  <a:pt x="267721" y="356224"/>
                </a:lnTo>
                <a:lnTo>
                  <a:pt x="254256" y="356741"/>
                </a:lnTo>
                <a:lnTo>
                  <a:pt x="246894" y="357871"/>
                </a:lnTo>
                <a:lnTo>
                  <a:pt x="239010" y="359617"/>
                </a:lnTo>
                <a:lnTo>
                  <a:pt x="230778" y="361773"/>
                </a:lnTo>
                <a:lnTo>
                  <a:pt x="223305" y="363210"/>
                </a:lnTo>
                <a:lnTo>
                  <a:pt x="216339" y="364168"/>
                </a:lnTo>
                <a:lnTo>
                  <a:pt x="209710" y="364807"/>
                </a:lnTo>
                <a:lnTo>
                  <a:pt x="202315" y="364240"/>
                </a:lnTo>
                <a:lnTo>
                  <a:pt x="194408" y="362871"/>
                </a:lnTo>
                <a:lnTo>
                  <a:pt x="186160" y="360966"/>
                </a:lnTo>
                <a:lnTo>
                  <a:pt x="178677" y="359695"/>
                </a:lnTo>
                <a:lnTo>
                  <a:pt x="171704" y="358848"/>
                </a:lnTo>
                <a:lnTo>
                  <a:pt x="165071" y="358284"/>
                </a:lnTo>
                <a:lnTo>
                  <a:pt x="157672" y="357907"/>
                </a:lnTo>
                <a:lnTo>
                  <a:pt x="141514" y="357490"/>
                </a:lnTo>
                <a:lnTo>
                  <a:pt x="134030" y="356386"/>
                </a:lnTo>
                <a:lnTo>
                  <a:pt x="127056" y="354658"/>
                </a:lnTo>
                <a:lnTo>
                  <a:pt x="114016" y="351084"/>
                </a:lnTo>
                <a:lnTo>
                  <a:pt x="101606" y="349496"/>
                </a:lnTo>
                <a:lnTo>
                  <a:pt x="89476" y="348790"/>
                </a:lnTo>
                <a:lnTo>
                  <a:pt x="77470" y="348476"/>
                </a:lnTo>
                <a:lnTo>
                  <a:pt x="17859" y="348225"/>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66" name="SMARTInkAnnotation159"/>
          <p:cNvSpPr/>
          <p:nvPr/>
        </p:nvSpPr>
        <p:spPr>
          <a:xfrm>
            <a:off x="820800" y="4035600"/>
            <a:ext cx="322200" cy="18720"/>
          </a:xfrm>
          <a:custGeom>
            <a:avLst/>
            <a:gdLst>
              <a:gd name="textAreaLeft" fmla="*/ 0 w 322200"/>
              <a:gd name="textAreaRight" fmla="*/ 322560 w 322200"/>
              <a:gd name="textAreaTop" fmla="*/ 0 h 18720"/>
              <a:gd name="textAreaBottom" fmla="*/ 19080 h 18720"/>
            </a:gdLst>
            <a:ahLst/>
            <a:rect l="textAreaLeft" t="textAreaTop" r="textAreaRight" b="textAreaBottom"/>
            <a:pathLst>
              <a:path w="321470" h="17861">
                <a:moveTo>
                  <a:pt x="0" y="17860"/>
                </a:moveTo>
                <a:lnTo>
                  <a:pt x="12429" y="17860"/>
                </a:lnTo>
                <a:lnTo>
                  <a:pt x="16223" y="16867"/>
                </a:lnTo>
                <a:lnTo>
                  <a:pt x="20737" y="15214"/>
                </a:lnTo>
                <a:lnTo>
                  <a:pt x="25731" y="13119"/>
                </a:lnTo>
                <a:lnTo>
                  <a:pt x="30052" y="11723"/>
                </a:lnTo>
                <a:lnTo>
                  <a:pt x="33925" y="10792"/>
                </a:lnTo>
                <a:lnTo>
                  <a:pt x="37500" y="10171"/>
                </a:lnTo>
                <a:lnTo>
                  <a:pt x="41867" y="9758"/>
                </a:lnTo>
                <a:lnTo>
                  <a:pt x="46763" y="9482"/>
                </a:lnTo>
                <a:lnTo>
                  <a:pt x="52011" y="9297"/>
                </a:lnTo>
                <a:lnTo>
                  <a:pt x="57494" y="8183"/>
                </a:lnTo>
                <a:lnTo>
                  <a:pt x="63134" y="6448"/>
                </a:lnTo>
                <a:lnTo>
                  <a:pt x="68878" y="4298"/>
                </a:lnTo>
                <a:lnTo>
                  <a:pt x="75685" y="2866"/>
                </a:lnTo>
                <a:lnTo>
                  <a:pt x="83198" y="1911"/>
                </a:lnTo>
                <a:lnTo>
                  <a:pt x="91184" y="1273"/>
                </a:lnTo>
                <a:lnTo>
                  <a:pt x="98493" y="849"/>
                </a:lnTo>
                <a:lnTo>
                  <a:pt x="111905" y="378"/>
                </a:lnTo>
                <a:lnTo>
                  <a:pt x="143813" y="75"/>
                </a:lnTo>
                <a:lnTo>
                  <a:pt x="291657" y="0"/>
                </a:lnTo>
                <a:lnTo>
                  <a:pt x="296634" y="992"/>
                </a:lnTo>
                <a:lnTo>
                  <a:pt x="300943" y="2646"/>
                </a:lnTo>
                <a:lnTo>
                  <a:pt x="304808" y="4741"/>
                </a:lnTo>
                <a:lnTo>
                  <a:pt x="308377" y="6137"/>
                </a:lnTo>
                <a:lnTo>
                  <a:pt x="311749" y="7068"/>
                </a:lnTo>
                <a:lnTo>
                  <a:pt x="321469" y="8930"/>
                </a:lnTo>
              </a:path>
            </a:pathLst>
          </a:custGeom>
          <a:noFill/>
          <a:ln w="38160">
            <a:solidFill>
              <a:srgbClr val="009300"/>
            </a:solidFill>
            <a:roun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Constantia"/>
            </a:endParaRPr>
          </a:p>
        </p:txBody>
      </p:sp>
      <p:sp>
        <p:nvSpPr>
          <p:cNvPr id="367" name="SMARTInkAnnotation160"/>
          <p:cNvSpPr/>
          <p:nvPr/>
        </p:nvSpPr>
        <p:spPr>
          <a:xfrm>
            <a:off x="812880" y="4170240"/>
            <a:ext cx="303120" cy="34920"/>
          </a:xfrm>
          <a:custGeom>
            <a:avLst/>
            <a:gdLst>
              <a:gd name="textAreaLeft" fmla="*/ 0 w 303120"/>
              <a:gd name="textAreaRight" fmla="*/ 303480 w 303120"/>
              <a:gd name="textAreaTop" fmla="*/ 0 h 34920"/>
              <a:gd name="textAreaBottom" fmla="*/ 35280 h 34920"/>
            </a:gdLst>
            <a:ahLst/>
            <a:rect l="textAreaLeft" t="textAreaTop" r="textAreaRight" b="textAreaBottom"/>
            <a:pathLst>
              <a:path w="303610" h="35719">
                <a:moveTo>
                  <a:pt x="0" y="0"/>
                </a:moveTo>
                <a:lnTo>
                  <a:pt x="9481" y="0"/>
                </a:lnTo>
                <a:lnTo>
                  <a:pt x="14258" y="992"/>
                </a:lnTo>
                <a:lnTo>
                  <a:pt x="19427" y="2646"/>
                </a:lnTo>
                <a:lnTo>
                  <a:pt x="24858" y="4740"/>
                </a:lnTo>
                <a:lnTo>
                  <a:pt x="29470" y="6136"/>
                </a:lnTo>
                <a:lnTo>
                  <a:pt x="33537" y="7067"/>
                </a:lnTo>
                <a:lnTo>
                  <a:pt x="41695" y="8102"/>
                </a:lnTo>
                <a:lnTo>
                  <a:pt x="46648" y="8377"/>
                </a:lnTo>
                <a:lnTo>
                  <a:pt x="57444" y="8684"/>
                </a:lnTo>
                <a:lnTo>
                  <a:pt x="86437" y="8897"/>
                </a:lnTo>
                <a:lnTo>
                  <a:pt x="93344" y="9900"/>
                </a:lnTo>
                <a:lnTo>
                  <a:pt x="100925" y="11561"/>
                </a:lnTo>
                <a:lnTo>
                  <a:pt x="108955" y="13660"/>
                </a:lnTo>
                <a:lnTo>
                  <a:pt x="117285" y="15059"/>
                </a:lnTo>
                <a:lnTo>
                  <a:pt x="125815" y="15993"/>
                </a:lnTo>
                <a:lnTo>
                  <a:pt x="134478" y="16615"/>
                </a:lnTo>
                <a:lnTo>
                  <a:pt x="143230" y="17030"/>
                </a:lnTo>
                <a:lnTo>
                  <a:pt x="160892" y="17491"/>
                </a:lnTo>
                <a:lnTo>
                  <a:pt x="169769" y="18605"/>
                </a:lnTo>
                <a:lnTo>
                  <a:pt x="178664" y="20341"/>
                </a:lnTo>
                <a:lnTo>
                  <a:pt x="187570" y="22490"/>
                </a:lnTo>
                <a:lnTo>
                  <a:pt x="195492" y="23923"/>
                </a:lnTo>
                <a:lnTo>
                  <a:pt x="202758" y="24878"/>
                </a:lnTo>
                <a:lnTo>
                  <a:pt x="209586" y="25515"/>
                </a:lnTo>
                <a:lnTo>
                  <a:pt x="216122" y="25940"/>
                </a:lnTo>
                <a:lnTo>
                  <a:pt x="222464" y="26223"/>
                </a:lnTo>
                <a:lnTo>
                  <a:pt x="234803" y="26537"/>
                </a:lnTo>
                <a:lnTo>
                  <a:pt x="246901" y="26677"/>
                </a:lnTo>
                <a:lnTo>
                  <a:pt x="252906" y="27706"/>
                </a:lnTo>
                <a:lnTo>
                  <a:pt x="258893" y="29385"/>
                </a:lnTo>
                <a:lnTo>
                  <a:pt x="264869" y="31496"/>
                </a:lnTo>
                <a:lnTo>
                  <a:pt x="269845" y="32903"/>
                </a:lnTo>
                <a:lnTo>
                  <a:pt x="274155" y="33842"/>
                </a:lnTo>
                <a:lnTo>
                  <a:pt x="281589" y="34884"/>
                </a:lnTo>
                <a:lnTo>
                  <a:pt x="288200" y="35347"/>
                </a:lnTo>
                <a:lnTo>
                  <a:pt x="294446" y="35554"/>
                </a:lnTo>
                <a:lnTo>
                  <a:pt x="303609" y="35718"/>
                </a:lnTo>
              </a:path>
            </a:pathLst>
          </a:custGeom>
          <a:noFill/>
          <a:ln w="38160">
            <a:solidFill>
              <a:srgbClr val="009300"/>
            </a:solidFill>
            <a:round/>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Constantia"/>
            </a:endParaRPr>
          </a:p>
        </p:txBody>
      </p:sp>
      <p:sp>
        <p:nvSpPr>
          <p:cNvPr id="368" name="SMARTInkAnnotation161"/>
          <p:cNvSpPr/>
          <p:nvPr/>
        </p:nvSpPr>
        <p:spPr>
          <a:xfrm>
            <a:off x="1231920" y="3919680"/>
            <a:ext cx="492120" cy="536400"/>
          </a:xfrm>
          <a:custGeom>
            <a:avLst/>
            <a:gdLst>
              <a:gd name="textAreaLeft" fmla="*/ 0 w 492120"/>
              <a:gd name="textAreaRight" fmla="*/ 492480 w 492120"/>
              <a:gd name="textAreaTop" fmla="*/ 0 h 536400"/>
              <a:gd name="textAreaBottom" fmla="*/ 536760 h 536400"/>
            </a:gdLst>
            <a:ahLst/>
            <a:rect l="textAreaLeft" t="textAreaTop" r="textAreaRight" b="textAreaBottom"/>
            <a:pathLst>
              <a:path w="491134" h="535321">
                <a:moveTo>
                  <a:pt x="0" y="0"/>
                </a:moveTo>
                <a:lnTo>
                  <a:pt x="0" y="29553"/>
                </a:lnTo>
                <a:lnTo>
                  <a:pt x="2646" y="38270"/>
                </a:lnTo>
                <a:lnTo>
                  <a:pt x="6137" y="48758"/>
                </a:lnTo>
                <a:lnTo>
                  <a:pt x="7689" y="60035"/>
                </a:lnTo>
                <a:lnTo>
                  <a:pt x="11024" y="74307"/>
                </a:lnTo>
                <a:lnTo>
                  <a:pt x="14822" y="90572"/>
                </a:lnTo>
                <a:lnTo>
                  <a:pt x="15834" y="99076"/>
                </a:lnTo>
                <a:lnTo>
                  <a:pt x="16510" y="107723"/>
                </a:lnTo>
                <a:lnTo>
                  <a:pt x="17952" y="117456"/>
                </a:lnTo>
                <a:lnTo>
                  <a:pt x="19906" y="127913"/>
                </a:lnTo>
                <a:lnTo>
                  <a:pt x="22200" y="138854"/>
                </a:lnTo>
                <a:lnTo>
                  <a:pt x="24722" y="149124"/>
                </a:lnTo>
                <a:lnTo>
                  <a:pt x="27396" y="158947"/>
                </a:lnTo>
                <a:lnTo>
                  <a:pt x="30170" y="168472"/>
                </a:lnTo>
                <a:lnTo>
                  <a:pt x="32020" y="178791"/>
                </a:lnTo>
                <a:lnTo>
                  <a:pt x="33253" y="189639"/>
                </a:lnTo>
                <a:lnTo>
                  <a:pt x="34075" y="200840"/>
                </a:lnTo>
                <a:lnTo>
                  <a:pt x="35615" y="212276"/>
                </a:lnTo>
                <a:lnTo>
                  <a:pt x="37634" y="223869"/>
                </a:lnTo>
                <a:lnTo>
                  <a:pt x="39972" y="235566"/>
                </a:lnTo>
                <a:lnTo>
                  <a:pt x="42523" y="246340"/>
                </a:lnTo>
                <a:lnTo>
                  <a:pt x="45216" y="256500"/>
                </a:lnTo>
                <a:lnTo>
                  <a:pt x="50854" y="276718"/>
                </a:lnTo>
                <a:lnTo>
                  <a:pt x="56667" y="298933"/>
                </a:lnTo>
                <a:lnTo>
                  <a:pt x="59606" y="309422"/>
                </a:lnTo>
                <a:lnTo>
                  <a:pt x="68484" y="339396"/>
                </a:lnTo>
                <a:lnTo>
                  <a:pt x="77398" y="371980"/>
                </a:lnTo>
                <a:lnTo>
                  <a:pt x="83347" y="391543"/>
                </a:lnTo>
                <a:lnTo>
                  <a:pt x="85331" y="401919"/>
                </a:lnTo>
                <a:lnTo>
                  <a:pt x="86653" y="412805"/>
                </a:lnTo>
                <a:lnTo>
                  <a:pt x="87534" y="424032"/>
                </a:lnTo>
                <a:lnTo>
                  <a:pt x="89114" y="434492"/>
                </a:lnTo>
                <a:lnTo>
                  <a:pt x="91160" y="444442"/>
                </a:lnTo>
                <a:lnTo>
                  <a:pt x="93516" y="454053"/>
                </a:lnTo>
                <a:lnTo>
                  <a:pt x="98779" y="470022"/>
                </a:lnTo>
                <a:lnTo>
                  <a:pt x="104425" y="483735"/>
                </a:lnTo>
                <a:lnTo>
                  <a:pt x="110242" y="496443"/>
                </a:lnTo>
                <a:lnTo>
                  <a:pt x="119095" y="510014"/>
                </a:lnTo>
                <a:lnTo>
                  <a:pt x="128002" y="520319"/>
                </a:lnTo>
                <a:lnTo>
                  <a:pt x="130976" y="522496"/>
                </a:lnTo>
                <a:lnTo>
                  <a:pt x="136925" y="524915"/>
                </a:lnTo>
                <a:lnTo>
                  <a:pt x="145853" y="526277"/>
                </a:lnTo>
                <a:lnTo>
                  <a:pt x="148829" y="525477"/>
                </a:lnTo>
                <a:lnTo>
                  <a:pt x="154782" y="521940"/>
                </a:lnTo>
                <a:lnTo>
                  <a:pt x="163711" y="514372"/>
                </a:lnTo>
                <a:lnTo>
                  <a:pt x="172641" y="501105"/>
                </a:lnTo>
                <a:lnTo>
                  <a:pt x="181571" y="484606"/>
                </a:lnTo>
                <a:lnTo>
                  <a:pt x="184878" y="470373"/>
                </a:lnTo>
                <a:lnTo>
                  <a:pt x="187340" y="454125"/>
                </a:lnTo>
                <a:lnTo>
                  <a:pt x="189386" y="445624"/>
                </a:lnTo>
                <a:lnTo>
                  <a:pt x="191742" y="436981"/>
                </a:lnTo>
                <a:lnTo>
                  <a:pt x="193312" y="428243"/>
                </a:lnTo>
                <a:lnTo>
                  <a:pt x="194359" y="419440"/>
                </a:lnTo>
                <a:lnTo>
                  <a:pt x="195058" y="410596"/>
                </a:lnTo>
                <a:lnTo>
                  <a:pt x="196515" y="400730"/>
                </a:lnTo>
                <a:lnTo>
                  <a:pt x="198479" y="390184"/>
                </a:lnTo>
                <a:lnTo>
                  <a:pt x="200780" y="379185"/>
                </a:lnTo>
                <a:lnTo>
                  <a:pt x="202315" y="368876"/>
                </a:lnTo>
                <a:lnTo>
                  <a:pt x="203337" y="359027"/>
                </a:lnTo>
                <a:lnTo>
                  <a:pt x="204019" y="349484"/>
                </a:lnTo>
                <a:lnTo>
                  <a:pt x="205466" y="340145"/>
                </a:lnTo>
                <a:lnTo>
                  <a:pt x="207423" y="330943"/>
                </a:lnTo>
                <a:lnTo>
                  <a:pt x="209720" y="321832"/>
                </a:lnTo>
                <a:lnTo>
                  <a:pt x="212272" y="306417"/>
                </a:lnTo>
                <a:lnTo>
                  <a:pt x="213406" y="291958"/>
                </a:lnTo>
                <a:lnTo>
                  <a:pt x="213910" y="275611"/>
                </a:lnTo>
                <a:lnTo>
                  <a:pt x="216779" y="261069"/>
                </a:lnTo>
                <a:lnTo>
                  <a:pt x="220370" y="247991"/>
                </a:lnTo>
                <a:lnTo>
                  <a:pt x="221966" y="235564"/>
                </a:lnTo>
                <a:lnTo>
                  <a:pt x="222675" y="223427"/>
                </a:lnTo>
                <a:lnTo>
                  <a:pt x="223074" y="208084"/>
                </a:lnTo>
                <a:lnTo>
                  <a:pt x="223131" y="204207"/>
                </a:lnTo>
                <a:lnTo>
                  <a:pt x="224160" y="200630"/>
                </a:lnTo>
                <a:lnTo>
                  <a:pt x="229357" y="190855"/>
                </a:lnTo>
                <a:lnTo>
                  <a:pt x="232140" y="178752"/>
                </a:lnTo>
                <a:lnTo>
                  <a:pt x="232163" y="183381"/>
                </a:lnTo>
                <a:lnTo>
                  <a:pt x="238307" y="199971"/>
                </a:lnTo>
                <a:lnTo>
                  <a:pt x="240274" y="211607"/>
                </a:lnTo>
                <a:lnTo>
                  <a:pt x="240857" y="228173"/>
                </a:lnTo>
                <a:lnTo>
                  <a:pt x="241099" y="321525"/>
                </a:lnTo>
                <a:lnTo>
                  <a:pt x="242092" y="330436"/>
                </a:lnTo>
                <a:lnTo>
                  <a:pt x="243747" y="339353"/>
                </a:lnTo>
                <a:lnTo>
                  <a:pt x="245842" y="348275"/>
                </a:lnTo>
                <a:lnTo>
                  <a:pt x="247238" y="358190"/>
                </a:lnTo>
                <a:lnTo>
                  <a:pt x="248169" y="368770"/>
                </a:lnTo>
                <a:lnTo>
                  <a:pt x="248790" y="379792"/>
                </a:lnTo>
                <a:lnTo>
                  <a:pt x="250196" y="390116"/>
                </a:lnTo>
                <a:lnTo>
                  <a:pt x="252126" y="399976"/>
                </a:lnTo>
                <a:lnTo>
                  <a:pt x="254404" y="409525"/>
                </a:lnTo>
                <a:lnTo>
                  <a:pt x="256936" y="425428"/>
                </a:lnTo>
                <a:lnTo>
                  <a:pt x="259053" y="440102"/>
                </a:lnTo>
                <a:lnTo>
                  <a:pt x="263302" y="456546"/>
                </a:lnTo>
                <a:lnTo>
                  <a:pt x="268497" y="471130"/>
                </a:lnTo>
                <a:lnTo>
                  <a:pt x="273121" y="484227"/>
                </a:lnTo>
                <a:lnTo>
                  <a:pt x="275176" y="496662"/>
                </a:lnTo>
                <a:lnTo>
                  <a:pt x="278736" y="508804"/>
                </a:lnTo>
                <a:lnTo>
                  <a:pt x="281074" y="514819"/>
                </a:lnTo>
                <a:lnTo>
                  <a:pt x="283625" y="518830"/>
                </a:lnTo>
                <a:lnTo>
                  <a:pt x="286318" y="521504"/>
                </a:lnTo>
                <a:lnTo>
                  <a:pt x="294848" y="527912"/>
                </a:lnTo>
                <a:lnTo>
                  <a:pt x="297769" y="530536"/>
                </a:lnTo>
                <a:lnTo>
                  <a:pt x="300708" y="532284"/>
                </a:lnTo>
                <a:lnTo>
                  <a:pt x="306620" y="534226"/>
                </a:lnTo>
                <a:lnTo>
                  <a:pt x="315526" y="535320"/>
                </a:lnTo>
                <a:lnTo>
                  <a:pt x="318499" y="534482"/>
                </a:lnTo>
                <a:lnTo>
                  <a:pt x="327424" y="529553"/>
                </a:lnTo>
                <a:lnTo>
                  <a:pt x="333376" y="528052"/>
                </a:lnTo>
                <a:lnTo>
                  <a:pt x="336353" y="525667"/>
                </a:lnTo>
                <a:lnTo>
                  <a:pt x="342305" y="517726"/>
                </a:lnTo>
                <a:lnTo>
                  <a:pt x="351235" y="502099"/>
                </a:lnTo>
                <a:lnTo>
                  <a:pt x="357188" y="488068"/>
                </a:lnTo>
                <a:lnTo>
                  <a:pt x="363141" y="471911"/>
                </a:lnTo>
                <a:lnTo>
                  <a:pt x="369094" y="454808"/>
                </a:lnTo>
                <a:lnTo>
                  <a:pt x="372071" y="445088"/>
                </a:lnTo>
                <a:lnTo>
                  <a:pt x="378024" y="423704"/>
                </a:lnTo>
                <a:lnTo>
                  <a:pt x="395883" y="354040"/>
                </a:lnTo>
                <a:lnTo>
                  <a:pt x="399852" y="342190"/>
                </a:lnTo>
                <a:lnTo>
                  <a:pt x="404482" y="330322"/>
                </a:lnTo>
                <a:lnTo>
                  <a:pt x="409553" y="318442"/>
                </a:lnTo>
                <a:lnTo>
                  <a:pt x="413926" y="306552"/>
                </a:lnTo>
                <a:lnTo>
                  <a:pt x="417834" y="294657"/>
                </a:lnTo>
                <a:lnTo>
                  <a:pt x="421431" y="282758"/>
                </a:lnTo>
                <a:lnTo>
                  <a:pt x="428074" y="258954"/>
                </a:lnTo>
                <a:lnTo>
                  <a:pt x="443436" y="200420"/>
                </a:lnTo>
                <a:lnTo>
                  <a:pt x="449429" y="180357"/>
                </a:lnTo>
                <a:lnTo>
                  <a:pt x="458382" y="152327"/>
                </a:lnTo>
                <a:lnTo>
                  <a:pt x="460369" y="143223"/>
                </a:lnTo>
                <a:lnTo>
                  <a:pt x="461694" y="134177"/>
                </a:lnTo>
                <a:lnTo>
                  <a:pt x="462577" y="125170"/>
                </a:lnTo>
                <a:lnTo>
                  <a:pt x="466205" y="109871"/>
                </a:lnTo>
                <a:lnTo>
                  <a:pt x="471124" y="96456"/>
                </a:lnTo>
                <a:lnTo>
                  <a:pt x="476618" y="83880"/>
                </a:lnTo>
                <a:lnTo>
                  <a:pt x="479721" y="71676"/>
                </a:lnTo>
                <a:lnTo>
                  <a:pt x="481100" y="59637"/>
                </a:lnTo>
                <a:lnTo>
                  <a:pt x="481713" y="47672"/>
                </a:lnTo>
                <a:lnTo>
                  <a:pt x="482869" y="43687"/>
                </a:lnTo>
                <a:lnTo>
                  <a:pt x="484632" y="41031"/>
                </a:lnTo>
                <a:lnTo>
                  <a:pt x="486799" y="39260"/>
                </a:lnTo>
                <a:lnTo>
                  <a:pt x="488243" y="37087"/>
                </a:lnTo>
                <a:lnTo>
                  <a:pt x="491133" y="2678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69" name="SMARTInkAnnotation162"/>
          <p:cNvSpPr/>
          <p:nvPr/>
        </p:nvSpPr>
        <p:spPr>
          <a:xfrm>
            <a:off x="1581120" y="3795840"/>
            <a:ext cx="384120" cy="963360"/>
          </a:xfrm>
          <a:custGeom>
            <a:avLst/>
            <a:gdLst>
              <a:gd name="textAreaLeft" fmla="*/ 0 w 384120"/>
              <a:gd name="textAreaRight" fmla="*/ 384480 w 384120"/>
              <a:gd name="textAreaTop" fmla="*/ 0 h 963360"/>
              <a:gd name="textAreaBottom" fmla="*/ 963720 h 963360"/>
            </a:gdLst>
            <a:ahLst/>
            <a:rect l="textAreaLeft" t="textAreaTop" r="textAreaRight" b="textAreaBottom"/>
            <a:pathLst>
              <a:path w="383978" h="964407">
                <a:moveTo>
                  <a:pt x="383977" y="0"/>
                </a:moveTo>
                <a:lnTo>
                  <a:pt x="383977" y="13302"/>
                </a:lnTo>
                <a:lnTo>
                  <a:pt x="376909" y="36687"/>
                </a:lnTo>
                <a:lnTo>
                  <a:pt x="374883" y="48055"/>
                </a:lnTo>
                <a:lnTo>
                  <a:pt x="345245" y="134105"/>
                </a:lnTo>
                <a:lnTo>
                  <a:pt x="336666" y="151876"/>
                </a:lnTo>
                <a:lnTo>
                  <a:pt x="331600" y="160781"/>
                </a:lnTo>
                <a:lnTo>
                  <a:pt x="324255" y="178625"/>
                </a:lnTo>
                <a:lnTo>
                  <a:pt x="315388" y="202427"/>
                </a:lnTo>
                <a:lnTo>
                  <a:pt x="305509" y="230201"/>
                </a:lnTo>
                <a:lnTo>
                  <a:pt x="296939" y="252686"/>
                </a:lnTo>
                <a:lnTo>
                  <a:pt x="289240" y="271645"/>
                </a:lnTo>
                <a:lnTo>
                  <a:pt x="268925" y="319935"/>
                </a:lnTo>
                <a:lnTo>
                  <a:pt x="262627" y="335329"/>
                </a:lnTo>
                <a:lnTo>
                  <a:pt x="256444" y="349561"/>
                </a:lnTo>
                <a:lnTo>
                  <a:pt x="244283" y="375957"/>
                </a:lnTo>
                <a:lnTo>
                  <a:pt x="234909" y="403563"/>
                </a:lnTo>
                <a:lnTo>
                  <a:pt x="226443" y="432369"/>
                </a:lnTo>
                <a:lnTo>
                  <a:pt x="216066" y="461708"/>
                </a:lnTo>
                <a:lnTo>
                  <a:pt x="204839" y="488638"/>
                </a:lnTo>
                <a:lnTo>
                  <a:pt x="193235" y="514829"/>
                </a:lnTo>
                <a:lnTo>
                  <a:pt x="181463" y="543006"/>
                </a:lnTo>
                <a:lnTo>
                  <a:pt x="169617" y="569419"/>
                </a:lnTo>
                <a:lnTo>
                  <a:pt x="157737" y="595380"/>
                </a:lnTo>
                <a:lnTo>
                  <a:pt x="139892" y="637886"/>
                </a:lnTo>
                <a:lnTo>
                  <a:pt x="127990" y="667151"/>
                </a:lnTo>
                <a:lnTo>
                  <a:pt x="116085" y="694047"/>
                </a:lnTo>
                <a:lnTo>
                  <a:pt x="104179" y="719231"/>
                </a:lnTo>
                <a:lnTo>
                  <a:pt x="56555" y="815535"/>
                </a:lnTo>
                <a:lnTo>
                  <a:pt x="47294" y="836726"/>
                </a:lnTo>
                <a:lnTo>
                  <a:pt x="36503" y="865390"/>
                </a:lnTo>
                <a:lnTo>
                  <a:pt x="27022" y="890088"/>
                </a:lnTo>
                <a:lnTo>
                  <a:pt x="17928" y="909975"/>
                </a:lnTo>
                <a:lnTo>
                  <a:pt x="5967" y="934471"/>
                </a:lnTo>
                <a:lnTo>
                  <a:pt x="2652" y="943826"/>
                </a:lnTo>
                <a:lnTo>
                  <a:pt x="349" y="954935"/>
                </a:lnTo>
                <a:lnTo>
                  <a:pt x="0" y="964406"/>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70" name="SMARTInkAnnotation163"/>
          <p:cNvSpPr/>
          <p:nvPr/>
        </p:nvSpPr>
        <p:spPr>
          <a:xfrm>
            <a:off x="1893960" y="4133880"/>
            <a:ext cx="142920" cy="482400"/>
          </a:xfrm>
          <a:custGeom>
            <a:avLst/>
            <a:gdLst>
              <a:gd name="textAreaLeft" fmla="*/ 0 w 142920"/>
              <a:gd name="textAreaRight" fmla="*/ 143280 w 142920"/>
              <a:gd name="textAreaTop" fmla="*/ 0 h 482400"/>
              <a:gd name="textAreaBottom" fmla="*/ 482760 h 482400"/>
            </a:gdLst>
            <a:ahLst/>
            <a:rect l="textAreaLeft" t="textAreaTop" r="textAreaRight" b="textAreaBottom"/>
            <a:pathLst>
              <a:path w="142753" h="482155">
                <a:moveTo>
                  <a:pt x="142752" y="0"/>
                </a:moveTo>
                <a:lnTo>
                  <a:pt x="121761" y="20990"/>
                </a:lnTo>
                <a:lnTo>
                  <a:pt x="118836" y="24908"/>
                </a:lnTo>
                <a:lnTo>
                  <a:pt x="115894" y="29504"/>
                </a:lnTo>
                <a:lnTo>
                  <a:pt x="112941" y="34552"/>
                </a:lnTo>
                <a:lnTo>
                  <a:pt x="109979" y="38909"/>
                </a:lnTo>
                <a:lnTo>
                  <a:pt x="107013" y="42807"/>
                </a:lnTo>
                <a:lnTo>
                  <a:pt x="104043" y="46398"/>
                </a:lnTo>
                <a:lnTo>
                  <a:pt x="100079" y="50775"/>
                </a:lnTo>
                <a:lnTo>
                  <a:pt x="90383" y="60931"/>
                </a:lnTo>
                <a:lnTo>
                  <a:pt x="86011" y="66418"/>
                </a:lnTo>
                <a:lnTo>
                  <a:pt x="82105" y="72060"/>
                </a:lnTo>
                <a:lnTo>
                  <a:pt x="78508" y="77805"/>
                </a:lnTo>
                <a:lnTo>
                  <a:pt x="75118" y="84612"/>
                </a:lnTo>
                <a:lnTo>
                  <a:pt x="71866" y="92127"/>
                </a:lnTo>
                <a:lnTo>
                  <a:pt x="68706" y="100114"/>
                </a:lnTo>
                <a:lnTo>
                  <a:pt x="65607" y="107422"/>
                </a:lnTo>
                <a:lnTo>
                  <a:pt x="59517" y="120834"/>
                </a:lnTo>
                <a:lnTo>
                  <a:pt x="55512" y="128181"/>
                </a:lnTo>
                <a:lnTo>
                  <a:pt x="50858" y="136056"/>
                </a:lnTo>
                <a:lnTo>
                  <a:pt x="45771" y="144282"/>
                </a:lnTo>
                <a:lnTo>
                  <a:pt x="41387" y="152743"/>
                </a:lnTo>
                <a:lnTo>
                  <a:pt x="37472" y="161360"/>
                </a:lnTo>
                <a:lnTo>
                  <a:pt x="33871" y="170081"/>
                </a:lnTo>
                <a:lnTo>
                  <a:pt x="30477" y="177880"/>
                </a:lnTo>
                <a:lnTo>
                  <a:pt x="24060" y="191837"/>
                </a:lnTo>
                <a:lnTo>
                  <a:pt x="20960" y="200321"/>
                </a:lnTo>
                <a:lnTo>
                  <a:pt x="17901" y="209946"/>
                </a:lnTo>
                <a:lnTo>
                  <a:pt x="14870" y="220331"/>
                </a:lnTo>
                <a:lnTo>
                  <a:pt x="12849" y="230231"/>
                </a:lnTo>
                <a:lnTo>
                  <a:pt x="11502" y="239808"/>
                </a:lnTo>
                <a:lnTo>
                  <a:pt x="10603" y="249169"/>
                </a:lnTo>
                <a:lnTo>
                  <a:pt x="9013" y="258386"/>
                </a:lnTo>
                <a:lnTo>
                  <a:pt x="6960" y="267508"/>
                </a:lnTo>
                <a:lnTo>
                  <a:pt x="4599" y="276565"/>
                </a:lnTo>
                <a:lnTo>
                  <a:pt x="3025" y="285580"/>
                </a:lnTo>
                <a:lnTo>
                  <a:pt x="1976" y="294566"/>
                </a:lnTo>
                <a:lnTo>
                  <a:pt x="1276" y="303534"/>
                </a:lnTo>
                <a:lnTo>
                  <a:pt x="810" y="312489"/>
                </a:lnTo>
                <a:lnTo>
                  <a:pt x="292" y="330376"/>
                </a:lnTo>
                <a:lnTo>
                  <a:pt x="0" y="357181"/>
                </a:lnTo>
                <a:lnTo>
                  <a:pt x="951" y="365121"/>
                </a:lnTo>
                <a:lnTo>
                  <a:pt x="4654" y="379234"/>
                </a:lnTo>
                <a:lnTo>
                  <a:pt x="6039" y="386768"/>
                </a:lnTo>
                <a:lnTo>
                  <a:pt x="6961" y="394767"/>
                </a:lnTo>
                <a:lnTo>
                  <a:pt x="7576" y="403077"/>
                </a:lnTo>
                <a:lnTo>
                  <a:pt x="10906" y="417601"/>
                </a:lnTo>
                <a:lnTo>
                  <a:pt x="13183" y="424252"/>
                </a:lnTo>
                <a:lnTo>
                  <a:pt x="15693" y="429679"/>
                </a:lnTo>
                <a:lnTo>
                  <a:pt x="18359" y="434288"/>
                </a:lnTo>
                <a:lnTo>
                  <a:pt x="21128" y="438354"/>
                </a:lnTo>
                <a:lnTo>
                  <a:pt x="23966" y="443049"/>
                </a:lnTo>
                <a:lnTo>
                  <a:pt x="26851" y="448163"/>
                </a:lnTo>
                <a:lnTo>
                  <a:pt x="29766" y="453556"/>
                </a:lnTo>
                <a:lnTo>
                  <a:pt x="33694" y="458144"/>
                </a:lnTo>
                <a:lnTo>
                  <a:pt x="38296" y="462196"/>
                </a:lnTo>
                <a:lnTo>
                  <a:pt x="43349" y="465888"/>
                </a:lnTo>
                <a:lnTo>
                  <a:pt x="47710" y="469342"/>
                </a:lnTo>
                <a:lnTo>
                  <a:pt x="51610" y="472637"/>
                </a:lnTo>
                <a:lnTo>
                  <a:pt x="55202" y="475826"/>
                </a:lnTo>
                <a:lnTo>
                  <a:pt x="59580" y="477951"/>
                </a:lnTo>
                <a:lnTo>
                  <a:pt x="64484" y="479369"/>
                </a:lnTo>
                <a:lnTo>
                  <a:pt x="69738" y="480314"/>
                </a:lnTo>
                <a:lnTo>
                  <a:pt x="75224" y="480943"/>
                </a:lnTo>
                <a:lnTo>
                  <a:pt x="80866" y="481363"/>
                </a:lnTo>
                <a:lnTo>
                  <a:pt x="91435" y="481830"/>
                </a:lnTo>
                <a:lnTo>
                  <a:pt x="102963" y="482092"/>
                </a:lnTo>
                <a:lnTo>
                  <a:pt x="109524" y="482154"/>
                </a:lnTo>
                <a:lnTo>
                  <a:pt x="113655" y="481179"/>
                </a:lnTo>
                <a:lnTo>
                  <a:pt x="118393" y="479536"/>
                </a:lnTo>
                <a:lnTo>
                  <a:pt x="123536" y="477448"/>
                </a:lnTo>
                <a:lnTo>
                  <a:pt x="127957" y="476057"/>
                </a:lnTo>
                <a:lnTo>
                  <a:pt x="131897" y="475129"/>
                </a:lnTo>
                <a:lnTo>
                  <a:pt x="142752" y="473273"/>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71" name="SMARTInkAnnotation164"/>
          <p:cNvSpPr/>
          <p:nvPr/>
        </p:nvSpPr>
        <p:spPr>
          <a:xfrm>
            <a:off x="1857240" y="4384800"/>
            <a:ext cx="258840" cy="27000"/>
          </a:xfrm>
          <a:custGeom>
            <a:avLst/>
            <a:gdLst>
              <a:gd name="textAreaLeft" fmla="*/ 0 w 258840"/>
              <a:gd name="textAreaRight" fmla="*/ 259200 w 258840"/>
              <a:gd name="textAreaTop" fmla="*/ 0 h 27000"/>
              <a:gd name="textAreaBottom" fmla="*/ 27360 h 27000"/>
            </a:gdLst>
            <a:ahLst/>
            <a:rect l="textAreaLeft" t="textAreaTop" r="textAreaRight" b="textAreaBottom"/>
            <a:pathLst>
              <a:path w="258961" h="26790">
                <a:moveTo>
                  <a:pt x="0" y="26789"/>
                </a:moveTo>
                <a:lnTo>
                  <a:pt x="4740" y="26789"/>
                </a:lnTo>
                <a:lnTo>
                  <a:pt x="7129" y="25797"/>
                </a:lnTo>
                <a:lnTo>
                  <a:pt x="9713" y="24144"/>
                </a:lnTo>
                <a:lnTo>
                  <a:pt x="12429" y="22049"/>
                </a:lnTo>
                <a:lnTo>
                  <a:pt x="16223" y="20652"/>
                </a:lnTo>
                <a:lnTo>
                  <a:pt x="20737" y="19721"/>
                </a:lnTo>
                <a:lnTo>
                  <a:pt x="25731" y="19101"/>
                </a:lnTo>
                <a:lnTo>
                  <a:pt x="30052" y="18687"/>
                </a:lnTo>
                <a:lnTo>
                  <a:pt x="37500" y="18227"/>
                </a:lnTo>
                <a:lnTo>
                  <a:pt x="41867" y="17112"/>
                </a:lnTo>
                <a:lnTo>
                  <a:pt x="46763" y="15377"/>
                </a:lnTo>
                <a:lnTo>
                  <a:pt x="52011" y="13228"/>
                </a:lnTo>
                <a:lnTo>
                  <a:pt x="57494" y="11795"/>
                </a:lnTo>
                <a:lnTo>
                  <a:pt x="63134" y="10840"/>
                </a:lnTo>
                <a:lnTo>
                  <a:pt x="68878" y="10203"/>
                </a:lnTo>
                <a:lnTo>
                  <a:pt x="74692" y="9779"/>
                </a:lnTo>
                <a:lnTo>
                  <a:pt x="80552" y="9496"/>
                </a:lnTo>
                <a:lnTo>
                  <a:pt x="92356" y="9182"/>
                </a:lnTo>
                <a:lnTo>
                  <a:pt x="104216" y="9042"/>
                </a:lnTo>
                <a:lnTo>
                  <a:pt x="110157" y="8012"/>
                </a:lnTo>
                <a:lnTo>
                  <a:pt x="116102" y="6334"/>
                </a:lnTo>
                <a:lnTo>
                  <a:pt x="122050" y="4222"/>
                </a:lnTo>
                <a:lnTo>
                  <a:pt x="128991" y="2815"/>
                </a:lnTo>
                <a:lnTo>
                  <a:pt x="136595" y="1876"/>
                </a:lnTo>
                <a:lnTo>
                  <a:pt x="144642" y="1251"/>
                </a:lnTo>
                <a:lnTo>
                  <a:pt x="151990" y="834"/>
                </a:lnTo>
                <a:lnTo>
                  <a:pt x="165447" y="371"/>
                </a:lnTo>
                <a:lnTo>
                  <a:pt x="179439" y="110"/>
                </a:lnTo>
                <a:lnTo>
                  <a:pt x="258960" y="0"/>
                </a:lnTo>
              </a:path>
            </a:pathLst>
          </a:custGeom>
          <a:noFill/>
          <a:ln w="38160">
            <a:solidFill>
              <a:srgbClr val="009300"/>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Constantia"/>
            </a:endParaRPr>
          </a:p>
        </p:txBody>
      </p:sp>
      <p:sp>
        <p:nvSpPr>
          <p:cNvPr id="372" name="SMARTInkAnnotation165"/>
          <p:cNvSpPr/>
          <p:nvPr/>
        </p:nvSpPr>
        <p:spPr>
          <a:xfrm>
            <a:off x="2276640" y="4178160"/>
            <a:ext cx="366480" cy="54000"/>
          </a:xfrm>
          <a:custGeom>
            <a:avLst/>
            <a:gdLst>
              <a:gd name="textAreaLeft" fmla="*/ 0 w 366480"/>
              <a:gd name="textAreaRight" fmla="*/ 366840 w 366480"/>
              <a:gd name="textAreaTop" fmla="*/ 0 h 54000"/>
              <a:gd name="textAreaBottom" fmla="*/ 54360 h 54000"/>
            </a:gdLst>
            <a:ahLst/>
            <a:rect l="textAreaLeft" t="textAreaTop" r="textAreaRight" b="textAreaBottom"/>
            <a:pathLst>
              <a:path w="366118" h="53579">
                <a:moveTo>
                  <a:pt x="0" y="0"/>
                </a:moveTo>
                <a:lnTo>
                  <a:pt x="7688" y="0"/>
                </a:lnTo>
                <a:lnTo>
                  <a:pt x="9094" y="992"/>
                </a:lnTo>
                <a:lnTo>
                  <a:pt x="11023" y="2646"/>
                </a:lnTo>
                <a:lnTo>
                  <a:pt x="13302" y="4741"/>
                </a:lnTo>
                <a:lnTo>
                  <a:pt x="16806" y="6137"/>
                </a:lnTo>
                <a:lnTo>
                  <a:pt x="25990" y="7689"/>
                </a:lnTo>
                <a:lnTo>
                  <a:pt x="36686" y="8378"/>
                </a:lnTo>
                <a:lnTo>
                  <a:pt x="42317" y="8562"/>
                </a:lnTo>
                <a:lnTo>
                  <a:pt x="48055" y="9677"/>
                </a:lnTo>
                <a:lnTo>
                  <a:pt x="53865" y="11412"/>
                </a:lnTo>
                <a:lnTo>
                  <a:pt x="59722" y="13561"/>
                </a:lnTo>
                <a:lnTo>
                  <a:pt x="65612" y="14994"/>
                </a:lnTo>
                <a:lnTo>
                  <a:pt x="71523" y="15949"/>
                </a:lnTo>
                <a:lnTo>
                  <a:pt x="77447" y="16586"/>
                </a:lnTo>
                <a:lnTo>
                  <a:pt x="84374" y="18003"/>
                </a:lnTo>
                <a:lnTo>
                  <a:pt x="91968" y="19939"/>
                </a:lnTo>
                <a:lnTo>
                  <a:pt x="100007" y="22223"/>
                </a:lnTo>
                <a:lnTo>
                  <a:pt x="108343" y="23745"/>
                </a:lnTo>
                <a:lnTo>
                  <a:pt x="116877" y="24760"/>
                </a:lnTo>
                <a:lnTo>
                  <a:pt x="125543" y="25436"/>
                </a:lnTo>
                <a:lnTo>
                  <a:pt x="134297" y="25887"/>
                </a:lnTo>
                <a:lnTo>
                  <a:pt x="151961" y="26388"/>
                </a:lnTo>
                <a:lnTo>
                  <a:pt x="160838" y="27514"/>
                </a:lnTo>
                <a:lnTo>
                  <a:pt x="169733" y="29257"/>
                </a:lnTo>
                <a:lnTo>
                  <a:pt x="178640" y="31411"/>
                </a:lnTo>
                <a:lnTo>
                  <a:pt x="187554" y="32847"/>
                </a:lnTo>
                <a:lnTo>
                  <a:pt x="196474" y="33804"/>
                </a:lnTo>
                <a:lnTo>
                  <a:pt x="205396" y="34442"/>
                </a:lnTo>
                <a:lnTo>
                  <a:pt x="214322" y="34868"/>
                </a:lnTo>
                <a:lnTo>
                  <a:pt x="232176" y="35341"/>
                </a:lnTo>
                <a:lnTo>
                  <a:pt x="241104" y="36459"/>
                </a:lnTo>
                <a:lnTo>
                  <a:pt x="250033" y="38197"/>
                </a:lnTo>
                <a:lnTo>
                  <a:pt x="258962" y="40347"/>
                </a:lnTo>
                <a:lnTo>
                  <a:pt x="267891" y="41781"/>
                </a:lnTo>
                <a:lnTo>
                  <a:pt x="276821" y="42737"/>
                </a:lnTo>
                <a:lnTo>
                  <a:pt x="285750" y="43374"/>
                </a:lnTo>
                <a:lnTo>
                  <a:pt x="293688" y="43799"/>
                </a:lnTo>
                <a:lnTo>
                  <a:pt x="307799" y="44271"/>
                </a:lnTo>
                <a:lnTo>
                  <a:pt x="331639" y="44537"/>
                </a:lnTo>
                <a:lnTo>
                  <a:pt x="338171" y="45566"/>
                </a:lnTo>
                <a:lnTo>
                  <a:pt x="343518" y="47245"/>
                </a:lnTo>
                <a:lnTo>
                  <a:pt x="348074" y="49356"/>
                </a:lnTo>
                <a:lnTo>
                  <a:pt x="352104" y="50763"/>
                </a:lnTo>
                <a:lnTo>
                  <a:pt x="355783" y="51702"/>
                </a:lnTo>
                <a:lnTo>
                  <a:pt x="366117" y="53578"/>
                </a:lnTo>
              </a:path>
            </a:pathLst>
          </a:custGeom>
          <a:noFill/>
          <a:ln w="38160">
            <a:solidFill>
              <a:srgbClr val="009300"/>
            </a:solidFill>
            <a:round/>
          </a:ln>
        </p:spPr>
        <p:style>
          <a:lnRef idx="0"/>
          <a:fillRef idx="0"/>
          <a:effectRef idx="0"/>
          <a:fontRef idx="minor"/>
        </p:style>
        <p:txBody>
          <a:bodyPr lIns="90000" rIns="90000" tIns="7560" bIns="7560" anchor="ctr">
            <a:noAutofit/>
          </a:bodyPr>
          <a:p>
            <a:endParaRPr b="0" lang="en-US" sz="1800" spc="-1" strike="noStrike">
              <a:solidFill>
                <a:srgbClr val="000000"/>
              </a:solidFill>
              <a:latin typeface="Constantia"/>
            </a:endParaRPr>
          </a:p>
        </p:txBody>
      </p:sp>
      <p:sp>
        <p:nvSpPr>
          <p:cNvPr id="373" name="SMARTInkAnnotation166"/>
          <p:cNvSpPr/>
          <p:nvPr/>
        </p:nvSpPr>
        <p:spPr>
          <a:xfrm>
            <a:off x="2313000" y="4340160"/>
            <a:ext cx="303120" cy="22320"/>
          </a:xfrm>
          <a:custGeom>
            <a:avLst/>
            <a:gdLst>
              <a:gd name="textAreaLeft" fmla="*/ 0 w 303120"/>
              <a:gd name="textAreaRight" fmla="*/ 303480 w 303120"/>
              <a:gd name="textAreaTop" fmla="*/ 0 h 22320"/>
              <a:gd name="textAreaBottom" fmla="*/ 22680 h 22320"/>
            </a:gdLst>
            <a:ahLst/>
            <a:rect l="textAreaLeft" t="textAreaTop" r="textAreaRight" b="textAreaBottom"/>
            <a:pathLst>
              <a:path w="303610" h="22998">
                <a:moveTo>
                  <a:pt x="0" y="0"/>
                </a:moveTo>
                <a:lnTo>
                  <a:pt x="0" y="4740"/>
                </a:lnTo>
                <a:lnTo>
                  <a:pt x="992" y="6136"/>
                </a:lnTo>
                <a:lnTo>
                  <a:pt x="2646" y="7068"/>
                </a:lnTo>
                <a:lnTo>
                  <a:pt x="4740" y="7688"/>
                </a:lnTo>
                <a:lnTo>
                  <a:pt x="7129" y="9094"/>
                </a:lnTo>
                <a:lnTo>
                  <a:pt x="9713" y="11023"/>
                </a:lnTo>
                <a:lnTo>
                  <a:pt x="12428" y="13302"/>
                </a:lnTo>
                <a:lnTo>
                  <a:pt x="15231" y="14821"/>
                </a:lnTo>
                <a:lnTo>
                  <a:pt x="18091" y="15834"/>
                </a:lnTo>
                <a:lnTo>
                  <a:pt x="20991" y="16509"/>
                </a:lnTo>
                <a:lnTo>
                  <a:pt x="23915" y="16959"/>
                </a:lnTo>
                <a:lnTo>
                  <a:pt x="29811" y="17459"/>
                </a:lnTo>
                <a:lnTo>
                  <a:pt x="38384" y="17681"/>
                </a:lnTo>
                <a:lnTo>
                  <a:pt x="60058" y="17824"/>
                </a:lnTo>
                <a:lnTo>
                  <a:pt x="66827" y="18828"/>
                </a:lnTo>
                <a:lnTo>
                  <a:pt x="74317" y="20490"/>
                </a:lnTo>
                <a:lnTo>
                  <a:pt x="82287" y="22589"/>
                </a:lnTo>
                <a:lnTo>
                  <a:pt x="89584" y="22997"/>
                </a:lnTo>
                <a:lnTo>
                  <a:pt x="96434" y="22277"/>
                </a:lnTo>
                <a:lnTo>
                  <a:pt x="102984" y="20804"/>
                </a:lnTo>
                <a:lnTo>
                  <a:pt x="110328" y="19822"/>
                </a:lnTo>
                <a:lnTo>
                  <a:pt x="118200" y="19168"/>
                </a:lnTo>
                <a:lnTo>
                  <a:pt x="133892" y="18441"/>
                </a:lnTo>
                <a:lnTo>
                  <a:pt x="147481" y="18118"/>
                </a:lnTo>
                <a:lnTo>
                  <a:pt x="166289" y="17936"/>
                </a:lnTo>
                <a:lnTo>
                  <a:pt x="173366" y="16918"/>
                </a:lnTo>
                <a:lnTo>
                  <a:pt x="181062" y="15248"/>
                </a:lnTo>
                <a:lnTo>
                  <a:pt x="189169" y="13141"/>
                </a:lnTo>
                <a:lnTo>
                  <a:pt x="196558" y="11737"/>
                </a:lnTo>
                <a:lnTo>
                  <a:pt x="203468" y="10801"/>
                </a:lnTo>
                <a:lnTo>
                  <a:pt x="210059" y="10177"/>
                </a:lnTo>
                <a:lnTo>
                  <a:pt x="216438" y="9761"/>
                </a:lnTo>
                <a:lnTo>
                  <a:pt x="222674" y="9484"/>
                </a:lnTo>
                <a:lnTo>
                  <a:pt x="234896" y="9176"/>
                </a:lnTo>
                <a:lnTo>
                  <a:pt x="303609" y="8930"/>
                </a:lnTo>
              </a:path>
            </a:pathLst>
          </a:custGeom>
          <a:noFill/>
          <a:ln w="38160">
            <a:solidFill>
              <a:srgbClr val="009300"/>
            </a:solidFill>
            <a:round/>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Constantia"/>
            </a:endParaRPr>
          </a:p>
        </p:txBody>
      </p:sp>
      <p:sp>
        <p:nvSpPr>
          <p:cNvPr id="374" name="SMARTInkAnnotation167"/>
          <p:cNvSpPr/>
          <p:nvPr/>
        </p:nvSpPr>
        <p:spPr>
          <a:xfrm>
            <a:off x="2822400" y="4010040"/>
            <a:ext cx="257400" cy="480960"/>
          </a:xfrm>
          <a:custGeom>
            <a:avLst/>
            <a:gdLst>
              <a:gd name="textAreaLeft" fmla="*/ 0 w 257400"/>
              <a:gd name="textAreaRight" fmla="*/ 257760 w 257400"/>
              <a:gd name="textAreaTop" fmla="*/ 0 h 480960"/>
              <a:gd name="textAreaBottom" fmla="*/ 481320 h 480960"/>
            </a:gdLst>
            <a:ahLst/>
            <a:rect l="textAreaLeft" t="textAreaTop" r="textAreaRight" b="textAreaBottom"/>
            <a:pathLst>
              <a:path w="258110" h="482095">
                <a:moveTo>
                  <a:pt x="26362" y="8821"/>
                </a:moveTo>
                <a:lnTo>
                  <a:pt x="34050" y="8821"/>
                </a:lnTo>
                <a:lnTo>
                  <a:pt x="39664" y="4080"/>
                </a:lnTo>
                <a:lnTo>
                  <a:pt x="42175" y="2684"/>
                </a:lnTo>
                <a:lnTo>
                  <a:pt x="47611" y="1133"/>
                </a:lnTo>
                <a:lnTo>
                  <a:pt x="53335" y="443"/>
                </a:lnTo>
                <a:lnTo>
                  <a:pt x="60178" y="137"/>
                </a:lnTo>
                <a:lnTo>
                  <a:pt x="69834" y="0"/>
                </a:lnTo>
                <a:lnTo>
                  <a:pt x="75187" y="956"/>
                </a:lnTo>
                <a:lnTo>
                  <a:pt x="80740" y="2586"/>
                </a:lnTo>
                <a:lnTo>
                  <a:pt x="86426" y="4665"/>
                </a:lnTo>
                <a:lnTo>
                  <a:pt x="92202" y="6050"/>
                </a:lnTo>
                <a:lnTo>
                  <a:pt x="98036" y="6974"/>
                </a:lnTo>
                <a:lnTo>
                  <a:pt x="103910" y="7589"/>
                </a:lnTo>
                <a:lnTo>
                  <a:pt x="109811" y="8992"/>
                </a:lnTo>
                <a:lnTo>
                  <a:pt x="115729" y="10920"/>
                </a:lnTo>
                <a:lnTo>
                  <a:pt x="121658" y="13197"/>
                </a:lnTo>
                <a:lnTo>
                  <a:pt x="127596" y="16699"/>
                </a:lnTo>
                <a:lnTo>
                  <a:pt x="133539" y="21018"/>
                </a:lnTo>
                <a:lnTo>
                  <a:pt x="139485" y="25883"/>
                </a:lnTo>
                <a:lnTo>
                  <a:pt x="144441" y="30117"/>
                </a:lnTo>
                <a:lnTo>
                  <a:pt x="148738" y="33933"/>
                </a:lnTo>
                <a:lnTo>
                  <a:pt x="152594" y="37468"/>
                </a:lnTo>
                <a:lnTo>
                  <a:pt x="157150" y="42802"/>
                </a:lnTo>
                <a:lnTo>
                  <a:pt x="162171" y="49335"/>
                </a:lnTo>
                <a:lnTo>
                  <a:pt x="167503" y="56666"/>
                </a:lnTo>
                <a:lnTo>
                  <a:pt x="173041" y="63538"/>
                </a:lnTo>
                <a:lnTo>
                  <a:pt x="178719" y="70104"/>
                </a:lnTo>
                <a:lnTo>
                  <a:pt x="184488" y="76465"/>
                </a:lnTo>
                <a:lnTo>
                  <a:pt x="190318" y="83683"/>
                </a:lnTo>
                <a:lnTo>
                  <a:pt x="196190" y="91471"/>
                </a:lnTo>
                <a:lnTo>
                  <a:pt x="202088" y="99640"/>
                </a:lnTo>
                <a:lnTo>
                  <a:pt x="207013" y="108062"/>
                </a:lnTo>
                <a:lnTo>
                  <a:pt x="211288" y="116653"/>
                </a:lnTo>
                <a:lnTo>
                  <a:pt x="215131" y="125358"/>
                </a:lnTo>
                <a:lnTo>
                  <a:pt x="219676" y="134137"/>
                </a:lnTo>
                <a:lnTo>
                  <a:pt x="224691" y="142967"/>
                </a:lnTo>
                <a:lnTo>
                  <a:pt x="230019" y="151830"/>
                </a:lnTo>
                <a:lnTo>
                  <a:pt x="234563" y="160715"/>
                </a:lnTo>
                <a:lnTo>
                  <a:pt x="238584" y="169615"/>
                </a:lnTo>
                <a:lnTo>
                  <a:pt x="242258" y="178525"/>
                </a:lnTo>
                <a:lnTo>
                  <a:pt x="244706" y="187441"/>
                </a:lnTo>
                <a:lnTo>
                  <a:pt x="246339" y="196362"/>
                </a:lnTo>
                <a:lnTo>
                  <a:pt x="247428" y="205286"/>
                </a:lnTo>
                <a:lnTo>
                  <a:pt x="249145" y="214211"/>
                </a:lnTo>
                <a:lnTo>
                  <a:pt x="251283" y="223139"/>
                </a:lnTo>
                <a:lnTo>
                  <a:pt x="253699" y="232067"/>
                </a:lnTo>
                <a:lnTo>
                  <a:pt x="255311" y="240995"/>
                </a:lnTo>
                <a:lnTo>
                  <a:pt x="256386" y="249924"/>
                </a:lnTo>
                <a:lnTo>
                  <a:pt x="257102" y="258853"/>
                </a:lnTo>
                <a:lnTo>
                  <a:pt x="257579" y="267783"/>
                </a:lnTo>
                <a:lnTo>
                  <a:pt x="258109" y="285642"/>
                </a:lnTo>
                <a:lnTo>
                  <a:pt x="257259" y="294572"/>
                </a:lnTo>
                <a:lnTo>
                  <a:pt x="255699" y="303501"/>
                </a:lnTo>
                <a:lnTo>
                  <a:pt x="253667" y="312431"/>
                </a:lnTo>
                <a:lnTo>
                  <a:pt x="251321" y="321360"/>
                </a:lnTo>
                <a:lnTo>
                  <a:pt x="248764" y="330290"/>
                </a:lnTo>
                <a:lnTo>
                  <a:pt x="246068" y="339220"/>
                </a:lnTo>
                <a:lnTo>
                  <a:pt x="243278" y="347157"/>
                </a:lnTo>
                <a:lnTo>
                  <a:pt x="237532" y="361268"/>
                </a:lnTo>
                <a:lnTo>
                  <a:pt x="233619" y="368802"/>
                </a:lnTo>
                <a:lnTo>
                  <a:pt x="229025" y="376800"/>
                </a:lnTo>
                <a:lnTo>
                  <a:pt x="223979" y="385109"/>
                </a:lnTo>
                <a:lnTo>
                  <a:pt x="219622" y="392633"/>
                </a:lnTo>
                <a:lnTo>
                  <a:pt x="212135" y="406284"/>
                </a:lnTo>
                <a:lnTo>
                  <a:pt x="207758" y="412703"/>
                </a:lnTo>
                <a:lnTo>
                  <a:pt x="202855" y="418966"/>
                </a:lnTo>
                <a:lnTo>
                  <a:pt x="197602" y="425126"/>
                </a:lnTo>
                <a:lnTo>
                  <a:pt x="192115" y="431217"/>
                </a:lnTo>
                <a:lnTo>
                  <a:pt x="180728" y="443277"/>
                </a:lnTo>
                <a:lnTo>
                  <a:pt x="173921" y="448278"/>
                </a:lnTo>
                <a:lnTo>
                  <a:pt x="166407" y="452605"/>
                </a:lnTo>
                <a:lnTo>
                  <a:pt x="137700" y="466678"/>
                </a:lnTo>
                <a:lnTo>
                  <a:pt x="131345" y="468840"/>
                </a:lnTo>
                <a:lnTo>
                  <a:pt x="125124" y="470281"/>
                </a:lnTo>
                <a:lnTo>
                  <a:pt x="118992" y="471243"/>
                </a:lnTo>
                <a:lnTo>
                  <a:pt x="112920" y="472876"/>
                </a:lnTo>
                <a:lnTo>
                  <a:pt x="106888" y="474956"/>
                </a:lnTo>
                <a:lnTo>
                  <a:pt x="100882" y="477336"/>
                </a:lnTo>
                <a:lnTo>
                  <a:pt x="94893" y="477929"/>
                </a:lnTo>
                <a:lnTo>
                  <a:pt x="88917" y="477334"/>
                </a:lnTo>
                <a:lnTo>
                  <a:pt x="82948" y="475944"/>
                </a:lnTo>
                <a:lnTo>
                  <a:pt x="76984" y="475018"/>
                </a:lnTo>
                <a:lnTo>
                  <a:pt x="71024" y="474400"/>
                </a:lnTo>
                <a:lnTo>
                  <a:pt x="65066" y="473988"/>
                </a:lnTo>
                <a:lnTo>
                  <a:pt x="59110" y="472722"/>
                </a:lnTo>
                <a:lnTo>
                  <a:pt x="53155" y="470885"/>
                </a:lnTo>
                <a:lnTo>
                  <a:pt x="47200" y="468668"/>
                </a:lnTo>
                <a:lnTo>
                  <a:pt x="41246" y="467191"/>
                </a:lnTo>
                <a:lnTo>
                  <a:pt x="35292" y="466205"/>
                </a:lnTo>
                <a:lnTo>
                  <a:pt x="29339" y="465549"/>
                </a:lnTo>
                <a:lnTo>
                  <a:pt x="24378" y="463126"/>
                </a:lnTo>
                <a:lnTo>
                  <a:pt x="20078" y="459527"/>
                </a:lnTo>
                <a:lnTo>
                  <a:pt x="13647" y="451229"/>
                </a:lnTo>
                <a:lnTo>
                  <a:pt x="9035" y="439986"/>
                </a:lnTo>
                <a:lnTo>
                  <a:pt x="2817" y="425521"/>
                </a:lnTo>
                <a:lnTo>
                  <a:pt x="1015" y="417925"/>
                </a:lnTo>
                <a:lnTo>
                  <a:pt x="0" y="403330"/>
                </a:lnTo>
                <a:lnTo>
                  <a:pt x="850" y="398827"/>
                </a:lnTo>
                <a:lnTo>
                  <a:pt x="6786" y="386757"/>
                </a:lnTo>
                <a:lnTo>
                  <a:pt x="13837" y="372046"/>
                </a:lnTo>
                <a:lnTo>
                  <a:pt x="15834" y="364393"/>
                </a:lnTo>
                <a:lnTo>
                  <a:pt x="18351" y="360963"/>
                </a:lnTo>
                <a:lnTo>
                  <a:pt x="22013" y="357683"/>
                </a:lnTo>
                <a:lnTo>
                  <a:pt x="26440" y="354505"/>
                </a:lnTo>
                <a:lnTo>
                  <a:pt x="34003" y="348329"/>
                </a:lnTo>
                <a:lnTo>
                  <a:pt x="37409" y="345292"/>
                </a:lnTo>
                <a:lnTo>
                  <a:pt x="41664" y="343268"/>
                </a:lnTo>
                <a:lnTo>
                  <a:pt x="46485" y="341919"/>
                </a:lnTo>
                <a:lnTo>
                  <a:pt x="51684" y="341019"/>
                </a:lnTo>
                <a:lnTo>
                  <a:pt x="57133" y="339427"/>
                </a:lnTo>
                <a:lnTo>
                  <a:pt x="62751" y="337373"/>
                </a:lnTo>
                <a:lnTo>
                  <a:pt x="68481" y="335012"/>
                </a:lnTo>
                <a:lnTo>
                  <a:pt x="73293" y="334430"/>
                </a:lnTo>
                <a:lnTo>
                  <a:pt x="77493" y="335034"/>
                </a:lnTo>
                <a:lnTo>
                  <a:pt x="81285" y="336430"/>
                </a:lnTo>
                <a:lnTo>
                  <a:pt x="85798" y="337359"/>
                </a:lnTo>
                <a:lnTo>
                  <a:pt x="90790" y="337979"/>
                </a:lnTo>
                <a:lnTo>
                  <a:pt x="96103" y="338393"/>
                </a:lnTo>
                <a:lnTo>
                  <a:pt x="101630" y="339660"/>
                </a:lnTo>
                <a:lnTo>
                  <a:pt x="107298" y="341498"/>
                </a:lnTo>
                <a:lnTo>
                  <a:pt x="113061" y="343715"/>
                </a:lnTo>
                <a:lnTo>
                  <a:pt x="118888" y="346185"/>
                </a:lnTo>
                <a:lnTo>
                  <a:pt x="130654" y="351576"/>
                </a:lnTo>
                <a:lnTo>
                  <a:pt x="136570" y="355394"/>
                </a:lnTo>
                <a:lnTo>
                  <a:pt x="142498" y="359925"/>
                </a:lnTo>
                <a:lnTo>
                  <a:pt x="148434" y="364929"/>
                </a:lnTo>
                <a:lnTo>
                  <a:pt x="154376" y="369258"/>
                </a:lnTo>
                <a:lnTo>
                  <a:pt x="160322" y="373135"/>
                </a:lnTo>
                <a:lnTo>
                  <a:pt x="166270" y="376713"/>
                </a:lnTo>
                <a:lnTo>
                  <a:pt x="171228" y="381082"/>
                </a:lnTo>
                <a:lnTo>
                  <a:pt x="175525" y="385980"/>
                </a:lnTo>
                <a:lnTo>
                  <a:pt x="179382" y="391229"/>
                </a:lnTo>
                <a:lnTo>
                  <a:pt x="183938" y="396713"/>
                </a:lnTo>
                <a:lnTo>
                  <a:pt x="188959" y="402353"/>
                </a:lnTo>
                <a:lnTo>
                  <a:pt x="194292" y="408098"/>
                </a:lnTo>
                <a:lnTo>
                  <a:pt x="198839" y="413912"/>
                </a:lnTo>
                <a:lnTo>
                  <a:pt x="209978" y="430583"/>
                </a:lnTo>
                <a:lnTo>
                  <a:pt x="216448" y="438695"/>
                </a:lnTo>
                <a:lnTo>
                  <a:pt x="222631" y="448254"/>
                </a:lnTo>
                <a:lnTo>
                  <a:pt x="229679" y="459117"/>
                </a:lnTo>
                <a:lnTo>
                  <a:pt x="234336" y="464792"/>
                </a:lnTo>
                <a:lnTo>
                  <a:pt x="249604" y="48209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75" name="SMARTInkAnnotation168"/>
          <p:cNvSpPr/>
          <p:nvPr/>
        </p:nvSpPr>
        <p:spPr>
          <a:xfrm>
            <a:off x="3170160" y="4054320"/>
            <a:ext cx="285840" cy="535320"/>
          </a:xfrm>
          <a:custGeom>
            <a:avLst/>
            <a:gdLst>
              <a:gd name="textAreaLeft" fmla="*/ 0 w 285840"/>
              <a:gd name="textAreaRight" fmla="*/ 286200 w 285840"/>
              <a:gd name="textAreaTop" fmla="*/ 0 h 535320"/>
              <a:gd name="textAreaBottom" fmla="*/ 535680 h 535320"/>
            </a:gdLst>
            <a:ahLst/>
            <a:rect l="textAreaLeft" t="textAreaTop" r="textAreaRight" b="textAreaBottom"/>
            <a:pathLst>
              <a:path w="285625" h="535782">
                <a:moveTo>
                  <a:pt x="26663" y="0"/>
                </a:moveTo>
                <a:lnTo>
                  <a:pt x="47654" y="0"/>
                </a:lnTo>
                <a:lnTo>
                  <a:pt x="56167" y="2646"/>
                </a:lnTo>
                <a:lnTo>
                  <a:pt x="61215" y="4740"/>
                </a:lnTo>
                <a:lnTo>
                  <a:pt x="66564" y="7129"/>
                </a:lnTo>
                <a:lnTo>
                  <a:pt x="77800" y="12429"/>
                </a:lnTo>
                <a:lnTo>
                  <a:pt x="82583" y="16223"/>
                </a:lnTo>
                <a:lnTo>
                  <a:pt x="90542" y="25731"/>
                </a:lnTo>
                <a:lnTo>
                  <a:pt x="95046" y="31045"/>
                </a:lnTo>
                <a:lnTo>
                  <a:pt x="100033" y="36571"/>
                </a:lnTo>
                <a:lnTo>
                  <a:pt x="110865" y="48004"/>
                </a:lnTo>
                <a:lnTo>
                  <a:pt x="139885" y="77440"/>
                </a:lnTo>
                <a:lnTo>
                  <a:pt x="145801" y="84369"/>
                </a:lnTo>
                <a:lnTo>
                  <a:pt x="151729" y="91965"/>
                </a:lnTo>
                <a:lnTo>
                  <a:pt x="157665" y="100006"/>
                </a:lnTo>
                <a:lnTo>
                  <a:pt x="169552" y="116877"/>
                </a:lnTo>
                <a:lnTo>
                  <a:pt x="193353" y="151961"/>
                </a:lnTo>
                <a:lnTo>
                  <a:pt x="198313" y="161831"/>
                </a:lnTo>
                <a:lnTo>
                  <a:pt x="202612" y="172379"/>
                </a:lnTo>
                <a:lnTo>
                  <a:pt x="225938" y="240738"/>
                </a:lnTo>
                <a:lnTo>
                  <a:pt x="227974" y="249789"/>
                </a:lnTo>
                <a:lnTo>
                  <a:pt x="229331" y="258799"/>
                </a:lnTo>
                <a:lnTo>
                  <a:pt x="230236" y="267783"/>
                </a:lnTo>
                <a:lnTo>
                  <a:pt x="230839" y="277740"/>
                </a:lnTo>
                <a:lnTo>
                  <a:pt x="231509" y="299388"/>
                </a:lnTo>
                <a:lnTo>
                  <a:pt x="231887" y="329148"/>
                </a:lnTo>
                <a:lnTo>
                  <a:pt x="230947" y="338494"/>
                </a:lnTo>
                <a:lnTo>
                  <a:pt x="229329" y="347702"/>
                </a:lnTo>
                <a:lnTo>
                  <a:pt x="227258" y="356816"/>
                </a:lnTo>
                <a:lnTo>
                  <a:pt x="223893" y="365870"/>
                </a:lnTo>
                <a:lnTo>
                  <a:pt x="219666" y="374883"/>
                </a:lnTo>
                <a:lnTo>
                  <a:pt x="214862" y="383867"/>
                </a:lnTo>
                <a:lnTo>
                  <a:pt x="209676" y="391840"/>
                </a:lnTo>
                <a:lnTo>
                  <a:pt x="204234" y="399141"/>
                </a:lnTo>
                <a:lnTo>
                  <a:pt x="198622" y="405992"/>
                </a:lnTo>
                <a:lnTo>
                  <a:pt x="192896" y="412545"/>
                </a:lnTo>
                <a:lnTo>
                  <a:pt x="187094" y="418897"/>
                </a:lnTo>
                <a:lnTo>
                  <a:pt x="175356" y="431247"/>
                </a:lnTo>
                <a:lnTo>
                  <a:pt x="163525" y="443350"/>
                </a:lnTo>
                <a:lnTo>
                  <a:pt x="157591" y="448363"/>
                </a:lnTo>
                <a:lnTo>
                  <a:pt x="151652" y="452698"/>
                </a:lnTo>
                <a:lnTo>
                  <a:pt x="145708" y="456580"/>
                </a:lnTo>
                <a:lnTo>
                  <a:pt x="138768" y="460160"/>
                </a:lnTo>
                <a:lnTo>
                  <a:pt x="131165" y="463539"/>
                </a:lnTo>
                <a:lnTo>
                  <a:pt x="123120" y="466784"/>
                </a:lnTo>
                <a:lnTo>
                  <a:pt x="115772" y="468947"/>
                </a:lnTo>
                <a:lnTo>
                  <a:pt x="108890" y="470389"/>
                </a:lnTo>
                <a:lnTo>
                  <a:pt x="102317" y="471351"/>
                </a:lnTo>
                <a:lnTo>
                  <a:pt x="95950" y="472984"/>
                </a:lnTo>
                <a:lnTo>
                  <a:pt x="89722" y="475064"/>
                </a:lnTo>
                <a:lnTo>
                  <a:pt x="83585" y="477444"/>
                </a:lnTo>
                <a:lnTo>
                  <a:pt x="77510" y="478038"/>
                </a:lnTo>
                <a:lnTo>
                  <a:pt x="71474" y="477442"/>
                </a:lnTo>
                <a:lnTo>
                  <a:pt x="65467" y="476053"/>
                </a:lnTo>
                <a:lnTo>
                  <a:pt x="59477" y="475126"/>
                </a:lnTo>
                <a:lnTo>
                  <a:pt x="53501" y="474509"/>
                </a:lnTo>
                <a:lnTo>
                  <a:pt x="47531" y="474097"/>
                </a:lnTo>
                <a:lnTo>
                  <a:pt x="41567" y="472830"/>
                </a:lnTo>
                <a:lnTo>
                  <a:pt x="35607" y="470993"/>
                </a:lnTo>
                <a:lnTo>
                  <a:pt x="29649" y="468777"/>
                </a:lnTo>
                <a:lnTo>
                  <a:pt x="24685" y="465315"/>
                </a:lnTo>
                <a:lnTo>
                  <a:pt x="16523" y="456176"/>
                </a:lnTo>
                <a:lnTo>
                  <a:pt x="12234" y="448146"/>
                </a:lnTo>
                <a:lnTo>
                  <a:pt x="7174" y="435401"/>
                </a:lnTo>
                <a:lnTo>
                  <a:pt x="3118" y="424692"/>
                </a:lnTo>
                <a:lnTo>
                  <a:pt x="835" y="408498"/>
                </a:lnTo>
                <a:lnTo>
                  <a:pt x="158" y="395982"/>
                </a:lnTo>
                <a:lnTo>
                  <a:pt x="0" y="385675"/>
                </a:lnTo>
                <a:lnTo>
                  <a:pt x="951" y="381140"/>
                </a:lnTo>
                <a:lnTo>
                  <a:pt x="7028" y="369025"/>
                </a:lnTo>
                <a:lnTo>
                  <a:pt x="15112" y="354300"/>
                </a:lnTo>
                <a:lnTo>
                  <a:pt x="20868" y="346644"/>
                </a:lnTo>
                <a:lnTo>
                  <a:pt x="23792" y="344206"/>
                </a:lnTo>
                <a:lnTo>
                  <a:pt x="26733" y="342579"/>
                </a:lnTo>
                <a:lnTo>
                  <a:pt x="32647" y="340773"/>
                </a:lnTo>
                <a:lnTo>
                  <a:pt x="38583" y="339970"/>
                </a:lnTo>
                <a:lnTo>
                  <a:pt x="41555" y="338764"/>
                </a:lnTo>
                <a:lnTo>
                  <a:pt x="47503" y="334778"/>
                </a:lnTo>
                <a:lnTo>
                  <a:pt x="51470" y="334311"/>
                </a:lnTo>
                <a:lnTo>
                  <a:pt x="56099" y="334991"/>
                </a:lnTo>
                <a:lnTo>
                  <a:pt x="61170" y="336436"/>
                </a:lnTo>
                <a:lnTo>
                  <a:pt x="69450" y="338043"/>
                </a:lnTo>
                <a:lnTo>
                  <a:pt x="73047" y="338471"/>
                </a:lnTo>
                <a:lnTo>
                  <a:pt x="77429" y="339749"/>
                </a:lnTo>
                <a:lnTo>
                  <a:pt x="82335" y="341593"/>
                </a:lnTo>
                <a:lnTo>
                  <a:pt x="87590" y="343814"/>
                </a:lnTo>
                <a:lnTo>
                  <a:pt x="93078" y="346288"/>
                </a:lnTo>
                <a:lnTo>
                  <a:pt x="104467" y="351682"/>
                </a:lnTo>
                <a:lnTo>
                  <a:pt x="109290" y="355501"/>
                </a:lnTo>
                <a:lnTo>
                  <a:pt x="117295" y="365037"/>
                </a:lnTo>
                <a:lnTo>
                  <a:pt x="121811" y="369366"/>
                </a:lnTo>
                <a:lnTo>
                  <a:pt x="126806" y="373244"/>
                </a:lnTo>
                <a:lnTo>
                  <a:pt x="132120" y="376822"/>
                </a:lnTo>
                <a:lnTo>
                  <a:pt x="137647" y="381191"/>
                </a:lnTo>
                <a:lnTo>
                  <a:pt x="143317" y="386088"/>
                </a:lnTo>
                <a:lnTo>
                  <a:pt x="149080" y="391337"/>
                </a:lnTo>
                <a:lnTo>
                  <a:pt x="160777" y="402462"/>
                </a:lnTo>
                <a:lnTo>
                  <a:pt x="220142" y="461378"/>
                </a:lnTo>
                <a:lnTo>
                  <a:pt x="225102" y="467327"/>
                </a:lnTo>
                <a:lnTo>
                  <a:pt x="233259" y="479230"/>
                </a:lnTo>
                <a:lnTo>
                  <a:pt x="237815" y="485182"/>
                </a:lnTo>
                <a:lnTo>
                  <a:pt x="242838" y="491134"/>
                </a:lnTo>
                <a:lnTo>
                  <a:pt x="252717" y="502047"/>
                </a:lnTo>
                <a:lnTo>
                  <a:pt x="260415" y="510205"/>
                </a:lnTo>
                <a:lnTo>
                  <a:pt x="276510" y="526619"/>
                </a:lnTo>
                <a:lnTo>
                  <a:pt x="285624" y="535781"/>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76" name="SMARTInkAnnotation169"/>
          <p:cNvSpPr/>
          <p:nvPr/>
        </p:nvSpPr>
        <p:spPr>
          <a:xfrm>
            <a:off x="3502080" y="4135320"/>
            <a:ext cx="274680" cy="489240"/>
          </a:xfrm>
          <a:custGeom>
            <a:avLst/>
            <a:gdLst>
              <a:gd name="textAreaLeft" fmla="*/ 0 w 274680"/>
              <a:gd name="textAreaRight" fmla="*/ 275040 w 274680"/>
              <a:gd name="textAreaTop" fmla="*/ 0 h 489240"/>
              <a:gd name="textAreaBottom" fmla="*/ 489600 h 489240"/>
            </a:gdLst>
            <a:ahLst/>
            <a:rect l="textAreaLeft" t="textAreaTop" r="textAreaRight" b="textAreaBottom"/>
            <a:pathLst>
              <a:path w="275389" h="488987">
                <a:moveTo>
                  <a:pt x="275388" y="8562"/>
                </a:moveTo>
                <a:lnTo>
                  <a:pt x="270648" y="3821"/>
                </a:lnTo>
                <a:lnTo>
                  <a:pt x="268259" y="2425"/>
                </a:lnTo>
                <a:lnTo>
                  <a:pt x="259943" y="183"/>
                </a:lnTo>
                <a:lnTo>
                  <a:pt x="259138" y="0"/>
                </a:lnTo>
                <a:lnTo>
                  <a:pt x="254633" y="869"/>
                </a:lnTo>
                <a:lnTo>
                  <a:pt x="239044" y="4481"/>
                </a:lnTo>
                <a:lnTo>
                  <a:pt x="231315" y="6833"/>
                </a:lnTo>
                <a:lnTo>
                  <a:pt x="224178" y="9394"/>
                </a:lnTo>
                <a:lnTo>
                  <a:pt x="217436" y="12093"/>
                </a:lnTo>
                <a:lnTo>
                  <a:pt x="210957" y="14885"/>
                </a:lnTo>
                <a:lnTo>
                  <a:pt x="198465" y="20632"/>
                </a:lnTo>
                <a:lnTo>
                  <a:pt x="168294" y="35372"/>
                </a:lnTo>
                <a:lnTo>
                  <a:pt x="162320" y="38342"/>
                </a:lnTo>
                <a:lnTo>
                  <a:pt x="156353" y="42306"/>
                </a:lnTo>
                <a:lnTo>
                  <a:pt x="150391" y="46932"/>
                </a:lnTo>
                <a:lnTo>
                  <a:pt x="144432" y="52002"/>
                </a:lnTo>
                <a:lnTo>
                  <a:pt x="138475" y="57365"/>
                </a:lnTo>
                <a:lnTo>
                  <a:pt x="126564" y="68617"/>
                </a:lnTo>
                <a:lnTo>
                  <a:pt x="90842" y="103858"/>
                </a:lnTo>
                <a:lnTo>
                  <a:pt x="84889" y="110787"/>
                </a:lnTo>
                <a:lnTo>
                  <a:pt x="78935" y="118384"/>
                </a:lnTo>
                <a:lnTo>
                  <a:pt x="72982" y="126425"/>
                </a:lnTo>
                <a:lnTo>
                  <a:pt x="67029" y="133770"/>
                </a:lnTo>
                <a:lnTo>
                  <a:pt x="61076" y="140651"/>
                </a:lnTo>
                <a:lnTo>
                  <a:pt x="55123" y="147223"/>
                </a:lnTo>
                <a:lnTo>
                  <a:pt x="50162" y="154580"/>
                </a:lnTo>
                <a:lnTo>
                  <a:pt x="45862" y="162462"/>
                </a:lnTo>
                <a:lnTo>
                  <a:pt x="42004" y="170693"/>
                </a:lnTo>
                <a:lnTo>
                  <a:pt x="37447" y="179157"/>
                </a:lnTo>
                <a:lnTo>
                  <a:pt x="32425" y="187776"/>
                </a:lnTo>
                <a:lnTo>
                  <a:pt x="27093" y="196499"/>
                </a:lnTo>
                <a:lnTo>
                  <a:pt x="22545" y="205291"/>
                </a:lnTo>
                <a:lnTo>
                  <a:pt x="18521" y="214129"/>
                </a:lnTo>
                <a:lnTo>
                  <a:pt x="14847" y="222997"/>
                </a:lnTo>
                <a:lnTo>
                  <a:pt x="12397" y="231885"/>
                </a:lnTo>
                <a:lnTo>
                  <a:pt x="10764" y="240788"/>
                </a:lnTo>
                <a:lnTo>
                  <a:pt x="9675" y="249699"/>
                </a:lnTo>
                <a:lnTo>
                  <a:pt x="7957" y="258617"/>
                </a:lnTo>
                <a:lnTo>
                  <a:pt x="5820" y="267539"/>
                </a:lnTo>
                <a:lnTo>
                  <a:pt x="3402" y="276463"/>
                </a:lnTo>
                <a:lnTo>
                  <a:pt x="1791" y="285389"/>
                </a:lnTo>
                <a:lnTo>
                  <a:pt x="716" y="294317"/>
                </a:lnTo>
                <a:lnTo>
                  <a:pt x="0" y="303245"/>
                </a:lnTo>
                <a:lnTo>
                  <a:pt x="515" y="312173"/>
                </a:lnTo>
                <a:lnTo>
                  <a:pt x="1850" y="321102"/>
                </a:lnTo>
                <a:lnTo>
                  <a:pt x="3733" y="330031"/>
                </a:lnTo>
                <a:lnTo>
                  <a:pt x="4988" y="338961"/>
                </a:lnTo>
                <a:lnTo>
                  <a:pt x="5825" y="347890"/>
                </a:lnTo>
                <a:lnTo>
                  <a:pt x="6382" y="356820"/>
                </a:lnTo>
                <a:lnTo>
                  <a:pt x="9648" y="372034"/>
                </a:lnTo>
                <a:lnTo>
                  <a:pt x="19829" y="402709"/>
                </a:lnTo>
                <a:lnTo>
                  <a:pt x="28192" y="417233"/>
                </a:lnTo>
                <a:lnTo>
                  <a:pt x="33200" y="423884"/>
                </a:lnTo>
                <a:lnTo>
                  <a:pt x="38523" y="430303"/>
                </a:lnTo>
                <a:lnTo>
                  <a:pt x="44056" y="436566"/>
                </a:lnTo>
                <a:lnTo>
                  <a:pt x="49729" y="442726"/>
                </a:lnTo>
                <a:lnTo>
                  <a:pt x="55496" y="447825"/>
                </a:lnTo>
                <a:lnTo>
                  <a:pt x="61325" y="452216"/>
                </a:lnTo>
                <a:lnTo>
                  <a:pt x="67195" y="456136"/>
                </a:lnTo>
                <a:lnTo>
                  <a:pt x="73093" y="459742"/>
                </a:lnTo>
                <a:lnTo>
                  <a:pt x="79008" y="463137"/>
                </a:lnTo>
                <a:lnTo>
                  <a:pt x="90874" y="469557"/>
                </a:lnTo>
                <a:lnTo>
                  <a:pt x="120611" y="484762"/>
                </a:lnTo>
                <a:lnTo>
                  <a:pt x="126563" y="486763"/>
                </a:lnTo>
                <a:lnTo>
                  <a:pt x="132515" y="488097"/>
                </a:lnTo>
                <a:lnTo>
                  <a:pt x="138468" y="488986"/>
                </a:lnTo>
                <a:lnTo>
                  <a:pt x="144420" y="488587"/>
                </a:lnTo>
                <a:lnTo>
                  <a:pt x="150373" y="487329"/>
                </a:lnTo>
                <a:lnTo>
                  <a:pt x="156326" y="485497"/>
                </a:lnTo>
                <a:lnTo>
                  <a:pt x="162279" y="484277"/>
                </a:lnTo>
                <a:lnTo>
                  <a:pt x="168232" y="483463"/>
                </a:lnTo>
                <a:lnTo>
                  <a:pt x="174186" y="482921"/>
                </a:lnTo>
                <a:lnTo>
                  <a:pt x="180138" y="481566"/>
                </a:lnTo>
                <a:lnTo>
                  <a:pt x="186091" y="479672"/>
                </a:lnTo>
                <a:lnTo>
                  <a:pt x="192044" y="477416"/>
                </a:lnTo>
                <a:lnTo>
                  <a:pt x="197006" y="475912"/>
                </a:lnTo>
                <a:lnTo>
                  <a:pt x="205164" y="474242"/>
                </a:lnTo>
                <a:lnTo>
                  <a:pt x="212097" y="470854"/>
                </a:lnTo>
                <a:lnTo>
                  <a:pt x="215334" y="468561"/>
                </a:lnTo>
                <a:lnTo>
                  <a:pt x="217493" y="465049"/>
                </a:lnTo>
                <a:lnTo>
                  <a:pt x="219891" y="455853"/>
                </a:lnTo>
                <a:lnTo>
                  <a:pt x="221242" y="444261"/>
                </a:lnTo>
                <a:lnTo>
                  <a:pt x="221642" y="429802"/>
                </a:lnTo>
                <a:lnTo>
                  <a:pt x="221760" y="412950"/>
                </a:lnTo>
                <a:lnTo>
                  <a:pt x="219142" y="401279"/>
                </a:lnTo>
                <a:lnTo>
                  <a:pt x="214671" y="389478"/>
                </a:lnTo>
                <a:lnTo>
                  <a:pt x="209377" y="377618"/>
                </a:lnTo>
                <a:lnTo>
                  <a:pt x="200818" y="359785"/>
                </a:lnTo>
                <a:lnTo>
                  <a:pt x="194952" y="350531"/>
                </a:lnTo>
                <a:lnTo>
                  <a:pt x="188045" y="342118"/>
                </a:lnTo>
                <a:lnTo>
                  <a:pt x="183425" y="337097"/>
                </a:lnTo>
                <a:lnTo>
                  <a:pt x="170088" y="323195"/>
                </a:lnTo>
                <a:lnTo>
                  <a:pt x="156692" y="309608"/>
                </a:lnTo>
                <a:lnTo>
                  <a:pt x="152602" y="306494"/>
                </a:lnTo>
                <a:lnTo>
                  <a:pt x="147890" y="303426"/>
                </a:lnTo>
                <a:lnTo>
                  <a:pt x="142765" y="300388"/>
                </a:lnTo>
                <a:lnTo>
                  <a:pt x="134424" y="294367"/>
                </a:lnTo>
                <a:lnTo>
                  <a:pt x="130810" y="291371"/>
                </a:lnTo>
                <a:lnTo>
                  <a:pt x="126417" y="289375"/>
                </a:lnTo>
                <a:lnTo>
                  <a:pt x="121504" y="288044"/>
                </a:lnTo>
                <a:lnTo>
                  <a:pt x="116244" y="287157"/>
                </a:lnTo>
                <a:lnTo>
                  <a:pt x="107754" y="286171"/>
                </a:lnTo>
                <a:lnTo>
                  <a:pt x="100673" y="285732"/>
                </a:lnTo>
                <a:lnTo>
                  <a:pt x="94219" y="285538"/>
                </a:lnTo>
                <a:lnTo>
                  <a:pt x="78988" y="285403"/>
                </a:lnTo>
                <a:lnTo>
                  <a:pt x="75994" y="285395"/>
                </a:lnTo>
                <a:lnTo>
                  <a:pt x="73006" y="286383"/>
                </a:lnTo>
                <a:lnTo>
                  <a:pt x="65052" y="291522"/>
                </a:lnTo>
                <a:lnTo>
                  <a:pt x="62843" y="293072"/>
                </a:lnTo>
                <a:lnTo>
                  <a:pt x="62254" y="294477"/>
                </a:lnTo>
                <a:lnTo>
                  <a:pt x="61425" y="301196"/>
                </a:lnTo>
                <a:lnTo>
                  <a:pt x="61076" y="312171"/>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77" name="SMARTInkAnnotation170"/>
          <p:cNvSpPr/>
          <p:nvPr/>
        </p:nvSpPr>
        <p:spPr>
          <a:xfrm>
            <a:off x="3919680" y="4135320"/>
            <a:ext cx="257040" cy="258840"/>
          </a:xfrm>
          <a:custGeom>
            <a:avLst/>
            <a:gdLst>
              <a:gd name="textAreaLeft" fmla="*/ 0 w 257040"/>
              <a:gd name="textAreaRight" fmla="*/ 257400 w 257040"/>
              <a:gd name="textAreaTop" fmla="*/ 0 h 258840"/>
              <a:gd name="textAreaBottom" fmla="*/ 259200 h 258840"/>
            </a:gdLst>
            <a:ahLst/>
            <a:rect l="textAreaLeft" t="textAreaTop" r="textAreaRight" b="textAreaBottom"/>
            <a:pathLst>
              <a:path w="257150" h="257689">
                <a:moveTo>
                  <a:pt x="0" y="16586"/>
                </a:moveTo>
                <a:lnTo>
                  <a:pt x="0" y="11846"/>
                </a:lnTo>
                <a:lnTo>
                  <a:pt x="993" y="10450"/>
                </a:lnTo>
                <a:lnTo>
                  <a:pt x="2646" y="9518"/>
                </a:lnTo>
                <a:lnTo>
                  <a:pt x="4741" y="8898"/>
                </a:lnTo>
                <a:lnTo>
                  <a:pt x="12360" y="8208"/>
                </a:lnTo>
                <a:lnTo>
                  <a:pt x="17170" y="8025"/>
                </a:lnTo>
                <a:lnTo>
                  <a:pt x="22361" y="6910"/>
                </a:lnTo>
                <a:lnTo>
                  <a:pt x="27806" y="5174"/>
                </a:lnTo>
                <a:lnTo>
                  <a:pt x="33420" y="3025"/>
                </a:lnTo>
                <a:lnTo>
                  <a:pt x="39147" y="1593"/>
                </a:lnTo>
                <a:lnTo>
                  <a:pt x="44950" y="637"/>
                </a:lnTo>
                <a:lnTo>
                  <a:pt x="50803" y="0"/>
                </a:lnTo>
                <a:lnTo>
                  <a:pt x="56689" y="568"/>
                </a:lnTo>
                <a:lnTo>
                  <a:pt x="62597" y="1939"/>
                </a:lnTo>
                <a:lnTo>
                  <a:pt x="68521" y="3845"/>
                </a:lnTo>
                <a:lnTo>
                  <a:pt x="75446" y="5116"/>
                </a:lnTo>
                <a:lnTo>
                  <a:pt x="83040" y="5962"/>
                </a:lnTo>
                <a:lnTo>
                  <a:pt x="91078" y="6527"/>
                </a:lnTo>
                <a:lnTo>
                  <a:pt x="98422" y="6903"/>
                </a:lnTo>
                <a:lnTo>
                  <a:pt x="111874" y="7322"/>
                </a:lnTo>
                <a:lnTo>
                  <a:pt x="119231" y="8426"/>
                </a:lnTo>
                <a:lnTo>
                  <a:pt x="127112" y="10154"/>
                </a:lnTo>
                <a:lnTo>
                  <a:pt x="135343" y="12298"/>
                </a:lnTo>
                <a:lnTo>
                  <a:pt x="142815" y="14720"/>
                </a:lnTo>
                <a:lnTo>
                  <a:pt x="149780" y="17326"/>
                </a:lnTo>
                <a:lnTo>
                  <a:pt x="156408" y="20056"/>
                </a:lnTo>
                <a:lnTo>
                  <a:pt x="163804" y="22868"/>
                </a:lnTo>
                <a:lnTo>
                  <a:pt x="179958" y="28639"/>
                </a:lnTo>
                <a:lnTo>
                  <a:pt x="187441" y="31566"/>
                </a:lnTo>
                <a:lnTo>
                  <a:pt x="194414" y="34510"/>
                </a:lnTo>
                <a:lnTo>
                  <a:pt x="201047" y="37466"/>
                </a:lnTo>
                <a:lnTo>
                  <a:pt x="207453" y="41420"/>
                </a:lnTo>
                <a:lnTo>
                  <a:pt x="213709" y="46040"/>
                </a:lnTo>
                <a:lnTo>
                  <a:pt x="219863" y="51105"/>
                </a:lnTo>
                <a:lnTo>
                  <a:pt x="224958" y="55474"/>
                </a:lnTo>
                <a:lnTo>
                  <a:pt x="229347" y="59379"/>
                </a:lnTo>
                <a:lnTo>
                  <a:pt x="236870" y="66363"/>
                </a:lnTo>
                <a:lnTo>
                  <a:pt x="243520" y="72774"/>
                </a:lnTo>
                <a:lnTo>
                  <a:pt x="246683" y="76865"/>
                </a:lnTo>
                <a:lnTo>
                  <a:pt x="249784" y="81577"/>
                </a:lnTo>
                <a:lnTo>
                  <a:pt x="252843" y="86702"/>
                </a:lnTo>
                <a:lnTo>
                  <a:pt x="254882" y="91111"/>
                </a:lnTo>
                <a:lnTo>
                  <a:pt x="257149" y="98656"/>
                </a:lnTo>
                <a:lnTo>
                  <a:pt x="256761" y="102058"/>
                </a:lnTo>
                <a:lnTo>
                  <a:pt x="255510" y="105317"/>
                </a:lnTo>
                <a:lnTo>
                  <a:pt x="251474" y="111585"/>
                </a:lnTo>
                <a:lnTo>
                  <a:pt x="246373" y="117678"/>
                </a:lnTo>
                <a:lnTo>
                  <a:pt x="240799" y="123693"/>
                </a:lnTo>
                <a:lnTo>
                  <a:pt x="234022" y="130666"/>
                </a:lnTo>
                <a:lnTo>
                  <a:pt x="224395" y="140379"/>
                </a:lnTo>
                <a:lnTo>
                  <a:pt x="219050" y="144755"/>
                </a:lnTo>
                <a:lnTo>
                  <a:pt x="213502" y="148665"/>
                </a:lnTo>
                <a:lnTo>
                  <a:pt x="207819" y="152264"/>
                </a:lnTo>
                <a:lnTo>
                  <a:pt x="202047" y="155656"/>
                </a:lnTo>
                <a:lnTo>
                  <a:pt x="196213" y="158909"/>
                </a:lnTo>
                <a:lnTo>
                  <a:pt x="184440" y="165169"/>
                </a:lnTo>
                <a:lnTo>
                  <a:pt x="172593" y="171258"/>
                </a:lnTo>
                <a:lnTo>
                  <a:pt x="166656" y="173279"/>
                </a:lnTo>
                <a:lnTo>
                  <a:pt x="160713" y="174627"/>
                </a:lnTo>
                <a:lnTo>
                  <a:pt x="154767" y="175524"/>
                </a:lnTo>
                <a:lnTo>
                  <a:pt x="149811" y="177116"/>
                </a:lnTo>
                <a:lnTo>
                  <a:pt x="145515" y="179168"/>
                </a:lnTo>
                <a:lnTo>
                  <a:pt x="138095" y="183103"/>
                </a:lnTo>
                <a:lnTo>
                  <a:pt x="131491" y="184851"/>
                </a:lnTo>
                <a:lnTo>
                  <a:pt x="129332" y="186310"/>
                </a:lnTo>
                <a:lnTo>
                  <a:pt x="127894" y="188275"/>
                </a:lnTo>
                <a:lnTo>
                  <a:pt x="125585" y="193816"/>
                </a:lnTo>
                <a:lnTo>
                  <a:pt x="125128" y="201047"/>
                </a:lnTo>
                <a:lnTo>
                  <a:pt x="125031" y="208447"/>
                </a:lnTo>
                <a:lnTo>
                  <a:pt x="126018" y="210970"/>
                </a:lnTo>
                <a:lnTo>
                  <a:pt x="131156" y="218269"/>
                </a:lnTo>
                <a:lnTo>
                  <a:pt x="138319" y="226223"/>
                </a:lnTo>
                <a:lnTo>
                  <a:pt x="151695" y="239719"/>
                </a:lnTo>
                <a:lnTo>
                  <a:pt x="144107" y="247507"/>
                </a:lnTo>
                <a:lnTo>
                  <a:pt x="142885" y="248748"/>
                </a:lnTo>
                <a:lnTo>
                  <a:pt x="142875" y="257688"/>
                </a:lnTo>
                <a:lnTo>
                  <a:pt x="134055" y="257688"/>
                </a:lnTo>
                <a:lnTo>
                  <a:pt x="142873" y="257688"/>
                </a:lnTo>
                <a:lnTo>
                  <a:pt x="134055" y="257688"/>
                </a:lnTo>
                <a:lnTo>
                  <a:pt x="142873" y="257688"/>
                </a:lnTo>
                <a:lnTo>
                  <a:pt x="134055" y="257688"/>
                </a:lnTo>
                <a:lnTo>
                  <a:pt x="142873" y="257688"/>
                </a:lnTo>
                <a:lnTo>
                  <a:pt x="134055" y="257688"/>
                </a:lnTo>
                <a:lnTo>
                  <a:pt x="142873" y="257688"/>
                </a:lnTo>
                <a:lnTo>
                  <a:pt x="134055" y="257688"/>
                </a:lnTo>
                <a:lnTo>
                  <a:pt x="142875" y="257688"/>
                </a:lnTo>
                <a:lnTo>
                  <a:pt x="134055" y="257688"/>
                </a:lnTo>
                <a:lnTo>
                  <a:pt x="142873" y="257688"/>
                </a:lnTo>
                <a:lnTo>
                  <a:pt x="134055" y="257688"/>
                </a:lnTo>
                <a:lnTo>
                  <a:pt x="142873" y="257688"/>
                </a:lnTo>
                <a:lnTo>
                  <a:pt x="134055" y="257688"/>
                </a:lnTo>
                <a:lnTo>
                  <a:pt x="142875" y="25768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78" name="SMARTInkAnnotation171"/>
          <p:cNvSpPr/>
          <p:nvPr/>
        </p:nvSpPr>
        <p:spPr>
          <a:xfrm>
            <a:off x="3564000" y="4118040"/>
            <a:ext cx="293760" cy="488880"/>
          </a:xfrm>
          <a:custGeom>
            <a:avLst/>
            <a:gdLst>
              <a:gd name="textAreaLeft" fmla="*/ 0 w 293760"/>
              <a:gd name="textAreaRight" fmla="*/ 294120 w 293760"/>
              <a:gd name="textAreaTop" fmla="*/ 0 h 488880"/>
              <a:gd name="textAreaBottom" fmla="*/ 489240 h 488880"/>
            </a:gdLst>
            <a:ahLst/>
            <a:rect l="textAreaLeft" t="textAreaTop" r="textAreaRight" b="textAreaBottom"/>
            <a:pathLst>
              <a:path w="294267" h="488563">
                <a:moveTo>
                  <a:pt x="294266" y="52295"/>
                </a:moveTo>
                <a:lnTo>
                  <a:pt x="286577" y="52295"/>
                </a:lnTo>
                <a:lnTo>
                  <a:pt x="278452" y="46158"/>
                </a:lnTo>
                <a:lnTo>
                  <a:pt x="270177" y="43200"/>
                </a:lnTo>
                <a:lnTo>
                  <a:pt x="261442" y="36481"/>
                </a:lnTo>
                <a:lnTo>
                  <a:pt x="255534" y="31045"/>
                </a:lnTo>
                <a:lnTo>
                  <a:pt x="251577" y="29199"/>
                </a:lnTo>
                <a:lnTo>
                  <a:pt x="246955" y="27968"/>
                </a:lnTo>
                <a:lnTo>
                  <a:pt x="241889" y="27147"/>
                </a:lnTo>
                <a:lnTo>
                  <a:pt x="236528" y="25608"/>
                </a:lnTo>
                <a:lnTo>
                  <a:pt x="230969" y="23589"/>
                </a:lnTo>
                <a:lnTo>
                  <a:pt x="225279" y="21251"/>
                </a:lnTo>
                <a:lnTo>
                  <a:pt x="219501" y="18700"/>
                </a:lnTo>
                <a:lnTo>
                  <a:pt x="207789" y="13221"/>
                </a:lnTo>
                <a:lnTo>
                  <a:pt x="201888" y="11363"/>
                </a:lnTo>
                <a:lnTo>
                  <a:pt x="195970" y="10124"/>
                </a:lnTo>
                <a:lnTo>
                  <a:pt x="190040" y="9298"/>
                </a:lnTo>
                <a:lnTo>
                  <a:pt x="183109" y="8747"/>
                </a:lnTo>
                <a:lnTo>
                  <a:pt x="175513" y="8380"/>
                </a:lnTo>
                <a:lnTo>
                  <a:pt x="167472" y="8136"/>
                </a:lnTo>
                <a:lnTo>
                  <a:pt x="160127" y="6980"/>
                </a:lnTo>
                <a:lnTo>
                  <a:pt x="153247" y="5218"/>
                </a:lnTo>
                <a:lnTo>
                  <a:pt x="146675" y="3051"/>
                </a:lnTo>
                <a:lnTo>
                  <a:pt x="140309" y="1606"/>
                </a:lnTo>
                <a:lnTo>
                  <a:pt x="134081" y="643"/>
                </a:lnTo>
                <a:lnTo>
                  <a:pt x="127945" y="0"/>
                </a:lnTo>
                <a:lnTo>
                  <a:pt x="121869" y="565"/>
                </a:lnTo>
                <a:lnTo>
                  <a:pt x="115835" y="1933"/>
                </a:lnTo>
                <a:lnTo>
                  <a:pt x="109828" y="3837"/>
                </a:lnTo>
                <a:lnTo>
                  <a:pt x="103838" y="5107"/>
                </a:lnTo>
                <a:lnTo>
                  <a:pt x="97861" y="5953"/>
                </a:lnTo>
                <a:lnTo>
                  <a:pt x="91891" y="6518"/>
                </a:lnTo>
                <a:lnTo>
                  <a:pt x="85928" y="7886"/>
                </a:lnTo>
                <a:lnTo>
                  <a:pt x="79967" y="9791"/>
                </a:lnTo>
                <a:lnTo>
                  <a:pt x="74010" y="12052"/>
                </a:lnTo>
                <a:lnTo>
                  <a:pt x="68053" y="14552"/>
                </a:lnTo>
                <a:lnTo>
                  <a:pt x="62098" y="17211"/>
                </a:lnTo>
                <a:lnTo>
                  <a:pt x="56143" y="19976"/>
                </a:lnTo>
                <a:lnTo>
                  <a:pt x="51182" y="22811"/>
                </a:lnTo>
                <a:lnTo>
                  <a:pt x="43023" y="28608"/>
                </a:lnTo>
                <a:lnTo>
                  <a:pt x="36089" y="37137"/>
                </a:lnTo>
                <a:lnTo>
                  <a:pt x="29700" y="47542"/>
                </a:lnTo>
                <a:lnTo>
                  <a:pt x="23553" y="58781"/>
                </a:lnTo>
                <a:lnTo>
                  <a:pt x="14515" y="76265"/>
                </a:lnTo>
                <a:lnTo>
                  <a:pt x="11182" y="85438"/>
                </a:lnTo>
                <a:lnTo>
                  <a:pt x="8709" y="93815"/>
                </a:lnTo>
                <a:lnTo>
                  <a:pt x="4301" y="104151"/>
                </a:lnTo>
                <a:lnTo>
                  <a:pt x="1682" y="115360"/>
                </a:lnTo>
                <a:lnTo>
                  <a:pt x="207" y="130182"/>
                </a:lnTo>
                <a:lnTo>
                  <a:pt x="0" y="133985"/>
                </a:lnTo>
                <a:lnTo>
                  <a:pt x="2416" y="143503"/>
                </a:lnTo>
                <a:lnTo>
                  <a:pt x="6708" y="157371"/>
                </a:lnTo>
                <a:lnTo>
                  <a:pt x="7311" y="161041"/>
                </a:lnTo>
                <a:lnTo>
                  <a:pt x="10626" y="167764"/>
                </a:lnTo>
                <a:lnTo>
                  <a:pt x="12899" y="170946"/>
                </a:lnTo>
                <a:lnTo>
                  <a:pt x="15425" y="177128"/>
                </a:lnTo>
                <a:lnTo>
                  <a:pt x="16098" y="180165"/>
                </a:lnTo>
                <a:lnTo>
                  <a:pt x="19492" y="186186"/>
                </a:lnTo>
                <a:lnTo>
                  <a:pt x="26981" y="195153"/>
                </a:lnTo>
                <a:lnTo>
                  <a:pt x="29756" y="198136"/>
                </a:lnTo>
                <a:lnTo>
                  <a:pt x="38130" y="204094"/>
                </a:lnTo>
                <a:lnTo>
                  <a:pt x="43141" y="207073"/>
                </a:lnTo>
                <a:lnTo>
                  <a:pt x="51356" y="213028"/>
                </a:lnTo>
                <a:lnTo>
                  <a:pt x="54935" y="216004"/>
                </a:lnTo>
                <a:lnTo>
                  <a:pt x="59305" y="217989"/>
                </a:lnTo>
                <a:lnTo>
                  <a:pt x="64204" y="219313"/>
                </a:lnTo>
                <a:lnTo>
                  <a:pt x="69454" y="220194"/>
                </a:lnTo>
                <a:lnTo>
                  <a:pt x="74938" y="221775"/>
                </a:lnTo>
                <a:lnTo>
                  <a:pt x="80579" y="223821"/>
                </a:lnTo>
                <a:lnTo>
                  <a:pt x="86323" y="226177"/>
                </a:lnTo>
                <a:lnTo>
                  <a:pt x="92137" y="228740"/>
                </a:lnTo>
                <a:lnTo>
                  <a:pt x="103889" y="234233"/>
                </a:lnTo>
                <a:lnTo>
                  <a:pt x="121662" y="242903"/>
                </a:lnTo>
                <a:lnTo>
                  <a:pt x="128595" y="245844"/>
                </a:lnTo>
                <a:lnTo>
                  <a:pt x="136193" y="248796"/>
                </a:lnTo>
                <a:lnTo>
                  <a:pt x="144236" y="251756"/>
                </a:lnTo>
                <a:lnTo>
                  <a:pt x="151582" y="254722"/>
                </a:lnTo>
                <a:lnTo>
                  <a:pt x="158463" y="257692"/>
                </a:lnTo>
                <a:lnTo>
                  <a:pt x="165035" y="260664"/>
                </a:lnTo>
                <a:lnTo>
                  <a:pt x="171401" y="264629"/>
                </a:lnTo>
                <a:lnTo>
                  <a:pt x="177630" y="269257"/>
                </a:lnTo>
                <a:lnTo>
                  <a:pt x="183766" y="274327"/>
                </a:lnTo>
                <a:lnTo>
                  <a:pt x="189841" y="279691"/>
                </a:lnTo>
                <a:lnTo>
                  <a:pt x="201884" y="290943"/>
                </a:lnTo>
                <a:lnTo>
                  <a:pt x="225783" y="314336"/>
                </a:lnTo>
                <a:lnTo>
                  <a:pt x="237701" y="326184"/>
                </a:lnTo>
                <a:lnTo>
                  <a:pt x="242666" y="332122"/>
                </a:lnTo>
                <a:lnTo>
                  <a:pt x="250827" y="344011"/>
                </a:lnTo>
                <a:lnTo>
                  <a:pt x="257762" y="355910"/>
                </a:lnTo>
                <a:lnTo>
                  <a:pt x="261000" y="361861"/>
                </a:lnTo>
                <a:lnTo>
                  <a:pt x="264598" y="373765"/>
                </a:lnTo>
                <a:lnTo>
                  <a:pt x="266197" y="385670"/>
                </a:lnTo>
                <a:lnTo>
                  <a:pt x="266908" y="397576"/>
                </a:lnTo>
                <a:lnTo>
                  <a:pt x="267224" y="409482"/>
                </a:lnTo>
                <a:lnTo>
                  <a:pt x="267308" y="415435"/>
                </a:lnTo>
                <a:lnTo>
                  <a:pt x="264756" y="427341"/>
                </a:lnTo>
                <a:lnTo>
                  <a:pt x="262686" y="433294"/>
                </a:lnTo>
                <a:lnTo>
                  <a:pt x="259322" y="438256"/>
                </a:lnTo>
                <a:lnTo>
                  <a:pt x="250293" y="446414"/>
                </a:lnTo>
                <a:lnTo>
                  <a:pt x="242311" y="453347"/>
                </a:lnTo>
                <a:lnTo>
                  <a:pt x="234464" y="459735"/>
                </a:lnTo>
                <a:lnTo>
                  <a:pt x="229593" y="462828"/>
                </a:lnTo>
                <a:lnTo>
                  <a:pt x="224362" y="465882"/>
                </a:lnTo>
                <a:lnTo>
                  <a:pt x="218890" y="468910"/>
                </a:lnTo>
                <a:lnTo>
                  <a:pt x="207518" y="474920"/>
                </a:lnTo>
                <a:lnTo>
                  <a:pt x="201707" y="476920"/>
                </a:lnTo>
                <a:lnTo>
                  <a:pt x="195849" y="478253"/>
                </a:lnTo>
                <a:lnTo>
                  <a:pt x="189959" y="479143"/>
                </a:lnTo>
                <a:lnTo>
                  <a:pt x="184048" y="479735"/>
                </a:lnTo>
                <a:lnTo>
                  <a:pt x="178123" y="480129"/>
                </a:lnTo>
                <a:lnTo>
                  <a:pt x="172189" y="480392"/>
                </a:lnTo>
                <a:lnTo>
                  <a:pt x="166248" y="481560"/>
                </a:lnTo>
                <a:lnTo>
                  <a:pt x="160304" y="483331"/>
                </a:lnTo>
                <a:lnTo>
                  <a:pt x="154356" y="485504"/>
                </a:lnTo>
                <a:lnTo>
                  <a:pt x="148407" y="486952"/>
                </a:lnTo>
                <a:lnTo>
                  <a:pt x="142456" y="487918"/>
                </a:lnTo>
                <a:lnTo>
                  <a:pt x="136504" y="488562"/>
                </a:lnTo>
                <a:lnTo>
                  <a:pt x="130553" y="487999"/>
                </a:lnTo>
                <a:lnTo>
                  <a:pt x="124600" y="486632"/>
                </a:lnTo>
                <a:lnTo>
                  <a:pt x="118647" y="484727"/>
                </a:lnTo>
                <a:lnTo>
                  <a:pt x="113687" y="483458"/>
                </a:lnTo>
                <a:lnTo>
                  <a:pt x="105529" y="482048"/>
                </a:lnTo>
                <a:lnTo>
                  <a:pt x="100972" y="480680"/>
                </a:lnTo>
                <a:lnTo>
                  <a:pt x="95950" y="478775"/>
                </a:lnTo>
                <a:lnTo>
                  <a:pt x="90618" y="476513"/>
                </a:lnTo>
                <a:lnTo>
                  <a:pt x="82047" y="474000"/>
                </a:lnTo>
                <a:lnTo>
                  <a:pt x="78372" y="473330"/>
                </a:lnTo>
                <a:lnTo>
                  <a:pt x="71643" y="469939"/>
                </a:lnTo>
                <a:lnTo>
                  <a:pt x="68460" y="467647"/>
                </a:lnTo>
                <a:lnTo>
                  <a:pt x="62278" y="465099"/>
                </a:lnTo>
                <a:lnTo>
                  <a:pt x="59240" y="464419"/>
                </a:lnTo>
                <a:lnTo>
                  <a:pt x="53219" y="461018"/>
                </a:lnTo>
                <a:lnTo>
                  <a:pt x="46009" y="455491"/>
                </a:lnTo>
                <a:lnTo>
                  <a:pt x="42377" y="454735"/>
                </a:lnTo>
                <a:lnTo>
                  <a:pt x="40020" y="454534"/>
                </a:lnTo>
                <a:lnTo>
                  <a:pt x="38448" y="453407"/>
                </a:lnTo>
                <a:lnTo>
                  <a:pt x="37401" y="451664"/>
                </a:lnTo>
                <a:lnTo>
                  <a:pt x="35305" y="445201"/>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79" name="SMARTInkAnnotation172"/>
          <p:cNvSpPr/>
          <p:nvPr/>
        </p:nvSpPr>
        <p:spPr>
          <a:xfrm>
            <a:off x="3965400" y="4133880"/>
            <a:ext cx="255600" cy="527040"/>
          </a:xfrm>
          <a:custGeom>
            <a:avLst/>
            <a:gdLst>
              <a:gd name="textAreaLeft" fmla="*/ 0 w 255600"/>
              <a:gd name="textAreaRight" fmla="*/ 255960 w 255600"/>
              <a:gd name="textAreaTop" fmla="*/ 0 h 527040"/>
              <a:gd name="textAreaBottom" fmla="*/ 527400 h 527040"/>
            </a:gdLst>
            <a:ahLst/>
            <a:rect l="textAreaLeft" t="textAreaTop" r="textAreaRight" b="textAreaBottom"/>
            <a:pathLst>
              <a:path w="257025" h="526659">
                <a:moveTo>
                  <a:pt x="249905" y="0"/>
                </a:moveTo>
                <a:lnTo>
                  <a:pt x="184256" y="0"/>
                </a:lnTo>
                <a:lnTo>
                  <a:pt x="177366" y="992"/>
                </a:lnTo>
                <a:lnTo>
                  <a:pt x="170788" y="2646"/>
                </a:lnTo>
                <a:lnTo>
                  <a:pt x="164418" y="4741"/>
                </a:lnTo>
                <a:lnTo>
                  <a:pt x="158187" y="6137"/>
                </a:lnTo>
                <a:lnTo>
                  <a:pt x="152049" y="7068"/>
                </a:lnTo>
                <a:lnTo>
                  <a:pt x="145972" y="7688"/>
                </a:lnTo>
                <a:lnTo>
                  <a:pt x="139937" y="9095"/>
                </a:lnTo>
                <a:lnTo>
                  <a:pt x="133929" y="11024"/>
                </a:lnTo>
                <a:lnTo>
                  <a:pt x="127939" y="13302"/>
                </a:lnTo>
                <a:lnTo>
                  <a:pt x="121962" y="16806"/>
                </a:lnTo>
                <a:lnTo>
                  <a:pt x="115992" y="21126"/>
                </a:lnTo>
                <a:lnTo>
                  <a:pt x="110028" y="25990"/>
                </a:lnTo>
                <a:lnTo>
                  <a:pt x="104068" y="30225"/>
                </a:lnTo>
                <a:lnTo>
                  <a:pt x="98110" y="34041"/>
                </a:lnTo>
                <a:lnTo>
                  <a:pt x="92154" y="37577"/>
                </a:lnTo>
                <a:lnTo>
                  <a:pt x="86199" y="41918"/>
                </a:lnTo>
                <a:lnTo>
                  <a:pt x="80244" y="46797"/>
                </a:lnTo>
                <a:lnTo>
                  <a:pt x="74290" y="52034"/>
                </a:lnTo>
                <a:lnTo>
                  <a:pt x="68336" y="57510"/>
                </a:lnTo>
                <a:lnTo>
                  <a:pt x="56429" y="68886"/>
                </a:lnTo>
                <a:lnTo>
                  <a:pt x="51468" y="75689"/>
                </a:lnTo>
                <a:lnTo>
                  <a:pt x="47168" y="83202"/>
                </a:lnTo>
                <a:lnTo>
                  <a:pt x="43309" y="91187"/>
                </a:lnTo>
                <a:lnTo>
                  <a:pt x="38753" y="99486"/>
                </a:lnTo>
                <a:lnTo>
                  <a:pt x="33731" y="107996"/>
                </a:lnTo>
                <a:lnTo>
                  <a:pt x="28398" y="116646"/>
                </a:lnTo>
                <a:lnTo>
                  <a:pt x="23851" y="124397"/>
                </a:lnTo>
                <a:lnTo>
                  <a:pt x="16153" y="138300"/>
                </a:lnTo>
                <a:lnTo>
                  <a:pt x="12070" y="153740"/>
                </a:lnTo>
                <a:lnTo>
                  <a:pt x="10981" y="162025"/>
                </a:lnTo>
                <a:lnTo>
                  <a:pt x="9263" y="170524"/>
                </a:lnTo>
                <a:lnTo>
                  <a:pt x="7126" y="179168"/>
                </a:lnTo>
                <a:lnTo>
                  <a:pt x="4708" y="187906"/>
                </a:lnTo>
                <a:lnTo>
                  <a:pt x="3097" y="196708"/>
                </a:lnTo>
                <a:lnTo>
                  <a:pt x="2022" y="205553"/>
                </a:lnTo>
                <a:lnTo>
                  <a:pt x="1306" y="214426"/>
                </a:lnTo>
                <a:lnTo>
                  <a:pt x="829" y="223318"/>
                </a:lnTo>
                <a:lnTo>
                  <a:pt x="298" y="241135"/>
                </a:lnTo>
                <a:lnTo>
                  <a:pt x="0" y="272641"/>
                </a:lnTo>
                <a:lnTo>
                  <a:pt x="950" y="282964"/>
                </a:lnTo>
                <a:lnTo>
                  <a:pt x="2576" y="292822"/>
                </a:lnTo>
                <a:lnTo>
                  <a:pt x="4651" y="302371"/>
                </a:lnTo>
                <a:lnTo>
                  <a:pt x="7028" y="311713"/>
                </a:lnTo>
                <a:lnTo>
                  <a:pt x="9604" y="320919"/>
                </a:lnTo>
                <a:lnTo>
                  <a:pt x="15112" y="339084"/>
                </a:lnTo>
                <a:lnTo>
                  <a:pt x="20868" y="357079"/>
                </a:lnTo>
                <a:lnTo>
                  <a:pt x="26768" y="371006"/>
                </a:lnTo>
                <a:lnTo>
                  <a:pt x="43908" y="407647"/>
                </a:lnTo>
                <a:lnTo>
                  <a:pt x="52050" y="423569"/>
                </a:lnTo>
                <a:lnTo>
                  <a:pt x="59462" y="437161"/>
                </a:lnTo>
                <a:lnTo>
                  <a:pt x="66389" y="449199"/>
                </a:lnTo>
                <a:lnTo>
                  <a:pt x="72991" y="459208"/>
                </a:lnTo>
                <a:lnTo>
                  <a:pt x="79377" y="467865"/>
                </a:lnTo>
                <a:lnTo>
                  <a:pt x="85618" y="475621"/>
                </a:lnTo>
                <a:lnTo>
                  <a:pt x="91763" y="481784"/>
                </a:lnTo>
                <a:lnTo>
                  <a:pt x="97844" y="486884"/>
                </a:lnTo>
                <a:lnTo>
                  <a:pt x="103883" y="491277"/>
                </a:lnTo>
                <a:lnTo>
                  <a:pt x="109893" y="496190"/>
                </a:lnTo>
                <a:lnTo>
                  <a:pt x="115884" y="501450"/>
                </a:lnTo>
                <a:lnTo>
                  <a:pt x="121862" y="506940"/>
                </a:lnTo>
                <a:lnTo>
                  <a:pt x="127832" y="511593"/>
                </a:lnTo>
                <a:lnTo>
                  <a:pt x="133797" y="515687"/>
                </a:lnTo>
                <a:lnTo>
                  <a:pt x="139757" y="519408"/>
                </a:lnTo>
                <a:lnTo>
                  <a:pt x="146707" y="521890"/>
                </a:lnTo>
                <a:lnTo>
                  <a:pt x="154318" y="523544"/>
                </a:lnTo>
                <a:lnTo>
                  <a:pt x="162368" y="524646"/>
                </a:lnTo>
                <a:lnTo>
                  <a:pt x="169719" y="525382"/>
                </a:lnTo>
                <a:lnTo>
                  <a:pt x="176604" y="525872"/>
                </a:lnTo>
                <a:lnTo>
                  <a:pt x="183178" y="526198"/>
                </a:lnTo>
                <a:lnTo>
                  <a:pt x="195775" y="526562"/>
                </a:lnTo>
                <a:lnTo>
                  <a:pt x="201912" y="526658"/>
                </a:lnTo>
                <a:lnTo>
                  <a:pt x="207988" y="525731"/>
                </a:lnTo>
                <a:lnTo>
                  <a:pt x="214023" y="524120"/>
                </a:lnTo>
                <a:lnTo>
                  <a:pt x="220030" y="522054"/>
                </a:lnTo>
                <a:lnTo>
                  <a:pt x="225028" y="519684"/>
                </a:lnTo>
                <a:lnTo>
                  <a:pt x="229352" y="517112"/>
                </a:lnTo>
                <a:lnTo>
                  <a:pt x="236802" y="511609"/>
                </a:lnTo>
                <a:lnTo>
                  <a:pt x="243420" y="505856"/>
                </a:lnTo>
                <a:lnTo>
                  <a:pt x="249669" y="499991"/>
                </a:lnTo>
                <a:lnTo>
                  <a:pt x="252724" y="497039"/>
                </a:lnTo>
                <a:lnTo>
                  <a:pt x="254761" y="493086"/>
                </a:lnTo>
                <a:lnTo>
                  <a:pt x="257024" y="483402"/>
                </a:lnTo>
                <a:lnTo>
                  <a:pt x="256636" y="478042"/>
                </a:lnTo>
                <a:lnTo>
                  <a:pt x="252341" y="461016"/>
                </a:lnTo>
                <a:lnTo>
                  <a:pt x="250988" y="449305"/>
                </a:lnTo>
                <a:lnTo>
                  <a:pt x="247740" y="434840"/>
                </a:lnTo>
                <a:lnTo>
                  <a:pt x="245486" y="426815"/>
                </a:lnTo>
                <a:lnTo>
                  <a:pt x="237688" y="412607"/>
                </a:lnTo>
                <a:lnTo>
                  <a:pt x="232831" y="406040"/>
                </a:lnTo>
                <a:lnTo>
                  <a:pt x="228600" y="399678"/>
                </a:lnTo>
                <a:lnTo>
                  <a:pt x="221254" y="387316"/>
                </a:lnTo>
                <a:lnTo>
                  <a:pt x="216914" y="381242"/>
                </a:lnTo>
                <a:lnTo>
                  <a:pt x="212036" y="375209"/>
                </a:lnTo>
                <a:lnTo>
                  <a:pt x="206799" y="369202"/>
                </a:lnTo>
                <a:lnTo>
                  <a:pt x="201324" y="363213"/>
                </a:lnTo>
                <a:lnTo>
                  <a:pt x="189949" y="351266"/>
                </a:lnTo>
                <a:lnTo>
                  <a:pt x="184138" y="346295"/>
                </a:lnTo>
                <a:lnTo>
                  <a:pt x="178279" y="341989"/>
                </a:lnTo>
                <a:lnTo>
                  <a:pt x="172388" y="338125"/>
                </a:lnTo>
                <a:lnTo>
                  <a:pt x="166478" y="333565"/>
                </a:lnTo>
                <a:lnTo>
                  <a:pt x="160552" y="328541"/>
                </a:lnTo>
                <a:lnTo>
                  <a:pt x="149669" y="318659"/>
                </a:lnTo>
                <a:lnTo>
                  <a:pt x="141525" y="310960"/>
                </a:lnTo>
                <a:lnTo>
                  <a:pt x="136972" y="307517"/>
                </a:lnTo>
                <a:lnTo>
                  <a:pt x="131953" y="304230"/>
                </a:lnTo>
                <a:lnTo>
                  <a:pt x="126621" y="301047"/>
                </a:lnTo>
                <a:lnTo>
                  <a:pt x="122075" y="298924"/>
                </a:lnTo>
                <a:lnTo>
                  <a:pt x="114378" y="296566"/>
                </a:lnTo>
                <a:lnTo>
                  <a:pt x="107650" y="295518"/>
                </a:lnTo>
                <a:lnTo>
                  <a:pt x="98100" y="29468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80" name="SMARTInkAnnotation173"/>
          <p:cNvSpPr/>
          <p:nvPr/>
        </p:nvSpPr>
        <p:spPr>
          <a:xfrm>
            <a:off x="4259160" y="4581360"/>
            <a:ext cx="9720" cy="8280"/>
          </a:xfrm>
          <a:custGeom>
            <a:avLst/>
            <a:gdLst>
              <a:gd name="textAreaLeft" fmla="*/ 0 w 9720"/>
              <a:gd name="textAreaRight" fmla="*/ 10080 w 9720"/>
              <a:gd name="textAreaTop" fmla="*/ 0 h 8280"/>
              <a:gd name="textAreaBottom" fmla="*/ 8640 h 8280"/>
            </a:gdLst>
            <a:ahLst/>
            <a:rect l="textAreaLeft" t="textAreaTop" r="textAreaRight" b="textAreaBottom"/>
            <a:pathLst>
              <a:path w="8931" h="8931">
                <a:moveTo>
                  <a:pt x="0" y="0"/>
                </a:moveTo>
                <a:lnTo>
                  <a:pt x="4741" y="0"/>
                </a:lnTo>
                <a:lnTo>
                  <a:pt x="6137" y="992"/>
                </a:lnTo>
                <a:lnTo>
                  <a:pt x="7069" y="2646"/>
                </a:lnTo>
                <a:lnTo>
                  <a:pt x="8930" y="8930"/>
                </a:lnTo>
              </a:path>
            </a:pathLst>
          </a:custGeom>
          <a:noFill/>
          <a:ln w="38160">
            <a:solidFill>
              <a:srgbClr val="009300"/>
            </a:solidFill>
            <a:round/>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Constantia"/>
            </a:endParaRPr>
          </a:p>
        </p:txBody>
      </p:sp>
      <p:sp>
        <p:nvSpPr>
          <p:cNvPr id="381" name="SMARTInkAnnotation174"/>
          <p:cNvSpPr/>
          <p:nvPr/>
        </p:nvSpPr>
        <p:spPr>
          <a:xfrm>
            <a:off x="4384800" y="4116240"/>
            <a:ext cx="268200" cy="509760"/>
          </a:xfrm>
          <a:custGeom>
            <a:avLst/>
            <a:gdLst>
              <a:gd name="textAreaLeft" fmla="*/ 0 w 268200"/>
              <a:gd name="textAreaRight" fmla="*/ 268560 w 268200"/>
              <a:gd name="textAreaTop" fmla="*/ 0 h 509760"/>
              <a:gd name="textAreaBottom" fmla="*/ 510120 h 509760"/>
            </a:gdLst>
            <a:ahLst/>
            <a:rect l="textAreaLeft" t="textAreaTop" r="textAreaRight" b="textAreaBottom"/>
            <a:pathLst>
              <a:path w="267723" h="508589">
                <a:moveTo>
                  <a:pt x="0" y="53174"/>
                </a:moveTo>
                <a:lnTo>
                  <a:pt x="0" y="32183"/>
                </a:lnTo>
                <a:lnTo>
                  <a:pt x="993" y="29258"/>
                </a:lnTo>
                <a:lnTo>
                  <a:pt x="4741" y="23362"/>
                </a:lnTo>
                <a:lnTo>
                  <a:pt x="7129" y="21393"/>
                </a:lnTo>
                <a:lnTo>
                  <a:pt x="9713" y="20080"/>
                </a:lnTo>
                <a:lnTo>
                  <a:pt x="12429" y="19205"/>
                </a:lnTo>
                <a:lnTo>
                  <a:pt x="18092" y="15587"/>
                </a:lnTo>
                <a:lnTo>
                  <a:pt x="20991" y="13233"/>
                </a:lnTo>
                <a:lnTo>
                  <a:pt x="23916" y="11663"/>
                </a:lnTo>
                <a:lnTo>
                  <a:pt x="33765" y="8463"/>
                </a:lnTo>
                <a:lnTo>
                  <a:pt x="38385" y="6499"/>
                </a:lnTo>
                <a:lnTo>
                  <a:pt x="43449" y="4198"/>
                </a:lnTo>
                <a:lnTo>
                  <a:pt x="48810" y="2663"/>
                </a:lnTo>
                <a:lnTo>
                  <a:pt x="54369" y="1641"/>
                </a:lnTo>
                <a:lnTo>
                  <a:pt x="60058" y="959"/>
                </a:lnTo>
                <a:lnTo>
                  <a:pt x="65836" y="505"/>
                </a:lnTo>
                <a:lnTo>
                  <a:pt x="71672" y="201"/>
                </a:lnTo>
                <a:lnTo>
                  <a:pt x="77547" y="0"/>
                </a:lnTo>
                <a:lnTo>
                  <a:pt x="83448" y="857"/>
                </a:lnTo>
                <a:lnTo>
                  <a:pt x="89366" y="2421"/>
                </a:lnTo>
                <a:lnTo>
                  <a:pt x="95296" y="4456"/>
                </a:lnTo>
                <a:lnTo>
                  <a:pt x="101235" y="5812"/>
                </a:lnTo>
                <a:lnTo>
                  <a:pt x="107177" y="6717"/>
                </a:lnTo>
                <a:lnTo>
                  <a:pt x="113123" y="7319"/>
                </a:lnTo>
                <a:lnTo>
                  <a:pt x="120064" y="8713"/>
                </a:lnTo>
                <a:lnTo>
                  <a:pt x="127668" y="10635"/>
                </a:lnTo>
                <a:lnTo>
                  <a:pt x="135713" y="12908"/>
                </a:lnTo>
                <a:lnTo>
                  <a:pt x="143061" y="15415"/>
                </a:lnTo>
                <a:lnTo>
                  <a:pt x="149945" y="18080"/>
                </a:lnTo>
                <a:lnTo>
                  <a:pt x="156518" y="20848"/>
                </a:lnTo>
                <a:lnTo>
                  <a:pt x="163876" y="23685"/>
                </a:lnTo>
                <a:lnTo>
                  <a:pt x="179991" y="29484"/>
                </a:lnTo>
                <a:lnTo>
                  <a:pt x="187463" y="32419"/>
                </a:lnTo>
                <a:lnTo>
                  <a:pt x="194428" y="35369"/>
                </a:lnTo>
                <a:lnTo>
                  <a:pt x="201057" y="38327"/>
                </a:lnTo>
                <a:lnTo>
                  <a:pt x="207459" y="42284"/>
                </a:lnTo>
                <a:lnTo>
                  <a:pt x="213713" y="46906"/>
                </a:lnTo>
                <a:lnTo>
                  <a:pt x="219865" y="51972"/>
                </a:lnTo>
                <a:lnTo>
                  <a:pt x="225953" y="56341"/>
                </a:lnTo>
                <a:lnTo>
                  <a:pt x="231994" y="60246"/>
                </a:lnTo>
                <a:lnTo>
                  <a:pt x="238006" y="63842"/>
                </a:lnTo>
                <a:lnTo>
                  <a:pt x="243007" y="68223"/>
                </a:lnTo>
                <a:lnTo>
                  <a:pt x="251209" y="78383"/>
                </a:lnTo>
                <a:lnTo>
                  <a:pt x="258162" y="86867"/>
                </a:lnTo>
                <a:lnTo>
                  <a:pt x="261405" y="90519"/>
                </a:lnTo>
                <a:lnTo>
                  <a:pt x="263567" y="94938"/>
                </a:lnTo>
                <a:lnTo>
                  <a:pt x="266609" y="109645"/>
                </a:lnTo>
                <a:lnTo>
                  <a:pt x="267638" y="124007"/>
                </a:lnTo>
                <a:lnTo>
                  <a:pt x="267722" y="127185"/>
                </a:lnTo>
                <a:lnTo>
                  <a:pt x="265794" y="131288"/>
                </a:lnTo>
                <a:lnTo>
                  <a:pt x="258360" y="141138"/>
                </a:lnTo>
                <a:lnTo>
                  <a:pt x="251087" y="149485"/>
                </a:lnTo>
                <a:lnTo>
                  <a:pt x="247759" y="153100"/>
                </a:lnTo>
                <a:lnTo>
                  <a:pt x="243556" y="155510"/>
                </a:lnTo>
                <a:lnTo>
                  <a:pt x="238768" y="157116"/>
                </a:lnTo>
                <a:lnTo>
                  <a:pt x="233593" y="158187"/>
                </a:lnTo>
                <a:lnTo>
                  <a:pt x="228159" y="159894"/>
                </a:lnTo>
                <a:lnTo>
                  <a:pt x="222551" y="162024"/>
                </a:lnTo>
                <a:lnTo>
                  <a:pt x="216828" y="164435"/>
                </a:lnTo>
                <a:lnTo>
                  <a:pt x="211029" y="167036"/>
                </a:lnTo>
                <a:lnTo>
                  <a:pt x="199294" y="172571"/>
                </a:lnTo>
                <a:lnTo>
                  <a:pt x="163699" y="190125"/>
                </a:lnTo>
                <a:lnTo>
                  <a:pt x="158742" y="193091"/>
                </a:lnTo>
                <a:lnTo>
                  <a:pt x="150589" y="199034"/>
                </a:lnTo>
                <a:lnTo>
                  <a:pt x="143658" y="204982"/>
                </a:lnTo>
                <a:lnTo>
                  <a:pt x="137270" y="210933"/>
                </a:lnTo>
                <a:lnTo>
                  <a:pt x="125084" y="222838"/>
                </a:lnTo>
                <a:lnTo>
                  <a:pt x="122085" y="225815"/>
                </a:lnTo>
                <a:lnTo>
                  <a:pt x="120086" y="229783"/>
                </a:lnTo>
                <a:lnTo>
                  <a:pt x="117863" y="239484"/>
                </a:lnTo>
                <a:lnTo>
                  <a:pt x="116877" y="250410"/>
                </a:lnTo>
                <a:lnTo>
                  <a:pt x="116438" y="261881"/>
                </a:lnTo>
                <a:lnTo>
                  <a:pt x="116242" y="273594"/>
                </a:lnTo>
                <a:lnTo>
                  <a:pt x="118801" y="285414"/>
                </a:lnTo>
                <a:lnTo>
                  <a:pt x="122254" y="297282"/>
                </a:lnTo>
                <a:lnTo>
                  <a:pt x="123788" y="309172"/>
                </a:lnTo>
                <a:lnTo>
                  <a:pt x="127116" y="323716"/>
                </a:lnTo>
                <a:lnTo>
                  <a:pt x="131902" y="339110"/>
                </a:lnTo>
                <a:lnTo>
                  <a:pt x="137337" y="352567"/>
                </a:lnTo>
                <a:lnTo>
                  <a:pt x="140414" y="365162"/>
                </a:lnTo>
                <a:lnTo>
                  <a:pt x="142774" y="378366"/>
                </a:lnTo>
                <a:lnTo>
                  <a:pt x="147129" y="394157"/>
                </a:lnTo>
                <a:lnTo>
                  <a:pt x="149727" y="408451"/>
                </a:lnTo>
                <a:lnTo>
                  <a:pt x="150881" y="421419"/>
                </a:lnTo>
                <a:lnTo>
                  <a:pt x="151394" y="433796"/>
                </a:lnTo>
                <a:lnTo>
                  <a:pt x="151683" y="451921"/>
                </a:lnTo>
                <a:lnTo>
                  <a:pt x="150731" y="456919"/>
                </a:lnTo>
                <a:lnTo>
                  <a:pt x="144652" y="469687"/>
                </a:lnTo>
                <a:lnTo>
                  <a:pt x="139366" y="480053"/>
                </a:lnTo>
                <a:lnTo>
                  <a:pt x="136567" y="483612"/>
                </a:lnTo>
                <a:lnTo>
                  <a:pt x="133709" y="485984"/>
                </a:lnTo>
                <a:lnTo>
                  <a:pt x="126895" y="489612"/>
                </a:lnTo>
                <a:lnTo>
                  <a:pt x="100667" y="502880"/>
                </a:lnTo>
                <a:lnTo>
                  <a:pt x="95885" y="504782"/>
                </a:lnTo>
                <a:lnTo>
                  <a:pt x="87925" y="506896"/>
                </a:lnTo>
                <a:lnTo>
                  <a:pt x="83422" y="507460"/>
                </a:lnTo>
                <a:lnTo>
                  <a:pt x="78435" y="507836"/>
                </a:lnTo>
                <a:lnTo>
                  <a:pt x="68594" y="508254"/>
                </a:lnTo>
                <a:lnTo>
                  <a:pt x="57476" y="508488"/>
                </a:lnTo>
                <a:lnTo>
                  <a:pt x="26789" y="50858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82" name="SMARTInkAnnotation175"/>
          <p:cNvSpPr/>
          <p:nvPr/>
        </p:nvSpPr>
        <p:spPr>
          <a:xfrm>
            <a:off x="4697280" y="4170240"/>
            <a:ext cx="204840" cy="411120"/>
          </a:xfrm>
          <a:custGeom>
            <a:avLst/>
            <a:gdLst>
              <a:gd name="textAreaLeft" fmla="*/ 0 w 204840"/>
              <a:gd name="textAreaRight" fmla="*/ 205200 w 204840"/>
              <a:gd name="textAreaTop" fmla="*/ 0 h 411120"/>
              <a:gd name="textAreaBottom" fmla="*/ 411480 h 411120"/>
            </a:gdLst>
            <a:ahLst/>
            <a:rect l="textAreaLeft" t="textAreaTop" r="textAreaRight" b="textAreaBottom"/>
            <a:pathLst>
              <a:path w="205239" h="410766">
                <a:moveTo>
                  <a:pt x="133945" y="0"/>
                </a:moveTo>
                <a:lnTo>
                  <a:pt x="141634" y="0"/>
                </a:lnTo>
                <a:lnTo>
                  <a:pt x="147248" y="4740"/>
                </a:lnTo>
                <a:lnTo>
                  <a:pt x="152425" y="9713"/>
                </a:lnTo>
                <a:lnTo>
                  <a:pt x="155195" y="12429"/>
                </a:lnTo>
                <a:lnTo>
                  <a:pt x="160919" y="20737"/>
                </a:lnTo>
                <a:lnTo>
                  <a:pt x="166770" y="31045"/>
                </a:lnTo>
                <a:lnTo>
                  <a:pt x="172677" y="42240"/>
                </a:lnTo>
                <a:lnTo>
                  <a:pt x="175641" y="48996"/>
                </a:lnTo>
                <a:lnTo>
                  <a:pt x="178610" y="56476"/>
                </a:lnTo>
                <a:lnTo>
                  <a:pt x="181581" y="64440"/>
                </a:lnTo>
                <a:lnTo>
                  <a:pt x="183562" y="71733"/>
                </a:lnTo>
                <a:lnTo>
                  <a:pt x="184882" y="78580"/>
                </a:lnTo>
                <a:lnTo>
                  <a:pt x="185762" y="85128"/>
                </a:lnTo>
                <a:lnTo>
                  <a:pt x="187342" y="92471"/>
                </a:lnTo>
                <a:lnTo>
                  <a:pt x="189387" y="100342"/>
                </a:lnTo>
                <a:lnTo>
                  <a:pt x="191742" y="108567"/>
                </a:lnTo>
                <a:lnTo>
                  <a:pt x="197006" y="125642"/>
                </a:lnTo>
                <a:lnTo>
                  <a:pt x="199798" y="134363"/>
                </a:lnTo>
                <a:lnTo>
                  <a:pt x="201660" y="143153"/>
                </a:lnTo>
                <a:lnTo>
                  <a:pt x="202901" y="151990"/>
                </a:lnTo>
                <a:lnTo>
                  <a:pt x="203728" y="160858"/>
                </a:lnTo>
                <a:lnTo>
                  <a:pt x="204280" y="169746"/>
                </a:lnTo>
                <a:lnTo>
                  <a:pt x="204893" y="187559"/>
                </a:lnTo>
                <a:lnTo>
                  <a:pt x="205238" y="214323"/>
                </a:lnTo>
                <a:lnTo>
                  <a:pt x="204294" y="223249"/>
                </a:lnTo>
                <a:lnTo>
                  <a:pt x="202673" y="232176"/>
                </a:lnTo>
                <a:lnTo>
                  <a:pt x="200600" y="241105"/>
                </a:lnTo>
                <a:lnTo>
                  <a:pt x="198225" y="250033"/>
                </a:lnTo>
                <a:lnTo>
                  <a:pt x="192941" y="267891"/>
                </a:lnTo>
                <a:lnTo>
                  <a:pt x="184388" y="294679"/>
                </a:lnTo>
                <a:lnTo>
                  <a:pt x="181465" y="302617"/>
                </a:lnTo>
                <a:lnTo>
                  <a:pt x="178524" y="309893"/>
                </a:lnTo>
                <a:lnTo>
                  <a:pt x="175571" y="316728"/>
                </a:lnTo>
                <a:lnTo>
                  <a:pt x="171618" y="323269"/>
                </a:lnTo>
                <a:lnTo>
                  <a:pt x="166998" y="329614"/>
                </a:lnTo>
                <a:lnTo>
                  <a:pt x="161934" y="335829"/>
                </a:lnTo>
                <a:lnTo>
                  <a:pt x="156572" y="341956"/>
                </a:lnTo>
                <a:lnTo>
                  <a:pt x="151015" y="348025"/>
                </a:lnTo>
                <a:lnTo>
                  <a:pt x="139547" y="360061"/>
                </a:lnTo>
                <a:lnTo>
                  <a:pt x="127836" y="372024"/>
                </a:lnTo>
                <a:lnTo>
                  <a:pt x="121935" y="377000"/>
                </a:lnTo>
                <a:lnTo>
                  <a:pt x="116017" y="381310"/>
                </a:lnTo>
                <a:lnTo>
                  <a:pt x="110087" y="385176"/>
                </a:lnTo>
                <a:lnTo>
                  <a:pt x="104149" y="388744"/>
                </a:lnTo>
                <a:lnTo>
                  <a:pt x="98207" y="392116"/>
                </a:lnTo>
                <a:lnTo>
                  <a:pt x="86311" y="398508"/>
                </a:lnTo>
                <a:lnTo>
                  <a:pt x="74410" y="404656"/>
                </a:lnTo>
                <a:lnTo>
                  <a:pt x="68458" y="406692"/>
                </a:lnTo>
                <a:lnTo>
                  <a:pt x="62506" y="408051"/>
                </a:lnTo>
                <a:lnTo>
                  <a:pt x="56554" y="408955"/>
                </a:lnTo>
                <a:lnTo>
                  <a:pt x="50601" y="409559"/>
                </a:lnTo>
                <a:lnTo>
                  <a:pt x="44648" y="409961"/>
                </a:lnTo>
                <a:lnTo>
                  <a:pt x="38695" y="410229"/>
                </a:lnTo>
                <a:lnTo>
                  <a:pt x="26789" y="410527"/>
                </a:lnTo>
                <a:lnTo>
                  <a:pt x="0" y="410765"/>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83" name="SMARTInkAnnotation176"/>
          <p:cNvSpPr/>
          <p:nvPr/>
        </p:nvSpPr>
        <p:spPr>
          <a:xfrm>
            <a:off x="4732200" y="4152960"/>
            <a:ext cx="339840" cy="61920"/>
          </a:xfrm>
          <a:custGeom>
            <a:avLst/>
            <a:gdLst>
              <a:gd name="textAreaLeft" fmla="*/ 0 w 339840"/>
              <a:gd name="textAreaRight" fmla="*/ 340200 w 339840"/>
              <a:gd name="textAreaTop" fmla="*/ 0 h 61920"/>
              <a:gd name="textAreaBottom" fmla="*/ 62280 h 61920"/>
            </a:gdLst>
            <a:ahLst/>
            <a:rect l="textAreaLeft" t="textAreaTop" r="textAreaRight" b="textAreaBottom"/>
            <a:pathLst>
              <a:path w="339329" h="62509">
                <a:moveTo>
                  <a:pt x="0" y="0"/>
                </a:moveTo>
                <a:lnTo>
                  <a:pt x="25731" y="0"/>
                </a:lnTo>
                <a:lnTo>
                  <a:pt x="31045" y="992"/>
                </a:lnTo>
                <a:lnTo>
                  <a:pt x="36571" y="2646"/>
                </a:lnTo>
                <a:lnTo>
                  <a:pt x="42241" y="4741"/>
                </a:lnTo>
                <a:lnTo>
                  <a:pt x="48004" y="6137"/>
                </a:lnTo>
                <a:lnTo>
                  <a:pt x="53831" y="7068"/>
                </a:lnTo>
                <a:lnTo>
                  <a:pt x="59699" y="7688"/>
                </a:lnTo>
                <a:lnTo>
                  <a:pt x="66589" y="9095"/>
                </a:lnTo>
                <a:lnTo>
                  <a:pt x="74158" y="11024"/>
                </a:lnTo>
                <a:lnTo>
                  <a:pt x="91498" y="15814"/>
                </a:lnTo>
                <a:lnTo>
                  <a:pt x="112434" y="21250"/>
                </a:lnTo>
                <a:lnTo>
                  <a:pt x="122581" y="23097"/>
                </a:lnTo>
                <a:lnTo>
                  <a:pt x="132322" y="24327"/>
                </a:lnTo>
                <a:lnTo>
                  <a:pt x="141793" y="25148"/>
                </a:lnTo>
                <a:lnTo>
                  <a:pt x="152076" y="26687"/>
                </a:lnTo>
                <a:lnTo>
                  <a:pt x="162899" y="28706"/>
                </a:lnTo>
                <a:lnTo>
                  <a:pt x="185509" y="33594"/>
                </a:lnTo>
                <a:lnTo>
                  <a:pt x="208787" y="39075"/>
                </a:lnTo>
                <a:lnTo>
                  <a:pt x="219558" y="40932"/>
                </a:lnTo>
                <a:lnTo>
                  <a:pt x="229716" y="42171"/>
                </a:lnTo>
                <a:lnTo>
                  <a:pt x="239464" y="42997"/>
                </a:lnTo>
                <a:lnTo>
                  <a:pt x="247948" y="44540"/>
                </a:lnTo>
                <a:lnTo>
                  <a:pt x="255588" y="46561"/>
                </a:lnTo>
                <a:lnTo>
                  <a:pt x="262665" y="48900"/>
                </a:lnTo>
                <a:lnTo>
                  <a:pt x="270360" y="50459"/>
                </a:lnTo>
                <a:lnTo>
                  <a:pt x="278466" y="51499"/>
                </a:lnTo>
                <a:lnTo>
                  <a:pt x="286848" y="52192"/>
                </a:lnTo>
                <a:lnTo>
                  <a:pt x="294419" y="53647"/>
                </a:lnTo>
                <a:lnTo>
                  <a:pt x="301451" y="55608"/>
                </a:lnTo>
                <a:lnTo>
                  <a:pt x="308124" y="57909"/>
                </a:lnTo>
                <a:lnTo>
                  <a:pt x="313564" y="59442"/>
                </a:lnTo>
                <a:lnTo>
                  <a:pt x="322255" y="61145"/>
                </a:lnTo>
                <a:lnTo>
                  <a:pt x="329425" y="61903"/>
                </a:lnTo>
                <a:lnTo>
                  <a:pt x="339328" y="62508"/>
                </a:lnTo>
              </a:path>
            </a:pathLst>
          </a:custGeom>
          <a:noFill/>
          <a:ln w="38160">
            <a:solidFill>
              <a:srgbClr val="009300"/>
            </a:solidFill>
            <a:round/>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Constantia"/>
            </a:endParaRPr>
          </a:p>
        </p:txBody>
      </p:sp>
      <p:sp>
        <p:nvSpPr>
          <p:cNvPr id="384" name="SMARTInkAnnotation177"/>
          <p:cNvSpPr/>
          <p:nvPr/>
        </p:nvSpPr>
        <p:spPr>
          <a:xfrm>
            <a:off x="2840040" y="4599000"/>
            <a:ext cx="2125800" cy="98280"/>
          </a:xfrm>
          <a:custGeom>
            <a:avLst/>
            <a:gdLst>
              <a:gd name="textAreaLeft" fmla="*/ 0 w 2125800"/>
              <a:gd name="textAreaRight" fmla="*/ 2126160 w 2125800"/>
              <a:gd name="textAreaTop" fmla="*/ 0 h 98280"/>
              <a:gd name="textAreaBottom" fmla="*/ 98640 h 98280"/>
            </a:gdLst>
            <a:ahLst/>
            <a:rect l="textAreaLeft" t="textAreaTop" r="textAreaRight" b="textAreaBottom"/>
            <a:pathLst>
              <a:path w="2125267" h="98224">
                <a:moveTo>
                  <a:pt x="0" y="0"/>
                </a:moveTo>
                <a:lnTo>
                  <a:pt x="12429" y="0"/>
                </a:lnTo>
                <a:lnTo>
                  <a:pt x="15231" y="992"/>
                </a:lnTo>
                <a:lnTo>
                  <a:pt x="18092" y="2646"/>
                </a:lnTo>
                <a:lnTo>
                  <a:pt x="20991" y="4740"/>
                </a:lnTo>
                <a:lnTo>
                  <a:pt x="29504" y="7067"/>
                </a:lnTo>
                <a:lnTo>
                  <a:pt x="99434" y="9900"/>
                </a:lnTo>
                <a:lnTo>
                  <a:pt x="107962" y="11561"/>
                </a:lnTo>
                <a:lnTo>
                  <a:pt x="116622" y="13660"/>
                </a:lnTo>
                <a:lnTo>
                  <a:pt x="143034" y="16615"/>
                </a:lnTo>
                <a:lnTo>
                  <a:pt x="201208" y="17750"/>
                </a:lnTo>
                <a:lnTo>
                  <a:pt x="259196" y="20490"/>
                </a:lnTo>
                <a:lnTo>
                  <a:pt x="271024" y="22590"/>
                </a:lnTo>
                <a:lnTo>
                  <a:pt x="306633" y="25545"/>
                </a:lnTo>
                <a:lnTo>
                  <a:pt x="355213" y="27536"/>
                </a:lnTo>
                <a:lnTo>
                  <a:pt x="368769" y="29271"/>
                </a:lnTo>
                <a:lnTo>
                  <a:pt x="382768" y="31420"/>
                </a:lnTo>
                <a:lnTo>
                  <a:pt x="421432" y="34445"/>
                </a:lnTo>
                <a:lnTo>
                  <a:pt x="484686" y="35550"/>
                </a:lnTo>
                <a:lnTo>
                  <a:pt x="542225" y="35685"/>
                </a:lnTo>
                <a:lnTo>
                  <a:pt x="569072" y="38350"/>
                </a:lnTo>
                <a:lnTo>
                  <a:pt x="581788" y="40449"/>
                </a:lnTo>
                <a:lnTo>
                  <a:pt x="637841" y="44811"/>
                </a:lnTo>
                <a:lnTo>
                  <a:pt x="652438" y="46741"/>
                </a:lnTo>
                <a:lnTo>
                  <a:pt x="667131" y="49020"/>
                </a:lnTo>
                <a:lnTo>
                  <a:pt x="694039" y="51553"/>
                </a:lnTo>
                <a:lnTo>
                  <a:pt x="748392" y="53178"/>
                </a:lnTo>
                <a:lnTo>
                  <a:pt x="774804" y="56046"/>
                </a:lnTo>
                <a:lnTo>
                  <a:pt x="787403" y="58199"/>
                </a:lnTo>
                <a:lnTo>
                  <a:pt x="828838" y="61231"/>
                </a:lnTo>
                <a:lnTo>
                  <a:pt x="886291" y="62255"/>
                </a:lnTo>
                <a:lnTo>
                  <a:pt x="939532" y="65104"/>
                </a:lnTo>
                <a:lnTo>
                  <a:pt x="953776" y="67215"/>
                </a:lnTo>
                <a:lnTo>
                  <a:pt x="997527" y="70186"/>
                </a:lnTo>
                <a:lnTo>
                  <a:pt x="1056755" y="72182"/>
                </a:lnTo>
                <a:lnTo>
                  <a:pt x="1071613" y="73918"/>
                </a:lnTo>
                <a:lnTo>
                  <a:pt x="1086479" y="76068"/>
                </a:lnTo>
                <a:lnTo>
                  <a:pt x="1126364" y="79093"/>
                </a:lnTo>
                <a:lnTo>
                  <a:pt x="1190064" y="80199"/>
                </a:lnTo>
                <a:lnTo>
                  <a:pt x="1230367" y="82963"/>
                </a:lnTo>
                <a:lnTo>
                  <a:pt x="1242917" y="85074"/>
                </a:lnTo>
                <a:lnTo>
                  <a:pt x="1279541" y="88046"/>
                </a:lnTo>
                <a:lnTo>
                  <a:pt x="1339403" y="89132"/>
                </a:lnTo>
                <a:lnTo>
                  <a:pt x="1398978" y="90267"/>
                </a:lnTo>
                <a:lnTo>
                  <a:pt x="1410886" y="91928"/>
                </a:lnTo>
                <a:lnTo>
                  <a:pt x="1422794" y="94028"/>
                </a:lnTo>
                <a:lnTo>
                  <a:pt x="1458515" y="96982"/>
                </a:lnTo>
                <a:lnTo>
                  <a:pt x="1522265" y="98117"/>
                </a:lnTo>
                <a:lnTo>
                  <a:pt x="1614910" y="98223"/>
                </a:lnTo>
                <a:lnTo>
                  <a:pt x="1633527" y="95579"/>
                </a:lnTo>
                <a:lnTo>
                  <a:pt x="1642659" y="93485"/>
                </a:lnTo>
                <a:lnTo>
                  <a:pt x="1674473" y="90537"/>
                </a:lnTo>
                <a:lnTo>
                  <a:pt x="1713649" y="88550"/>
                </a:lnTo>
                <a:lnTo>
                  <a:pt x="1722862" y="86814"/>
                </a:lnTo>
                <a:lnTo>
                  <a:pt x="1731981" y="84665"/>
                </a:lnTo>
                <a:lnTo>
                  <a:pt x="1768004" y="80224"/>
                </a:lnTo>
                <a:lnTo>
                  <a:pt x="1776958" y="78287"/>
                </a:lnTo>
                <a:lnTo>
                  <a:pt x="1785905" y="76004"/>
                </a:lnTo>
                <a:lnTo>
                  <a:pt x="1803782" y="73467"/>
                </a:lnTo>
                <a:lnTo>
                  <a:pt x="1866304" y="71556"/>
                </a:lnTo>
                <a:lnTo>
                  <a:pt x="1902024" y="70469"/>
                </a:lnTo>
                <a:lnTo>
                  <a:pt x="1910953" y="68807"/>
                </a:lnTo>
                <a:lnTo>
                  <a:pt x="1919883" y="66707"/>
                </a:lnTo>
                <a:lnTo>
                  <a:pt x="1946672" y="63752"/>
                </a:lnTo>
                <a:lnTo>
                  <a:pt x="2011042" y="62556"/>
                </a:lnTo>
                <a:lnTo>
                  <a:pt x="2109966" y="62507"/>
                </a:lnTo>
                <a:lnTo>
                  <a:pt x="2112089" y="61516"/>
                </a:lnTo>
                <a:lnTo>
                  <a:pt x="2113505" y="59862"/>
                </a:lnTo>
                <a:lnTo>
                  <a:pt x="2114449" y="57767"/>
                </a:lnTo>
                <a:lnTo>
                  <a:pt x="2116071" y="56371"/>
                </a:lnTo>
                <a:lnTo>
                  <a:pt x="2118143" y="55440"/>
                </a:lnTo>
                <a:lnTo>
                  <a:pt x="2125266" y="5357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85" name="SMARTInkAnnotation178"/>
          <p:cNvSpPr/>
          <p:nvPr/>
        </p:nvSpPr>
        <p:spPr>
          <a:xfrm>
            <a:off x="3654360" y="4795920"/>
            <a:ext cx="247680" cy="382680"/>
          </a:xfrm>
          <a:custGeom>
            <a:avLst/>
            <a:gdLst>
              <a:gd name="textAreaLeft" fmla="*/ 0 w 247680"/>
              <a:gd name="textAreaRight" fmla="*/ 248040 w 247680"/>
              <a:gd name="textAreaTop" fmla="*/ 0 h 382680"/>
              <a:gd name="textAreaBottom" fmla="*/ 383040 h 382680"/>
            </a:gdLst>
            <a:ahLst/>
            <a:rect l="textAreaLeft" t="textAreaTop" r="textAreaRight" b="textAreaBottom"/>
            <a:pathLst>
              <a:path w="248596" h="383928">
                <a:moveTo>
                  <a:pt x="239668" y="8928"/>
                </a:moveTo>
                <a:lnTo>
                  <a:pt x="248565" y="8928"/>
                </a:lnTo>
                <a:lnTo>
                  <a:pt x="248595" y="1239"/>
                </a:lnTo>
                <a:lnTo>
                  <a:pt x="247604" y="825"/>
                </a:lnTo>
                <a:lnTo>
                  <a:pt x="240909" y="107"/>
                </a:lnTo>
                <a:lnTo>
                  <a:pt x="235296" y="30"/>
                </a:lnTo>
                <a:lnTo>
                  <a:pt x="209229" y="0"/>
                </a:lnTo>
                <a:lnTo>
                  <a:pt x="202509" y="992"/>
                </a:lnTo>
                <a:lnTo>
                  <a:pt x="196043" y="2645"/>
                </a:lnTo>
                <a:lnTo>
                  <a:pt x="189749" y="4739"/>
                </a:lnTo>
                <a:lnTo>
                  <a:pt x="183568" y="6135"/>
                </a:lnTo>
                <a:lnTo>
                  <a:pt x="177464" y="7066"/>
                </a:lnTo>
                <a:lnTo>
                  <a:pt x="171410" y="7687"/>
                </a:lnTo>
                <a:lnTo>
                  <a:pt x="165389" y="9092"/>
                </a:lnTo>
                <a:lnTo>
                  <a:pt x="159391" y="11022"/>
                </a:lnTo>
                <a:lnTo>
                  <a:pt x="153408" y="13300"/>
                </a:lnTo>
                <a:lnTo>
                  <a:pt x="147435" y="15811"/>
                </a:lnTo>
                <a:lnTo>
                  <a:pt x="141468" y="18478"/>
                </a:lnTo>
                <a:lnTo>
                  <a:pt x="129547" y="24086"/>
                </a:lnTo>
                <a:lnTo>
                  <a:pt x="99772" y="38729"/>
                </a:lnTo>
                <a:lnTo>
                  <a:pt x="92826" y="41694"/>
                </a:lnTo>
                <a:lnTo>
                  <a:pt x="85218" y="44662"/>
                </a:lnTo>
                <a:lnTo>
                  <a:pt x="77171" y="47634"/>
                </a:lnTo>
                <a:lnTo>
                  <a:pt x="69821" y="50607"/>
                </a:lnTo>
                <a:lnTo>
                  <a:pt x="62937" y="53581"/>
                </a:lnTo>
                <a:lnTo>
                  <a:pt x="56363" y="56555"/>
                </a:lnTo>
                <a:lnTo>
                  <a:pt x="50988" y="59531"/>
                </a:lnTo>
                <a:lnTo>
                  <a:pt x="46413" y="62507"/>
                </a:lnTo>
                <a:lnTo>
                  <a:pt x="42371" y="65483"/>
                </a:lnTo>
                <a:lnTo>
                  <a:pt x="37691" y="68459"/>
                </a:lnTo>
                <a:lnTo>
                  <a:pt x="32587" y="71436"/>
                </a:lnTo>
                <a:lnTo>
                  <a:pt x="27200" y="74412"/>
                </a:lnTo>
                <a:lnTo>
                  <a:pt x="22616" y="77388"/>
                </a:lnTo>
                <a:lnTo>
                  <a:pt x="14878" y="83341"/>
                </a:lnTo>
                <a:lnTo>
                  <a:pt x="12417" y="86318"/>
                </a:lnTo>
                <a:lnTo>
                  <a:pt x="10777" y="89295"/>
                </a:lnTo>
                <a:lnTo>
                  <a:pt x="9683" y="92271"/>
                </a:lnTo>
                <a:lnTo>
                  <a:pt x="5823" y="98224"/>
                </a:lnTo>
                <a:lnTo>
                  <a:pt x="0" y="105390"/>
                </a:lnTo>
                <a:lnTo>
                  <a:pt x="515" y="106970"/>
                </a:lnTo>
                <a:lnTo>
                  <a:pt x="4986" y="113935"/>
                </a:lnTo>
                <a:lnTo>
                  <a:pt x="6381" y="119428"/>
                </a:lnTo>
                <a:lnTo>
                  <a:pt x="8737" y="122282"/>
                </a:lnTo>
                <a:lnTo>
                  <a:pt x="12293" y="125177"/>
                </a:lnTo>
                <a:lnTo>
                  <a:pt x="16647" y="128099"/>
                </a:lnTo>
                <a:lnTo>
                  <a:pt x="24131" y="131346"/>
                </a:lnTo>
                <a:lnTo>
                  <a:pt x="31757" y="133781"/>
                </a:lnTo>
                <a:lnTo>
                  <a:pt x="36569" y="135820"/>
                </a:lnTo>
                <a:lnTo>
                  <a:pt x="41761" y="138170"/>
                </a:lnTo>
                <a:lnTo>
                  <a:pt x="58549" y="146220"/>
                </a:lnTo>
                <a:lnTo>
                  <a:pt x="93857" y="163741"/>
                </a:lnTo>
                <a:lnTo>
                  <a:pt x="98804" y="166707"/>
                </a:lnTo>
                <a:lnTo>
                  <a:pt x="103095" y="169677"/>
                </a:lnTo>
                <a:lnTo>
                  <a:pt x="106948" y="172648"/>
                </a:lnTo>
                <a:lnTo>
                  <a:pt x="111500" y="175622"/>
                </a:lnTo>
                <a:lnTo>
                  <a:pt x="116520" y="178596"/>
                </a:lnTo>
                <a:lnTo>
                  <a:pt x="121850" y="181571"/>
                </a:lnTo>
                <a:lnTo>
                  <a:pt x="127389" y="185539"/>
                </a:lnTo>
                <a:lnTo>
                  <a:pt x="133065" y="190168"/>
                </a:lnTo>
                <a:lnTo>
                  <a:pt x="138834" y="195239"/>
                </a:lnTo>
                <a:lnTo>
                  <a:pt x="142680" y="200604"/>
                </a:lnTo>
                <a:lnTo>
                  <a:pt x="146953" y="211856"/>
                </a:lnTo>
                <a:lnTo>
                  <a:pt x="151498" y="223472"/>
                </a:lnTo>
                <a:lnTo>
                  <a:pt x="155833" y="235250"/>
                </a:lnTo>
                <a:lnTo>
                  <a:pt x="157760" y="247098"/>
                </a:lnTo>
                <a:lnTo>
                  <a:pt x="158274" y="254028"/>
                </a:lnTo>
                <a:lnTo>
                  <a:pt x="158616" y="261625"/>
                </a:lnTo>
                <a:lnTo>
                  <a:pt x="158844" y="269666"/>
                </a:lnTo>
                <a:lnTo>
                  <a:pt x="158005" y="277011"/>
                </a:lnTo>
                <a:lnTo>
                  <a:pt x="156452" y="283892"/>
                </a:lnTo>
                <a:lnTo>
                  <a:pt x="154425" y="290463"/>
                </a:lnTo>
                <a:lnTo>
                  <a:pt x="153074" y="296829"/>
                </a:lnTo>
                <a:lnTo>
                  <a:pt x="152174" y="303057"/>
                </a:lnTo>
                <a:lnTo>
                  <a:pt x="151573" y="309194"/>
                </a:lnTo>
                <a:lnTo>
                  <a:pt x="149188" y="315269"/>
                </a:lnTo>
                <a:lnTo>
                  <a:pt x="145614" y="321303"/>
                </a:lnTo>
                <a:lnTo>
                  <a:pt x="141246" y="327311"/>
                </a:lnTo>
                <a:lnTo>
                  <a:pt x="133748" y="339277"/>
                </a:lnTo>
                <a:lnTo>
                  <a:pt x="127108" y="350218"/>
                </a:lnTo>
                <a:lnTo>
                  <a:pt x="120850" y="358388"/>
                </a:lnTo>
                <a:lnTo>
                  <a:pt x="116800" y="361956"/>
                </a:lnTo>
                <a:lnTo>
                  <a:pt x="112115" y="365327"/>
                </a:lnTo>
                <a:lnTo>
                  <a:pt x="107008" y="368566"/>
                </a:lnTo>
                <a:lnTo>
                  <a:pt x="102611" y="371718"/>
                </a:lnTo>
                <a:lnTo>
                  <a:pt x="95079" y="377865"/>
                </a:lnTo>
                <a:lnTo>
                  <a:pt x="90690" y="379902"/>
                </a:lnTo>
                <a:lnTo>
                  <a:pt x="85779" y="381259"/>
                </a:lnTo>
                <a:lnTo>
                  <a:pt x="80521" y="382164"/>
                </a:lnTo>
                <a:lnTo>
                  <a:pt x="76023" y="382767"/>
                </a:lnTo>
                <a:lnTo>
                  <a:pt x="68379" y="383438"/>
                </a:lnTo>
                <a:lnTo>
                  <a:pt x="61675" y="383736"/>
                </a:lnTo>
                <a:lnTo>
                  <a:pt x="54396" y="383869"/>
                </a:lnTo>
                <a:lnTo>
                  <a:pt x="44547" y="383927"/>
                </a:lnTo>
                <a:lnTo>
                  <a:pt x="40134" y="382951"/>
                </a:lnTo>
                <a:lnTo>
                  <a:pt x="32585" y="379220"/>
                </a:lnTo>
                <a:lnTo>
                  <a:pt x="25924" y="374254"/>
                </a:lnTo>
                <a:lnTo>
                  <a:pt x="22757" y="371541"/>
                </a:lnTo>
                <a:lnTo>
                  <a:pt x="20647" y="368740"/>
                </a:lnTo>
                <a:lnTo>
                  <a:pt x="16685" y="360058"/>
                </a:lnTo>
                <a:lnTo>
                  <a:pt x="10660" y="351201"/>
                </a:lnTo>
                <a:lnTo>
                  <a:pt x="7913" y="341086"/>
                </a:lnTo>
                <a:lnTo>
                  <a:pt x="7496" y="330396"/>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86" name="SMARTInkAnnotation179"/>
          <p:cNvSpPr/>
          <p:nvPr/>
        </p:nvSpPr>
        <p:spPr>
          <a:xfrm>
            <a:off x="3902040" y="5153040"/>
            <a:ext cx="360" cy="7920"/>
          </a:xfrm>
          <a:custGeom>
            <a:avLst/>
            <a:gdLst>
              <a:gd name="textAreaLeft" fmla="*/ 0 w 360"/>
              <a:gd name="textAreaRight" fmla="*/ 720 w 360"/>
              <a:gd name="textAreaTop" fmla="*/ 0 h 7920"/>
              <a:gd name="textAreaBottom" fmla="*/ 8280 h 7920"/>
            </a:gdLst>
            <a:ahLst/>
            <a:rect l="textAreaLeft" t="textAreaTop" r="textAreaRight" b="textAreaBottom"/>
            <a:pathLst>
              <a:path w="1" h="8930">
                <a:moveTo>
                  <a:pt x="0" y="8929"/>
                </a:moveTo>
                <a:lnTo>
                  <a:pt x="0" y="0"/>
                </a:lnTo>
              </a:path>
            </a:pathLst>
          </a:custGeom>
          <a:noFill/>
          <a:ln w="38160">
            <a:solidFill>
              <a:srgbClr val="009300"/>
            </a:solidFill>
            <a:round/>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Constantia"/>
            </a:endParaRPr>
          </a:p>
        </p:txBody>
      </p:sp>
      <p:sp>
        <p:nvSpPr>
          <p:cNvPr id="387" name="SMARTInkAnnotation180"/>
          <p:cNvSpPr/>
          <p:nvPr/>
        </p:nvSpPr>
        <p:spPr>
          <a:xfrm>
            <a:off x="3978360" y="4853160"/>
            <a:ext cx="307800" cy="342720"/>
          </a:xfrm>
          <a:custGeom>
            <a:avLst/>
            <a:gdLst>
              <a:gd name="textAreaLeft" fmla="*/ 0 w 307800"/>
              <a:gd name="textAreaRight" fmla="*/ 308160 w 307800"/>
              <a:gd name="textAreaTop" fmla="*/ 0 h 342720"/>
              <a:gd name="textAreaBottom" fmla="*/ 343080 h 342720"/>
            </a:gdLst>
            <a:ahLst/>
            <a:rect l="textAreaLeft" t="textAreaTop" r="textAreaRight" b="textAreaBottom"/>
            <a:pathLst>
              <a:path w="306965" h="342310">
                <a:moveTo>
                  <a:pt x="227123" y="22686"/>
                </a:moveTo>
                <a:lnTo>
                  <a:pt x="214695" y="10258"/>
                </a:lnTo>
                <a:lnTo>
                  <a:pt x="210899" y="8447"/>
                </a:lnTo>
                <a:lnTo>
                  <a:pt x="201392" y="6435"/>
                </a:lnTo>
                <a:lnTo>
                  <a:pt x="193198" y="2896"/>
                </a:lnTo>
                <a:lnTo>
                  <a:pt x="189624" y="563"/>
                </a:lnTo>
                <a:lnTo>
                  <a:pt x="185256" y="0"/>
                </a:lnTo>
                <a:lnTo>
                  <a:pt x="180360" y="617"/>
                </a:lnTo>
                <a:lnTo>
                  <a:pt x="175112" y="2020"/>
                </a:lnTo>
                <a:lnTo>
                  <a:pt x="169629" y="2955"/>
                </a:lnTo>
                <a:lnTo>
                  <a:pt x="163989" y="3579"/>
                </a:lnTo>
                <a:lnTo>
                  <a:pt x="158245" y="3995"/>
                </a:lnTo>
                <a:lnTo>
                  <a:pt x="152431" y="5264"/>
                </a:lnTo>
                <a:lnTo>
                  <a:pt x="146570" y="7102"/>
                </a:lnTo>
                <a:lnTo>
                  <a:pt x="140679" y="9320"/>
                </a:lnTo>
                <a:lnTo>
                  <a:pt x="134767" y="11792"/>
                </a:lnTo>
                <a:lnTo>
                  <a:pt x="128842" y="14431"/>
                </a:lnTo>
                <a:lnTo>
                  <a:pt x="122907" y="17182"/>
                </a:lnTo>
                <a:lnTo>
                  <a:pt x="116966" y="21001"/>
                </a:lnTo>
                <a:lnTo>
                  <a:pt x="111021" y="25532"/>
                </a:lnTo>
                <a:lnTo>
                  <a:pt x="105074" y="30536"/>
                </a:lnTo>
                <a:lnTo>
                  <a:pt x="99124" y="35857"/>
                </a:lnTo>
                <a:lnTo>
                  <a:pt x="87221" y="47061"/>
                </a:lnTo>
                <a:lnTo>
                  <a:pt x="64624" y="69265"/>
                </a:lnTo>
                <a:lnTo>
                  <a:pt x="58267" y="76559"/>
                </a:lnTo>
                <a:lnTo>
                  <a:pt x="53037" y="83406"/>
                </a:lnTo>
                <a:lnTo>
                  <a:pt x="32773" y="113393"/>
                </a:lnTo>
                <a:lnTo>
                  <a:pt x="28104" y="121853"/>
                </a:lnTo>
                <a:lnTo>
                  <a:pt x="23998" y="130469"/>
                </a:lnTo>
                <a:lnTo>
                  <a:pt x="20269" y="139190"/>
                </a:lnTo>
                <a:lnTo>
                  <a:pt x="16791" y="148972"/>
                </a:lnTo>
                <a:lnTo>
                  <a:pt x="13480" y="159464"/>
                </a:lnTo>
                <a:lnTo>
                  <a:pt x="7155" y="180710"/>
                </a:lnTo>
                <a:lnTo>
                  <a:pt x="1037" y="200075"/>
                </a:lnTo>
                <a:lnTo>
                  <a:pt x="0" y="209407"/>
                </a:lnTo>
                <a:lnTo>
                  <a:pt x="302" y="218604"/>
                </a:lnTo>
                <a:lnTo>
                  <a:pt x="1495" y="227712"/>
                </a:lnTo>
                <a:lnTo>
                  <a:pt x="3282" y="236760"/>
                </a:lnTo>
                <a:lnTo>
                  <a:pt x="5467" y="245770"/>
                </a:lnTo>
                <a:lnTo>
                  <a:pt x="7915" y="254752"/>
                </a:lnTo>
                <a:lnTo>
                  <a:pt x="10539" y="262725"/>
                </a:lnTo>
                <a:lnTo>
                  <a:pt x="13281" y="270025"/>
                </a:lnTo>
                <a:lnTo>
                  <a:pt x="16101" y="276875"/>
                </a:lnTo>
                <a:lnTo>
                  <a:pt x="18973" y="284419"/>
                </a:lnTo>
                <a:lnTo>
                  <a:pt x="24810" y="300739"/>
                </a:lnTo>
                <a:lnTo>
                  <a:pt x="28748" y="307273"/>
                </a:lnTo>
                <a:lnTo>
                  <a:pt x="33357" y="312622"/>
                </a:lnTo>
                <a:lnTo>
                  <a:pt x="38415" y="317180"/>
                </a:lnTo>
                <a:lnTo>
                  <a:pt x="44763" y="321210"/>
                </a:lnTo>
                <a:lnTo>
                  <a:pt x="51972" y="324890"/>
                </a:lnTo>
                <a:lnTo>
                  <a:pt x="66927" y="331624"/>
                </a:lnTo>
                <a:lnTo>
                  <a:pt x="80188" y="337924"/>
                </a:lnTo>
                <a:lnTo>
                  <a:pt x="87495" y="340001"/>
                </a:lnTo>
                <a:lnTo>
                  <a:pt x="95342" y="341386"/>
                </a:lnTo>
                <a:lnTo>
                  <a:pt x="103550" y="342309"/>
                </a:lnTo>
                <a:lnTo>
                  <a:pt x="111007" y="341932"/>
                </a:lnTo>
                <a:lnTo>
                  <a:pt x="117962" y="340688"/>
                </a:lnTo>
                <a:lnTo>
                  <a:pt x="124584" y="338868"/>
                </a:lnTo>
                <a:lnTo>
                  <a:pt x="139878" y="334199"/>
                </a:lnTo>
                <a:lnTo>
                  <a:pt x="148124" y="331564"/>
                </a:lnTo>
                <a:lnTo>
                  <a:pt x="156598" y="327823"/>
                </a:lnTo>
                <a:lnTo>
                  <a:pt x="165223" y="323346"/>
                </a:lnTo>
                <a:lnTo>
                  <a:pt x="173950" y="318376"/>
                </a:lnTo>
                <a:lnTo>
                  <a:pt x="182745" y="313078"/>
                </a:lnTo>
                <a:lnTo>
                  <a:pt x="200454" y="301900"/>
                </a:lnTo>
                <a:lnTo>
                  <a:pt x="208352" y="295149"/>
                </a:lnTo>
                <a:lnTo>
                  <a:pt x="215602" y="287672"/>
                </a:lnTo>
                <a:lnTo>
                  <a:pt x="222418" y="279710"/>
                </a:lnTo>
                <a:lnTo>
                  <a:pt x="228948" y="271426"/>
                </a:lnTo>
                <a:lnTo>
                  <a:pt x="235285" y="262927"/>
                </a:lnTo>
                <a:lnTo>
                  <a:pt x="241494" y="254284"/>
                </a:lnTo>
                <a:lnTo>
                  <a:pt x="247618" y="244554"/>
                </a:lnTo>
                <a:lnTo>
                  <a:pt x="253684" y="234097"/>
                </a:lnTo>
                <a:lnTo>
                  <a:pt x="259714" y="223158"/>
                </a:lnTo>
                <a:lnTo>
                  <a:pt x="264725" y="212889"/>
                </a:lnTo>
                <a:lnTo>
                  <a:pt x="269058" y="203066"/>
                </a:lnTo>
                <a:lnTo>
                  <a:pt x="272939" y="193541"/>
                </a:lnTo>
                <a:lnTo>
                  <a:pt x="276519" y="184214"/>
                </a:lnTo>
                <a:lnTo>
                  <a:pt x="283142" y="165914"/>
                </a:lnTo>
                <a:lnTo>
                  <a:pt x="292449" y="138876"/>
                </a:lnTo>
                <a:lnTo>
                  <a:pt x="295478" y="130904"/>
                </a:lnTo>
                <a:lnTo>
                  <a:pt x="298490" y="123605"/>
                </a:lnTo>
                <a:lnTo>
                  <a:pt x="301490" y="116754"/>
                </a:lnTo>
                <a:lnTo>
                  <a:pt x="303490" y="109211"/>
                </a:lnTo>
                <a:lnTo>
                  <a:pt x="304824" y="101205"/>
                </a:lnTo>
                <a:lnTo>
                  <a:pt x="305713" y="92891"/>
                </a:lnTo>
                <a:lnTo>
                  <a:pt x="306305" y="85365"/>
                </a:lnTo>
                <a:lnTo>
                  <a:pt x="306700" y="78363"/>
                </a:lnTo>
                <a:lnTo>
                  <a:pt x="306964" y="71710"/>
                </a:lnTo>
                <a:lnTo>
                  <a:pt x="306147" y="66282"/>
                </a:lnTo>
                <a:lnTo>
                  <a:pt x="302594" y="57607"/>
                </a:lnTo>
                <a:lnTo>
                  <a:pt x="300353" y="50443"/>
                </a:lnTo>
                <a:lnTo>
                  <a:pt x="299756" y="47144"/>
                </a:lnTo>
                <a:lnTo>
                  <a:pt x="296446" y="40832"/>
                </a:lnTo>
                <a:lnTo>
                  <a:pt x="294175" y="37760"/>
                </a:lnTo>
                <a:lnTo>
                  <a:pt x="291668" y="35712"/>
                </a:lnTo>
                <a:lnTo>
                  <a:pt x="289004" y="34347"/>
                </a:lnTo>
                <a:lnTo>
                  <a:pt x="286237" y="33436"/>
                </a:lnTo>
                <a:lnTo>
                  <a:pt x="284392" y="31837"/>
                </a:lnTo>
                <a:lnTo>
                  <a:pt x="283161" y="29779"/>
                </a:lnTo>
                <a:lnTo>
                  <a:pt x="282341" y="27414"/>
                </a:lnTo>
                <a:lnTo>
                  <a:pt x="280803" y="25838"/>
                </a:lnTo>
                <a:lnTo>
                  <a:pt x="278784" y="24788"/>
                </a:lnTo>
                <a:lnTo>
                  <a:pt x="271772" y="22686"/>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88" name="SMARTInkAnnotation181"/>
          <p:cNvSpPr/>
          <p:nvPr/>
        </p:nvSpPr>
        <p:spPr>
          <a:xfrm>
            <a:off x="4314960" y="5072040"/>
            <a:ext cx="150840" cy="204840"/>
          </a:xfrm>
          <a:custGeom>
            <a:avLst/>
            <a:gdLst>
              <a:gd name="textAreaLeft" fmla="*/ 0 w 150840"/>
              <a:gd name="textAreaRight" fmla="*/ 151200 w 150840"/>
              <a:gd name="textAreaTop" fmla="*/ 0 h 204840"/>
              <a:gd name="textAreaBottom" fmla="*/ 205200 h 204840"/>
            </a:gdLst>
            <a:ahLst/>
            <a:rect l="textAreaLeft" t="textAreaTop" r="textAreaRight" b="textAreaBottom"/>
            <a:pathLst>
              <a:path w="150409" h="205258">
                <a:moveTo>
                  <a:pt x="150408" y="26667"/>
                </a:moveTo>
                <a:lnTo>
                  <a:pt x="145668" y="21927"/>
                </a:lnTo>
                <a:lnTo>
                  <a:pt x="144271" y="19538"/>
                </a:lnTo>
                <a:lnTo>
                  <a:pt x="142720" y="14238"/>
                </a:lnTo>
                <a:lnTo>
                  <a:pt x="141314" y="12428"/>
                </a:lnTo>
                <a:lnTo>
                  <a:pt x="139385" y="11221"/>
                </a:lnTo>
                <a:lnTo>
                  <a:pt x="137106" y="10417"/>
                </a:lnTo>
                <a:lnTo>
                  <a:pt x="135587" y="8889"/>
                </a:lnTo>
                <a:lnTo>
                  <a:pt x="134574" y="6878"/>
                </a:lnTo>
                <a:lnTo>
                  <a:pt x="133899" y="4544"/>
                </a:lnTo>
                <a:lnTo>
                  <a:pt x="132457" y="2989"/>
                </a:lnTo>
                <a:lnTo>
                  <a:pt x="130503" y="1952"/>
                </a:lnTo>
                <a:lnTo>
                  <a:pt x="128208" y="1261"/>
                </a:lnTo>
                <a:lnTo>
                  <a:pt x="125687" y="800"/>
                </a:lnTo>
                <a:lnTo>
                  <a:pt x="123013" y="492"/>
                </a:lnTo>
                <a:lnTo>
                  <a:pt x="120239" y="287"/>
                </a:lnTo>
                <a:lnTo>
                  <a:pt x="117397" y="151"/>
                </a:lnTo>
                <a:lnTo>
                  <a:pt x="111594" y="0"/>
                </a:lnTo>
                <a:lnTo>
                  <a:pt x="108657" y="951"/>
                </a:lnTo>
                <a:lnTo>
                  <a:pt x="105706" y="2578"/>
                </a:lnTo>
                <a:lnTo>
                  <a:pt x="102748" y="4654"/>
                </a:lnTo>
                <a:lnTo>
                  <a:pt x="99783" y="6039"/>
                </a:lnTo>
                <a:lnTo>
                  <a:pt x="96814" y="6962"/>
                </a:lnTo>
                <a:lnTo>
                  <a:pt x="93843" y="7577"/>
                </a:lnTo>
                <a:lnTo>
                  <a:pt x="89878" y="8979"/>
                </a:lnTo>
                <a:lnTo>
                  <a:pt x="85250" y="10907"/>
                </a:lnTo>
                <a:lnTo>
                  <a:pt x="80181" y="13183"/>
                </a:lnTo>
                <a:lnTo>
                  <a:pt x="75809" y="15694"/>
                </a:lnTo>
                <a:lnTo>
                  <a:pt x="71902" y="18359"/>
                </a:lnTo>
                <a:lnTo>
                  <a:pt x="68305" y="21129"/>
                </a:lnTo>
                <a:lnTo>
                  <a:pt x="65908" y="23967"/>
                </a:lnTo>
                <a:lnTo>
                  <a:pt x="64309" y="26852"/>
                </a:lnTo>
                <a:lnTo>
                  <a:pt x="62532" y="32702"/>
                </a:lnTo>
                <a:lnTo>
                  <a:pt x="61743" y="38610"/>
                </a:lnTo>
                <a:lnTo>
                  <a:pt x="61392" y="44542"/>
                </a:lnTo>
                <a:lnTo>
                  <a:pt x="61298" y="47513"/>
                </a:lnTo>
                <a:lnTo>
                  <a:pt x="61128" y="73052"/>
                </a:lnTo>
                <a:lnTo>
                  <a:pt x="62115" y="77434"/>
                </a:lnTo>
                <a:lnTo>
                  <a:pt x="63764" y="82340"/>
                </a:lnTo>
                <a:lnTo>
                  <a:pt x="65857" y="87595"/>
                </a:lnTo>
                <a:lnTo>
                  <a:pt x="68244" y="92091"/>
                </a:lnTo>
                <a:lnTo>
                  <a:pt x="70827" y="96079"/>
                </a:lnTo>
                <a:lnTo>
                  <a:pt x="73542" y="99731"/>
                </a:lnTo>
                <a:lnTo>
                  <a:pt x="76344" y="104150"/>
                </a:lnTo>
                <a:lnTo>
                  <a:pt x="79204" y="109080"/>
                </a:lnTo>
                <a:lnTo>
                  <a:pt x="82103" y="114351"/>
                </a:lnTo>
                <a:lnTo>
                  <a:pt x="85027" y="118858"/>
                </a:lnTo>
                <a:lnTo>
                  <a:pt x="87970" y="122854"/>
                </a:lnTo>
                <a:lnTo>
                  <a:pt x="90924" y="126511"/>
                </a:lnTo>
                <a:lnTo>
                  <a:pt x="93885" y="130932"/>
                </a:lnTo>
                <a:lnTo>
                  <a:pt x="96851" y="135865"/>
                </a:lnTo>
                <a:lnTo>
                  <a:pt x="99820" y="141137"/>
                </a:lnTo>
                <a:lnTo>
                  <a:pt x="102793" y="145645"/>
                </a:lnTo>
                <a:lnTo>
                  <a:pt x="105766" y="149642"/>
                </a:lnTo>
                <a:lnTo>
                  <a:pt x="108741" y="153299"/>
                </a:lnTo>
                <a:lnTo>
                  <a:pt x="110723" y="156728"/>
                </a:lnTo>
                <a:lnTo>
                  <a:pt x="112045" y="160008"/>
                </a:lnTo>
                <a:lnTo>
                  <a:pt x="112927" y="163186"/>
                </a:lnTo>
                <a:lnTo>
                  <a:pt x="116552" y="169363"/>
                </a:lnTo>
                <a:lnTo>
                  <a:pt x="118908" y="172399"/>
                </a:lnTo>
                <a:lnTo>
                  <a:pt x="121526" y="178418"/>
                </a:lnTo>
                <a:lnTo>
                  <a:pt x="122224" y="181413"/>
                </a:lnTo>
                <a:lnTo>
                  <a:pt x="121697" y="184401"/>
                </a:lnTo>
                <a:lnTo>
                  <a:pt x="118465" y="190367"/>
                </a:lnTo>
                <a:lnTo>
                  <a:pt x="115808" y="194564"/>
                </a:lnTo>
                <a:lnTo>
                  <a:pt x="112542" y="198191"/>
                </a:lnTo>
                <a:lnTo>
                  <a:pt x="110280" y="200548"/>
                </a:lnTo>
                <a:lnTo>
                  <a:pt x="107781" y="202119"/>
                </a:lnTo>
                <a:lnTo>
                  <a:pt x="105123" y="203166"/>
                </a:lnTo>
                <a:lnTo>
                  <a:pt x="102359" y="203864"/>
                </a:lnTo>
                <a:lnTo>
                  <a:pt x="98532" y="204330"/>
                </a:lnTo>
                <a:lnTo>
                  <a:pt x="93996" y="204640"/>
                </a:lnTo>
                <a:lnTo>
                  <a:pt x="84656" y="204985"/>
                </a:lnTo>
                <a:lnTo>
                  <a:pt x="77199" y="205138"/>
                </a:lnTo>
                <a:lnTo>
                  <a:pt x="40675" y="205257"/>
                </a:lnTo>
                <a:lnTo>
                  <a:pt x="37565" y="204267"/>
                </a:lnTo>
                <a:lnTo>
                  <a:pt x="34500" y="202614"/>
                </a:lnTo>
                <a:lnTo>
                  <a:pt x="31464" y="200519"/>
                </a:lnTo>
                <a:lnTo>
                  <a:pt x="28448" y="199123"/>
                </a:lnTo>
                <a:lnTo>
                  <a:pt x="25445" y="198192"/>
                </a:lnTo>
                <a:lnTo>
                  <a:pt x="22451" y="197572"/>
                </a:lnTo>
                <a:lnTo>
                  <a:pt x="19463" y="197159"/>
                </a:lnTo>
                <a:lnTo>
                  <a:pt x="16479" y="196883"/>
                </a:lnTo>
                <a:lnTo>
                  <a:pt x="9301" y="196440"/>
                </a:lnTo>
                <a:lnTo>
                  <a:pt x="5673" y="196380"/>
                </a:lnTo>
                <a:lnTo>
                  <a:pt x="0" y="196341"/>
                </a:lnTo>
                <a:lnTo>
                  <a:pt x="7533" y="196331"/>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89" name="SMARTInkAnnotation182"/>
          <p:cNvSpPr/>
          <p:nvPr/>
        </p:nvSpPr>
        <p:spPr>
          <a:xfrm>
            <a:off x="5126040" y="4483080"/>
            <a:ext cx="303120" cy="17640"/>
          </a:xfrm>
          <a:custGeom>
            <a:avLst/>
            <a:gdLst>
              <a:gd name="textAreaLeft" fmla="*/ 0 w 303120"/>
              <a:gd name="textAreaRight" fmla="*/ 303480 w 303120"/>
              <a:gd name="textAreaTop" fmla="*/ 0 h 17640"/>
              <a:gd name="textAreaBottom" fmla="*/ 18000 h 17640"/>
            </a:gdLst>
            <a:ahLst/>
            <a:rect l="textAreaLeft" t="textAreaTop" r="textAreaRight" b="textAreaBottom"/>
            <a:pathLst>
              <a:path w="303611" h="17860">
                <a:moveTo>
                  <a:pt x="0" y="17859"/>
                </a:moveTo>
                <a:lnTo>
                  <a:pt x="4741" y="17859"/>
                </a:lnTo>
                <a:lnTo>
                  <a:pt x="7130" y="16867"/>
                </a:lnTo>
                <a:lnTo>
                  <a:pt x="9714" y="15214"/>
                </a:lnTo>
                <a:lnTo>
                  <a:pt x="12429" y="13119"/>
                </a:lnTo>
                <a:lnTo>
                  <a:pt x="16224" y="11723"/>
                </a:lnTo>
                <a:lnTo>
                  <a:pt x="20738" y="10791"/>
                </a:lnTo>
                <a:lnTo>
                  <a:pt x="25732" y="10171"/>
                </a:lnTo>
                <a:lnTo>
                  <a:pt x="31045" y="8765"/>
                </a:lnTo>
                <a:lnTo>
                  <a:pt x="36571" y="6835"/>
                </a:lnTo>
                <a:lnTo>
                  <a:pt x="42241" y="4557"/>
                </a:lnTo>
                <a:lnTo>
                  <a:pt x="48005" y="3038"/>
                </a:lnTo>
                <a:lnTo>
                  <a:pt x="53831" y="2025"/>
                </a:lnTo>
                <a:lnTo>
                  <a:pt x="59700" y="1350"/>
                </a:lnTo>
                <a:lnTo>
                  <a:pt x="65597" y="900"/>
                </a:lnTo>
                <a:lnTo>
                  <a:pt x="71512" y="600"/>
                </a:lnTo>
                <a:lnTo>
                  <a:pt x="77441" y="400"/>
                </a:lnTo>
                <a:lnTo>
                  <a:pt x="100005" y="119"/>
                </a:lnTo>
                <a:lnTo>
                  <a:pt x="303610" y="0"/>
                </a:lnTo>
              </a:path>
            </a:pathLst>
          </a:custGeom>
          <a:noFill/>
          <a:ln w="38160">
            <a:solidFill>
              <a:srgbClr val="009300"/>
            </a:solidFill>
            <a:round/>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Constantia"/>
            </a:endParaRPr>
          </a:p>
        </p:txBody>
      </p:sp>
      <p:sp>
        <p:nvSpPr>
          <p:cNvPr id="390" name="SMARTInkAnnotation183"/>
          <p:cNvSpPr/>
          <p:nvPr/>
        </p:nvSpPr>
        <p:spPr>
          <a:xfrm>
            <a:off x="5197320" y="4653000"/>
            <a:ext cx="285840" cy="7920"/>
          </a:xfrm>
          <a:custGeom>
            <a:avLst/>
            <a:gdLst>
              <a:gd name="textAreaLeft" fmla="*/ 0 w 285840"/>
              <a:gd name="textAreaRight" fmla="*/ 286200 w 285840"/>
              <a:gd name="textAreaTop" fmla="*/ 0 h 7920"/>
              <a:gd name="textAreaBottom" fmla="*/ 8280 h 7920"/>
            </a:gdLst>
            <a:ahLst/>
            <a:rect l="textAreaLeft" t="textAreaTop" r="textAreaRight" b="textAreaBottom"/>
            <a:pathLst>
              <a:path w="285751" h="8930">
                <a:moveTo>
                  <a:pt x="0" y="0"/>
                </a:moveTo>
                <a:lnTo>
                  <a:pt x="169678" y="0"/>
                </a:lnTo>
                <a:lnTo>
                  <a:pt x="178603" y="992"/>
                </a:lnTo>
                <a:lnTo>
                  <a:pt x="187530" y="2646"/>
                </a:lnTo>
                <a:lnTo>
                  <a:pt x="196457" y="4740"/>
                </a:lnTo>
                <a:lnTo>
                  <a:pt x="204393" y="6137"/>
                </a:lnTo>
                <a:lnTo>
                  <a:pt x="211668" y="7067"/>
                </a:lnTo>
                <a:lnTo>
                  <a:pt x="218503" y="7688"/>
                </a:lnTo>
                <a:lnTo>
                  <a:pt x="225043" y="8102"/>
                </a:lnTo>
                <a:lnTo>
                  <a:pt x="237602" y="8561"/>
                </a:lnTo>
                <a:lnTo>
                  <a:pt x="260842" y="8857"/>
                </a:lnTo>
                <a:lnTo>
                  <a:pt x="285750" y="8929"/>
                </a:lnTo>
              </a:path>
            </a:pathLst>
          </a:custGeom>
          <a:noFill/>
          <a:ln w="38160">
            <a:solidFill>
              <a:srgbClr val="009300"/>
            </a:solidFill>
            <a:round/>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Constantia"/>
            </a:endParaRPr>
          </a:p>
        </p:txBody>
      </p:sp>
      <p:sp>
        <p:nvSpPr>
          <p:cNvPr id="391" name="SMARTInkAnnotation184"/>
          <p:cNvSpPr/>
          <p:nvPr/>
        </p:nvSpPr>
        <p:spPr>
          <a:xfrm>
            <a:off x="482760" y="5180040"/>
            <a:ext cx="34920" cy="776160"/>
          </a:xfrm>
          <a:custGeom>
            <a:avLst/>
            <a:gdLst>
              <a:gd name="textAreaLeft" fmla="*/ 0 w 34920"/>
              <a:gd name="textAreaRight" fmla="*/ 35280 w 34920"/>
              <a:gd name="textAreaTop" fmla="*/ 0 h 776160"/>
              <a:gd name="textAreaBottom" fmla="*/ 776520 h 776160"/>
            </a:gdLst>
            <a:ahLst/>
            <a:rect l="textAreaLeft" t="textAreaTop" r="textAreaRight" b="textAreaBottom"/>
            <a:pathLst>
              <a:path w="35719" h="776883">
                <a:moveTo>
                  <a:pt x="0" y="0"/>
                </a:moveTo>
                <a:lnTo>
                  <a:pt x="0" y="4740"/>
                </a:lnTo>
                <a:lnTo>
                  <a:pt x="992" y="7129"/>
                </a:lnTo>
                <a:lnTo>
                  <a:pt x="2645" y="9713"/>
                </a:lnTo>
                <a:lnTo>
                  <a:pt x="4740" y="12428"/>
                </a:lnTo>
                <a:lnTo>
                  <a:pt x="6136" y="17215"/>
                </a:lnTo>
                <a:lnTo>
                  <a:pt x="7067" y="23383"/>
                </a:lnTo>
                <a:lnTo>
                  <a:pt x="7688" y="30471"/>
                </a:lnTo>
                <a:lnTo>
                  <a:pt x="9094" y="37181"/>
                </a:lnTo>
                <a:lnTo>
                  <a:pt x="11023" y="43638"/>
                </a:lnTo>
                <a:lnTo>
                  <a:pt x="13302" y="49928"/>
                </a:lnTo>
                <a:lnTo>
                  <a:pt x="14821" y="57098"/>
                </a:lnTo>
                <a:lnTo>
                  <a:pt x="15834" y="64854"/>
                </a:lnTo>
                <a:lnTo>
                  <a:pt x="16509" y="73002"/>
                </a:lnTo>
                <a:lnTo>
                  <a:pt x="17951" y="82402"/>
                </a:lnTo>
                <a:lnTo>
                  <a:pt x="19905" y="92638"/>
                </a:lnTo>
                <a:lnTo>
                  <a:pt x="22199" y="103430"/>
                </a:lnTo>
                <a:lnTo>
                  <a:pt x="23729" y="114594"/>
                </a:lnTo>
                <a:lnTo>
                  <a:pt x="24749" y="126006"/>
                </a:lnTo>
                <a:lnTo>
                  <a:pt x="25429" y="137582"/>
                </a:lnTo>
                <a:lnTo>
                  <a:pt x="26874" y="150260"/>
                </a:lnTo>
                <a:lnTo>
                  <a:pt x="28830" y="163673"/>
                </a:lnTo>
                <a:lnTo>
                  <a:pt x="31126" y="177576"/>
                </a:lnTo>
                <a:lnTo>
                  <a:pt x="32657" y="190814"/>
                </a:lnTo>
                <a:lnTo>
                  <a:pt x="33678" y="203607"/>
                </a:lnTo>
                <a:lnTo>
                  <a:pt x="34358" y="216105"/>
                </a:lnTo>
                <a:lnTo>
                  <a:pt x="35114" y="243221"/>
                </a:lnTo>
                <a:lnTo>
                  <a:pt x="35716" y="448475"/>
                </a:lnTo>
                <a:lnTo>
                  <a:pt x="35718" y="591921"/>
                </a:lnTo>
                <a:lnTo>
                  <a:pt x="34726" y="603966"/>
                </a:lnTo>
                <a:lnTo>
                  <a:pt x="33073" y="615964"/>
                </a:lnTo>
                <a:lnTo>
                  <a:pt x="30978" y="627931"/>
                </a:lnTo>
                <a:lnTo>
                  <a:pt x="29582" y="638886"/>
                </a:lnTo>
                <a:lnTo>
                  <a:pt x="28651" y="649166"/>
                </a:lnTo>
                <a:lnTo>
                  <a:pt x="27616" y="669518"/>
                </a:lnTo>
                <a:lnTo>
                  <a:pt x="27034" y="701304"/>
                </a:lnTo>
                <a:lnTo>
                  <a:pt x="26790" y="771623"/>
                </a:lnTo>
                <a:lnTo>
                  <a:pt x="27781" y="773377"/>
                </a:lnTo>
                <a:lnTo>
                  <a:pt x="29435" y="774545"/>
                </a:lnTo>
                <a:lnTo>
                  <a:pt x="35718" y="776882"/>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92" name="SMARTInkAnnotation185"/>
          <p:cNvSpPr/>
          <p:nvPr/>
        </p:nvSpPr>
        <p:spPr>
          <a:xfrm>
            <a:off x="517680" y="5037120"/>
            <a:ext cx="361800" cy="338040"/>
          </a:xfrm>
          <a:custGeom>
            <a:avLst/>
            <a:gdLst>
              <a:gd name="textAreaLeft" fmla="*/ 0 w 361800"/>
              <a:gd name="textAreaRight" fmla="*/ 362160 w 361800"/>
              <a:gd name="textAreaTop" fmla="*/ 0 h 338040"/>
              <a:gd name="textAreaBottom" fmla="*/ 338400 h 338040"/>
            </a:gdLst>
            <a:ahLst/>
            <a:rect l="textAreaLeft" t="textAreaTop" r="textAreaRight" b="textAreaBottom"/>
            <a:pathLst>
              <a:path w="361051" h="339139">
                <a:moveTo>
                  <a:pt x="8930" y="35565"/>
                </a:moveTo>
                <a:lnTo>
                  <a:pt x="21359" y="23136"/>
                </a:lnTo>
                <a:lnTo>
                  <a:pt x="32314" y="17474"/>
                </a:lnTo>
                <a:lnTo>
                  <a:pt x="39402" y="14575"/>
                </a:lnTo>
                <a:lnTo>
                  <a:pt x="46112" y="11649"/>
                </a:lnTo>
                <a:lnTo>
                  <a:pt x="58859" y="5754"/>
                </a:lnTo>
                <a:lnTo>
                  <a:pt x="67021" y="3785"/>
                </a:lnTo>
                <a:lnTo>
                  <a:pt x="76431" y="2472"/>
                </a:lnTo>
                <a:lnTo>
                  <a:pt x="86673" y="1597"/>
                </a:lnTo>
                <a:lnTo>
                  <a:pt x="96477" y="1014"/>
                </a:lnTo>
                <a:lnTo>
                  <a:pt x="115309" y="366"/>
                </a:lnTo>
                <a:lnTo>
                  <a:pt x="142645" y="0"/>
                </a:lnTo>
                <a:lnTo>
                  <a:pt x="152644" y="941"/>
                </a:lnTo>
                <a:lnTo>
                  <a:pt x="163278" y="2561"/>
                </a:lnTo>
                <a:lnTo>
                  <a:pt x="174337" y="4632"/>
                </a:lnTo>
                <a:lnTo>
                  <a:pt x="184686" y="7006"/>
                </a:lnTo>
                <a:lnTo>
                  <a:pt x="194561" y="9581"/>
                </a:lnTo>
                <a:lnTo>
                  <a:pt x="214464" y="15086"/>
                </a:lnTo>
                <a:lnTo>
                  <a:pt x="236539" y="20841"/>
                </a:lnTo>
                <a:lnTo>
                  <a:pt x="246990" y="24757"/>
                </a:lnTo>
                <a:lnTo>
                  <a:pt x="256933" y="29352"/>
                </a:lnTo>
                <a:lnTo>
                  <a:pt x="266539" y="34399"/>
                </a:lnTo>
                <a:lnTo>
                  <a:pt x="274927" y="39749"/>
                </a:lnTo>
                <a:lnTo>
                  <a:pt x="282504" y="45299"/>
                </a:lnTo>
                <a:lnTo>
                  <a:pt x="289539" y="50985"/>
                </a:lnTo>
                <a:lnTo>
                  <a:pt x="296214" y="56759"/>
                </a:lnTo>
                <a:lnTo>
                  <a:pt x="302648" y="62592"/>
                </a:lnTo>
                <a:lnTo>
                  <a:pt x="315089" y="74367"/>
                </a:lnTo>
                <a:lnTo>
                  <a:pt x="327232" y="86214"/>
                </a:lnTo>
                <a:lnTo>
                  <a:pt x="332257" y="93144"/>
                </a:lnTo>
                <a:lnTo>
                  <a:pt x="336598" y="100740"/>
                </a:lnTo>
                <a:lnTo>
                  <a:pt x="350695" y="129578"/>
                </a:lnTo>
                <a:lnTo>
                  <a:pt x="353852" y="136936"/>
                </a:lnTo>
                <a:lnTo>
                  <a:pt x="356948" y="144818"/>
                </a:lnTo>
                <a:lnTo>
                  <a:pt x="360005" y="153049"/>
                </a:lnTo>
                <a:lnTo>
                  <a:pt x="361050" y="161512"/>
                </a:lnTo>
                <a:lnTo>
                  <a:pt x="360755" y="170132"/>
                </a:lnTo>
                <a:lnTo>
                  <a:pt x="359566" y="178854"/>
                </a:lnTo>
                <a:lnTo>
                  <a:pt x="358773" y="186654"/>
                </a:lnTo>
                <a:lnTo>
                  <a:pt x="358245" y="193838"/>
                </a:lnTo>
                <a:lnTo>
                  <a:pt x="357893" y="200612"/>
                </a:lnTo>
                <a:lnTo>
                  <a:pt x="356666" y="208104"/>
                </a:lnTo>
                <a:lnTo>
                  <a:pt x="354855" y="216075"/>
                </a:lnTo>
                <a:lnTo>
                  <a:pt x="352656" y="224366"/>
                </a:lnTo>
                <a:lnTo>
                  <a:pt x="347567" y="241516"/>
                </a:lnTo>
                <a:lnTo>
                  <a:pt x="344821" y="250257"/>
                </a:lnTo>
                <a:lnTo>
                  <a:pt x="341006" y="258068"/>
                </a:lnTo>
                <a:lnTo>
                  <a:pt x="336478" y="265260"/>
                </a:lnTo>
                <a:lnTo>
                  <a:pt x="331475" y="272039"/>
                </a:lnTo>
                <a:lnTo>
                  <a:pt x="325163" y="277550"/>
                </a:lnTo>
                <a:lnTo>
                  <a:pt x="317979" y="282216"/>
                </a:lnTo>
                <a:lnTo>
                  <a:pt x="310212" y="286320"/>
                </a:lnTo>
                <a:lnTo>
                  <a:pt x="303051" y="291040"/>
                </a:lnTo>
                <a:lnTo>
                  <a:pt x="296292" y="296170"/>
                </a:lnTo>
                <a:lnTo>
                  <a:pt x="289801" y="301576"/>
                </a:lnTo>
                <a:lnTo>
                  <a:pt x="282498" y="306171"/>
                </a:lnTo>
                <a:lnTo>
                  <a:pt x="274652" y="310227"/>
                </a:lnTo>
                <a:lnTo>
                  <a:pt x="266446" y="313923"/>
                </a:lnTo>
                <a:lnTo>
                  <a:pt x="257005" y="317379"/>
                </a:lnTo>
                <a:lnTo>
                  <a:pt x="246743" y="320676"/>
                </a:lnTo>
                <a:lnTo>
                  <a:pt x="235933" y="323866"/>
                </a:lnTo>
                <a:lnTo>
                  <a:pt x="225750" y="325992"/>
                </a:lnTo>
                <a:lnTo>
                  <a:pt x="215984" y="327410"/>
                </a:lnTo>
                <a:lnTo>
                  <a:pt x="206498" y="328355"/>
                </a:lnTo>
                <a:lnTo>
                  <a:pt x="196204" y="329978"/>
                </a:lnTo>
                <a:lnTo>
                  <a:pt x="185373" y="332051"/>
                </a:lnTo>
                <a:lnTo>
                  <a:pt x="174184" y="334425"/>
                </a:lnTo>
                <a:lnTo>
                  <a:pt x="162756" y="336009"/>
                </a:lnTo>
                <a:lnTo>
                  <a:pt x="151168" y="337064"/>
                </a:lnTo>
                <a:lnTo>
                  <a:pt x="139474" y="337767"/>
                </a:lnTo>
                <a:lnTo>
                  <a:pt x="118543" y="338549"/>
                </a:lnTo>
                <a:lnTo>
                  <a:pt x="90025" y="338989"/>
                </a:lnTo>
                <a:lnTo>
                  <a:pt x="58463" y="339138"/>
                </a:lnTo>
                <a:lnTo>
                  <a:pt x="51874" y="338158"/>
                </a:lnTo>
                <a:lnTo>
                  <a:pt x="45497" y="336513"/>
                </a:lnTo>
                <a:lnTo>
                  <a:pt x="39261" y="334423"/>
                </a:lnTo>
                <a:lnTo>
                  <a:pt x="33119" y="333031"/>
                </a:lnTo>
                <a:lnTo>
                  <a:pt x="27041" y="332102"/>
                </a:lnTo>
                <a:lnTo>
                  <a:pt x="15987" y="331070"/>
                </a:lnTo>
                <a:lnTo>
                  <a:pt x="5178" y="330490"/>
                </a:lnTo>
                <a:lnTo>
                  <a:pt x="0" y="330245"/>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93" name="SMARTInkAnnotation186"/>
          <p:cNvSpPr/>
          <p:nvPr/>
        </p:nvSpPr>
        <p:spPr>
          <a:xfrm>
            <a:off x="911160" y="5313240"/>
            <a:ext cx="285840" cy="27000"/>
          </a:xfrm>
          <a:custGeom>
            <a:avLst/>
            <a:gdLst>
              <a:gd name="textAreaLeft" fmla="*/ 0 w 285840"/>
              <a:gd name="textAreaRight" fmla="*/ 286200 w 285840"/>
              <a:gd name="textAreaTop" fmla="*/ 0 h 27000"/>
              <a:gd name="textAreaBottom" fmla="*/ 27360 h 27000"/>
            </a:gdLst>
            <a:ahLst/>
            <a:rect l="textAreaLeft" t="textAreaTop" r="textAreaRight" b="textAreaBottom"/>
            <a:pathLst>
              <a:path w="285751" h="26790">
                <a:moveTo>
                  <a:pt x="0" y="26789"/>
                </a:moveTo>
                <a:lnTo>
                  <a:pt x="4740" y="22049"/>
                </a:lnTo>
                <a:lnTo>
                  <a:pt x="7129" y="20652"/>
                </a:lnTo>
                <a:lnTo>
                  <a:pt x="9713" y="19721"/>
                </a:lnTo>
                <a:lnTo>
                  <a:pt x="12429" y="19100"/>
                </a:lnTo>
                <a:lnTo>
                  <a:pt x="18091" y="18411"/>
                </a:lnTo>
                <a:lnTo>
                  <a:pt x="24908" y="18105"/>
                </a:lnTo>
                <a:lnTo>
                  <a:pt x="45452" y="17907"/>
                </a:lnTo>
                <a:lnTo>
                  <a:pt x="51137" y="17891"/>
                </a:lnTo>
                <a:lnTo>
                  <a:pt x="56912" y="16888"/>
                </a:lnTo>
                <a:lnTo>
                  <a:pt x="62746" y="15228"/>
                </a:lnTo>
                <a:lnTo>
                  <a:pt x="68619" y="13128"/>
                </a:lnTo>
                <a:lnTo>
                  <a:pt x="75512" y="11729"/>
                </a:lnTo>
                <a:lnTo>
                  <a:pt x="83083" y="10795"/>
                </a:lnTo>
                <a:lnTo>
                  <a:pt x="91108" y="10174"/>
                </a:lnTo>
                <a:lnTo>
                  <a:pt x="99433" y="9759"/>
                </a:lnTo>
                <a:lnTo>
                  <a:pt x="116622" y="9298"/>
                </a:lnTo>
                <a:lnTo>
                  <a:pt x="143034" y="9039"/>
                </a:lnTo>
                <a:lnTo>
                  <a:pt x="150918" y="8010"/>
                </a:lnTo>
                <a:lnTo>
                  <a:pt x="158159" y="6333"/>
                </a:lnTo>
                <a:lnTo>
                  <a:pt x="164970" y="4221"/>
                </a:lnTo>
                <a:lnTo>
                  <a:pt x="172488" y="2814"/>
                </a:lnTo>
                <a:lnTo>
                  <a:pt x="180476" y="1876"/>
                </a:lnTo>
                <a:lnTo>
                  <a:pt x="188778" y="1251"/>
                </a:lnTo>
                <a:lnTo>
                  <a:pt x="197289" y="834"/>
                </a:lnTo>
                <a:lnTo>
                  <a:pt x="214684" y="370"/>
                </a:lnTo>
                <a:lnTo>
                  <a:pt x="285750" y="0"/>
                </a:lnTo>
              </a:path>
            </a:pathLst>
          </a:custGeom>
          <a:noFill/>
          <a:ln w="38160">
            <a:solidFill>
              <a:srgbClr val="009300"/>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Constantia"/>
            </a:endParaRPr>
          </a:p>
        </p:txBody>
      </p:sp>
      <p:sp>
        <p:nvSpPr>
          <p:cNvPr id="394" name="SMARTInkAnnotation187"/>
          <p:cNvSpPr/>
          <p:nvPr/>
        </p:nvSpPr>
        <p:spPr>
          <a:xfrm>
            <a:off x="919080" y="5518080"/>
            <a:ext cx="260280" cy="27000"/>
          </a:xfrm>
          <a:custGeom>
            <a:avLst/>
            <a:gdLst>
              <a:gd name="textAreaLeft" fmla="*/ 0 w 260280"/>
              <a:gd name="textAreaRight" fmla="*/ 260640 w 260280"/>
              <a:gd name="textAreaTop" fmla="*/ 0 h 27000"/>
              <a:gd name="textAreaBottom" fmla="*/ 27360 h 27000"/>
            </a:gdLst>
            <a:ahLst/>
            <a:rect l="textAreaLeft" t="textAreaTop" r="textAreaRight" b="textAreaBottom"/>
            <a:pathLst>
              <a:path w="258962" h="26788">
                <a:moveTo>
                  <a:pt x="0" y="26787"/>
                </a:moveTo>
                <a:lnTo>
                  <a:pt x="7689" y="19098"/>
                </a:lnTo>
                <a:lnTo>
                  <a:pt x="13670" y="18409"/>
                </a:lnTo>
                <a:lnTo>
                  <a:pt x="18043" y="18225"/>
                </a:lnTo>
                <a:lnTo>
                  <a:pt x="21951" y="17110"/>
                </a:lnTo>
                <a:lnTo>
                  <a:pt x="25548" y="15374"/>
                </a:lnTo>
                <a:lnTo>
                  <a:pt x="28938" y="13225"/>
                </a:lnTo>
                <a:lnTo>
                  <a:pt x="33183" y="11792"/>
                </a:lnTo>
                <a:lnTo>
                  <a:pt x="37997" y="10837"/>
                </a:lnTo>
                <a:lnTo>
                  <a:pt x="43191" y="10201"/>
                </a:lnTo>
                <a:lnTo>
                  <a:pt x="48638" y="9776"/>
                </a:lnTo>
                <a:lnTo>
                  <a:pt x="54253" y="9493"/>
                </a:lnTo>
                <a:lnTo>
                  <a:pt x="59982" y="9304"/>
                </a:lnTo>
                <a:lnTo>
                  <a:pt x="66777" y="8186"/>
                </a:lnTo>
                <a:lnTo>
                  <a:pt x="74284" y="6449"/>
                </a:lnTo>
                <a:lnTo>
                  <a:pt x="82265" y="4299"/>
                </a:lnTo>
                <a:lnTo>
                  <a:pt x="89570" y="2865"/>
                </a:lnTo>
                <a:lnTo>
                  <a:pt x="96424" y="1909"/>
                </a:lnTo>
                <a:lnTo>
                  <a:pt x="102978" y="1271"/>
                </a:lnTo>
                <a:lnTo>
                  <a:pt x="110324" y="847"/>
                </a:lnTo>
                <a:lnTo>
                  <a:pt x="126424" y="375"/>
                </a:lnTo>
                <a:lnTo>
                  <a:pt x="166289" y="31"/>
                </a:lnTo>
                <a:lnTo>
                  <a:pt x="202371" y="0"/>
                </a:lnTo>
                <a:lnTo>
                  <a:pt x="208336" y="992"/>
                </a:lnTo>
                <a:lnTo>
                  <a:pt x="214297" y="2645"/>
                </a:lnTo>
                <a:lnTo>
                  <a:pt x="220255" y="4739"/>
                </a:lnTo>
                <a:lnTo>
                  <a:pt x="226212" y="6135"/>
                </a:lnTo>
                <a:lnTo>
                  <a:pt x="232168" y="7066"/>
                </a:lnTo>
                <a:lnTo>
                  <a:pt x="238122" y="7686"/>
                </a:lnTo>
                <a:lnTo>
                  <a:pt x="243084" y="8100"/>
                </a:lnTo>
                <a:lnTo>
                  <a:pt x="247384" y="8376"/>
                </a:lnTo>
                <a:lnTo>
                  <a:pt x="258961" y="8927"/>
                </a:lnTo>
              </a:path>
            </a:pathLst>
          </a:custGeom>
          <a:noFill/>
          <a:ln w="38160">
            <a:solidFill>
              <a:srgbClr val="009300"/>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Constantia"/>
            </a:endParaRPr>
          </a:p>
        </p:txBody>
      </p:sp>
      <p:sp>
        <p:nvSpPr>
          <p:cNvPr id="395" name="SMARTInkAnnotation188"/>
          <p:cNvSpPr/>
          <p:nvPr/>
        </p:nvSpPr>
        <p:spPr>
          <a:xfrm>
            <a:off x="1285920" y="5187960"/>
            <a:ext cx="588960" cy="606240"/>
          </a:xfrm>
          <a:custGeom>
            <a:avLst/>
            <a:gdLst>
              <a:gd name="textAreaLeft" fmla="*/ 0 w 588960"/>
              <a:gd name="textAreaRight" fmla="*/ 589320 w 588960"/>
              <a:gd name="textAreaTop" fmla="*/ 0 h 606240"/>
              <a:gd name="textAreaBottom" fmla="*/ 606600 h 606240"/>
            </a:gdLst>
            <a:ahLst/>
            <a:rect l="textAreaLeft" t="textAreaTop" r="textAreaRight" b="textAreaBottom"/>
            <a:pathLst>
              <a:path w="589360" h="606650">
                <a:moveTo>
                  <a:pt x="0" y="0"/>
                </a:moveTo>
                <a:lnTo>
                  <a:pt x="0" y="12429"/>
                </a:lnTo>
                <a:lnTo>
                  <a:pt x="6136" y="31045"/>
                </a:lnTo>
                <a:lnTo>
                  <a:pt x="9094" y="48004"/>
                </a:lnTo>
                <a:lnTo>
                  <a:pt x="15813" y="67581"/>
                </a:lnTo>
                <a:lnTo>
                  <a:pt x="18479" y="76804"/>
                </a:lnTo>
                <a:lnTo>
                  <a:pt x="21249" y="86921"/>
                </a:lnTo>
                <a:lnTo>
                  <a:pt x="23096" y="96643"/>
                </a:lnTo>
                <a:lnTo>
                  <a:pt x="25147" y="115382"/>
                </a:lnTo>
                <a:lnTo>
                  <a:pt x="26686" y="125539"/>
                </a:lnTo>
                <a:lnTo>
                  <a:pt x="28705" y="136279"/>
                </a:lnTo>
                <a:lnTo>
                  <a:pt x="31043" y="147407"/>
                </a:lnTo>
                <a:lnTo>
                  <a:pt x="32601" y="158795"/>
                </a:lnTo>
                <a:lnTo>
                  <a:pt x="33640" y="170355"/>
                </a:lnTo>
                <a:lnTo>
                  <a:pt x="34333" y="182031"/>
                </a:lnTo>
                <a:lnTo>
                  <a:pt x="35787" y="193784"/>
                </a:lnTo>
                <a:lnTo>
                  <a:pt x="37749" y="205588"/>
                </a:lnTo>
                <a:lnTo>
                  <a:pt x="48026" y="257788"/>
                </a:lnTo>
                <a:lnTo>
                  <a:pt x="53756" y="283906"/>
                </a:lnTo>
                <a:lnTo>
                  <a:pt x="56673" y="296427"/>
                </a:lnTo>
                <a:lnTo>
                  <a:pt x="58618" y="309735"/>
                </a:lnTo>
                <a:lnTo>
                  <a:pt x="59914" y="323568"/>
                </a:lnTo>
                <a:lnTo>
                  <a:pt x="60779" y="337751"/>
                </a:lnTo>
                <a:lnTo>
                  <a:pt x="62347" y="351175"/>
                </a:lnTo>
                <a:lnTo>
                  <a:pt x="64385" y="364094"/>
                </a:lnTo>
                <a:lnTo>
                  <a:pt x="66736" y="376675"/>
                </a:lnTo>
                <a:lnTo>
                  <a:pt x="71993" y="401236"/>
                </a:lnTo>
                <a:lnTo>
                  <a:pt x="83453" y="449342"/>
                </a:lnTo>
                <a:lnTo>
                  <a:pt x="92305" y="485145"/>
                </a:lnTo>
                <a:lnTo>
                  <a:pt x="95271" y="496070"/>
                </a:lnTo>
                <a:lnTo>
                  <a:pt x="101212" y="516147"/>
                </a:lnTo>
                <a:lnTo>
                  <a:pt x="107160" y="532347"/>
                </a:lnTo>
                <a:lnTo>
                  <a:pt x="113111" y="546161"/>
                </a:lnTo>
                <a:lnTo>
                  <a:pt x="122039" y="565095"/>
                </a:lnTo>
                <a:lnTo>
                  <a:pt x="130968" y="582280"/>
                </a:lnTo>
                <a:lnTo>
                  <a:pt x="145851" y="600725"/>
                </a:lnTo>
                <a:lnTo>
                  <a:pt x="148828" y="602889"/>
                </a:lnTo>
                <a:lnTo>
                  <a:pt x="154781" y="605295"/>
                </a:lnTo>
                <a:lnTo>
                  <a:pt x="163710" y="606649"/>
                </a:lnTo>
                <a:lnTo>
                  <a:pt x="166687" y="605847"/>
                </a:lnTo>
                <a:lnTo>
                  <a:pt x="172640" y="602310"/>
                </a:lnTo>
                <a:lnTo>
                  <a:pt x="181570" y="594740"/>
                </a:lnTo>
                <a:lnTo>
                  <a:pt x="190499" y="581473"/>
                </a:lnTo>
                <a:lnTo>
                  <a:pt x="193807" y="567995"/>
                </a:lnTo>
                <a:lnTo>
                  <a:pt x="196269" y="552083"/>
                </a:lnTo>
                <a:lnTo>
                  <a:pt x="200670" y="535089"/>
                </a:lnTo>
                <a:lnTo>
                  <a:pt x="205934" y="517615"/>
                </a:lnTo>
                <a:lnTo>
                  <a:pt x="211581" y="498933"/>
                </a:lnTo>
                <a:lnTo>
                  <a:pt x="217397" y="477402"/>
                </a:lnTo>
                <a:lnTo>
                  <a:pt x="219346" y="466104"/>
                </a:lnTo>
                <a:lnTo>
                  <a:pt x="220644" y="454603"/>
                </a:lnTo>
                <a:lnTo>
                  <a:pt x="221510" y="442967"/>
                </a:lnTo>
                <a:lnTo>
                  <a:pt x="223079" y="432233"/>
                </a:lnTo>
                <a:lnTo>
                  <a:pt x="225118" y="422101"/>
                </a:lnTo>
                <a:lnTo>
                  <a:pt x="235519" y="379711"/>
                </a:lnTo>
                <a:lnTo>
                  <a:pt x="237379" y="368235"/>
                </a:lnTo>
                <a:lnTo>
                  <a:pt x="238620" y="356615"/>
                </a:lnTo>
                <a:lnTo>
                  <a:pt x="239447" y="344899"/>
                </a:lnTo>
                <a:lnTo>
                  <a:pt x="240991" y="333121"/>
                </a:lnTo>
                <a:lnTo>
                  <a:pt x="243012" y="321299"/>
                </a:lnTo>
                <a:lnTo>
                  <a:pt x="245351" y="309450"/>
                </a:lnTo>
                <a:lnTo>
                  <a:pt x="247903" y="298574"/>
                </a:lnTo>
                <a:lnTo>
                  <a:pt x="250597" y="288346"/>
                </a:lnTo>
                <a:lnTo>
                  <a:pt x="253385" y="278551"/>
                </a:lnTo>
                <a:lnTo>
                  <a:pt x="255243" y="268052"/>
                </a:lnTo>
                <a:lnTo>
                  <a:pt x="256482" y="257084"/>
                </a:lnTo>
                <a:lnTo>
                  <a:pt x="257308" y="245804"/>
                </a:lnTo>
                <a:lnTo>
                  <a:pt x="260872" y="227978"/>
                </a:lnTo>
                <a:lnTo>
                  <a:pt x="268457" y="204140"/>
                </a:lnTo>
                <a:lnTo>
                  <a:pt x="274095" y="187963"/>
                </a:lnTo>
                <a:lnTo>
                  <a:pt x="279908" y="174159"/>
                </a:lnTo>
                <a:lnTo>
                  <a:pt x="285588" y="156257"/>
                </a:lnTo>
                <a:lnTo>
                  <a:pt x="291545" y="146289"/>
                </a:lnTo>
                <a:lnTo>
                  <a:pt x="293286" y="140093"/>
                </a:lnTo>
                <a:lnTo>
                  <a:pt x="294743" y="138044"/>
                </a:lnTo>
                <a:lnTo>
                  <a:pt x="296706" y="136678"/>
                </a:lnTo>
                <a:lnTo>
                  <a:pt x="302245" y="134485"/>
                </a:lnTo>
                <a:lnTo>
                  <a:pt x="302700" y="135297"/>
                </a:lnTo>
                <a:lnTo>
                  <a:pt x="303340" y="141181"/>
                </a:lnTo>
                <a:lnTo>
                  <a:pt x="303573" y="159691"/>
                </a:lnTo>
                <a:lnTo>
                  <a:pt x="303606" y="210816"/>
                </a:lnTo>
                <a:lnTo>
                  <a:pt x="304599" y="221903"/>
                </a:lnTo>
                <a:lnTo>
                  <a:pt x="306253" y="233264"/>
                </a:lnTo>
                <a:lnTo>
                  <a:pt x="308349" y="244806"/>
                </a:lnTo>
                <a:lnTo>
                  <a:pt x="309745" y="256470"/>
                </a:lnTo>
                <a:lnTo>
                  <a:pt x="310676" y="268214"/>
                </a:lnTo>
                <a:lnTo>
                  <a:pt x="311297" y="280012"/>
                </a:lnTo>
                <a:lnTo>
                  <a:pt x="311987" y="303705"/>
                </a:lnTo>
                <a:lnTo>
                  <a:pt x="312171" y="315580"/>
                </a:lnTo>
                <a:lnTo>
                  <a:pt x="313286" y="327464"/>
                </a:lnTo>
                <a:lnTo>
                  <a:pt x="315021" y="339357"/>
                </a:lnTo>
                <a:lnTo>
                  <a:pt x="317170" y="351253"/>
                </a:lnTo>
                <a:lnTo>
                  <a:pt x="319595" y="363153"/>
                </a:lnTo>
                <a:lnTo>
                  <a:pt x="324935" y="386958"/>
                </a:lnTo>
                <a:lnTo>
                  <a:pt x="326756" y="398863"/>
                </a:lnTo>
                <a:lnTo>
                  <a:pt x="327970" y="410768"/>
                </a:lnTo>
                <a:lnTo>
                  <a:pt x="328780" y="422673"/>
                </a:lnTo>
                <a:lnTo>
                  <a:pt x="330311" y="433587"/>
                </a:lnTo>
                <a:lnTo>
                  <a:pt x="332324" y="443840"/>
                </a:lnTo>
                <a:lnTo>
                  <a:pt x="334659" y="453651"/>
                </a:lnTo>
                <a:lnTo>
                  <a:pt x="339899" y="472490"/>
                </a:lnTo>
                <a:lnTo>
                  <a:pt x="345534" y="490785"/>
                </a:lnTo>
                <a:lnTo>
                  <a:pt x="351347" y="508837"/>
                </a:lnTo>
                <a:lnTo>
                  <a:pt x="355278" y="515835"/>
                </a:lnTo>
                <a:lnTo>
                  <a:pt x="373199" y="534193"/>
                </a:lnTo>
                <a:lnTo>
                  <a:pt x="386588" y="547374"/>
                </a:lnTo>
                <a:lnTo>
                  <a:pt x="389686" y="549463"/>
                </a:lnTo>
                <a:lnTo>
                  <a:pt x="395774" y="551784"/>
                </a:lnTo>
                <a:lnTo>
                  <a:pt x="398787" y="551410"/>
                </a:lnTo>
                <a:lnTo>
                  <a:pt x="401788" y="550169"/>
                </a:lnTo>
                <a:lnTo>
                  <a:pt x="410751" y="543683"/>
                </a:lnTo>
                <a:lnTo>
                  <a:pt x="413732" y="541049"/>
                </a:lnTo>
                <a:lnTo>
                  <a:pt x="422669" y="527861"/>
                </a:lnTo>
                <a:lnTo>
                  <a:pt x="431269" y="514401"/>
                </a:lnTo>
                <a:lnTo>
                  <a:pt x="440714" y="498498"/>
                </a:lnTo>
                <a:lnTo>
                  <a:pt x="448219" y="481508"/>
                </a:lnTo>
                <a:lnTo>
                  <a:pt x="451609" y="471818"/>
                </a:lnTo>
                <a:lnTo>
                  <a:pt x="454862" y="461389"/>
                </a:lnTo>
                <a:lnTo>
                  <a:pt x="461121" y="439218"/>
                </a:lnTo>
                <a:lnTo>
                  <a:pt x="467211" y="416135"/>
                </a:lnTo>
                <a:lnTo>
                  <a:pt x="471216" y="404423"/>
                </a:lnTo>
                <a:lnTo>
                  <a:pt x="475870" y="392647"/>
                </a:lnTo>
                <a:lnTo>
                  <a:pt x="480958" y="380828"/>
                </a:lnTo>
                <a:lnTo>
                  <a:pt x="485342" y="368979"/>
                </a:lnTo>
                <a:lnTo>
                  <a:pt x="489256" y="357111"/>
                </a:lnTo>
                <a:lnTo>
                  <a:pt x="492858" y="345230"/>
                </a:lnTo>
                <a:lnTo>
                  <a:pt x="499506" y="321446"/>
                </a:lnTo>
                <a:lnTo>
                  <a:pt x="502668" y="309547"/>
                </a:lnTo>
                <a:lnTo>
                  <a:pt x="506760" y="297646"/>
                </a:lnTo>
                <a:lnTo>
                  <a:pt x="511473" y="285744"/>
                </a:lnTo>
                <a:lnTo>
                  <a:pt x="516599" y="273839"/>
                </a:lnTo>
                <a:lnTo>
                  <a:pt x="521009" y="261935"/>
                </a:lnTo>
                <a:lnTo>
                  <a:pt x="524940" y="250029"/>
                </a:lnTo>
                <a:lnTo>
                  <a:pt x="535215" y="216958"/>
                </a:lnTo>
                <a:lnTo>
                  <a:pt x="538380" y="207147"/>
                </a:lnTo>
                <a:lnTo>
                  <a:pt x="541482" y="196637"/>
                </a:lnTo>
                <a:lnTo>
                  <a:pt x="550589" y="163875"/>
                </a:lnTo>
                <a:lnTo>
                  <a:pt x="556584" y="144271"/>
                </a:lnTo>
                <a:lnTo>
                  <a:pt x="562555" y="128282"/>
                </a:lnTo>
                <a:lnTo>
                  <a:pt x="568517" y="114561"/>
                </a:lnTo>
                <a:lnTo>
                  <a:pt x="576459" y="95681"/>
                </a:lnTo>
                <a:lnTo>
                  <a:pt x="580245" y="78511"/>
                </a:lnTo>
                <a:lnTo>
                  <a:pt x="587265" y="63317"/>
                </a:lnTo>
                <a:lnTo>
                  <a:pt x="589359" y="5357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96" name="SMARTInkAnnotation189"/>
          <p:cNvSpPr/>
          <p:nvPr/>
        </p:nvSpPr>
        <p:spPr>
          <a:xfrm>
            <a:off x="1677960" y="5035680"/>
            <a:ext cx="482760" cy="911160"/>
          </a:xfrm>
          <a:custGeom>
            <a:avLst/>
            <a:gdLst>
              <a:gd name="textAreaLeft" fmla="*/ 0 w 482760"/>
              <a:gd name="textAreaRight" fmla="*/ 483120 w 482760"/>
              <a:gd name="textAreaTop" fmla="*/ 0 h 911160"/>
              <a:gd name="textAreaBottom" fmla="*/ 911520 h 911160"/>
            </a:gdLst>
            <a:ahLst/>
            <a:rect l="textAreaLeft" t="textAreaTop" r="textAreaRight" b="textAreaBottom"/>
            <a:pathLst>
              <a:path w="482204" h="910829">
                <a:moveTo>
                  <a:pt x="482203" y="0"/>
                </a:moveTo>
                <a:lnTo>
                  <a:pt x="482203" y="12429"/>
                </a:lnTo>
                <a:lnTo>
                  <a:pt x="477462" y="25732"/>
                </a:lnTo>
                <a:lnTo>
                  <a:pt x="466972" y="48996"/>
                </a:lnTo>
                <a:lnTo>
                  <a:pt x="457295" y="73718"/>
                </a:lnTo>
                <a:lnTo>
                  <a:pt x="447651" y="94610"/>
                </a:lnTo>
                <a:lnTo>
                  <a:pt x="436750" y="114479"/>
                </a:lnTo>
                <a:lnTo>
                  <a:pt x="425291" y="134223"/>
                </a:lnTo>
                <a:lnTo>
                  <a:pt x="413583" y="156228"/>
                </a:lnTo>
                <a:lnTo>
                  <a:pt x="399120" y="179237"/>
                </a:lnTo>
                <a:lnTo>
                  <a:pt x="391095" y="190929"/>
                </a:lnTo>
                <a:lnTo>
                  <a:pt x="374242" y="217149"/>
                </a:lnTo>
                <a:lnTo>
                  <a:pt x="365580" y="231087"/>
                </a:lnTo>
                <a:lnTo>
                  <a:pt x="350665" y="257155"/>
                </a:lnTo>
                <a:lnTo>
                  <a:pt x="336429" y="282964"/>
                </a:lnTo>
                <a:lnTo>
                  <a:pt x="320180" y="310970"/>
                </a:lnTo>
                <a:lnTo>
                  <a:pt x="311680" y="326376"/>
                </a:lnTo>
                <a:lnTo>
                  <a:pt x="294298" y="359368"/>
                </a:lnTo>
                <a:lnTo>
                  <a:pt x="285495" y="374517"/>
                </a:lnTo>
                <a:lnTo>
                  <a:pt x="276650" y="388584"/>
                </a:lnTo>
                <a:lnTo>
                  <a:pt x="267777" y="401931"/>
                </a:lnTo>
                <a:lnTo>
                  <a:pt x="258885" y="416782"/>
                </a:lnTo>
                <a:lnTo>
                  <a:pt x="249981" y="432636"/>
                </a:lnTo>
                <a:lnTo>
                  <a:pt x="241068" y="449158"/>
                </a:lnTo>
                <a:lnTo>
                  <a:pt x="223227" y="480746"/>
                </a:lnTo>
                <a:lnTo>
                  <a:pt x="214302" y="496115"/>
                </a:lnTo>
                <a:lnTo>
                  <a:pt x="206368" y="511321"/>
                </a:lnTo>
                <a:lnTo>
                  <a:pt x="199094" y="526420"/>
                </a:lnTo>
                <a:lnTo>
                  <a:pt x="192261" y="541447"/>
                </a:lnTo>
                <a:lnTo>
                  <a:pt x="184728" y="556426"/>
                </a:lnTo>
                <a:lnTo>
                  <a:pt x="176730" y="571372"/>
                </a:lnTo>
                <a:lnTo>
                  <a:pt x="159906" y="601209"/>
                </a:lnTo>
                <a:lnTo>
                  <a:pt x="142507" y="631006"/>
                </a:lnTo>
                <a:lnTo>
                  <a:pt x="134692" y="645898"/>
                </a:lnTo>
                <a:lnTo>
                  <a:pt x="127498" y="660786"/>
                </a:lnTo>
                <a:lnTo>
                  <a:pt x="114212" y="689566"/>
                </a:lnTo>
                <a:lnTo>
                  <a:pt x="89514" y="740379"/>
                </a:lnTo>
                <a:lnTo>
                  <a:pt x="77487" y="763636"/>
                </a:lnTo>
                <a:lnTo>
                  <a:pt x="65527" y="783893"/>
                </a:lnTo>
                <a:lnTo>
                  <a:pt x="52378" y="812033"/>
                </a:lnTo>
                <a:lnTo>
                  <a:pt x="42198" y="839223"/>
                </a:lnTo>
                <a:lnTo>
                  <a:pt x="33307" y="854529"/>
                </a:lnTo>
                <a:lnTo>
                  <a:pt x="19790" y="874303"/>
                </a:lnTo>
                <a:lnTo>
                  <a:pt x="13756" y="885666"/>
                </a:lnTo>
                <a:lnTo>
                  <a:pt x="9367" y="897640"/>
                </a:lnTo>
                <a:lnTo>
                  <a:pt x="0" y="91082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97" name="SMARTInkAnnotation190"/>
          <p:cNvSpPr/>
          <p:nvPr/>
        </p:nvSpPr>
        <p:spPr>
          <a:xfrm>
            <a:off x="2108160" y="5241960"/>
            <a:ext cx="214200" cy="606240"/>
          </a:xfrm>
          <a:custGeom>
            <a:avLst/>
            <a:gdLst>
              <a:gd name="textAreaLeft" fmla="*/ 0 w 214200"/>
              <a:gd name="textAreaRight" fmla="*/ 214560 w 214200"/>
              <a:gd name="textAreaTop" fmla="*/ 0 h 606240"/>
              <a:gd name="textAreaBottom" fmla="*/ 606600 h 606240"/>
            </a:gdLst>
            <a:ahLst/>
            <a:rect l="textAreaLeft" t="textAreaTop" r="textAreaRight" b="textAreaBottom"/>
            <a:pathLst>
              <a:path w="213777" h="607220">
                <a:moveTo>
                  <a:pt x="213776" y="0"/>
                </a:moveTo>
                <a:lnTo>
                  <a:pt x="213776" y="4740"/>
                </a:lnTo>
                <a:lnTo>
                  <a:pt x="212784" y="7129"/>
                </a:lnTo>
                <a:lnTo>
                  <a:pt x="207640" y="15232"/>
                </a:lnTo>
                <a:lnTo>
                  <a:pt x="202753" y="29503"/>
                </a:lnTo>
                <a:lnTo>
                  <a:pt x="200474" y="34552"/>
                </a:lnTo>
                <a:lnTo>
                  <a:pt x="196971" y="39902"/>
                </a:lnTo>
                <a:lnTo>
                  <a:pt x="192651" y="45453"/>
                </a:lnTo>
                <a:lnTo>
                  <a:pt x="187786" y="51138"/>
                </a:lnTo>
                <a:lnTo>
                  <a:pt x="183551" y="56912"/>
                </a:lnTo>
                <a:lnTo>
                  <a:pt x="179736" y="62746"/>
                </a:lnTo>
                <a:lnTo>
                  <a:pt x="176200" y="68620"/>
                </a:lnTo>
                <a:lnTo>
                  <a:pt x="166979" y="83084"/>
                </a:lnTo>
                <a:lnTo>
                  <a:pt x="109560" y="169712"/>
                </a:lnTo>
                <a:lnTo>
                  <a:pt x="103619" y="179617"/>
                </a:lnTo>
                <a:lnTo>
                  <a:pt x="97674" y="190190"/>
                </a:lnTo>
                <a:lnTo>
                  <a:pt x="91726" y="201208"/>
                </a:lnTo>
                <a:lnTo>
                  <a:pt x="85777" y="211529"/>
                </a:lnTo>
                <a:lnTo>
                  <a:pt x="79826" y="221387"/>
                </a:lnTo>
                <a:lnTo>
                  <a:pt x="73875" y="230935"/>
                </a:lnTo>
                <a:lnTo>
                  <a:pt x="67923" y="241269"/>
                </a:lnTo>
                <a:lnTo>
                  <a:pt x="56017" y="263335"/>
                </a:lnTo>
                <a:lnTo>
                  <a:pt x="50065" y="273783"/>
                </a:lnTo>
                <a:lnTo>
                  <a:pt x="44112" y="283725"/>
                </a:lnTo>
                <a:lnTo>
                  <a:pt x="38159" y="293331"/>
                </a:lnTo>
                <a:lnTo>
                  <a:pt x="33198" y="303702"/>
                </a:lnTo>
                <a:lnTo>
                  <a:pt x="28899" y="314586"/>
                </a:lnTo>
                <a:lnTo>
                  <a:pt x="25040" y="325810"/>
                </a:lnTo>
                <a:lnTo>
                  <a:pt x="21476" y="337261"/>
                </a:lnTo>
                <a:lnTo>
                  <a:pt x="8626" y="381510"/>
                </a:lnTo>
                <a:lnTo>
                  <a:pt x="5572" y="391262"/>
                </a:lnTo>
                <a:lnTo>
                  <a:pt x="3536" y="401732"/>
                </a:lnTo>
                <a:lnTo>
                  <a:pt x="2179" y="412681"/>
                </a:lnTo>
                <a:lnTo>
                  <a:pt x="1273" y="423949"/>
                </a:lnTo>
                <a:lnTo>
                  <a:pt x="670" y="434437"/>
                </a:lnTo>
                <a:lnTo>
                  <a:pt x="0" y="454029"/>
                </a:lnTo>
                <a:lnTo>
                  <a:pt x="2348" y="472658"/>
                </a:lnTo>
                <a:lnTo>
                  <a:pt x="6699" y="490860"/>
                </a:lnTo>
                <a:lnTo>
                  <a:pt x="11940" y="508871"/>
                </a:lnTo>
                <a:lnTo>
                  <a:pt x="20468" y="535746"/>
                </a:lnTo>
                <a:lnTo>
                  <a:pt x="24381" y="543695"/>
                </a:lnTo>
                <a:lnTo>
                  <a:pt x="28974" y="550979"/>
                </a:lnTo>
                <a:lnTo>
                  <a:pt x="34020" y="557819"/>
                </a:lnTo>
                <a:lnTo>
                  <a:pt x="39368" y="563372"/>
                </a:lnTo>
                <a:lnTo>
                  <a:pt x="44918" y="568066"/>
                </a:lnTo>
                <a:lnTo>
                  <a:pt x="50603" y="572187"/>
                </a:lnTo>
                <a:lnTo>
                  <a:pt x="56377" y="576919"/>
                </a:lnTo>
                <a:lnTo>
                  <a:pt x="62211" y="582058"/>
                </a:lnTo>
                <a:lnTo>
                  <a:pt x="68084" y="587468"/>
                </a:lnTo>
                <a:lnTo>
                  <a:pt x="73984" y="592068"/>
                </a:lnTo>
                <a:lnTo>
                  <a:pt x="79902" y="596126"/>
                </a:lnTo>
                <a:lnTo>
                  <a:pt x="85831" y="599824"/>
                </a:lnTo>
                <a:lnTo>
                  <a:pt x="91769" y="602289"/>
                </a:lnTo>
                <a:lnTo>
                  <a:pt x="97712" y="603933"/>
                </a:lnTo>
                <a:lnTo>
                  <a:pt x="103657" y="605028"/>
                </a:lnTo>
                <a:lnTo>
                  <a:pt x="108614" y="605758"/>
                </a:lnTo>
                <a:lnTo>
                  <a:pt x="112910" y="606245"/>
                </a:lnTo>
                <a:lnTo>
                  <a:pt x="124479" y="60721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98" name="SMARTInkAnnotation191"/>
          <p:cNvSpPr/>
          <p:nvPr/>
        </p:nvSpPr>
        <p:spPr>
          <a:xfrm>
            <a:off x="2017800" y="5535720"/>
            <a:ext cx="376200" cy="46080"/>
          </a:xfrm>
          <a:custGeom>
            <a:avLst/>
            <a:gdLst>
              <a:gd name="textAreaLeft" fmla="*/ 0 w 376200"/>
              <a:gd name="textAreaRight" fmla="*/ 376560 w 376200"/>
              <a:gd name="textAreaTop" fmla="*/ 0 h 46080"/>
              <a:gd name="textAreaBottom" fmla="*/ 46440 h 46080"/>
            </a:gdLst>
            <a:ahLst/>
            <a:rect l="textAreaLeft" t="textAreaTop" r="textAreaRight" b="textAreaBottom"/>
            <a:pathLst>
              <a:path w="375048" h="44650">
                <a:moveTo>
                  <a:pt x="0" y="44649"/>
                </a:moveTo>
                <a:lnTo>
                  <a:pt x="4740" y="39908"/>
                </a:lnTo>
                <a:lnTo>
                  <a:pt x="7129" y="38511"/>
                </a:lnTo>
                <a:lnTo>
                  <a:pt x="9714" y="37580"/>
                </a:lnTo>
                <a:lnTo>
                  <a:pt x="12429" y="36960"/>
                </a:lnTo>
                <a:lnTo>
                  <a:pt x="16223" y="35554"/>
                </a:lnTo>
                <a:lnTo>
                  <a:pt x="20738" y="33624"/>
                </a:lnTo>
                <a:lnTo>
                  <a:pt x="25731" y="31346"/>
                </a:lnTo>
                <a:lnTo>
                  <a:pt x="31045" y="29827"/>
                </a:lnTo>
                <a:lnTo>
                  <a:pt x="36572" y="28814"/>
                </a:lnTo>
                <a:lnTo>
                  <a:pt x="42241" y="28139"/>
                </a:lnTo>
                <a:lnTo>
                  <a:pt x="48004" y="26697"/>
                </a:lnTo>
                <a:lnTo>
                  <a:pt x="53831" y="24743"/>
                </a:lnTo>
                <a:lnTo>
                  <a:pt x="59700" y="22448"/>
                </a:lnTo>
                <a:lnTo>
                  <a:pt x="66589" y="20918"/>
                </a:lnTo>
                <a:lnTo>
                  <a:pt x="74158" y="19899"/>
                </a:lnTo>
                <a:lnTo>
                  <a:pt x="82181" y="19219"/>
                </a:lnTo>
                <a:lnTo>
                  <a:pt x="90506" y="17774"/>
                </a:lnTo>
                <a:lnTo>
                  <a:pt x="99032" y="15817"/>
                </a:lnTo>
                <a:lnTo>
                  <a:pt x="107693" y="13521"/>
                </a:lnTo>
                <a:lnTo>
                  <a:pt x="122397" y="11991"/>
                </a:lnTo>
                <a:lnTo>
                  <a:pt x="141129" y="10971"/>
                </a:lnTo>
                <a:lnTo>
                  <a:pt x="162547" y="10291"/>
                </a:lnTo>
                <a:lnTo>
                  <a:pt x="179802" y="8844"/>
                </a:lnTo>
                <a:lnTo>
                  <a:pt x="194282" y="6888"/>
                </a:lnTo>
                <a:lnTo>
                  <a:pt x="206912" y="4592"/>
                </a:lnTo>
                <a:lnTo>
                  <a:pt x="218309" y="3061"/>
                </a:lnTo>
                <a:lnTo>
                  <a:pt x="228883" y="2041"/>
                </a:lnTo>
                <a:lnTo>
                  <a:pt x="238909" y="1361"/>
                </a:lnTo>
                <a:lnTo>
                  <a:pt x="255340" y="604"/>
                </a:lnTo>
                <a:lnTo>
                  <a:pt x="270250" y="269"/>
                </a:lnTo>
                <a:lnTo>
                  <a:pt x="375047" y="0"/>
                </a:lnTo>
              </a:path>
            </a:pathLst>
          </a:custGeom>
          <a:noFill/>
          <a:ln w="38160">
            <a:solidFill>
              <a:srgbClr val="009300"/>
            </a:solidFill>
            <a:round/>
          </a:ln>
        </p:spPr>
        <p:style>
          <a:lnRef idx="0"/>
          <a:fillRef idx="0"/>
          <a:effectRef idx="0"/>
          <a:fontRef idx="minor"/>
        </p:style>
        <p:txBody>
          <a:bodyPr lIns="90000" rIns="90000" tIns="-360" bIns="-360" anchor="ctr">
            <a:noAutofit/>
          </a:bodyPr>
          <a:p>
            <a:endParaRPr b="0" lang="en-US" sz="1800" spc="-1" strike="noStrike">
              <a:solidFill>
                <a:srgbClr val="000000"/>
              </a:solidFill>
              <a:latin typeface="Constanti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Efficiency</a:t>
            </a:r>
            <a:endParaRPr b="0" lang="en-US" sz="5000" spc="-1" strike="noStrike">
              <a:solidFill>
                <a:srgbClr val="04617b"/>
              </a:solidFill>
              <a:latin typeface="Calibri"/>
            </a:endParaRPr>
          </a:p>
        </p:txBody>
      </p:sp>
      <p:sp>
        <p:nvSpPr>
          <p:cNvPr id="4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nergy can be, and is, converted into forms that do no work or do not serve the intended purpose. Transforming energy involves some “loss” of useful energy. (think of driving in your c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i="1" lang="en-US" sz="2600" spc="-1" strike="noStrike">
                <a:solidFill>
                  <a:srgbClr val="000000"/>
                </a:solidFill>
                <a:latin typeface="Constantia"/>
              </a:rPr>
              <a:t>Efficiency</a:t>
            </a:r>
            <a:r>
              <a:rPr b="0" lang="en-US" sz="2600" spc="-1" strike="noStrike">
                <a:solidFill>
                  <a:srgbClr val="000000"/>
                </a:solidFill>
                <a:latin typeface="Constantia"/>
              </a:rPr>
              <a:t> is the ratio of useful energy or </a:t>
            </a:r>
            <a:r>
              <a:rPr b="1" lang="en-US" sz="2600" spc="-1" strike="noStrike" u="sng">
                <a:solidFill>
                  <a:srgbClr val="000000"/>
                </a:solidFill>
                <a:uFillTx/>
                <a:latin typeface="Constantia"/>
              </a:rPr>
              <a:t>work output</a:t>
            </a:r>
            <a:r>
              <a:rPr b="0" lang="en-US" sz="2600" spc="-1" strike="noStrike">
                <a:solidFill>
                  <a:srgbClr val="000000"/>
                </a:solidFill>
                <a:latin typeface="Constantia"/>
              </a:rPr>
              <a:t> to the total energy or </a:t>
            </a:r>
            <a:r>
              <a:rPr b="1" lang="en-US" sz="2600" spc="-1" strike="noStrike" u="sng">
                <a:solidFill>
                  <a:srgbClr val="000000"/>
                </a:solidFill>
                <a:uFillTx/>
                <a:latin typeface="Constantia"/>
              </a:rPr>
              <a:t>work 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newsflash/>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5">
                                  <p:stCondLst>
                                    <p:cond delay="0"/>
                                  </p:stCondLst>
                                  <p:childTnLst>
                                    <p:set>
                                      <p:cBhvr>
                                        <p:cTn id="152" dur="1" fill="hold">
                                          <p:stCondLst>
                                            <p:cond delay="0"/>
                                          </p:stCondLst>
                                        </p:cTn>
                                        <p:tgtEl>
                                          <p:spTgt spid="400">
                                            <p:txEl>
                                              <p:pRg st="0" end="0"/>
                                            </p:txEl>
                                          </p:spTgt>
                                        </p:tgtEl>
                                        <p:attrNameLst>
                                          <p:attrName>style.visibility</p:attrName>
                                        </p:attrNameLst>
                                      </p:cBhvr>
                                      <p:to>
                                        <p:strVal val="visible"/>
                                      </p:to>
                                    </p:set>
                                    <p:anim calcmode="lin" valueType="num">
                                      <p:cBhvr additive="repl">
                                        <p:cTn id="153" dur="500" fill="hold">
                                          <p:stCondLst>
                                            <p:cond delay="0"/>
                                          </p:stCondLst>
                                        </p:cTn>
                                        <p:tgtEl>
                                          <p:spTgt spid="400">
                                            <p:txEl>
                                              <p:pRg st="0" end="0"/>
                                            </p:txEl>
                                          </p:spTgt>
                                        </p:tgtEl>
                                        <p:attrNameLst>
                                          <p:attrName>r</p:attrName>
                                        </p:attrNameLst>
                                      </p:cBhvr>
                                      <p:tavLst>
                                        <p:tav tm="0">
                                          <p:val>
                                            <p:strVal val="-90"/>
                                          </p:val>
                                        </p:tav>
                                        <p:tav tm="100000">
                                          <p:val>
                                            <p:strVal val="0"/>
                                          </p:val>
                                        </p:tav>
                                      </p:tavLst>
                                    </p:anim>
                                    <p:anim calcmode="lin" valueType="num">
                                      <p:cBhvr additive="repl">
                                        <p:cTn id="154" dur="500" fill="hold">
                                          <p:stCondLst>
                                            <p:cond delay="0"/>
                                          </p:stCondLst>
                                        </p:cTn>
                                        <p:tgtEl>
                                          <p:spTgt spid="400">
                                            <p:txEl>
                                              <p:pRg st="0" end="0"/>
                                            </p:txEl>
                                          </p:spTgt>
                                        </p:tgtEl>
                                        <p:attrNameLst>
                                          <p:attrName>ppt_w</p:attrName>
                                        </p:attrNameLst>
                                      </p:cBhvr>
                                      <p:tavLst>
                                        <p:tav tm="0">
                                          <p:val>
                                            <p:strVal val="#ppt_w"/>
                                          </p:val>
                                        </p:tav>
                                        <p:tav tm="100000">
                                          <p:val>
                                            <p:strVal val="#ppt_w*.05"/>
                                          </p:val>
                                        </p:tav>
                                      </p:tavLst>
                                    </p:anim>
                                    <p:anim calcmode="lin" valueType="num">
                                      <p:cBhvr additive="repl">
                                        <p:cTn id="155" dur="500" fill="hold">
                                          <p:stCondLst>
                                            <p:cond delay="500"/>
                                          </p:stCondLst>
                                        </p:cTn>
                                        <p:tgtEl>
                                          <p:spTgt spid="400">
                                            <p:txEl>
                                              <p:pRg st="0" end="0"/>
                                            </p:txEl>
                                          </p:spTgt>
                                        </p:tgtEl>
                                        <p:attrNameLst>
                                          <p:attrName>ppt_w</p:attrName>
                                        </p:attrNameLst>
                                      </p:cBhvr>
                                      <p:tavLst>
                                        <p:tav tm="0">
                                          <p:val>
                                            <p:strVal val="#ppt_w*.05"/>
                                          </p:val>
                                        </p:tav>
                                        <p:tav tm="100000">
                                          <p:val>
                                            <p:strVal val="#ppt_w"/>
                                          </p:val>
                                        </p:tav>
                                      </p:tavLst>
                                    </p:anim>
                                    <p:anim calcmode="lin" valueType="num">
                                      <p:cBhvr additive="repl">
                                        <p:cTn id="156" dur="1000" fill="hold"/>
                                        <p:tgtEl>
                                          <p:spTgt spid="400">
                                            <p:txEl>
                                              <p:pRg st="0" end="0"/>
                                            </p:txEl>
                                          </p:spTgt>
                                        </p:tgtEl>
                                        <p:attrNameLst>
                                          <p:attrName>ppt_h</p:attrName>
                                        </p:attrNameLst>
                                      </p:cBhvr>
                                      <p:tavLst>
                                        <p:tav tm="0">
                                          <p:val>
                                            <p:strVal val="#ppt_h"/>
                                          </p:val>
                                        </p:tav>
                                        <p:tav tm="100000">
                                          <p:val>
                                            <p:strVal val="#ppt_h"/>
                                          </p:val>
                                        </p:tav>
                                      </p:tavLst>
                                    </p:anim>
                                    <p:anim calcmode="lin" valueType="num">
                                      <p:cBhvr additive="repl">
                                        <p:cTn id="157" dur="500" fill="hold">
                                          <p:stCondLst>
                                            <p:cond delay="0"/>
                                          </p:stCondLst>
                                        </p:cTn>
                                        <p:tgtEl>
                                          <p:spTgt spid="400">
                                            <p:txEl>
                                              <p:pRg st="0" end="0"/>
                                            </p:txEl>
                                          </p:spTgt>
                                        </p:tgtEl>
                                        <p:attrNameLst>
                                          <p:attrName>ppt_x</p:attrName>
                                        </p:attrNameLst>
                                      </p:cBhvr>
                                      <p:tavLst>
                                        <p:tav tm="0">
                                          <p:val>
                                            <p:strVal val="#ppt_x+.4"/>
                                          </p:val>
                                        </p:tav>
                                        <p:tav tm="100000">
                                          <p:val>
                                            <p:strVal val="#ppt_x"/>
                                          </p:val>
                                        </p:tav>
                                      </p:tavLst>
                                    </p:anim>
                                    <p:anim calcmode="lin" valueType="num">
                                      <p:cBhvr additive="repl">
                                        <p:cTn id="158" dur="500" fill="hold">
                                          <p:stCondLst>
                                            <p:cond delay="0"/>
                                          </p:stCondLst>
                                        </p:cTn>
                                        <p:tgtEl>
                                          <p:spTgt spid="400">
                                            <p:txEl>
                                              <p:pRg st="0" end="0"/>
                                            </p:txEl>
                                          </p:spTgt>
                                        </p:tgtEl>
                                        <p:attrNameLst>
                                          <p:attrName>ppt_y</p:attrName>
                                        </p:attrNameLst>
                                      </p:cBhvr>
                                      <p:tavLst>
                                        <p:tav tm="0">
                                          <p:val>
                                            <p:strVal val="#ppt_y-.2"/>
                                          </p:val>
                                        </p:tav>
                                        <p:tav tm="100000">
                                          <p:val>
                                            <p:strVal val="#ppt_y+.1"/>
                                          </p:val>
                                        </p:tav>
                                      </p:tavLst>
                                    </p:anim>
                                    <p:anim calcmode="lin" valueType="num">
                                      <p:cBhvr additive="repl">
                                        <p:cTn id="159" dur="500" fill="hold">
                                          <p:stCondLst>
                                            <p:cond delay="500"/>
                                          </p:stCondLst>
                                        </p:cTn>
                                        <p:tgtEl>
                                          <p:spTgt spid="400">
                                            <p:txEl>
                                              <p:pRg st="0" end="0"/>
                                            </p:txEl>
                                          </p:spTgt>
                                        </p:tgtEl>
                                        <p:attrNameLst>
                                          <p:attrName>ppt_y</p:attrName>
                                        </p:attrNameLst>
                                      </p:cBhvr>
                                      <p:tavLst>
                                        <p:tav tm="0">
                                          <p:val>
                                            <p:strVal val="#ppt_y+.1"/>
                                          </p:val>
                                        </p:tav>
                                        <p:tav tm="100000">
                                          <p:val>
                                            <p:strVal val="#ppt_y"/>
                                          </p:val>
                                        </p:tav>
                                      </p:tavLst>
                                    </p:anim>
                                    <p:animEffect filter="fade" transition="in">
                                      <p:cBhvr additive="repl">
                                        <p:cTn id="160" dur="1000">
                                          <p:stCondLst>
                                            <p:cond delay="0"/>
                                          </p:stCondLst>
                                        </p:cTn>
                                        <p:tgtEl>
                                          <p:spTgt spid="400">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6">
                                  <p:stCondLst>
                                    <p:cond delay="0"/>
                                  </p:stCondLst>
                                  <p:iterate type="lt">
                                    <p:tmAbs val="100"/>
                                  </p:iterate>
                                  <p:childTnLst>
                                    <p:set>
                                      <p:cBhvr>
                                        <p:cTn id="164" dur="1" fill="hold">
                                          <p:stCondLst>
                                            <p:cond delay="0"/>
                                          </p:stCondLst>
                                        </p:cTn>
                                        <p:tgtEl>
                                          <p:spTgt spid="400">
                                            <p:txEl>
                                              <p:pRg st="1" end="1"/>
                                            </p:txEl>
                                          </p:spTgt>
                                        </p:tgtEl>
                                        <p:attrNameLst>
                                          <p:attrName>style.visibility</p:attrName>
                                        </p:attrNameLst>
                                      </p:cBhvr>
                                      <p:to>
                                        <p:strVal val="visible"/>
                                      </p:to>
                                    </p:set>
                                    <p:anim calcmode="lin" valueType="num" by="(-#ppt_w*2)">
                                      <p:cBhvr additive="repl">
                                        <p:cTn id="165" dur="500" autoRev="1" fill="hold">
                                          <p:stCondLst>
                                            <p:cond delay="0"/>
                                          </p:stCondLst>
                                        </p:cTn>
                                        <p:tgtEl>
                                          <p:spTgt spid="400">
                                            <p:txEl>
                                              <p:pRg st="1" end="1"/>
                                            </p:txEl>
                                          </p:spTgt>
                                        </p:tgtEl>
                                        <p:attrNameLst>
                                          <p:attrName>ppt_w</p:attrName>
                                        </p:attrNameLst>
                                      </p:cBhvr>
                                    </p:anim>
                                    <p:anim calcmode="lin" valueType="num" by="(#ppt_w*0.50)">
                                      <p:cBhvr additive="repl">
                                        <p:cTn id="166" dur="500" autoRev="1" fill="hold">
                                          <p:stCondLst>
                                            <p:cond delay="0"/>
                                          </p:stCondLst>
                                        </p:cTn>
                                        <p:tgtEl>
                                          <p:spTgt spid="400">
                                            <p:txEl>
                                              <p:pRg st="1" end="1"/>
                                            </p:txEl>
                                          </p:spTgt>
                                        </p:tgtEl>
                                        <p:attrNameLst>
                                          <p:attrName>ppt_x</p:attrName>
                                        </p:attrNameLst>
                                      </p:cBhvr>
                                    </p:anim>
                                    <p:anim calcmode="lin" valueType="num" from="(-#ppt_h/2)" to="(#ppt_y)">
                                      <p:cBhvr additive="repl">
                                        <p:cTn id="167" dur="1000" fill="hold">
                                          <p:stCondLst>
                                            <p:cond delay="0"/>
                                          </p:stCondLst>
                                        </p:cTn>
                                        <p:tgtEl>
                                          <p:spTgt spid="400">
                                            <p:txEl>
                                              <p:pRg st="1" end="1"/>
                                            </p:txEl>
                                          </p:spTgt>
                                        </p:tgtEl>
                                        <p:attrNameLst>
                                          <p:attrName>ppt_y</p:attrName>
                                        </p:attrNameLst>
                                      </p:cBhvr>
                                    </p:anim>
                                    <p:animRot by="21600000">
                                      <p:cBhvr>
                                        <p:cTn id="168" dur="1000" fill="hold">
                                          <p:stCondLst>
                                            <p:cond delay="0"/>
                                          </p:stCondLst>
                                        </p:cTn>
                                        <p:tgtEl>
                                          <p:spTgt spid="40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Efficiency</a:t>
            </a:r>
            <a:endParaRPr b="0" lang="en-US" sz="5000" spc="-1" strike="noStrike">
              <a:solidFill>
                <a:srgbClr val="04617b"/>
              </a:solidFill>
              <a:latin typeface="Calibri"/>
            </a:endParaRPr>
          </a:p>
        </p:txBody>
      </p:sp>
      <p:sp>
        <p:nvSpPr>
          <p:cNvPr id="4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fficiency = </a:t>
            </a:r>
            <a:r>
              <a:rPr b="0" lang="en-US" sz="2800" spc="-1" strike="noStrike" u="sng">
                <a:solidFill>
                  <a:srgbClr val="000000"/>
                </a:solidFill>
                <a:uFillTx/>
                <a:latin typeface="Constantia"/>
              </a:rPr>
              <a:t>W</a:t>
            </a:r>
            <a:r>
              <a:rPr b="0" lang="en-US" sz="2800" spc="-1" strike="noStrike" u="sng" baseline="-25000">
                <a:solidFill>
                  <a:srgbClr val="000000"/>
                </a:solidFill>
                <a:uFillTx/>
                <a:latin typeface="Constantia"/>
              </a:rPr>
              <a:t>output  </a:t>
            </a:r>
            <a:r>
              <a:rPr b="0" lang="en-US" sz="2800" spc="-1" strike="noStrike" baseline="-25000">
                <a:solidFill>
                  <a:srgbClr val="000000"/>
                </a:solidFill>
                <a:latin typeface="Constantia"/>
              </a:rPr>
              <a:t>X </a:t>
            </a:r>
            <a:r>
              <a:rPr b="0" lang="en-US" sz="3600" spc="-1" strike="noStrike" baseline="-25000">
                <a:solidFill>
                  <a:srgbClr val="000000"/>
                </a:solidFill>
                <a:latin typeface="Constantia"/>
              </a:rPr>
              <a:t>100%</a:t>
            </a:r>
            <a:endParaRPr b="0" lang="en-US" sz="36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baseline="-25000">
                <a:solidFill>
                  <a:srgbClr val="000000"/>
                </a:solidFill>
                <a:uFillTx/>
                <a:latin typeface="Constantia"/>
              </a:rPr>
              <a:t> </a:t>
            </a:r>
            <a:r>
              <a:rPr b="0" lang="en-US" sz="2800" spc="-1" strike="noStrike" baseline="-25000">
                <a:solidFill>
                  <a:srgbClr val="000000"/>
                </a:solidFill>
                <a:latin typeface="Constantia"/>
              </a:rPr>
              <a:t>                                  </a:t>
            </a:r>
            <a:r>
              <a:rPr b="0" lang="en-US" sz="2800" spc="-1" strike="noStrike">
                <a:solidFill>
                  <a:srgbClr val="000000"/>
                </a:solidFill>
                <a:latin typeface="Constantia"/>
              </a:rPr>
              <a:t>W</a:t>
            </a:r>
            <a:r>
              <a:rPr b="0" lang="en-US" sz="2800" spc="-1" strike="noStrike" baseline="-25000">
                <a:solidFill>
                  <a:srgbClr val="000000"/>
                </a:solidFill>
                <a:latin typeface="Constantia"/>
              </a:rPr>
              <a:t>input</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0000"/>
                </a:solidFill>
                <a:latin typeface="Constantia"/>
              </a:rPr>
              <a:t>                               </a:t>
            </a:r>
            <a:r>
              <a:rPr b="0" lang="en-US" sz="2800" spc="-1" strike="noStrike" baseline="-25000">
                <a:solidFill>
                  <a:srgbClr val="000000"/>
                </a:solidFill>
                <a:latin typeface="Constantia"/>
              </a:rPr>
              <a:t>OR</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fficiency = </a:t>
            </a:r>
            <a:r>
              <a:rPr b="0" lang="en-US" sz="2800" spc="-1" strike="noStrike" u="sng">
                <a:solidFill>
                  <a:srgbClr val="000000"/>
                </a:solidFill>
                <a:uFillTx/>
                <a:latin typeface="Constantia"/>
              </a:rPr>
              <a:t>E</a:t>
            </a:r>
            <a:r>
              <a:rPr b="0" lang="en-US" sz="2800" spc="-1" strike="noStrike" u="sng" baseline="-25000">
                <a:solidFill>
                  <a:srgbClr val="000000"/>
                </a:solidFill>
                <a:uFillTx/>
                <a:latin typeface="Constantia"/>
              </a:rPr>
              <a:t>output  </a:t>
            </a:r>
            <a:r>
              <a:rPr b="0" lang="en-US" sz="2800" spc="-1" strike="noStrike" baseline="-25000">
                <a:solidFill>
                  <a:srgbClr val="000000"/>
                </a:solidFill>
                <a:latin typeface="Constantia"/>
              </a:rPr>
              <a:t>X </a:t>
            </a:r>
            <a:r>
              <a:rPr b="0" lang="en-US" sz="3600" spc="-1" strike="noStrike" baseline="-25000">
                <a:solidFill>
                  <a:srgbClr val="000000"/>
                </a:solidFill>
                <a:latin typeface="Constantia"/>
              </a:rPr>
              <a:t>100%</a:t>
            </a:r>
            <a:endParaRPr b="0" lang="en-US" sz="36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baseline="-25000">
                <a:solidFill>
                  <a:srgbClr val="000000"/>
                </a:solidFill>
                <a:uFillTx/>
                <a:latin typeface="Constantia"/>
              </a:rPr>
              <a:t> </a:t>
            </a:r>
            <a:r>
              <a:rPr b="0" lang="en-US" sz="2800" spc="-1" strike="noStrike" baseline="-25000">
                <a:solidFill>
                  <a:srgbClr val="000000"/>
                </a:solidFill>
                <a:latin typeface="Constantia"/>
              </a:rPr>
              <a:t>                                  </a:t>
            </a:r>
            <a:r>
              <a:rPr b="0" lang="en-US" sz="2800" spc="-1" strike="noStrike">
                <a:solidFill>
                  <a:srgbClr val="000000"/>
                </a:solidFill>
                <a:latin typeface="Constantia"/>
              </a:rPr>
              <a:t>E</a:t>
            </a:r>
            <a:r>
              <a:rPr b="0" lang="en-US" sz="2800" spc="-1" strike="noStrike" baseline="-25000">
                <a:solidFill>
                  <a:srgbClr val="000000"/>
                </a:solidFill>
                <a:latin typeface="Constantia"/>
              </a:rPr>
              <a:t>input</a:t>
            </a:r>
            <a:endParaRPr b="0" lang="en-US" sz="2800" spc="-1" strike="noStrike">
              <a:solidFill>
                <a:srgbClr val="000000"/>
              </a:solidFill>
              <a:latin typeface="Constantia"/>
            </a:endParaRPr>
          </a:p>
        </p:txBody>
      </p:sp>
    </p:spTree>
  </p:cSld>
  <p:transition>
    <p:dissolv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30">
                                  <p:stCondLst>
                                    <p:cond delay="0"/>
                                  </p:stCondLst>
                                  <p:childTnLst>
                                    <p:set>
                                      <p:cBhvr>
                                        <p:cTn id="174" dur="1" fill="hold">
                                          <p:stCondLst>
                                            <p:cond delay="0"/>
                                          </p:stCondLst>
                                        </p:cTn>
                                        <p:tgtEl>
                                          <p:spTgt spid="402">
                                            <p:txEl>
                                              <p:pRg st="0" end="0"/>
                                            </p:txEl>
                                          </p:spTgt>
                                        </p:tgtEl>
                                        <p:attrNameLst>
                                          <p:attrName>style.visibility</p:attrName>
                                        </p:attrNameLst>
                                      </p:cBhvr>
                                      <p:to>
                                        <p:strVal val="visible"/>
                                      </p:to>
                                    </p:set>
                                    <p:animEffect filter="fade" transition="in">
                                      <p:cBhvr additive="repl">
                                        <p:cTn id="175" dur="800"/>
                                        <p:tgtEl>
                                          <p:spTgt spid="402">
                                            <p:txEl>
                                              <p:pRg st="0" end="0"/>
                                            </p:txEl>
                                          </p:spTgt>
                                        </p:tgtEl>
                                      </p:cBhvr>
                                    </p:animEffect>
                                    <p:anim calcmode="lin" valueType="num">
                                      <p:cBhvr additive="repl">
                                        <p:cTn id="176" dur="800" fill="hold"/>
                                        <p:tgtEl>
                                          <p:spTgt spid="402">
                                            <p:txEl>
                                              <p:pRg st="0" end="0"/>
                                            </p:txEl>
                                          </p:spTgt>
                                        </p:tgtEl>
                                        <p:attrNameLst>
                                          <p:attrName>r</p:attrName>
                                        </p:attrNameLst>
                                      </p:cBhvr>
                                      <p:tavLst>
                                        <p:tav tm="0">
                                          <p:val>
                                            <p:strVal val="-90"/>
                                          </p:val>
                                        </p:tav>
                                        <p:tav tm="100000">
                                          <p:val>
                                            <p:strVal val="0"/>
                                          </p:val>
                                        </p:tav>
                                      </p:tavLst>
                                    </p:anim>
                                    <p:anim calcmode="lin" valueType="num">
                                      <p:cBhvr additive="repl">
                                        <p:cTn id="177" dur="800" fill="hold"/>
                                        <p:tgtEl>
                                          <p:spTgt spid="402">
                                            <p:txEl>
                                              <p:pRg st="0" end="0"/>
                                            </p:txEl>
                                          </p:spTgt>
                                        </p:tgtEl>
                                        <p:attrNameLst>
                                          <p:attrName>ppt_x</p:attrName>
                                        </p:attrNameLst>
                                      </p:cBhvr>
                                      <p:tavLst>
                                        <p:tav tm="0">
                                          <p:val>
                                            <p:strVal val="#ppt_x+0.4"/>
                                          </p:val>
                                        </p:tav>
                                        <p:tav tm="100000">
                                          <p:val>
                                            <p:strVal val="#ppt_x-0.05"/>
                                          </p:val>
                                        </p:tav>
                                      </p:tavLst>
                                    </p:anim>
                                    <p:anim calcmode="lin" valueType="num">
                                      <p:cBhvr additive="repl">
                                        <p:cTn id="178" dur="800" fill="hold"/>
                                        <p:tgtEl>
                                          <p:spTgt spid="402">
                                            <p:txEl>
                                              <p:pRg st="0" end="0"/>
                                            </p:txEl>
                                          </p:spTgt>
                                        </p:tgtEl>
                                        <p:attrNameLst>
                                          <p:attrName>ppt_y</p:attrName>
                                        </p:attrNameLst>
                                      </p:cBhvr>
                                      <p:tavLst>
                                        <p:tav tm="0">
                                          <p:val>
                                            <p:strVal val="#ppt_y-0.4"/>
                                          </p:val>
                                        </p:tav>
                                        <p:tav tm="100000">
                                          <p:val>
                                            <p:strVal val="#ppt_y+0.1"/>
                                          </p:val>
                                        </p:tav>
                                      </p:tavLst>
                                    </p:anim>
                                    <p:anim calcmode="lin" valueType="num">
                                      <p:cBhvr additive="repl">
                                        <p:cTn id="179" dur="200" fill="hold">
                                          <p:stCondLst>
                                            <p:cond delay="800"/>
                                          </p:stCondLst>
                                        </p:cTn>
                                        <p:tgtEl>
                                          <p:spTgt spid="402">
                                            <p:txEl>
                                              <p:pRg st="0" end="0"/>
                                            </p:txEl>
                                          </p:spTgt>
                                        </p:tgtEl>
                                        <p:attrNameLst>
                                          <p:attrName>ppt_x</p:attrName>
                                        </p:attrNameLst>
                                      </p:cBhvr>
                                      <p:tavLst>
                                        <p:tav tm="0">
                                          <p:val>
                                            <p:strVal val="#ppt_x-0.05"/>
                                          </p:val>
                                        </p:tav>
                                        <p:tav tm="100000">
                                          <p:val>
                                            <p:strVal val="#ppt_x"/>
                                          </p:val>
                                        </p:tav>
                                      </p:tavLst>
                                    </p:anim>
                                    <p:anim calcmode="lin" valueType="num">
                                      <p:cBhvr additive="repl">
                                        <p:cTn id="180" dur="200" fill="hold">
                                          <p:stCondLst>
                                            <p:cond delay="800"/>
                                          </p:stCondLst>
                                        </p:cTn>
                                        <p:tgtEl>
                                          <p:spTgt spid="402">
                                            <p:txEl>
                                              <p:pRg st="0" end="0"/>
                                            </p:txEl>
                                          </p:spTgt>
                                        </p:tgtEl>
                                        <p:attrNameLst>
                                          <p:attrName>ppt_y</p:attrName>
                                        </p:attrNameLst>
                                      </p:cBhvr>
                                      <p:tavLst>
                                        <p:tav tm="0">
                                          <p:val>
                                            <p:strVal val="#ppt_y+0.1"/>
                                          </p:val>
                                        </p:tav>
                                        <p:tav tm="100000">
                                          <p:val>
                                            <p:strVal val="#ppt_y"/>
                                          </p:val>
                                        </p:tav>
                                      </p:tavLst>
                                    </p:anim>
                                  </p:childTnLst>
                                </p:cTn>
                              </p:par>
                              <p:par>
                                <p:cTn id="181" nodeType="withEffect" fill="hold" presetClass="entr" presetID="30">
                                  <p:stCondLst>
                                    <p:cond delay="0"/>
                                  </p:stCondLst>
                                  <p:childTnLst>
                                    <p:set>
                                      <p:cBhvr>
                                        <p:cTn id="182" dur="1" fill="hold">
                                          <p:stCondLst>
                                            <p:cond delay="0"/>
                                          </p:stCondLst>
                                        </p:cTn>
                                        <p:tgtEl>
                                          <p:spTgt spid="402">
                                            <p:txEl>
                                              <p:pRg st="1" end="1"/>
                                            </p:txEl>
                                          </p:spTgt>
                                        </p:tgtEl>
                                        <p:attrNameLst>
                                          <p:attrName>style.visibility</p:attrName>
                                        </p:attrNameLst>
                                      </p:cBhvr>
                                      <p:to>
                                        <p:strVal val="visible"/>
                                      </p:to>
                                    </p:set>
                                    <p:animEffect filter="fade" transition="in">
                                      <p:cBhvr additive="repl">
                                        <p:cTn id="183" dur="800"/>
                                        <p:tgtEl>
                                          <p:spTgt spid="402">
                                            <p:txEl>
                                              <p:pRg st="1" end="1"/>
                                            </p:txEl>
                                          </p:spTgt>
                                        </p:tgtEl>
                                      </p:cBhvr>
                                    </p:animEffect>
                                    <p:anim calcmode="lin" valueType="num">
                                      <p:cBhvr additive="repl">
                                        <p:cTn id="184" dur="800" fill="hold"/>
                                        <p:tgtEl>
                                          <p:spTgt spid="402">
                                            <p:txEl>
                                              <p:pRg st="1" end="1"/>
                                            </p:txEl>
                                          </p:spTgt>
                                        </p:tgtEl>
                                        <p:attrNameLst>
                                          <p:attrName>r</p:attrName>
                                        </p:attrNameLst>
                                      </p:cBhvr>
                                      <p:tavLst>
                                        <p:tav tm="0">
                                          <p:val>
                                            <p:strVal val="-90"/>
                                          </p:val>
                                        </p:tav>
                                        <p:tav tm="100000">
                                          <p:val>
                                            <p:strVal val="0"/>
                                          </p:val>
                                        </p:tav>
                                      </p:tavLst>
                                    </p:anim>
                                    <p:anim calcmode="lin" valueType="num">
                                      <p:cBhvr additive="repl">
                                        <p:cTn id="185" dur="800" fill="hold"/>
                                        <p:tgtEl>
                                          <p:spTgt spid="402">
                                            <p:txEl>
                                              <p:pRg st="1" end="1"/>
                                            </p:txEl>
                                          </p:spTgt>
                                        </p:tgtEl>
                                        <p:attrNameLst>
                                          <p:attrName>ppt_x</p:attrName>
                                        </p:attrNameLst>
                                      </p:cBhvr>
                                      <p:tavLst>
                                        <p:tav tm="0">
                                          <p:val>
                                            <p:strVal val="#ppt_x+0.4"/>
                                          </p:val>
                                        </p:tav>
                                        <p:tav tm="100000">
                                          <p:val>
                                            <p:strVal val="#ppt_x-0.05"/>
                                          </p:val>
                                        </p:tav>
                                      </p:tavLst>
                                    </p:anim>
                                    <p:anim calcmode="lin" valueType="num">
                                      <p:cBhvr additive="repl">
                                        <p:cTn id="186" dur="800" fill="hold"/>
                                        <p:tgtEl>
                                          <p:spTgt spid="402">
                                            <p:txEl>
                                              <p:pRg st="1" end="1"/>
                                            </p:txEl>
                                          </p:spTgt>
                                        </p:tgtEl>
                                        <p:attrNameLst>
                                          <p:attrName>ppt_y</p:attrName>
                                        </p:attrNameLst>
                                      </p:cBhvr>
                                      <p:tavLst>
                                        <p:tav tm="0">
                                          <p:val>
                                            <p:strVal val="#ppt_y-0.4"/>
                                          </p:val>
                                        </p:tav>
                                        <p:tav tm="100000">
                                          <p:val>
                                            <p:strVal val="#ppt_y+0.1"/>
                                          </p:val>
                                        </p:tav>
                                      </p:tavLst>
                                    </p:anim>
                                    <p:anim calcmode="lin" valueType="num">
                                      <p:cBhvr additive="repl">
                                        <p:cTn id="187" dur="200" fill="hold">
                                          <p:stCondLst>
                                            <p:cond delay="800"/>
                                          </p:stCondLst>
                                        </p:cTn>
                                        <p:tgtEl>
                                          <p:spTgt spid="402">
                                            <p:txEl>
                                              <p:pRg st="1" end="1"/>
                                            </p:txEl>
                                          </p:spTgt>
                                        </p:tgtEl>
                                        <p:attrNameLst>
                                          <p:attrName>ppt_x</p:attrName>
                                        </p:attrNameLst>
                                      </p:cBhvr>
                                      <p:tavLst>
                                        <p:tav tm="0">
                                          <p:val>
                                            <p:strVal val="#ppt_x-0.05"/>
                                          </p:val>
                                        </p:tav>
                                        <p:tav tm="100000">
                                          <p:val>
                                            <p:strVal val="#ppt_x"/>
                                          </p:val>
                                        </p:tav>
                                      </p:tavLst>
                                    </p:anim>
                                    <p:anim calcmode="lin" valueType="num">
                                      <p:cBhvr additive="repl">
                                        <p:cTn id="188" dur="200" fill="hold">
                                          <p:stCondLst>
                                            <p:cond delay="800"/>
                                          </p:stCondLst>
                                        </p:cTn>
                                        <p:tgtEl>
                                          <p:spTgt spid="402">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0">
                                  <p:stCondLst>
                                    <p:cond delay="0"/>
                                  </p:stCondLst>
                                  <p:iterate type="lt">
                                    <p:tmAbs val="100"/>
                                  </p:iterate>
                                  <p:childTnLst>
                                    <p:set>
                                      <p:cBhvr>
                                        <p:cTn id="192" dur="1" fill="hold">
                                          <p:stCondLst>
                                            <p:cond delay="0"/>
                                          </p:stCondLst>
                                        </p:cTn>
                                        <p:tgtEl>
                                          <p:spTgt spid="402">
                                            <p:txEl>
                                              <p:pRg st="3" end="3"/>
                                            </p:txEl>
                                          </p:spTgt>
                                        </p:tgtEl>
                                        <p:attrNameLst>
                                          <p:attrName>style.visibility</p:attrName>
                                        </p:attrNameLst>
                                      </p:cBhvr>
                                      <p:to>
                                        <p:strVal val="visible"/>
                                      </p:to>
                                    </p:set>
                                    <p:animEffect filter="fade" transition="in">
                                      <p:cBhvr additive="repl">
                                        <p:cTn id="193" dur="1000"/>
                                        <p:tgtEl>
                                          <p:spTgt spid="402">
                                            <p:txEl>
                                              <p:pRg st="3" end="3"/>
                                            </p:txEl>
                                          </p:spTgt>
                                        </p:tgtEl>
                                      </p:cBhvr>
                                    </p:animEffect>
                                    <p:anim calcmode="lin" valueType="num">
                                      <p:cBhvr additive="repl">
                                        <p:cTn id="194" dur="1000" fill="hold"/>
                                        <p:tgtEl>
                                          <p:spTgt spid="402">
                                            <p:txEl>
                                              <p:pRg st="3" end="3"/>
                                            </p:txEl>
                                          </p:spTgt>
                                        </p:tgtEl>
                                        <p:attrNameLst>
                                          <p:attrName>ppt_x</p:attrName>
                                        </p:attrNameLst>
                                      </p:cBhvr>
                                      <p:tavLst>
                                        <p:tav tm="0">
                                          <p:val>
                                            <p:strVal val="#ppt_x-.1"/>
                                          </p:val>
                                        </p:tav>
                                        <p:tav tm="100000">
                                          <p:val>
                                            <p:strVal val="#ppt_x"/>
                                          </p:val>
                                        </p:tav>
                                      </p:tavLst>
                                    </p:anim>
                                    <p:anim calcmode="lin" valueType="num">
                                      <p:cBhvr additive="repl">
                                        <p:cTn id="195" dur="1000" fill="hold"/>
                                        <p:tgtEl>
                                          <p:spTgt spid="4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7">
                                  <p:stCondLst>
                                    <p:cond delay="0"/>
                                  </p:stCondLst>
                                  <p:childTnLst>
                                    <p:set>
                                      <p:cBhvr>
                                        <p:cTn id="199" dur="1" fill="hold">
                                          <p:stCondLst>
                                            <p:cond delay="0"/>
                                          </p:stCondLst>
                                        </p:cTn>
                                        <p:tgtEl>
                                          <p:spTgt spid="402">
                                            <p:txEl>
                                              <p:pRg st="5" end="5"/>
                                            </p:txEl>
                                          </p:spTgt>
                                        </p:tgtEl>
                                        <p:attrNameLst>
                                          <p:attrName>style.visibility</p:attrName>
                                        </p:attrNameLst>
                                      </p:cBhvr>
                                      <p:to>
                                        <p:strVal val="visible"/>
                                      </p:to>
                                    </p:set>
                                    <p:animEffect filter="fade" transition="in">
                                      <p:cBhvr additive="repl">
                                        <p:cTn id="200" dur="1000"/>
                                        <p:tgtEl>
                                          <p:spTgt spid="402">
                                            <p:txEl>
                                              <p:pRg st="5" end="5"/>
                                            </p:txEl>
                                          </p:spTgt>
                                        </p:tgtEl>
                                      </p:cBhvr>
                                    </p:animEffect>
                                    <p:anim calcmode="lin" valueType="num">
                                      <p:cBhvr additive="repl">
                                        <p:cTn id="201" dur="1000" fill="hold"/>
                                        <p:tgtEl>
                                          <p:spTgt spid="402">
                                            <p:txEl>
                                              <p:pRg st="5" end="5"/>
                                            </p:txEl>
                                          </p:spTgt>
                                        </p:tgtEl>
                                        <p:attrNameLst>
                                          <p:attrName>ppt_x</p:attrName>
                                        </p:attrNameLst>
                                      </p:cBhvr>
                                      <p:tavLst>
                                        <p:tav tm="0">
                                          <p:val>
                                            <p:strVal val="#ppt_x"/>
                                          </p:val>
                                        </p:tav>
                                        <p:tav tm="100000">
                                          <p:val>
                                            <p:strVal val="#ppt_x"/>
                                          </p:val>
                                        </p:tav>
                                      </p:tavLst>
                                    </p:anim>
                                    <p:anim calcmode="lin" valueType="num">
                                      <p:cBhvr additive="repl">
                                        <p:cTn id="202" dur="900" fill="hold"/>
                                        <p:tgtEl>
                                          <p:spTgt spid="402">
                                            <p:txEl>
                                              <p:pRg st="5" end="5"/>
                                            </p:txEl>
                                          </p:spTgt>
                                        </p:tgtEl>
                                        <p:attrNameLst>
                                          <p:attrName>ppt_y</p:attrName>
                                        </p:attrNameLst>
                                      </p:cBhvr>
                                      <p:tavLst>
                                        <p:tav tm="0">
                                          <p:val>
                                            <p:strVal val="#ppt_y+1"/>
                                          </p:val>
                                        </p:tav>
                                        <p:tav tm="100000">
                                          <p:val>
                                            <p:strVal val="#ppt_y-.03"/>
                                          </p:val>
                                        </p:tav>
                                      </p:tavLst>
                                    </p:anim>
                                    <p:anim calcmode="lin" valueType="num">
                                      <p:cBhvr additive="repl">
                                        <p:cTn id="203" dur="100" fill="hold">
                                          <p:stCondLst>
                                            <p:cond delay="900"/>
                                          </p:stCondLst>
                                        </p:cTn>
                                        <p:tgtEl>
                                          <p:spTgt spid="402">
                                            <p:txEl>
                                              <p:pRg st="5" end="5"/>
                                            </p:txEl>
                                          </p:spTgt>
                                        </p:tgtEl>
                                        <p:attrNameLst>
                                          <p:attrName>ppt_y</p:attrName>
                                        </p:attrNameLst>
                                      </p:cBhvr>
                                      <p:tavLst>
                                        <p:tav tm="0">
                                          <p:val>
                                            <p:strVal val="#ppt_y-.03"/>
                                          </p:val>
                                        </p:tav>
                                        <p:tav tm="100000">
                                          <p:val>
                                            <p:strVal val="#ppt_y"/>
                                          </p:val>
                                        </p:tav>
                                      </p:tavLst>
                                    </p:anim>
                                  </p:childTnLst>
                                </p:cTn>
                              </p:par>
                              <p:par>
                                <p:cTn id="204" nodeType="withEffect" fill="hold" presetClass="entr" presetID="37">
                                  <p:stCondLst>
                                    <p:cond delay="0"/>
                                  </p:stCondLst>
                                  <p:childTnLst>
                                    <p:set>
                                      <p:cBhvr>
                                        <p:cTn id="205" dur="1" fill="hold">
                                          <p:stCondLst>
                                            <p:cond delay="0"/>
                                          </p:stCondLst>
                                        </p:cTn>
                                        <p:tgtEl>
                                          <p:spTgt spid="402">
                                            <p:txEl>
                                              <p:pRg st="6" end="6"/>
                                            </p:txEl>
                                          </p:spTgt>
                                        </p:tgtEl>
                                        <p:attrNameLst>
                                          <p:attrName>style.visibility</p:attrName>
                                        </p:attrNameLst>
                                      </p:cBhvr>
                                      <p:to>
                                        <p:strVal val="visible"/>
                                      </p:to>
                                    </p:set>
                                    <p:animEffect filter="fade" transition="in">
                                      <p:cBhvr additive="repl">
                                        <p:cTn id="206" dur="1000"/>
                                        <p:tgtEl>
                                          <p:spTgt spid="402">
                                            <p:txEl>
                                              <p:pRg st="6" end="6"/>
                                            </p:txEl>
                                          </p:spTgt>
                                        </p:tgtEl>
                                      </p:cBhvr>
                                    </p:animEffect>
                                    <p:anim calcmode="lin" valueType="num">
                                      <p:cBhvr additive="repl">
                                        <p:cTn id="207" dur="1000" fill="hold"/>
                                        <p:tgtEl>
                                          <p:spTgt spid="402">
                                            <p:txEl>
                                              <p:pRg st="6" end="6"/>
                                            </p:txEl>
                                          </p:spTgt>
                                        </p:tgtEl>
                                        <p:attrNameLst>
                                          <p:attrName>ppt_x</p:attrName>
                                        </p:attrNameLst>
                                      </p:cBhvr>
                                      <p:tavLst>
                                        <p:tav tm="0">
                                          <p:val>
                                            <p:strVal val="#ppt_x"/>
                                          </p:val>
                                        </p:tav>
                                        <p:tav tm="100000">
                                          <p:val>
                                            <p:strVal val="#ppt_x"/>
                                          </p:val>
                                        </p:tav>
                                      </p:tavLst>
                                    </p:anim>
                                    <p:anim calcmode="lin" valueType="num">
                                      <p:cBhvr additive="repl">
                                        <p:cTn id="208" dur="900" fill="hold"/>
                                        <p:tgtEl>
                                          <p:spTgt spid="402">
                                            <p:txEl>
                                              <p:pRg st="6" end="6"/>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900"/>
                                          </p:stCondLst>
                                        </p:cTn>
                                        <p:tgtEl>
                                          <p:spTgt spid="4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23:53:19Z</dcterms:created>
  <dc:creator>Owner</dc:creator>
  <dc:description/>
  <dc:language>en-US</dc:language>
  <cp:lastModifiedBy>Administrator</cp:lastModifiedBy>
  <dcterms:modified xsi:type="dcterms:W3CDTF">2011-04-13T13:52:26Z</dcterms:modified>
  <cp:revision>30</cp:revision>
  <dc:subject/>
  <dc:title>Slide 1</dc:title>
</cp:coreProperties>
</file>